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772400" cy="28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REVIEW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hapter 7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09680" y="2819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avpo,stoloj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09680" y="2819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avmh,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09680" y="2819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ai` grafai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09680" y="2819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dou/loj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09680" y="2819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evgw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09680" y="2819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e;scatoj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09680" y="2819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zw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09680" y="2819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oi</a:t>
            </a: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` </a:t>
            </a: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Qeoi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209680" y="2819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kardi,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to. sa,bbat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1676520" y="2209680"/>
            <a:ext cx="632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grafh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676520" y="2209680"/>
            <a:ext cx="632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ta. e;rg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752480" y="2286000"/>
            <a:ext cx="6096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o` e;scatoj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676520" y="2209680"/>
            <a:ext cx="632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o` ko,smoj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h` zw/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kai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to.n qeo,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kardi,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ga,r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80880" y="220968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ei=pen o` avposteloj touj logouj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28954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He Sai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eivj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676520" y="2209680"/>
            <a:ext cx="632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logoi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evxousi,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ku,rioj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su,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ui`oj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09680" y="2819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eivp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eu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09680" y="2819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euv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905120" y="2819520"/>
            <a:ext cx="53337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to, euvagge,l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ui`oj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o`  `Ihsou/j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520" y="2209680"/>
            <a:ext cx="632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ta.j grafaj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o` ku,rioj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mh,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ou-toj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w[st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492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oi` ui`oi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80880" y="220968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to.n ko,smon avgapa/| o` qeo,j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9040" y="3048120"/>
            <a:ext cx="135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loves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80880" y="220968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avgapa/| avpo,stoloj ton qe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00920" y="3048120"/>
            <a:ext cx="135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loves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676520" y="2209680"/>
            <a:ext cx="632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to, e;rg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76520" y="2209680"/>
            <a:ext cx="632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tou.j logouj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76520" y="2209680"/>
            <a:ext cx="632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ai` grafai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09680" y="2819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a;ggeloj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09680" y="2819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a;nqrwpoj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03:38:49Z</dcterms:created>
  <dc:creator>John Stevenson</dc:creator>
  <dc:description/>
  <dc:language>en-US</dc:language>
  <cp:lastModifiedBy>John Stevenson</cp:lastModifiedBy>
  <dcterms:modified xsi:type="dcterms:W3CDTF">2007-09-24T01:21:31Z</dcterms:modified>
  <cp:revision>108</cp:revision>
  <dc:subject/>
  <dc:title>Slide 1</dc:title>
</cp:coreProperties>
</file>