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ading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914400" y="1143000"/>
            <a:ext cx="72388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evgw. kai. o` path.r e[n evsmen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914400" y="1905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John 10:3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7543800" cy="77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Kai. o` lo,goj sa.rx evge,neto kai. evskh,nwsen evn h`mi/n( kai. evqeasa,meqa th.n do,xan auvtou/( do,xan w`j monogenou/j para. patro,j( plh,rhj ca,ritoj kai. avlhqei,aj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9528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1:1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46040"/>
            <a:ext cx="78487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[twj ga.r hvga,phsen o` qeo.j to.n ko,smon( w[ste to.n ui`o.n to.n monogenh/ e;dwken( i[na pa/j o` pisteu,wn eivj auvto.n mh. avpo,lhtai avllV e;ch| zwh.n aivw,nion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5627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3:1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17T17:31:50Z</dcterms:modified>
  <cp:revision>92</cp:revision>
  <dc:subject/>
  <dc:title>Slide 1</dc:title>
</cp:coreProperties>
</file>