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ominative and Accusativ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8600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ko,sm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zw/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a. pneu,mat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qeo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ko,smon avgapa/| o` qe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gapa/| avpo,stoloj ton qe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de. ku,rioj to. pneu/ma, evst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800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Lord is the Spirit (2 Cor 3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grafh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600200"/>
            <a:ext cx="67816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ivj ta. i;dia h=lqen( kai. oi` i;dioi auvto.n ouv pare,lab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9625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came to His own, and those who were His own did not receive Him (John 1: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9907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ku,rioj ga,r evstin tou/ sabba,tou o` ui`o.j tou/ avnqrw,pou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on of Man is Lord of the Sabbath (Matthew 12: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og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a.j grafa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 sa,bbat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17T19:09:01Z</dcterms:modified>
  <cp:revision>100</cp:revision>
  <dc:subject/>
  <dc:title>Slide 1</dc:title>
</cp:coreProperties>
</file>