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Nominative and Accusa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0" y="22096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`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finite Artic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320" y="220932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16765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u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676520"/>
            <a:ext cx="2286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i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16765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20968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`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22096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29718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9624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,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96244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h,,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8098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i`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380988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380988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i`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38098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a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45720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5626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456264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a,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29624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45626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a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33720" y="2209680"/>
            <a:ext cx="236196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o` logo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uns &amp; their Definite Artic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1676520"/>
            <a:ext cx="236196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u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1676520"/>
            <a:ext cx="236196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i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16765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2209680"/>
            <a:ext cx="2286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` graf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220968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, e;r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2763720"/>
            <a:ext cx="205740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2819520"/>
            <a:ext cx="2286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.n lo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2819520"/>
            <a:ext cx="236196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h.n grafh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3657600"/>
            <a:ext cx="2286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oi` logo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320" y="3657600"/>
            <a:ext cx="205740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657600"/>
            <a:ext cx="2286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3657600"/>
            <a:ext cx="220968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 e;r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4267080"/>
            <a:ext cx="2057400" cy="609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4257720"/>
            <a:ext cx="236196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4257720"/>
            <a:ext cx="2286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j grafa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281952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, e;r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4257720"/>
            <a:ext cx="220968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 e;r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5960" y="2209680"/>
            <a:ext cx="2057400" cy="609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66680" y="1066680"/>
            <a:ext cx="6782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`vEa;.n pi,stin le,gh| tij e;cein( e;rga de. mh. e;ch|È Mh. du,natai h` pi,stij sw/sai auvto,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3962520"/>
            <a:ext cx="685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 man says he has faith, but he has no works? Can that faith save him? (James 2:1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1143000"/>
            <a:ext cx="74674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h/| ga.r ca,riti, evste sesw|sme,noi dia. pi,stewj\ kai. tou/to ouvk evx u`mw/n( qeou/ to. dw/ron\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4038480"/>
            <a:ext cx="7467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by grace you have been saved through faith; and that not of yourselves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ift of God (Ephesians 2: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1599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:  All packed with somewhere to 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295280" y="3144960"/>
            <a:ext cx="2057400" cy="581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000c00"/>
              </a:gs>
              <a:gs pos="100000">
                <a:srgbClr val="0066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41760" y="3016080"/>
            <a:ext cx="474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hich does the action of the 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4135320"/>
            <a:ext cx="2057400" cy="10688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000c00"/>
              </a:gs>
              <a:gs pos="100000">
                <a:srgbClr val="0066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1760" y="4006800"/>
            <a:ext cx="474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hich is directly affected by the action of the 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23619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ouble understanding Yoda you have, ye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ark 2:10.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Bwgrkl"/>
              </a:rPr>
              <a:t>i[na de. eivdh/te o[ti evxousi,an e;cei o` ui`o.j tou/ avnqrw,pou avfie,nai a`marti,aj evpi. th/j gh/j&amp; le,gei tw/| paralutikw/|\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32280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ark 2:10.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“But in order that you may know that the Son of Man has authority on earth to forgive sins” -- He said to the paralytic--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236232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503360"/>
            <a:ext cx="2362320" cy="106884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590920"/>
            <a:ext cx="2362320" cy="106884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1503360"/>
            <a:ext cx="2514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914400"/>
            <a:ext cx="25146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597040"/>
            <a:ext cx="2514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r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1509840"/>
            <a:ext cx="3657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brother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sees the apo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914400"/>
            <a:ext cx="36576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2590920"/>
            <a:ext cx="3657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 brother sees the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po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1911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o` avdelfoj blepei ton avpostel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952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n avpostelon o` avdelfoj blep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5683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blepei o` avdelfoj ton avpostel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1752480"/>
            <a:ext cx="73915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vpostelo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69520" y="32767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95280" y="3349800"/>
            <a:ext cx="2514600" cy="1434600"/>
            <a:chOff x="1295280" y="3349800"/>
            <a:chExt cx="2514600" cy="1434600"/>
          </a:xfrm>
        </p:grpSpPr>
        <p:sp>
          <p:nvSpPr>
            <p:cNvPr id="64" name=""/>
            <p:cNvSpPr/>
            <p:nvPr/>
          </p:nvSpPr>
          <p:spPr>
            <a:xfrm>
              <a:off x="1295280" y="3349800"/>
              <a:ext cx="2514600" cy="14346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wgrkl"/>
                </a:rPr>
                <a:t>avpostelo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6560" y="419112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te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029200" y="3338640"/>
            <a:ext cx="2548800" cy="1433880"/>
            <a:chOff x="5029200" y="3338640"/>
            <a:chExt cx="2548800" cy="1433880"/>
          </a:xfrm>
        </p:grpSpPr>
        <p:sp>
          <p:nvSpPr>
            <p:cNvPr id="67" name=""/>
            <p:cNvSpPr/>
            <p:nvPr/>
          </p:nvSpPr>
          <p:spPr>
            <a:xfrm>
              <a:off x="5029200" y="3338640"/>
              <a:ext cx="2514600" cy="76428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wgrkl"/>
                </a:rPr>
                <a:t>j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17400" y="4191120"/>
              <a:ext cx="246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ase end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505240"/>
            <a:ext cx="251460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vpostelo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n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676520"/>
            <a:ext cx="2514600" cy="581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scu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76520"/>
            <a:ext cx="2514600" cy="581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emi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1676520"/>
            <a:ext cx="2514600" cy="581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2494080"/>
            <a:ext cx="251460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dox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648240"/>
            <a:ext cx="251460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graf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2494080"/>
            <a:ext cx="251460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r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5562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cl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5562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cl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55767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cl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0" y="22096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minative &amp; Accusa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320" y="220932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16765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u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1676520"/>
            <a:ext cx="2286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i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16765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220968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22096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29718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29624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96244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8098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380988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380988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38098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45720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45626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u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456264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9624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45626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0" y="22096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ogo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minative &amp; Accusa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320" y="220932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16765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u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1676520"/>
            <a:ext cx="2286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i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16765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220968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graf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22096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r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29718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9624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o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296244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graf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38098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ogo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380988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380988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graf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8098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r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45720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45626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ogou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56264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grafa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29624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r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5626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r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9-17T17:02:37Z</dcterms:modified>
  <cp:revision>93</cp:revision>
  <dc:subject/>
  <dc:title>Slide 1</dc:title>
</cp:coreProperties>
</file>