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Introduction to English 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57200" y="4038480"/>
            <a:ext cx="8305920" cy="2286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0" y="1219320"/>
            <a:ext cx="4495680" cy="9144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70f1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f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anging of the form of a word to allow it to perform different fun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500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peak – Speaking – Speaks – Spoke – Sp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4876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ild –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191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he –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1599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:  All packed with somewhere to 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3144960"/>
            <a:ext cx="2057400" cy="581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000c00"/>
              </a:gs>
              <a:gs pos="100000">
                <a:srgbClr val="0066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41760" y="3016080"/>
            <a:ext cx="474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which does the action of the 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135320"/>
            <a:ext cx="2057400" cy="10688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000c00"/>
              </a:gs>
              <a:gs pos="100000">
                <a:srgbClr val="0066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41760" y="4006800"/>
            <a:ext cx="474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which is directly affected by the action of the 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914400"/>
            <a:ext cx="236232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503360"/>
            <a:ext cx="2362320" cy="5814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un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057400"/>
            <a:ext cx="2362320" cy="5814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es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646360"/>
            <a:ext cx="2362320" cy="106884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1482840"/>
            <a:ext cx="2514600" cy="5814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914400"/>
            <a:ext cx="251460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057400"/>
            <a:ext cx="2514600" cy="5814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s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652840"/>
            <a:ext cx="2514600" cy="10688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rec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1468440"/>
            <a:ext cx="3657600" cy="5814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He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took my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914400"/>
            <a:ext cx="365760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2057400"/>
            <a:ext cx="3657600" cy="5814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He took 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my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2646360"/>
            <a:ext cx="3657600" cy="10688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He took my 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9-10T02:54:02Z</dcterms:modified>
  <cp:revision>76</cp:revision>
  <dc:subject/>
  <dc:title>Slide 1</dc:title>
</cp:coreProperties>
</file>