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Read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VEn avrch/| h=n o` lo,goj( kai. o` lo,goj h=n pro.j to.n qeo,n( kai. qeo.j h=n o` lo,goj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vn auvtw/| zwh. h=n( kai h` zwh. h=n to fw/j twn avnqrw,pwn\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Tekni,a( mh avgapw/men lo,gw| mhde. th/| glw,ssh| avlla. evn e;rgw| kai avlhqei,a|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1295280"/>
            <a:ext cx="73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vn tw/| ko,smw| h=n( kai. o` ko,smoj diV auvtou/ evge,neto( kai. o` ko,smoj auvto.n ouvk e;gnw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457200"/>
            <a:ext cx="8458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…</a:t>
            </a: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va.n de. evn tw/| fwti. peripatw/men w`j auvto,j evstin evn tw/| fwti,( koinwni,an e;comen metV avllh,lwn kai. to. ai-ma VIhsou/ tou/ ui`ou/ auvtou/ kaqari,zei h`ma/j avpo. pa,shj a`marti,aj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1066680"/>
            <a:ext cx="716256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va.n o`mologw/men ta.j a`marti,aj h`mw/n( pisto,j evstin kai. di,kaioj( i[na avfh/| h`mi/n ta.j a`marti,aj kai. kaqari,sh| h`ma/j avpo. pa,shj avdiki,aj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9-10T03:26:15Z</dcterms:modified>
  <cp:revision>71</cp:revision>
  <dc:subject/>
  <dc:title>Slide 1</dc:title>
</cp:coreProperties>
</file>