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Pronunci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09680" y="2819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e;scatoj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09680" y="2819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zw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09680" y="2819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Qeoj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09680" y="2819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~Ieroso,lum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09680" y="2819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kardi,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09680" y="2819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logoj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09680" y="2819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musthr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09680" y="2819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nekroj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209680" y="2819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xenoj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09680" y="2819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oi;koj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2209680" y="2819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a;ggeloj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209680" y="2819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pneu/m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09680" y="2819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profh,thj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09680" y="2819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peripate,w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09680" y="2819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r`abbi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209680" y="2819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sa,bbat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09680" y="2819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teloj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09680" y="2819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filew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09680" y="2819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yu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209680" y="2819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w[r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2209680" y="2819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a;nqrwpoj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2819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avpo,stoloj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209680" y="2819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avmh,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09680" y="2819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bapti,zw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09680" y="2819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grafh,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09680" y="2819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dou/loj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09680" y="2819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evgw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03:38:49Z</dcterms:created>
  <dc:creator>John Stevenson</dc:creator>
  <dc:description/>
  <dc:language>en-US</dc:language>
  <cp:lastModifiedBy>John Stevenson</cp:lastModifiedBy>
  <dcterms:modified xsi:type="dcterms:W3CDTF">2007-09-06T22:43:02Z</dcterms:modified>
  <cp:revision>69</cp:revision>
  <dc:subject/>
  <dc:title>Slide 1</dc:title>
</cp:coreProperties>
</file>