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Greek Alphab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pha to Ome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y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X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E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Z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I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G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00400" y="838080"/>
            <a:ext cx="327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j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B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b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K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h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W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u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M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Q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a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A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F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g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U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Y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z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i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k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m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P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x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0400" y="838080"/>
            <a:ext cx="327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f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w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e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p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H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q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00400" y="838080"/>
            <a:ext cx="327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grkl"/>
              </a:rPr>
              <a:t>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8-27T20:16:07Z</dcterms:modified>
  <cp:revision>67</cp:revision>
  <dc:subject/>
  <dc:title>Slide 1</dc:title>
</cp:coreProperties>
</file>