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The Greek Alphab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lpha to Ome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I  i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Iot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F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4495680"/>
            <a:ext cx="6172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 one </a:t>
            </a: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ivw/ta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or stroke shall pass from the law… (Matthew 5:1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K  k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Kapp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g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L  l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Lam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sten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M  m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M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n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N  n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N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me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X  x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X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Wa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x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O  o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Omicr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fering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en used by itself, 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o`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s used as a definite article (“the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P  p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ay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ed today to describe the circumference of a cir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R  r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Rh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g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0400" y="838080"/>
            <a:ext cx="3276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S  s</a:t>
            </a:r>
            <a:r>
              <a:rPr b="0" lang="en-US" sz="80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 j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Sig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mally appears as </a:t>
            </a:r>
            <a:r>
              <a:rPr b="0" i="1" lang="en-US" sz="3600" spc="-1" strike="noStrike">
                <a:solidFill>
                  <a:srgbClr val="ffffff"/>
                </a:solidFill>
                <a:latin typeface="Bwgrkl"/>
              </a:rPr>
              <a:t>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, but turns to </a:t>
            </a:r>
            <a:r>
              <a:rPr b="0" i="1" lang="en-US" sz="3600" spc="-1" strike="noStrike">
                <a:solidFill>
                  <a:srgbClr val="ffffff"/>
                </a:solidFill>
                <a:latin typeface="Bwgrkl"/>
              </a:rPr>
              <a:t>j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t the end of a w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A  a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362320" y="2437920"/>
            <a:ext cx="6248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Alph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F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r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am the Alpha and the Omega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T  t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Ta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ach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U  u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Upsil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uty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Greek word </a:t>
            </a:r>
            <a:r>
              <a:rPr b="1" lang="en-US" sz="3600" spc="-1" strike="noStrike">
                <a:solidFill>
                  <a:srgbClr val="ffffff"/>
                </a:solidFill>
                <a:latin typeface="Bwgrkl"/>
              </a:rPr>
              <a:t>u`yhloj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ans “high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F  f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Ph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Ph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ne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C  c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Ch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ist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s accounts for the shorthand “Xma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Y  y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Ps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Li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ps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counts for the spelling of “pseudo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W  w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Omeg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G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d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am the Alpha and the Omega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1295280"/>
            <a:ext cx="8686800" cy="23623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47960" y="2438280"/>
            <a:ext cx="41907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Bwgrkl"/>
              </a:rPr>
              <a:t>a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ccecff"/>
                </a:solidFill>
                <a:latin typeface="Bwgrkl"/>
              </a:rPr>
              <a:t>e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ccecff"/>
                </a:solidFill>
                <a:latin typeface="Bwgrkl"/>
              </a:rPr>
              <a:t>h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ccecff"/>
                </a:solidFill>
                <a:latin typeface="Bwgrkl"/>
              </a:rPr>
              <a:t>i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ccecff"/>
                </a:solidFill>
                <a:latin typeface="Bwgrkl"/>
              </a:rPr>
              <a:t>o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ccecff"/>
                </a:solidFill>
                <a:latin typeface="Bwgrkl"/>
              </a:rPr>
              <a:t>u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ccecff"/>
                </a:solidFill>
                <a:latin typeface="Bwgrkl"/>
              </a:rPr>
              <a:t>w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2590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glis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re is a relationship between </a:t>
            </a:r>
            <a:r>
              <a:rPr b="0" i="1" lang="en-US" sz="4000" spc="-1" strike="noStrike">
                <a:solidFill>
                  <a:srgbClr val="ffffff"/>
                </a:solidFill>
                <a:latin typeface="Bwgrkl"/>
              </a:rPr>
              <a:t>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ffffff"/>
                </a:solidFill>
                <a:latin typeface="Bwgrk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438280"/>
            <a:ext cx="41911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, e, i, o, u, 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1447920"/>
            <a:ext cx="2590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Gree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295280"/>
            <a:ext cx="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206280"/>
            <a:ext cx="41911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Vow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160" y="1219320"/>
            <a:ext cx="9067680" cy="37335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90880" y="2590920"/>
            <a:ext cx="21337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Bwgrkl"/>
              </a:rPr>
              <a:t>a[gioj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4480" y="1523880"/>
            <a:ext cx="3657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 of Breathing Ma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480" y="3809880"/>
            <a:ext cx="4114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mooth Breathing M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06280"/>
            <a:ext cx="60199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Breathing Marks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480" y="2666880"/>
            <a:ext cx="4114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Rough Breathing M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38960" y="16765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72080" y="152388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t do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95760" y="274320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Arial"/>
              </a:rPr>
              <a:t>Gives an “h” s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95760" y="388620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Arial"/>
              </a:rPr>
              <a:t>Sil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67560" y="373392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Bwgrkl"/>
              </a:rPr>
              <a:t>avpo,stolo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160" y="2514600"/>
            <a:ext cx="9067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121932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" y="3746520"/>
            <a:ext cx="9067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121932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B  b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590560" y="243792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Bet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gin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G  g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362320" y="2437920"/>
            <a:ext cx="6248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Gam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ft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double </a:t>
            </a:r>
            <a:r>
              <a:rPr b="0" i="1" lang="en-US" sz="3600" spc="-1" strike="noStrike">
                <a:solidFill>
                  <a:srgbClr val="ffffff"/>
                </a:solidFill>
                <a:latin typeface="Bwgrkl"/>
              </a:rPr>
              <a:t>gg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pronounced 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g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D  d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sciple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E  e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Epsil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G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Z  z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Zet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o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4648320"/>
            <a:ext cx="6324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Bwgrkl"/>
              </a:rPr>
              <a:t>Zhtew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is “to look” or “seek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H  h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Et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Th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dern Greek pronounces this a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Q  q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Thet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ology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gins the word </a:t>
            </a:r>
            <a:r>
              <a:rPr b="0" i="1" lang="en-US" sz="3600" spc="-1" strike="noStrike">
                <a:solidFill>
                  <a:srgbClr val="ffffff"/>
                </a:solidFill>
                <a:latin typeface="Bwgrkl"/>
              </a:rPr>
              <a:t>Qeoj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, “God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8-26T04:15:00Z</dcterms:modified>
  <cp:revision>64</cp:revision>
  <dc:subject/>
  <dc:title>Slide 1</dc:title>
</cp:coreProperties>
</file>