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213012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Introduction to Biblical G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Influences in New Testament G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a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895480"/>
            <a:ext cx="7010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of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 ti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hnStevenson.n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“Favorite Links” there is a section of Greek hel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at JohnStevenson@Bellsouth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Phone:  (954) 962-16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rpose for Studying G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elps us to see the local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52480" y="2595600"/>
            <a:ext cx="2644920" cy="264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52880" y="2590920"/>
            <a:ext cx="2667240" cy="266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rpose for Studying G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elps us to see the local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elps us to catch hidden mea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29000"/>
            <a:ext cx="7467480" cy="2105280"/>
          </a:xfrm>
          <a:prstGeom prst="rect">
            <a:avLst/>
          </a:prstGeom>
          <a:gradFill rotWithShape="0">
            <a:gsLst>
              <a:gs pos="0">
                <a:srgbClr val="9e0035"/>
              </a:gs>
              <a:gs pos="100000">
                <a:srgbClr val="090003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"I will give you the keys of the kingdom of heaven; and whatever you shall bind on earth shall be bound (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estai dedemen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) in heaven, and whatever you shall loose on earth shall be loo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estai lelumen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) in heaven." (Matthew 16:1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rpose for Studying G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elps us to see the local 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elps us to catch hidden mea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elps us to refute false teachings that try to misuse the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1519200"/>
            <a:ext cx="6248520" cy="5373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15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ree Major Language Famil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352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m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590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o-Europ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4129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m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the Greek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-Greek:  Linear B (prior to 12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al Greek:  1200 – 333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ine Greek:  333 – 330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971800" cy="22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the Greek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-Greek:  Linear B (prior to 12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al Greek:  1200 – 333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ine Greek:  333 – 330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zantine Period: 330 – 145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Period: 1453 to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90920" y="3581280"/>
            <a:ext cx="3200400" cy="4572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Influences in New Testament Gre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a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2408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Mary said to the angel, "How can this be, since I am a virgin?“ (Luke 1:3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4800600"/>
            <a:ext cx="2666880" cy="947160"/>
          </a:xfrm>
          <a:prstGeom prst="rect">
            <a:avLst/>
          </a:prstGeom>
          <a:gradFill rotWithShape="0">
            <a:gsLst>
              <a:gs pos="0">
                <a:srgbClr val="000012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I do not know a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038480"/>
            <a:ext cx="2286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8-26T04:11:07Z</dcterms:modified>
  <cp:revision>80</cp:revision>
  <dc:subject/>
  <dc:title>Slide 1</dc:title>
</cp:coreProperties>
</file>