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7DD-5F87-4C96-BC55-B96FD468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636-8C9E-4B0C-B9A5-3FD1FD31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740-F50E-4783-86E2-72096489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C29-C51E-41E6-8EF2-27812D25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810-E2F2-4D2B-B603-DD2FD39F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0FD-23C9-4A12-BCD9-D5100CCA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A80-FABF-4673-B884-2589CDD7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092-FEB6-437D-A5A8-F92CF196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BE8-688D-49E2-BEC2-B51CE98B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853-863B-49C0-9F1F-53810052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E63-0D7A-4445-99CB-D00592C1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201-6595-45DE-9B41-7BC26E7E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7C1A-713E-42D7-90E0-0B70A1EEC8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Genesis 23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6019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47920" y="1295280"/>
            <a:ext cx="6248160" cy="167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udies 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Book of Genes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8080" y="333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ransi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23:2-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ah died in Kiriath-arba (that is, Hebron) in the land of Canaan; and Abraham went in to mourn for Sarah and to weep for her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Abraham rose from before his dead, and spoke to the sons of Heth, saying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I am a stranger and a sojourner among you; give me a burial site among you that I may bury my dead out of my sigh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066680"/>
            <a:ext cx="701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Cave of Machpelah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2209320"/>
            <a:ext cx="67816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air Purch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egal D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asting Poss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24:2-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 said to his servant, the oldest of his household, who had charge of all that he owned, “Please place your hand under my thigh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I will make you swear by the LORD, the God of heaven and the God of earth, that you shall not take a wife for my son from the daughters of the Canaanites, among whom I liv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you will go to my country and to my relatives, and take a wife for my son Isaac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066680"/>
            <a:ext cx="701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990720" y="0"/>
            <a:ext cx="10134720" cy="685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651000" y="5181480"/>
            <a:ext cx="5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502920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400" y="2666880"/>
            <a:ext cx="1295280" cy="2210040"/>
          </a:xfrm>
          <a:custGeom>
            <a:avLst/>
            <a:gdLst/>
            <a:ahLst/>
            <a:rect l="l" t="t" r="r" b="b"/>
            <a:pathLst>
              <a:path w="2208" h="1536">
                <a:moveTo>
                  <a:pt x="2208" y="1536"/>
                </a:moveTo>
                <a:cubicBezTo>
                  <a:pt x="2044" y="1320"/>
                  <a:pt x="1880" y="1104"/>
                  <a:pt x="1680" y="912"/>
                </a:cubicBezTo>
                <a:cubicBezTo>
                  <a:pt x="1480" y="720"/>
                  <a:pt x="1208" y="520"/>
                  <a:pt x="1008" y="384"/>
                </a:cubicBezTo>
                <a:cubicBezTo>
                  <a:pt x="808" y="248"/>
                  <a:pt x="648" y="160"/>
                  <a:pt x="480" y="96"/>
                </a:cubicBezTo>
                <a:cubicBezTo>
                  <a:pt x="312" y="32"/>
                  <a:pt x="88" y="16"/>
                  <a:pt x="0" y="0"/>
                </a:cubicBez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107880" y="2209680"/>
            <a:ext cx="1063080" cy="688320"/>
            <a:chOff x="3107880" y="2209680"/>
            <a:chExt cx="1063080" cy="688320"/>
          </a:xfrm>
        </p:grpSpPr>
        <p:sp>
          <p:nvSpPr>
            <p:cNvPr id="58" name=""/>
            <p:cNvSpPr/>
            <p:nvPr/>
          </p:nvSpPr>
          <p:spPr>
            <a:xfrm>
              <a:off x="3276720" y="243828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Wingdings"/>
                  <a:ea typeface="Wingdings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07880" y="220968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 Black"/>
                </a:rPr>
                <a:t>Hara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438280"/>
            <a:ext cx="1904760" cy="609840"/>
          </a:xfrm>
          <a:prstGeom prst="rect">
            <a:avLst/>
          </a:prstGeom>
          <a:gradFill rotWithShape="0">
            <a:gsLst>
              <a:gs pos="0">
                <a:srgbClr val="034a9f"/>
              </a:gs>
              <a:gs pos="100000">
                <a:srgbClr val="01224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brah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438280"/>
            <a:ext cx="1752480" cy="609840"/>
          </a:xfrm>
          <a:prstGeom prst="rect">
            <a:avLst/>
          </a:prstGeom>
          <a:gradFill rotWithShape="0">
            <a:gsLst>
              <a:gs pos="0">
                <a:srgbClr val="034a9f"/>
              </a:gs>
              <a:gs pos="100000">
                <a:srgbClr val="01224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ah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990720"/>
            <a:ext cx="1752480" cy="609480"/>
          </a:xfrm>
          <a:prstGeom prst="rect">
            <a:avLst/>
          </a:prstGeom>
          <a:gradFill rotWithShape="0">
            <a:gsLst>
              <a:gs pos="0">
                <a:srgbClr val="034a9f"/>
              </a:gs>
              <a:gs pos="100000">
                <a:srgbClr val="01224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r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2438280"/>
            <a:ext cx="1752840" cy="609840"/>
          </a:xfrm>
          <a:prstGeom prst="rect">
            <a:avLst/>
          </a:prstGeom>
          <a:gradFill rotWithShape="0">
            <a:gsLst>
              <a:gs pos="0">
                <a:srgbClr val="034a9f"/>
              </a:gs>
              <a:gs pos="100000">
                <a:srgbClr val="01224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a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19320" y="1981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1981080"/>
            <a:ext cx="6629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48720" y="1981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648320" y="160020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3886200"/>
            <a:ext cx="1143000" cy="609480"/>
          </a:xfrm>
          <a:prstGeom prst="rect">
            <a:avLst/>
          </a:prstGeom>
          <a:gradFill rotWithShape="0">
            <a:gsLst>
              <a:gs pos="0">
                <a:srgbClr val="034a9f"/>
              </a:gs>
              <a:gs pos="100000">
                <a:srgbClr val="01224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304812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886200"/>
            <a:ext cx="1828800" cy="609480"/>
          </a:xfrm>
          <a:prstGeom prst="rect">
            <a:avLst/>
          </a:prstGeom>
          <a:gradFill rotWithShape="0">
            <a:gsLst>
              <a:gs pos="0">
                <a:srgbClr val="034a9f"/>
              </a:gs>
              <a:gs pos="100000">
                <a:srgbClr val="01224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a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3886200"/>
            <a:ext cx="2057400" cy="609480"/>
          </a:xfrm>
          <a:prstGeom prst="rect">
            <a:avLst/>
          </a:prstGeom>
          <a:gradFill rotWithShape="0">
            <a:gsLst>
              <a:gs pos="0">
                <a:srgbClr val="034a9f"/>
              </a:gs>
              <a:gs pos="100000">
                <a:srgbClr val="01224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bek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886200"/>
            <a:ext cx="1828800" cy="609480"/>
          </a:xfrm>
          <a:prstGeom prst="rect">
            <a:avLst/>
          </a:prstGeom>
          <a:gradFill rotWithShape="0">
            <a:gsLst>
              <a:gs pos="0">
                <a:srgbClr val="034a9f"/>
              </a:gs>
              <a:gs pos="100000">
                <a:srgbClr val="01224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30481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05320" y="35053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791320" y="35053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35053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0481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troduces a Romance Motif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bekah hears of the one who shall be her husb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 meets Rach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meets Zippo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th meets Boaz (water jars in Ruth 2: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meets a Samaritan Wo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95280" y="609480"/>
            <a:ext cx="5943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3d7a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counter at a Wel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3d7a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09-13T05:47:14Z</dcterms:modified>
  <cp:revision>457</cp:revision>
  <dc:subject/>
  <dc:title>Discipleship Across the Lifespan</dc:title>
</cp:coreProperties>
</file>