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CAA-499C-4B5B-A45D-2A331F5B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071-F47F-496B-B46F-6DFE112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B9F-4C94-4C67-98DE-7155E0DC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F79-8434-458A-9DD7-C677D67F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C56-6DE2-4CDD-927E-2429C3D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C24-713C-43F4-BE77-40CFAE7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FD5-1917-4A74-9DEF-E4ED3C28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C0E-3941-4EE4-847A-F0DEDB5D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5B2-88FD-430A-A80A-5859951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49D-119B-4652-ABFF-03C9B19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12B-FC8E-4D49-A9D0-094E836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00F-10AA-40FA-A49F-5B1C40A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ABB-63A5-49CD-9936-8E5195528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SC024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enesi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819520" y="6186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447920" y="1828800"/>
            <a:ext cx="6248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udies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Genes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4628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Way of C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59000" y="3429000"/>
            <a:ext cx="1295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 well, will 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countenan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lifted up? And if you do not do well, sin is crouching at the door; and its desire is for you, but you must master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95280" y="4343400"/>
            <a:ext cx="4343400" cy="1922760"/>
            <a:chOff x="1295280" y="4343400"/>
            <a:chExt cx="4343400" cy="1922760"/>
          </a:xfrm>
        </p:grpSpPr>
        <p:sp>
          <p:nvSpPr>
            <p:cNvPr id="99" name=""/>
            <p:cNvSpPr/>
            <p:nvPr/>
          </p:nvSpPr>
          <p:spPr>
            <a:xfrm>
              <a:off x="1320840" y="4546440"/>
              <a:ext cx="41911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95280" y="4343400"/>
              <a:ext cx="1981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hq'WvT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  <a:ea typeface="Arial"/>
                </a:rPr>
                <a:t>─</a:t>
              </a: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</a:rPr>
                <a:t>Teshuqa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295280" y="3962520"/>
            <a:ext cx="76320" cy="609480"/>
          </a:xfrm>
          <a:custGeom>
            <a:avLst/>
            <a:gdLst/>
            <a:ahLst/>
            <a:rect l="l" t="t" r="r" b="b"/>
            <a:pathLst>
              <a:path w="48" h="384">
                <a:moveTo>
                  <a:pt x="48" y="0"/>
                </a:moveTo>
                <a:cubicBezTo>
                  <a:pt x="24" y="40"/>
                  <a:pt x="0" y="80"/>
                  <a:pt x="0" y="144"/>
                </a:cubicBezTo>
                <a:cubicBezTo>
                  <a:pt x="0" y="208"/>
                  <a:pt x="24" y="296"/>
                  <a:pt x="48" y="3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55627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r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esir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shall be for your husband” (Genesis 3: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59000" y="3429000"/>
            <a:ext cx="1295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 well, will 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countenan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lifted up? And if you do not do well, sin is crouching at the door; and its desire is for you, but you must master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4343400"/>
            <a:ext cx="4343400" cy="1922760"/>
            <a:chOff x="1295280" y="4343400"/>
            <a:chExt cx="4343400" cy="1922760"/>
          </a:xfrm>
        </p:grpSpPr>
        <p:sp>
          <p:nvSpPr>
            <p:cNvPr id="109" name=""/>
            <p:cNvSpPr/>
            <p:nvPr/>
          </p:nvSpPr>
          <p:spPr>
            <a:xfrm>
              <a:off x="1320840" y="4546440"/>
              <a:ext cx="41911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4343400"/>
              <a:ext cx="1981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hq'WvT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5720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  <a:ea typeface="Arial"/>
                </a:rPr>
                <a:t>─</a:t>
              </a: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ccffff"/>
                  </a:solidFill>
                  <a:latin typeface="Arial"/>
                </a:rPr>
                <a:t>Teshuqa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295280" y="3962520"/>
            <a:ext cx="76320" cy="609480"/>
          </a:xfrm>
          <a:custGeom>
            <a:avLst/>
            <a:gdLst/>
            <a:ahLst/>
            <a:rect l="l" t="t" r="r" b="b"/>
            <a:pathLst>
              <a:path w="48" h="384">
                <a:moveTo>
                  <a:pt x="48" y="0"/>
                </a:moveTo>
                <a:cubicBezTo>
                  <a:pt x="24" y="40"/>
                  <a:pt x="0" y="80"/>
                  <a:pt x="0" y="144"/>
                </a:cubicBezTo>
                <a:cubicBezTo>
                  <a:pt x="0" y="208"/>
                  <a:pt x="24" y="296"/>
                  <a:pt x="48" y="3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55627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m my beloved’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i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esir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is for me (Song 7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told Abel his brother. And it came about when they were in the field, that Cain rose up against Abel his brother and killed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09680" y="4191120"/>
            <a:ext cx="5364360" cy="530280"/>
          </a:xfrm>
          <a:custGeom>
            <a:avLst/>
            <a:gdLst/>
            <a:ahLst/>
            <a:rect l="l" t="t" r="r" b="b"/>
            <a:pathLst>
              <a:path w="3379" h="334">
                <a:moveTo>
                  <a:pt x="3379" y="0"/>
                </a:moveTo>
                <a:cubicBezTo>
                  <a:pt x="3247" y="36"/>
                  <a:pt x="3115" y="72"/>
                  <a:pt x="2947" y="96"/>
                </a:cubicBezTo>
                <a:cubicBezTo>
                  <a:pt x="2779" y="120"/>
                  <a:pt x="2763" y="128"/>
                  <a:pt x="2371" y="144"/>
                </a:cubicBezTo>
                <a:cubicBezTo>
                  <a:pt x="1979" y="160"/>
                  <a:pt x="963" y="176"/>
                  <a:pt x="595" y="192"/>
                </a:cubicBezTo>
                <a:cubicBezTo>
                  <a:pt x="227" y="208"/>
                  <a:pt x="260" y="218"/>
                  <a:pt x="161" y="242"/>
                </a:cubicBezTo>
                <a:cubicBezTo>
                  <a:pt x="64" y="266"/>
                  <a:pt x="34" y="315"/>
                  <a:pt x="0" y="33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968480"/>
            <a:ext cx="5364360" cy="530280"/>
          </a:xfrm>
          <a:custGeom>
            <a:avLst/>
            <a:gdLst/>
            <a:ahLst/>
            <a:rect l="l" t="t" r="r" b="b"/>
            <a:pathLst>
              <a:path w="3379" h="334">
                <a:moveTo>
                  <a:pt x="3379" y="0"/>
                </a:moveTo>
                <a:cubicBezTo>
                  <a:pt x="3247" y="36"/>
                  <a:pt x="3115" y="72"/>
                  <a:pt x="2947" y="96"/>
                </a:cubicBezTo>
                <a:cubicBezTo>
                  <a:pt x="2779" y="120"/>
                  <a:pt x="2763" y="128"/>
                  <a:pt x="2371" y="144"/>
                </a:cubicBezTo>
                <a:cubicBezTo>
                  <a:pt x="1979" y="160"/>
                  <a:pt x="963" y="176"/>
                  <a:pt x="595" y="192"/>
                </a:cubicBezTo>
                <a:cubicBezTo>
                  <a:pt x="227" y="208"/>
                  <a:pt x="260" y="218"/>
                  <a:pt x="161" y="242"/>
                </a:cubicBezTo>
                <a:cubicBezTo>
                  <a:pt x="64" y="266"/>
                  <a:pt x="34" y="315"/>
                  <a:pt x="0" y="334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200400" y="304920"/>
            <a:ext cx="2819520" cy="1676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offers a wrong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28600"/>
            <a:ext cx="2667240" cy="190512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’s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304920"/>
            <a:ext cx="2514600" cy="1676160"/>
          </a:xfrm>
          <a:prstGeom prst="plus">
            <a:avLst>
              <a:gd name="adj" fmla="val 7440"/>
            </a:avLst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 re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in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14300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14300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514600"/>
            <a:ext cx="281952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438280"/>
            <a:ext cx="2667240" cy="190512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514600"/>
            <a:ext cx="2514600" cy="1676520"/>
          </a:xfrm>
          <a:prstGeom prst="plus">
            <a:avLst>
              <a:gd name="adj" fmla="val 7440"/>
            </a:avLst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 w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35268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335268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724280"/>
            <a:ext cx="281952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mu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648320"/>
            <a:ext cx="2667240" cy="190476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er 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jealou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556272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i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2860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esus Ch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9072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an unworthy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99072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he worthy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0574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ffered a sacrifice that did not involve the shedding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574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he sacrifice who shed His ow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6576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cause angry and jeal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6576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ayed for the forgiveness of those who wrong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525780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urdered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25780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ave His life to make us His br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said to Cain, “Where is Abel your brother?” And he said, “I do not know. Am I my brother’s keeper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aid, “What have you done? The voice of your brother’s blood is crying to Me from the ground.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733920"/>
            <a:ext cx="6781680" cy="28371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...and to Jesus, the mediator of a new covenant, and to the sprinkled blood, which speaks better than the blood of Abel. (Hebrews 12:24)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71600" y="4952880"/>
            <a:ext cx="18288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1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you are cursed from the ground, which has opened its mouth to receive your brother’s blood from your han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you cultivate the ground, it will no longer yield its strength to you; you will be a vagrant and a wanderer on the earth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8672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dWn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6019920"/>
            <a:ext cx="12952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N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said to the LORD, “My punishment is too great to bear!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hold, You have driven me this day from the face of the ground; and from Your face I will be hidden, and I will be a vagrant and a wanderer on the earth, and whoever finds me will kill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LORD said to him, “Therefore whoever kills Cain, vengeance will be taken on him sevenfold.” And the LORD appointed a sign for Cain, so that no one finding him would slay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s with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860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9907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give birth to Cain and Abel outside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5909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chapter opens, Adam and Eve are inno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5909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chapter begins, Cain and Abel are sin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91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comes to the woman and speaks with her op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191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is tempting Cain in the background where we cannot see hi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in went out from the presence of the LORD, and settled in the land of Nod, east of E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434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8240" y="9140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pent comes and deceives 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2280"/>
            <a:ext cx="43434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9144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arns Cain that sin is crouching at the d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51460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 eat of the forbidden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514600"/>
            <a:ext cx="43434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murders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581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 begin the cycle of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81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continues the cycle of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724280"/>
            <a:ext cx="4343400" cy="19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mes in the cool of the day to seek out and question Adam and 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724280"/>
            <a:ext cx="4343400" cy="19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mes to seek out and question Cain about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3434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240" y="9140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 given coats of skin to cover their nak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52280"/>
            <a:ext cx="43434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9144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is given a mark to protec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5146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 are banished from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51460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is banished to a foreig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 had relations with his wife and she conceived, and gave birth to Enoch; and he built a city, and called the name of the city Enoch, after the name of his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to Enoch was born Irad, and Irad became the father of Mehujael, and Mehujael became the father of Methushael, and Methushael became the father of Lamech.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Genesis 4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638320" y="990360"/>
            <a:ext cx="2590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2057400"/>
            <a:ext cx="2590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124080"/>
            <a:ext cx="259092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huj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191120"/>
            <a:ext cx="2590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ush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257800"/>
            <a:ext cx="2590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m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600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2666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mech took to himself two wives: the name of the one was Adah, and the name of the other, Zilla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20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h gave birth to Jabal; he was the father of those who dwell in tents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stock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brother’s name was Jubal; he was the father of all those who play the lyre and pip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for Zillah, she also gave birth to Tubal-cain, the forger of all implements of bronze and iron; and the sister of Tubal-cain was Naam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23-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mech said to his wiv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h and Zilla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to my voi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ves of Lame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eed to my spee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have killed a man for wounding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boy for striking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Cain is avenged sevenfo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Lamech seventy-sevenfol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876920" y="2997360"/>
            <a:ext cx="1981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07040" y="2476440"/>
            <a:ext cx="9651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had relations with his wife again; and she gave birth to a son, and named him Seth, for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e s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“God has appointed me another offspring in place of Abel, for Cain killed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57150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tyvi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5181480"/>
            <a:ext cx="1752480" cy="642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Shiy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51055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tve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572000"/>
            <a:ext cx="17524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Se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th, to him also a son was born; and he called his name Enosh.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to call upon the name of the L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860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4343400" cy="289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’s sin was in disobeying God by eating of the fruit of the tree of knowledge of good and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990720"/>
            <a:ext cx="4343400" cy="289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n’s sin is threefo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ffers an unacceptable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er and jealou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rders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88620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eks out Adam and Eve and interrogates them until they admit their g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88620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eks out Cain and interrogates him, but he still refuses to acknowledge his g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860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is cursed as a result of Adam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9907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 no longer yields it increase for 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5909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pter ends in Adam and Eve’s expulsion from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5909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pter ends in Cain’s banishment to the land of N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029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his fictional book, East of Eden, John Steinbeck calls this chapter, “The symbol story of the human sou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692760" y="2476440"/>
            <a:ext cx="1003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352680"/>
            <a:ext cx="1219320" cy="144792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768" y="0"/>
                </a:moveTo>
                <a:cubicBezTo>
                  <a:pt x="620" y="0"/>
                  <a:pt x="472" y="0"/>
                  <a:pt x="384" y="48"/>
                </a:cubicBezTo>
                <a:cubicBezTo>
                  <a:pt x="296" y="96"/>
                  <a:pt x="304" y="144"/>
                  <a:pt x="240" y="288"/>
                </a:cubicBezTo>
                <a:cubicBezTo>
                  <a:pt x="176" y="432"/>
                  <a:pt x="88" y="672"/>
                  <a:pt x="0" y="9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94360" y="2984400"/>
            <a:ext cx="121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man had relations with his wife Eve, and she conceived and gave birth to Cain, and she said, “I have gotten a manchild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help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1814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hn"q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'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00600"/>
            <a:ext cx="17524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Qan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495288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!yIq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;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4572000"/>
            <a:ext cx="1752480" cy="6426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Qay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2895480"/>
            <a:ext cx="317520" cy="1676520"/>
          </a:xfrm>
          <a:custGeom>
            <a:avLst/>
            <a:gdLst/>
            <a:ahLst/>
            <a:rect l="l" t="t" r="r" b="b"/>
            <a:pathLst>
              <a:path w="200" h="1056">
                <a:moveTo>
                  <a:pt x="0" y="0"/>
                </a:moveTo>
                <a:cubicBezTo>
                  <a:pt x="56" y="44"/>
                  <a:pt x="112" y="88"/>
                  <a:pt x="144" y="144"/>
                </a:cubicBezTo>
                <a:cubicBezTo>
                  <a:pt x="176" y="200"/>
                  <a:pt x="184" y="184"/>
                  <a:pt x="192" y="336"/>
                </a:cubicBezTo>
                <a:cubicBezTo>
                  <a:pt x="200" y="488"/>
                  <a:pt x="196" y="772"/>
                  <a:pt x="192" y="10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33640" y="1981080"/>
            <a:ext cx="10670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she gave birth to his brother Abel. And Abel was a keeper of flocks, but Cain was a tiller of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7242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b,h'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4191120"/>
            <a:ext cx="17524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H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2760" y="4157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mp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came about in the course of time that Cain brought an offering to the LORD of the fruit of the grou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4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l, on his part also brought of the firstlings of his flock and of their fat portions. And the LORD had regard for Abel and for his offering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for Cain and for his offering He had no regard. So Cain became very angry and his countenance fe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4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said to Cain, “Why are you angry? And why has your countenance falle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219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5-12-11T00:15:54Z</dcterms:modified>
  <cp:revision>297</cp:revision>
  <dc:subject/>
  <dc:title>Discipleship Across the Lifespan</dc:title>
</cp:coreProperties>
</file>