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png" ContentType="image/png"/>
  <Override PartName="/ppt/media/image30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1.png" ContentType="image/png"/>
  <Override PartName="/ppt/media/image121.png" ContentType="image/png"/>
  <Override PartName="/ppt/media/image107.jpeg" ContentType="image/jpe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122.png" ContentType="image/png"/>
  <Override PartName="/ppt/media/image93.wmf" ContentType="image/x-wmf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77.jpeg" ContentType="image/jpeg"/>
  <Override PartName="/ppt/media/image55.png" ContentType="image/png"/>
  <Override PartName="/ppt/media/image64.png" ContentType="image/png"/>
  <Override PartName="/ppt/media/image63.png" ContentType="image/png"/>
  <Override PartName="/ppt/media/image38.png" ContentType="image/png"/>
  <Override PartName="/ppt/media/image39.png" ContentType="image/png"/>
  <Override PartName="/ppt/media/image33.png" ContentType="image/png"/>
  <Override PartName="/ppt/media/image3.jpeg" ContentType="image/jpeg"/>
  <Override PartName="/ppt/media/image138.png" ContentType="image/png"/>
  <Override PartName="/ppt/media/image41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133.png" ContentType="image/png"/>
  <Override PartName="/ppt/media/image134.png" ContentType="image/png"/>
  <Override PartName="/ppt/media/image135.png" ContentType="image/png"/>
  <Override PartName="/ppt/media/image136.png" ContentType="image/png"/>
  <Override PartName="/ppt/media/image139.png" ContentType="image/png"/>
  <Override PartName="/ppt/media/image42.png" ContentType="image/png"/>
  <Override PartName="/ppt/media/image32.png" ContentType="image/png"/>
  <Override PartName="/ppt/media/image94.jpeg" ContentType="image/jpeg"/>
  <Override PartName="/ppt/media/image162.png" ContentType="image/png"/>
  <Override PartName="/ppt/media/image165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52.png" ContentType="image/png"/>
  <Override PartName="/ppt/media/image149.png" ContentType="image/png"/>
  <Override PartName="/ppt/media/image175.png" ContentType="image/png"/>
  <Override PartName="/ppt/media/image54.png" ContentType="image/png"/>
  <Override PartName="/ppt/media/image140.png" ContentType="image/png"/>
  <Override PartName="/ppt/media/image176.jpeg" ContentType="image/jpeg"/>
  <Override PartName="/ppt/media/image150.png" ContentType="image/png"/>
  <Override PartName="/ppt/media/image43.png" ContentType="image/png"/>
  <Override PartName="/ppt/media/image166.png" ContentType="image/png"/>
  <Override PartName="/ppt/media/image130.png" ContentType="image/png"/>
  <Override PartName="/ppt/media/image167.png" ContentType="image/png"/>
  <Override PartName="/ppt/media/image179.jpeg" ContentType="image/jpeg"/>
  <Override PartName="/ppt/media/image143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164.png" ContentType="image/png"/>
  <Override PartName="/ppt/media/image161.png" ContentType="image/png"/>
  <Override PartName="/ppt/media/image160.png" ContentType="image/png"/>
  <Override PartName="/ppt/media/image155.png" ContentType="image/png"/>
  <Override PartName="/ppt/media/image152.png" ContentType="image/png"/>
  <Override PartName="/ppt/media/image188.png" ContentType="image/png"/>
  <Override PartName="/ppt/media/image26.png" ContentType="image/png"/>
  <Override PartName="/ppt/media/image151.png" ContentType="image/png"/>
  <Override PartName="/ppt/media/image180.png" ContentType="image/png"/>
  <Override PartName="/ppt/media/image112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56.png" ContentType="image/png"/>
  <Override PartName="/ppt/media/image142.png" ContentType="image/png"/>
  <Override PartName="/ppt/media/image178.png" ContentType="image/png"/>
  <Override PartName="/ppt/media/image81.png" ContentType="image/png"/>
  <Override PartName="/ppt/media/image141.png" ContentType="image/png"/>
  <Override PartName="/ppt/media/image8.png" ContentType="image/png"/>
  <Override PartName="/ppt/media/image49.png" ContentType="image/png"/>
  <Override PartName="/ppt/media/image100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44.png" ContentType="image/png"/>
  <Override PartName="/ppt/media/image34.png" ContentType="image/png"/>
  <Override PartName="/ppt/media/image4.png" ContentType="image/png"/>
  <Override PartName="/ppt/media/image15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25.png" ContentType="image/png"/>
  <Override PartName="/ppt/media/image1.png" ContentType="image/png"/>
  <Override PartName="/ppt/media/image153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13.jpeg" ContentType="image/jpeg"/>
  <Override PartName="/ppt/media/image20.png" ContentType="image/png"/>
  <Override PartName="/ppt/media/image117.png" ContentType="image/png"/>
  <Override PartName="/ppt/media/image185.png" ContentType="image/png"/>
  <Override PartName="/ppt/media/image91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86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87.png" ContentType="image/png"/>
  <Override PartName="/ppt/media/image1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078-B882-42EE-B95A-D3F18855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31A-9626-4B59-AF30-E2F8CB85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1A5-75CF-4990-9975-D941A381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5BE-8016-4082-BE7D-C900FB52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CC9-A673-44AC-8E1B-5690BAB0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5E1-694A-4A35-8490-CEB74CA3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B77-0019-491D-B5BA-6EBC2CCB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2C4-18FF-4660-BAB6-B64E81C9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58B-0CFD-4BB5-B725-B072D6F5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8C1-E4FB-44C2-8F2C-E1E30AE0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BB6-91B8-4DCE-A9BD-30DD327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F29-77F5-403B-B652-E77D73F6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818C-58C7-4BC4-A2AD-46919BE78B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0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19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20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2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4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0.png"/><Relationship Id="rId6" Type="http://schemas.openxmlformats.org/officeDocument/2006/relationships/image" Target="../media/image48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6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3.png"/><Relationship Id="rId4" Type="http://schemas.openxmlformats.org/officeDocument/2006/relationships/image" Target="../media/image60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0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0.png"/><Relationship Id="rId11" Type="http://schemas.openxmlformats.org/officeDocument/2006/relationships/image" Target="../media/image69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34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18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53.png"/><Relationship Id="rId3" Type="http://schemas.openxmlformats.org/officeDocument/2006/relationships/image" Target="../media/image78.png"/><Relationship Id="rId4" Type="http://schemas.openxmlformats.org/officeDocument/2006/relationships/image" Target="../media/image6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53.png"/><Relationship Id="rId6" Type="http://schemas.openxmlformats.org/officeDocument/2006/relationships/image" Target="../media/image78.png"/><Relationship Id="rId7" Type="http://schemas.openxmlformats.org/officeDocument/2006/relationships/image" Target="../media/image68.png"/><Relationship Id="rId8" Type="http://schemas.openxmlformats.org/officeDocument/2006/relationships/image" Target="../media/image79.png"/><Relationship Id="rId9" Type="http://schemas.openxmlformats.org/officeDocument/2006/relationships/image" Target="../media/image83.png"/><Relationship Id="rId10" Type="http://schemas.openxmlformats.org/officeDocument/2006/relationships/image" Target="../media/image84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7.png"/><Relationship Id="rId6" Type="http://schemas.openxmlformats.org/officeDocument/2006/relationships/image" Target="../media/image53.png"/><Relationship Id="rId7" Type="http://schemas.openxmlformats.org/officeDocument/2006/relationships/image" Target="../media/image8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87.png"/><Relationship Id="rId3" Type="http://schemas.openxmlformats.org/officeDocument/2006/relationships/image" Target="../media/image53.pn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image" Target="../media/image48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2.png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image" Target="../media/image95.png"/><Relationship Id="rId5" Type="http://schemas.openxmlformats.org/officeDocument/2006/relationships/image" Target="../media/image95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60.png"/><Relationship Id="rId10" Type="http://schemas.openxmlformats.org/officeDocument/2006/relationships/image" Target="../media/image100.png"/><Relationship Id="rId11" Type="http://schemas.openxmlformats.org/officeDocument/2006/relationships/image" Target="../media/image100.png"/><Relationship Id="rId12" Type="http://schemas.openxmlformats.org/officeDocument/2006/relationships/image" Target="../media/image101.png"/><Relationship Id="rId13" Type="http://schemas.openxmlformats.org/officeDocument/2006/relationships/image" Target="../media/image56.png"/><Relationship Id="rId14" Type="http://schemas.openxmlformats.org/officeDocument/2006/relationships/image" Target="../media/image101.png"/><Relationship Id="rId15" Type="http://schemas.openxmlformats.org/officeDocument/2006/relationships/image" Target="../media/image55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98.png"/><Relationship Id="rId6" Type="http://schemas.openxmlformats.org/officeDocument/2006/relationships/image" Target="../media/image105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98.png"/><Relationship Id="rId6" Type="http://schemas.openxmlformats.org/officeDocument/2006/relationships/image" Target="../media/image105.png"/><Relationship Id="rId7" Type="http://schemas.openxmlformats.org/officeDocument/2006/relationships/image" Target="../media/image23.png"/><Relationship Id="rId8" Type="http://schemas.openxmlformats.org/officeDocument/2006/relationships/image" Target="../media/image18.png"/><Relationship Id="rId9" Type="http://schemas.openxmlformats.org/officeDocument/2006/relationships/image" Target="../media/image106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png"/><Relationship Id="rId3" Type="http://schemas.openxmlformats.org/officeDocument/2006/relationships/image" Target="../media/image81.png"/><Relationship Id="rId4" Type="http://schemas.openxmlformats.org/officeDocument/2006/relationships/image" Target="../media/image109.png"/><Relationship Id="rId5" Type="http://schemas.openxmlformats.org/officeDocument/2006/relationships/image" Target="../media/image110.png"/><Relationship Id="rId6" Type="http://schemas.openxmlformats.org/officeDocument/2006/relationships/image" Target="../media/image111.png"/><Relationship Id="rId7" Type="http://schemas.openxmlformats.org/officeDocument/2006/relationships/image" Target="../media/image53.png"/><Relationship Id="rId8" Type="http://schemas.openxmlformats.org/officeDocument/2006/relationships/image" Target="../media/image104.png"/><Relationship Id="rId9" Type="http://schemas.openxmlformats.org/officeDocument/2006/relationships/image" Target="../media/image60.png"/><Relationship Id="rId10" Type="http://schemas.openxmlformats.org/officeDocument/2006/relationships/image" Target="../media/image112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4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image" Target="../media/image53.png"/><Relationship Id="rId6" Type="http://schemas.openxmlformats.org/officeDocument/2006/relationships/image" Target="../media/image60.png"/><Relationship Id="rId7" Type="http://schemas.openxmlformats.org/officeDocument/2006/relationships/image" Target="../media/image115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22.png"/><Relationship Id="rId6" Type="http://schemas.openxmlformats.org/officeDocument/2006/relationships/image" Target="../media/image67.png"/><Relationship Id="rId7" Type="http://schemas.openxmlformats.org/officeDocument/2006/relationships/image" Target="../media/image22.png"/><Relationship Id="rId8" Type="http://schemas.openxmlformats.org/officeDocument/2006/relationships/image" Target="../media/image60.png"/><Relationship Id="rId9" Type="http://schemas.openxmlformats.org/officeDocument/2006/relationships/image" Target="../media/image82.png"/><Relationship Id="rId10" Type="http://schemas.openxmlformats.org/officeDocument/2006/relationships/image" Target="../media/image121.png"/><Relationship Id="rId11" Type="http://schemas.openxmlformats.org/officeDocument/2006/relationships/image" Target="../media/image110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1.png"/><Relationship Id="rId3" Type="http://schemas.openxmlformats.org/officeDocument/2006/relationships/image" Target="../media/image91.png"/><Relationship Id="rId4" Type="http://schemas.openxmlformats.org/officeDocument/2006/relationships/image" Target="../media/image123.png"/><Relationship Id="rId5" Type="http://schemas.openxmlformats.org/officeDocument/2006/relationships/image" Target="../media/image117.png"/><Relationship Id="rId6" Type="http://schemas.openxmlformats.org/officeDocument/2006/relationships/image" Target="../media/image124.png"/><Relationship Id="rId7" Type="http://schemas.openxmlformats.org/officeDocument/2006/relationships/image" Target="../media/image123.png"/><Relationship Id="rId8" Type="http://schemas.openxmlformats.org/officeDocument/2006/relationships/image" Target="../media/image125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6.png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27.png"/><Relationship Id="rId3" Type="http://schemas.openxmlformats.org/officeDocument/2006/relationships/image" Target="../media/image127.png"/><Relationship Id="rId4" Type="http://schemas.openxmlformats.org/officeDocument/2006/relationships/image" Target="../media/image44.png"/><Relationship Id="rId5" Type="http://schemas.openxmlformats.org/officeDocument/2006/relationships/image" Target="../media/image48.png"/><Relationship Id="rId6" Type="http://schemas.openxmlformats.org/officeDocument/2006/relationships/image" Target="../media/image128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5.png"/><Relationship Id="rId3" Type="http://schemas.openxmlformats.org/officeDocument/2006/relationships/image" Target="../media/image48.png"/><Relationship Id="rId4" Type="http://schemas.openxmlformats.org/officeDocument/2006/relationships/image" Target="../media/image129.png"/><Relationship Id="rId5" Type="http://schemas.openxmlformats.org/officeDocument/2006/relationships/image" Target="../media/image129.png"/><Relationship Id="rId6" Type="http://schemas.openxmlformats.org/officeDocument/2006/relationships/image" Target="../media/image48.png"/><Relationship Id="rId7" Type="http://schemas.openxmlformats.org/officeDocument/2006/relationships/image" Target="../media/image130.png"/><Relationship Id="rId8" Type="http://schemas.openxmlformats.org/officeDocument/2006/relationships/image" Target="../media/image60.png"/><Relationship Id="rId9" Type="http://schemas.openxmlformats.org/officeDocument/2006/relationships/image" Target="../media/image131.png"/><Relationship Id="rId10" Type="http://schemas.openxmlformats.org/officeDocument/2006/relationships/image" Target="../media/image91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48.png"/><Relationship Id="rId3" Type="http://schemas.openxmlformats.org/officeDocument/2006/relationships/image" Target="../media/image132.png"/><Relationship Id="rId4" Type="http://schemas.openxmlformats.org/officeDocument/2006/relationships/image" Target="../media/image22.png"/><Relationship Id="rId5" Type="http://schemas.openxmlformats.org/officeDocument/2006/relationships/image" Target="../media/image133.png"/><Relationship Id="rId6" Type="http://schemas.openxmlformats.org/officeDocument/2006/relationships/image" Target="../media/image134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139.png"/><Relationship Id="rId3" Type="http://schemas.openxmlformats.org/officeDocument/2006/relationships/image" Target="../media/image24.png"/><Relationship Id="rId4" Type="http://schemas.openxmlformats.org/officeDocument/2006/relationships/image" Target="../media/image135.png"/><Relationship Id="rId5" Type="http://schemas.openxmlformats.org/officeDocument/2006/relationships/image" Target="../media/image24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140.png"/><Relationship Id="rId9" Type="http://schemas.openxmlformats.org/officeDocument/2006/relationships/image" Target="../media/image48.png"/><Relationship Id="rId10" Type="http://schemas.openxmlformats.org/officeDocument/2006/relationships/image" Target="../media/image141.png"/><Relationship Id="rId11" Type="http://schemas.openxmlformats.org/officeDocument/2006/relationships/image" Target="../media/image124.png"/><Relationship Id="rId12" Type="http://schemas.openxmlformats.org/officeDocument/2006/relationships/image" Target="../media/image142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1.png"/><Relationship Id="rId3" Type="http://schemas.openxmlformats.org/officeDocument/2006/relationships/image" Target="../media/image48.png"/><Relationship Id="rId4" Type="http://schemas.openxmlformats.org/officeDocument/2006/relationships/image" Target="../media/image143.png"/><Relationship Id="rId5" Type="http://schemas.openxmlformats.org/officeDocument/2006/relationships/image" Target="../media/image58.png"/><Relationship Id="rId6" Type="http://schemas.openxmlformats.org/officeDocument/2006/relationships/image" Target="../media/image144.png"/><Relationship Id="rId7" Type="http://schemas.openxmlformats.org/officeDocument/2006/relationships/image" Target="../media/image5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6.png"/><Relationship Id="rId3" Type="http://schemas.openxmlformats.org/officeDocument/2006/relationships/image" Target="../media/image116.png"/><Relationship Id="rId4" Type="http://schemas.openxmlformats.org/officeDocument/2006/relationships/image" Target="../media/image93.wmf"/><Relationship Id="rId5" Type="http://schemas.openxmlformats.org/officeDocument/2006/relationships/image" Target="../media/image116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5.png"/><Relationship Id="rId3" Type="http://schemas.openxmlformats.org/officeDocument/2006/relationships/image" Target="../media/image113.png"/><Relationship Id="rId4" Type="http://schemas.openxmlformats.org/officeDocument/2006/relationships/image" Target="../media/image146.png"/><Relationship Id="rId5" Type="http://schemas.openxmlformats.org/officeDocument/2006/relationships/image" Target="../media/image124.png"/><Relationship Id="rId6" Type="http://schemas.openxmlformats.org/officeDocument/2006/relationships/image" Target="../media/image59.png"/><Relationship Id="rId7" Type="http://schemas.openxmlformats.org/officeDocument/2006/relationships/image" Target="../media/image122.png"/><Relationship Id="rId8" Type="http://schemas.openxmlformats.org/officeDocument/2006/relationships/image" Target="../media/image48.png"/><Relationship Id="rId9" Type="http://schemas.openxmlformats.org/officeDocument/2006/relationships/image" Target="../media/image120.png"/><Relationship Id="rId10" Type="http://schemas.openxmlformats.org/officeDocument/2006/relationships/image" Target="../media/image29.png"/><Relationship Id="rId11" Type="http://schemas.openxmlformats.org/officeDocument/2006/relationships/image" Target="../media/image147.png"/><Relationship Id="rId1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image" Target="../media/image83.png"/><Relationship Id="rId3" Type="http://schemas.openxmlformats.org/officeDocument/2006/relationships/image" Target="../media/image136.png"/><Relationship Id="rId4" Type="http://schemas.openxmlformats.org/officeDocument/2006/relationships/image" Target="../media/image149.png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51.png"/><Relationship Id="rId3" Type="http://schemas.openxmlformats.org/officeDocument/2006/relationships/image" Target="../media/image149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08.png"/><Relationship Id="rId3" Type="http://schemas.openxmlformats.org/officeDocument/2006/relationships/image" Target="../media/image151.png"/><Relationship Id="rId4" Type="http://schemas.openxmlformats.org/officeDocument/2006/relationships/image" Target="../media/image149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30.png"/><Relationship Id="rId3" Type="http://schemas.openxmlformats.org/officeDocument/2006/relationships/image" Target="../media/image68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53.png"/><Relationship Id="rId3" Type="http://schemas.openxmlformats.org/officeDocument/2006/relationships/image" Target="../media/image152.png"/><Relationship Id="rId4" Type="http://schemas.openxmlformats.org/officeDocument/2006/relationships/image" Target="../media/image130.png"/><Relationship Id="rId5" Type="http://schemas.openxmlformats.org/officeDocument/2006/relationships/image" Target="../media/image60.png"/><Relationship Id="rId6" Type="http://schemas.openxmlformats.org/officeDocument/2006/relationships/image" Target="../media/image153.png"/><Relationship Id="rId7" Type="http://schemas.openxmlformats.org/officeDocument/2006/relationships/image" Target="../media/image18.png"/><Relationship Id="rId8" Type="http://schemas.openxmlformats.org/officeDocument/2006/relationships/image" Target="../media/image154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0.png"/><Relationship Id="rId3" Type="http://schemas.openxmlformats.org/officeDocument/2006/relationships/image" Target="../media/image53.png"/><Relationship Id="rId4" Type="http://schemas.openxmlformats.org/officeDocument/2006/relationships/image" Target="../media/image83.png"/><Relationship Id="rId5" Type="http://schemas.openxmlformats.org/officeDocument/2006/relationships/image" Target="../media/image34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55.png"/><Relationship Id="rId3" Type="http://schemas.openxmlformats.org/officeDocument/2006/relationships/image" Target="../media/image53.png"/><Relationship Id="rId4" Type="http://schemas.openxmlformats.org/officeDocument/2006/relationships/image" Target="../media/image40.png"/><Relationship Id="rId5" Type="http://schemas.openxmlformats.org/officeDocument/2006/relationships/image" Target="../media/image131.png"/><Relationship Id="rId6" Type="http://schemas.openxmlformats.org/officeDocument/2006/relationships/image" Target="../media/image29.png"/><Relationship Id="rId7" Type="http://schemas.openxmlformats.org/officeDocument/2006/relationships/image" Target="../media/image103.png"/><Relationship Id="rId8" Type="http://schemas.openxmlformats.org/officeDocument/2006/relationships/image" Target="../media/image156.png"/><Relationship Id="rId9" Type="http://schemas.openxmlformats.org/officeDocument/2006/relationships/image" Target="../media/image53.png"/><Relationship Id="rId10" Type="http://schemas.openxmlformats.org/officeDocument/2006/relationships/image" Target="../media/image51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51.png"/><Relationship Id="rId3" Type="http://schemas.openxmlformats.org/officeDocument/2006/relationships/image" Target="../media/image108.png"/><Relationship Id="rId4" Type="http://schemas.openxmlformats.org/officeDocument/2006/relationships/image" Target="../media/image48.png"/><Relationship Id="rId5" Type="http://schemas.openxmlformats.org/officeDocument/2006/relationships/image" Target="../media/image158.png"/><Relationship Id="rId6" Type="http://schemas.openxmlformats.org/officeDocument/2006/relationships/image" Target="../media/image122.pn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51.png"/><Relationship Id="rId3" Type="http://schemas.openxmlformats.org/officeDocument/2006/relationships/image" Target="../media/image108.png"/><Relationship Id="rId4" Type="http://schemas.openxmlformats.org/officeDocument/2006/relationships/image" Target="../media/image48.png"/><Relationship Id="rId5" Type="http://schemas.openxmlformats.org/officeDocument/2006/relationships/image" Target="../media/image159.png"/><Relationship Id="rId6" Type="http://schemas.openxmlformats.org/officeDocument/2006/relationships/image" Target="../media/image160.png"/><Relationship Id="rId7" Type="http://schemas.openxmlformats.org/officeDocument/2006/relationships/image" Target="../media/image158.png"/><Relationship Id="rId8" Type="http://schemas.openxmlformats.org/officeDocument/2006/relationships/image" Target="../media/image122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2.png"/><Relationship Id="rId3" Type="http://schemas.openxmlformats.org/officeDocument/2006/relationships/image" Target="../media/image62.png"/><Relationship Id="rId4" Type="http://schemas.openxmlformats.org/officeDocument/2006/relationships/image" Target="../media/image60.png"/><Relationship Id="rId5" Type="http://schemas.openxmlformats.org/officeDocument/2006/relationships/image" Target="../media/image73.png"/><Relationship Id="rId6" Type="http://schemas.openxmlformats.org/officeDocument/2006/relationships/image" Target="../media/image161.png"/><Relationship Id="rId7" Type="http://schemas.openxmlformats.org/officeDocument/2006/relationships/image" Target="../media/image162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3.png"/><Relationship Id="rId3" Type="http://schemas.openxmlformats.org/officeDocument/2006/relationships/image" Target="../media/image11.png"/><Relationship Id="rId4" Type="http://schemas.openxmlformats.org/officeDocument/2006/relationships/image" Target="../media/image164.png"/><Relationship Id="rId5" Type="http://schemas.openxmlformats.org/officeDocument/2006/relationships/image" Target="../media/image36.png"/><Relationship Id="rId6" Type="http://schemas.openxmlformats.org/officeDocument/2006/relationships/image" Target="../media/image165.png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66.png"/><Relationship Id="rId3" Type="http://schemas.openxmlformats.org/officeDocument/2006/relationships/image" Target="../media/image104.png"/><Relationship Id="rId4" Type="http://schemas.openxmlformats.org/officeDocument/2006/relationships/image" Target="../media/image59.png"/><Relationship Id="rId5" Type="http://schemas.openxmlformats.org/officeDocument/2006/relationships/image" Target="../media/image151.png"/><Relationship Id="rId6" Type="http://schemas.openxmlformats.org/officeDocument/2006/relationships/image" Target="../media/image60.png"/><Relationship Id="rId7" Type="http://schemas.openxmlformats.org/officeDocument/2006/relationships/image" Target="../media/image167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image" Target="../media/image60.png"/><Relationship Id="rId3" Type="http://schemas.openxmlformats.org/officeDocument/2006/relationships/image" Target="../media/image167.png"/><Relationship Id="rId4" Type="http://schemas.openxmlformats.org/officeDocument/2006/relationships/image" Target="../media/image60.png"/><Relationship Id="rId5" Type="http://schemas.openxmlformats.org/officeDocument/2006/relationships/image" Target="../media/image169.png"/><Relationship Id="rId6" Type="http://schemas.openxmlformats.org/officeDocument/2006/relationships/image" Target="../media/image60.png"/><Relationship Id="rId7" Type="http://schemas.openxmlformats.org/officeDocument/2006/relationships/image" Target="../media/image134.png"/><Relationship Id="rId8" Type="http://schemas.openxmlformats.org/officeDocument/2006/relationships/image" Target="../media/image5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04.png"/><Relationship Id="rId3" Type="http://schemas.openxmlformats.org/officeDocument/2006/relationships/image" Target="../media/image43.png"/><Relationship Id="rId4" Type="http://schemas.openxmlformats.org/officeDocument/2006/relationships/image" Target="../media/image102.png"/><Relationship Id="rId5" Type="http://schemas.openxmlformats.org/officeDocument/2006/relationships/image" Target="../media/image136.png"/><Relationship Id="rId6" Type="http://schemas.openxmlformats.org/officeDocument/2006/relationships/image" Target="../media/image60.png"/><Relationship Id="rId7" Type="http://schemas.openxmlformats.org/officeDocument/2006/relationships/image" Target="../media/image170.png"/><Relationship Id="rId8" Type="http://schemas.openxmlformats.org/officeDocument/2006/relationships/image" Target="../media/image171.png"/><Relationship Id="rId9" Type="http://schemas.openxmlformats.org/officeDocument/2006/relationships/image" Target="../media/image160.png"/><Relationship Id="rId10" Type="http://schemas.openxmlformats.org/officeDocument/2006/relationships/image" Target="../media/image172.png"/><Relationship Id="rId1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3.png"/><Relationship Id="rId2" Type="http://schemas.openxmlformats.org/officeDocument/2006/relationships/image" Target="../media/image151.png"/><Relationship Id="rId3" Type="http://schemas.openxmlformats.org/officeDocument/2006/relationships/image" Target="../media/image174.png"/><Relationship Id="rId4" Type="http://schemas.openxmlformats.org/officeDocument/2006/relationships/image" Target="../media/image157.png"/><Relationship Id="rId5" Type="http://schemas.openxmlformats.org/officeDocument/2006/relationships/image" Target="../media/image175.png"/><Relationship Id="rId6" Type="http://schemas.openxmlformats.org/officeDocument/2006/relationships/image" Target="../media/image175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1.png"/><Relationship Id="rId3" Type="http://schemas.openxmlformats.org/officeDocument/2006/relationships/image" Target="../media/image119.png"/><Relationship Id="rId4" Type="http://schemas.openxmlformats.org/officeDocument/2006/relationships/image" Target="../media/image145.png"/><Relationship Id="rId5" Type="http://schemas.openxmlformats.org/officeDocument/2006/relationships/image" Target="../media/image53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1.png"/><Relationship Id="rId3" Type="http://schemas.openxmlformats.org/officeDocument/2006/relationships/image" Target="../media/image119.png"/><Relationship Id="rId4" Type="http://schemas.openxmlformats.org/officeDocument/2006/relationships/image" Target="../media/image145.png"/><Relationship Id="rId5" Type="http://schemas.openxmlformats.org/officeDocument/2006/relationships/image" Target="../media/image53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23.png"/><Relationship Id="rId9" Type="http://schemas.openxmlformats.org/officeDocument/2006/relationships/image" Target="../media/image176.jpe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7.png"/><Relationship Id="rId3" Type="http://schemas.openxmlformats.org/officeDocument/2006/relationships/image" Target="../media/image178.png"/><Relationship Id="rId4" Type="http://schemas.openxmlformats.org/officeDocument/2006/relationships/image" Target="../media/image119.png"/><Relationship Id="rId5" Type="http://schemas.openxmlformats.org/officeDocument/2006/relationships/image" Target="../media/image59.png"/><Relationship Id="rId6" Type="http://schemas.openxmlformats.org/officeDocument/2006/relationships/image" Target="../media/image160.png"/><Relationship Id="rId7" Type="http://schemas.openxmlformats.org/officeDocument/2006/relationships/image" Target="../media/image111.png"/><Relationship Id="rId8" Type="http://schemas.openxmlformats.org/officeDocument/2006/relationships/image" Target="../media/image53.png"/><Relationship Id="rId9" Type="http://schemas.openxmlformats.org/officeDocument/2006/relationships/image" Target="../media/image28.png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9.jpeg"/><Relationship Id="rId2" Type="http://schemas.openxmlformats.org/officeDocument/2006/relationships/image" Target="../media/image149.png"/><Relationship Id="rId3" Type="http://schemas.openxmlformats.org/officeDocument/2006/relationships/image" Target="../media/image134.png"/><Relationship Id="rId4" Type="http://schemas.openxmlformats.org/officeDocument/2006/relationships/image" Target="../media/image46.png"/><Relationship Id="rId5" Type="http://schemas.openxmlformats.org/officeDocument/2006/relationships/image" Target="../media/image108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108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9.jpeg"/><Relationship Id="rId2" Type="http://schemas.openxmlformats.org/officeDocument/2006/relationships/image" Target="../media/image83.png"/><Relationship Id="rId3" Type="http://schemas.openxmlformats.org/officeDocument/2006/relationships/image" Target="../media/image180.png"/><Relationship Id="rId4" Type="http://schemas.openxmlformats.org/officeDocument/2006/relationships/image" Target="../media/image181.png"/><Relationship Id="rId5" Type="http://schemas.openxmlformats.org/officeDocument/2006/relationships/image" Target="../media/image182.png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3.png"/><Relationship Id="rId3" Type="http://schemas.openxmlformats.org/officeDocument/2006/relationships/image" Target="../media/image142.png"/><Relationship Id="rId4" Type="http://schemas.openxmlformats.org/officeDocument/2006/relationships/image" Target="../media/image91.png"/><Relationship Id="rId5" Type="http://schemas.openxmlformats.org/officeDocument/2006/relationships/image" Target="../media/image23.png"/><Relationship Id="rId6" Type="http://schemas.openxmlformats.org/officeDocument/2006/relationships/image" Target="../media/image60.png"/><Relationship Id="rId7" Type="http://schemas.openxmlformats.org/officeDocument/2006/relationships/image" Target="../media/image183.png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83.png"/><Relationship Id="rId3" Type="http://schemas.openxmlformats.org/officeDocument/2006/relationships/image" Target="../media/image142.png"/><Relationship Id="rId4" Type="http://schemas.openxmlformats.org/officeDocument/2006/relationships/image" Target="../media/image183.png"/><Relationship Id="rId5" Type="http://schemas.openxmlformats.org/officeDocument/2006/relationships/image" Target="../media/image66.png"/><Relationship Id="rId6" Type="http://schemas.openxmlformats.org/officeDocument/2006/relationships/image" Target="../media/image8.png"/><Relationship Id="rId7" Type="http://schemas.openxmlformats.org/officeDocument/2006/relationships/image" Target="../media/image54.png"/><Relationship Id="rId8" Type="http://schemas.openxmlformats.org/officeDocument/2006/relationships/image" Target="../media/image60.png"/><Relationship Id="rId9" Type="http://schemas.openxmlformats.org/officeDocument/2006/relationships/image" Target="../media/image184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14.png"/><Relationship Id="rId3" Type="http://schemas.openxmlformats.org/officeDocument/2006/relationships/image" Target="../media/image19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1.png"/><Relationship Id="rId3" Type="http://schemas.openxmlformats.org/officeDocument/2006/relationships/image" Target="../media/image125.png"/><Relationship Id="rId4" Type="http://schemas.openxmlformats.org/officeDocument/2006/relationships/image" Target="../media/image95.png"/><Relationship Id="rId5" Type="http://schemas.openxmlformats.org/officeDocument/2006/relationships/image" Target="../media/image164.png"/><Relationship Id="rId6" Type="http://schemas.openxmlformats.org/officeDocument/2006/relationships/image" Target="../media/image96.png"/><Relationship Id="rId7" Type="http://schemas.openxmlformats.org/officeDocument/2006/relationships/image" Target="../media/image23.png"/><Relationship Id="rId8" Type="http://schemas.openxmlformats.org/officeDocument/2006/relationships/image" Target="../media/image60.png"/><Relationship Id="rId9" Type="http://schemas.openxmlformats.org/officeDocument/2006/relationships/image" Target="../media/image151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85.png"/><Relationship Id="rId2" Type="http://schemas.openxmlformats.org/officeDocument/2006/relationships/image" Target="../media/image57.png"/><Relationship Id="rId3" Type="http://schemas.openxmlformats.org/officeDocument/2006/relationships/image" Target="../media/image19.png"/><Relationship Id="rId4" Type="http://schemas.openxmlformats.org/officeDocument/2006/relationships/image" Target="../media/image113.png"/><Relationship Id="rId5" Type="http://schemas.openxmlformats.org/officeDocument/2006/relationships/image" Target="../media/image51.png"/><Relationship Id="rId6" Type="http://schemas.openxmlformats.org/officeDocument/2006/relationships/image" Target="../media/image127.png"/><Relationship Id="rId7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72.png"/><Relationship Id="rId3" Type="http://schemas.openxmlformats.org/officeDocument/2006/relationships/image" Target="../media/image48.png"/><Relationship Id="rId4" Type="http://schemas.openxmlformats.org/officeDocument/2006/relationships/image" Target="../media/image132.png"/><Relationship Id="rId5" Type="http://schemas.openxmlformats.org/officeDocument/2006/relationships/image" Target="../media/image40.png"/><Relationship Id="rId6" Type="http://schemas.openxmlformats.org/officeDocument/2006/relationships/image" Target="../media/image80.png"/><Relationship Id="rId7" Type="http://schemas.openxmlformats.org/officeDocument/2006/relationships/image" Target="../media/image186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image" Target="../media/image105.png"/><Relationship Id="rId3" Type="http://schemas.openxmlformats.org/officeDocument/2006/relationships/image" Target="../media/image187.png"/><Relationship Id="rId4" Type="http://schemas.openxmlformats.org/officeDocument/2006/relationships/image" Target="../media/image133.png"/><Relationship Id="rId5" Type="http://schemas.openxmlformats.org/officeDocument/2006/relationships/image" Target="../media/image18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954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7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828800" y="2209680"/>
            <a:ext cx="54864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ral Epistl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7200" y="304920"/>
            <a:ext cx="32767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chosen…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2859120"/>
            <a:ext cx="1066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143000" y="4149720"/>
            <a:ext cx="10666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400800" y="304920"/>
            <a:ext cx="25146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-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143000" y="949320"/>
            <a:ext cx="21337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133720" y="1863720"/>
            <a:ext cx="335268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reknowledge of God the Fat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133720" y="3159000"/>
            <a:ext cx="36576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nctifying work of the Spir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133720" y="4454640"/>
            <a:ext cx="426708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y Jesus Christ and be sprinkled with His blo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09480" y="5749920"/>
            <a:ext cx="746784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grace and peace be yours in the fullest measure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ircusmon8"/>
          <p:cNvPicPr/>
          <p:nvPr/>
        </p:nvPicPr>
        <p:blipFill>
          <a:blip r:embed="rId1"/>
          <a:stretch/>
        </p:blipFill>
        <p:spPr>
          <a:xfrm>
            <a:off x="457200" y="3200400"/>
            <a:ext cx="2774880" cy="3276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57200" y="304920"/>
            <a:ext cx="274320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God and Father of our Lord Jesus Chris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971800" y="1447920"/>
            <a:ext cx="27432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caused us to be born agai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809880" y="2895480"/>
            <a:ext cx="365760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ving hope through the resurrection of Jesus Christ from the dea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657600" y="4819680"/>
            <a:ext cx="495288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t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herita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ishable and undefiled and will not fade away, reserved in heaven for you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819520" y="2819520"/>
            <a:ext cx="10666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819520" y="4348080"/>
            <a:ext cx="10666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981080" y="2057400"/>
            <a:ext cx="13716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3-4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600200" y="2498760"/>
            <a:ext cx="27432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rotect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657600" y="4835520"/>
            <a:ext cx="495288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t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herita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ishable and undefiled and will not fade away, reserved in heaven for you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2062080"/>
            <a:ext cx="13716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324480" y="380880"/>
            <a:ext cx="236232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33720" y="4127400"/>
            <a:ext cx="14475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49560" y="5292720"/>
            <a:ext cx="14317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590920" y="4648320"/>
            <a:ext cx="15238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590920" y="5749920"/>
            <a:ext cx="54864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alvation ready to be revealed in the last time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33720" y="3032280"/>
            <a:ext cx="144756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590920" y="3517920"/>
            <a:ext cx="358128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wer of G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82 -0.13619 C -0.07222 -0.21665 -0.09062 -0.29688 -0.125 -0.36671 C -0.15937 -0.43607 -0.22986 -0.51353 -0.26059 -0.55376 C -0.29132 -0.59399 -0.30069 -0.60116 -0.30989 -0.6081 E">
                                      <p:cBhvr>
                                        <p:cTn id="19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57200" y="304920"/>
            <a:ext cx="274320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you greatly rejoi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19320"/>
            <a:ext cx="487692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now for a little while, if necessary, you have been distressed by various tria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809880" y="2895480"/>
            <a:ext cx="365760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faith may be proved genuin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9880" y="4267080"/>
            <a:ext cx="495324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y result in praise, glory and hon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752480" y="2590920"/>
            <a:ext cx="22860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se come so that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581280" y="3809880"/>
            <a:ext cx="12956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876920" y="30492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Peter 1:6-9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52480" y="5064120"/>
            <a:ext cx="27432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rejoice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438280" y="5562720"/>
            <a:ext cx="54864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as the outcome of your faith the salvation of your sou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286000" y="354636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4038480" y="6013440"/>
            <a:ext cx="152424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02436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8" name="Text Box 3"/>
          <p:cNvSpPr/>
          <p:nvPr/>
        </p:nvSpPr>
        <p:spPr>
          <a:xfrm>
            <a:off x="6477120" y="304920"/>
            <a:ext cx="22860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0-11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80880" y="304920"/>
            <a:ext cx="22100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o th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09680" y="1447920"/>
            <a:ext cx="59436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ts who prophesied of the grace tha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uld co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you made careful searches and inquiri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1727280" y="1295280"/>
            <a:ext cx="482400" cy="609840"/>
          </a:xfrm>
          <a:custGeom>
            <a:avLst/>
            <a:gdLst/>
            <a:ahLst/>
            <a:rect l="l" t="t" r="r" b="b"/>
            <a:pathLst>
              <a:path w="304" h="456">
                <a:moveTo>
                  <a:pt x="16" y="0"/>
                </a:moveTo>
                <a:cubicBezTo>
                  <a:pt x="16" y="24"/>
                  <a:pt x="16" y="48"/>
                  <a:pt x="16" y="96"/>
                </a:cubicBezTo>
                <a:cubicBezTo>
                  <a:pt x="16" y="144"/>
                  <a:pt x="0" y="232"/>
                  <a:pt x="16" y="288"/>
                </a:cubicBezTo>
                <a:cubicBezTo>
                  <a:pt x="32" y="344"/>
                  <a:pt x="64" y="408"/>
                  <a:pt x="112" y="432"/>
                </a:cubicBezTo>
                <a:cubicBezTo>
                  <a:pt x="160" y="456"/>
                  <a:pt x="232" y="444"/>
                  <a:pt x="30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uzzle3"/>
          <p:cNvSpPr/>
          <p:nvPr/>
        </p:nvSpPr>
        <p:spPr>
          <a:xfrm rot="19789200">
            <a:off x="6705720" y="3733560"/>
            <a:ext cx="718920" cy="1052280"/>
          </a:xfrm>
          <a:custGeom>
            <a:avLst/>
            <a:gdLst>
              <a:gd name="textAreaLeft" fmla="*/ 75600 w 718920"/>
              <a:gd name="textAreaRight" fmla="*/ 637560 w 718920"/>
              <a:gd name="textAreaTop" fmla="*/ 375840 h 1052280"/>
              <a:gd name="textAreaBottom" fmla="*/ 986040 h 10522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uzzle2"/>
          <p:cNvSpPr/>
          <p:nvPr/>
        </p:nvSpPr>
        <p:spPr>
          <a:xfrm rot="9760200">
            <a:off x="6705360" y="5028840"/>
            <a:ext cx="1147680" cy="958680"/>
          </a:xfrm>
          <a:custGeom>
            <a:avLst/>
            <a:gdLst>
              <a:gd name="textAreaLeft" fmla="*/ 286200 w 1147680"/>
              <a:gd name="textAreaRight" fmla="*/ 859680 w 1147680"/>
              <a:gd name="textAreaTop" fmla="*/ 299160 h 958680"/>
              <a:gd name="textAreaBottom" fmla="*/ 907560 h 9586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uzzle4"/>
          <p:cNvSpPr/>
          <p:nvPr/>
        </p:nvSpPr>
        <p:spPr>
          <a:xfrm rot="12682200">
            <a:off x="5562360" y="4800240"/>
            <a:ext cx="690480" cy="1225440"/>
          </a:xfrm>
          <a:custGeom>
            <a:avLst/>
            <a:gdLst>
              <a:gd name="textAreaLeft" fmla="*/ 66240 w 690480"/>
              <a:gd name="textAreaRight" fmla="*/ 645840 w 690480"/>
              <a:gd name="textAreaTop" fmla="*/ 321120 h 1225440"/>
              <a:gd name="textAreaBottom" fmla="*/ 906840 h 122544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uzzle1"/>
          <p:cNvSpPr/>
          <p:nvPr/>
        </p:nvSpPr>
        <p:spPr>
          <a:xfrm rot="1393800">
            <a:off x="5029200" y="3809880"/>
            <a:ext cx="1162080" cy="730440"/>
          </a:xfrm>
          <a:custGeom>
            <a:avLst/>
            <a:gdLst>
              <a:gd name="textAreaLeft" fmla="*/ 327240 w 1162080"/>
              <a:gd name="textAreaRight" fmla="*/ 867960 w 1162080"/>
              <a:gd name="textAreaTop" fmla="*/ 86760 h 730440"/>
              <a:gd name="textAreaBottom" fmla="*/ 661320 h 7304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9 0.7693 C 0.33507 0.75451 0.31024 0.73971 0.28212 0.70712 C 0.25399 0.67452 0.22813 0.64586 0.19115 0.57397 C 0.15417 0.50208 0.09184 0.37078 0.0599 0.27508 C 0.02795 0.17938 0.01389 0.08969 -2.77778E-007 3.6847E-006 E">
                                      <p:cBhvr>
                                        <p:cTn id="32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5486400" y="3657600"/>
            <a:ext cx="1828800" cy="1980720"/>
            <a:chOff x="5486400" y="3657600"/>
            <a:chExt cx="1828800" cy="1980720"/>
          </a:xfrm>
        </p:grpSpPr>
        <p:sp>
          <p:nvSpPr>
            <p:cNvPr id="127" name="Puzzle3"/>
            <p:cNvSpPr/>
            <p:nvPr/>
          </p:nvSpPr>
          <p:spPr>
            <a:xfrm>
              <a:off x="6377040" y="3657600"/>
              <a:ext cx="718560" cy="1052640"/>
            </a:xfrm>
            <a:custGeom>
              <a:avLst/>
              <a:gdLst>
                <a:gd name="textAreaLeft" fmla="*/ 75240 w 718560"/>
                <a:gd name="textAreaRight" fmla="*/ 637560 w 718560"/>
                <a:gd name="textAreaTop" fmla="*/ 376200 h 1052640"/>
                <a:gd name="textAreaBottom" fmla="*/ 986040 h 10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8" name="Puzzle2"/>
            <p:cNvSpPr/>
            <p:nvPr/>
          </p:nvSpPr>
          <p:spPr>
            <a:xfrm>
              <a:off x="6167880" y="4424400"/>
              <a:ext cx="1147320" cy="958680"/>
            </a:xfrm>
            <a:custGeom>
              <a:avLst/>
              <a:gdLst>
                <a:gd name="textAreaLeft" fmla="*/ 286560 w 1147320"/>
                <a:gd name="textAreaRight" fmla="*/ 859680 w 1147320"/>
                <a:gd name="textAreaTop" fmla="*/ 298800 h 958680"/>
                <a:gd name="textAreaBottom" fmla="*/ 90756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9" name="Puzzle4"/>
            <p:cNvSpPr/>
            <p:nvPr/>
          </p:nvSpPr>
          <p:spPr>
            <a:xfrm>
              <a:off x="5723640" y="4412520"/>
              <a:ext cx="691560" cy="1225800"/>
            </a:xfrm>
            <a:custGeom>
              <a:avLst/>
              <a:gdLst>
                <a:gd name="textAreaLeft" fmla="*/ 66240 w 691560"/>
                <a:gd name="textAreaRight" fmla="*/ 647280 w 691560"/>
                <a:gd name="textAreaTop" fmla="*/ 321120 h 1225800"/>
                <a:gd name="textAreaBottom" fmla="*/ 906840 h 12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0" name="Puzzle1"/>
            <p:cNvSpPr/>
            <p:nvPr/>
          </p:nvSpPr>
          <p:spPr>
            <a:xfrm>
              <a:off x="5486400" y="3975840"/>
              <a:ext cx="1161720" cy="730800"/>
            </a:xfrm>
            <a:custGeom>
              <a:avLst/>
              <a:gdLst>
                <a:gd name="textAreaLeft" fmla="*/ 327240 w 1161720"/>
                <a:gd name="textAreaRight" fmla="*/ 867600 w 1161720"/>
                <a:gd name="textAreaTop" fmla="*/ 86760 h 730800"/>
                <a:gd name="textAreaBottom" fmla="*/ 661320 h 73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02436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2" name="Text Box 8"/>
          <p:cNvSpPr/>
          <p:nvPr/>
        </p:nvSpPr>
        <p:spPr>
          <a:xfrm>
            <a:off x="6477120" y="304920"/>
            <a:ext cx="22860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0-11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80880" y="304920"/>
            <a:ext cx="22100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o th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209680" y="1447920"/>
            <a:ext cx="59436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ts who prophesied of the grace tha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uld co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you made careful searches and inquiri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1727280" y="1295280"/>
            <a:ext cx="482400" cy="609840"/>
          </a:xfrm>
          <a:custGeom>
            <a:avLst/>
            <a:gdLst/>
            <a:ahLst/>
            <a:rect l="l" t="t" r="r" b="b"/>
            <a:pathLst>
              <a:path w="304" h="456">
                <a:moveTo>
                  <a:pt x="16" y="0"/>
                </a:moveTo>
                <a:cubicBezTo>
                  <a:pt x="16" y="24"/>
                  <a:pt x="16" y="48"/>
                  <a:pt x="16" y="96"/>
                </a:cubicBezTo>
                <a:cubicBezTo>
                  <a:pt x="16" y="144"/>
                  <a:pt x="0" y="232"/>
                  <a:pt x="16" y="288"/>
                </a:cubicBezTo>
                <a:cubicBezTo>
                  <a:pt x="32" y="344"/>
                  <a:pt x="64" y="408"/>
                  <a:pt x="112" y="432"/>
                </a:cubicBezTo>
                <a:cubicBezTo>
                  <a:pt x="160" y="456"/>
                  <a:pt x="232" y="444"/>
                  <a:pt x="30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743200" y="2819520"/>
            <a:ext cx="5943600" cy="22269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king to know what person or time the Spirit of Christ within them was indicating as He predicted the sufferings of Christ and the glories to follow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55680" y="2438280"/>
            <a:ext cx="3024000" cy="3886200"/>
          </a:xfrm>
          <a:prstGeom prst="rect">
            <a:avLst/>
          </a:prstGeom>
          <a:ln w="0">
            <a:noFill/>
          </a:ln>
        </p:spPr>
      </p:pic>
      <p:sp>
        <p:nvSpPr>
          <p:cNvPr id="138" name="Line 3"/>
          <p:cNvSpPr/>
          <p:nvPr/>
        </p:nvSpPr>
        <p:spPr>
          <a:xfrm>
            <a:off x="1905120" y="2971800"/>
            <a:ext cx="0" cy="320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477120" y="304920"/>
            <a:ext cx="22860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09480" y="304920"/>
            <a:ext cx="25909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ts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14400" y="914400"/>
            <a:ext cx="43434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revealed to them that they were not serving themselves, but you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676520" y="2274840"/>
            <a:ext cx="533376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se things which now have been announced to you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057400" y="3200400"/>
            <a:ext cx="14479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590920" y="3689280"/>
            <a:ext cx="53337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preached the gospel to you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657600" y="5105520"/>
            <a:ext cx="29718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ly Spirit sent from heave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276720" y="4576680"/>
            <a:ext cx="6094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676520" y="6253200"/>
            <a:ext cx="59436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into which angels long to look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477120" y="304920"/>
            <a:ext cx="22860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295280" y="1382760"/>
            <a:ext cx="21337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676520" y="2057400"/>
            <a:ext cx="46479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d your minds for ac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676520" y="2747880"/>
            <a:ext cx="46479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sob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spir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676520" y="3429000"/>
            <a:ext cx="617220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 your hope completely on the grace to be brought to you at the revelation of Jesus Christ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1434960" y="1916280"/>
            <a:ext cx="241560" cy="482400"/>
          </a:xfrm>
          <a:custGeom>
            <a:avLst/>
            <a:gdLst/>
            <a:ahLst/>
            <a:rect l="l" t="t" r="r" b="b"/>
            <a:pathLst>
              <a:path w="152" h="304">
                <a:moveTo>
                  <a:pt x="8" y="0"/>
                </a:moveTo>
                <a:cubicBezTo>
                  <a:pt x="4" y="72"/>
                  <a:pt x="0" y="144"/>
                  <a:pt x="8" y="192"/>
                </a:cubicBezTo>
                <a:cubicBezTo>
                  <a:pt x="16" y="240"/>
                  <a:pt x="32" y="272"/>
                  <a:pt x="56" y="288"/>
                </a:cubicBezTo>
                <a:cubicBezTo>
                  <a:pt x="80" y="304"/>
                  <a:pt x="116" y="296"/>
                  <a:pt x="152" y="28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434960" y="1916280"/>
            <a:ext cx="241560" cy="1079280"/>
          </a:xfrm>
          <a:custGeom>
            <a:avLst/>
            <a:gdLst/>
            <a:ahLst/>
            <a:rect l="l" t="t" r="r" b="b"/>
            <a:pathLst>
              <a:path w="152" h="680">
                <a:moveTo>
                  <a:pt x="8" y="0"/>
                </a:moveTo>
                <a:cubicBezTo>
                  <a:pt x="8" y="124"/>
                  <a:pt x="8" y="248"/>
                  <a:pt x="8" y="336"/>
                </a:cubicBezTo>
                <a:cubicBezTo>
                  <a:pt x="8" y="424"/>
                  <a:pt x="8" y="480"/>
                  <a:pt x="8" y="528"/>
                </a:cubicBezTo>
                <a:cubicBezTo>
                  <a:pt x="8" y="576"/>
                  <a:pt x="0" y="600"/>
                  <a:pt x="8" y="624"/>
                </a:cubicBezTo>
                <a:cubicBezTo>
                  <a:pt x="16" y="648"/>
                  <a:pt x="32" y="664"/>
                  <a:pt x="56" y="672"/>
                </a:cubicBezTo>
                <a:cubicBezTo>
                  <a:pt x="80" y="680"/>
                  <a:pt x="116" y="676"/>
                  <a:pt x="152" y="6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1434960" y="1916280"/>
            <a:ext cx="241560" cy="1892160"/>
          </a:xfrm>
          <a:custGeom>
            <a:avLst/>
            <a:gdLst/>
            <a:ahLst/>
            <a:rect l="l" t="t" r="r" b="b"/>
            <a:pathLst>
              <a:path w="152" h="1192">
                <a:moveTo>
                  <a:pt x="8" y="0"/>
                </a:moveTo>
                <a:cubicBezTo>
                  <a:pt x="8" y="220"/>
                  <a:pt x="8" y="440"/>
                  <a:pt x="8" y="624"/>
                </a:cubicBezTo>
                <a:cubicBezTo>
                  <a:pt x="8" y="808"/>
                  <a:pt x="0" y="1016"/>
                  <a:pt x="8" y="1104"/>
                </a:cubicBezTo>
                <a:cubicBezTo>
                  <a:pt x="16" y="1192"/>
                  <a:pt x="32" y="1144"/>
                  <a:pt x="56" y="1152"/>
                </a:cubicBezTo>
                <a:cubicBezTo>
                  <a:pt x="80" y="1160"/>
                  <a:pt x="116" y="1156"/>
                  <a:pt x="152" y="115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286000" y="38862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477120" y="304920"/>
            <a:ext cx="22860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4-1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7200" y="1082520"/>
            <a:ext cx="380988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obedient children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295280" y="1600200"/>
            <a:ext cx="64771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conformed to the former lus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ich were your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ignoran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2530440"/>
            <a:ext cx="12952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295280" y="3003480"/>
            <a:ext cx="579132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the Holy One who called you, be holy yourselves also in a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;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447920" y="4343400"/>
            <a:ext cx="39621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t is written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133720" y="4832280"/>
            <a:ext cx="33526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hall be holy, for I am holy.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206960" y="5445000"/>
            <a:ext cx="449568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of a lamb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blemished and spotles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477120" y="304920"/>
            <a:ext cx="22860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7-19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76320"/>
            <a:ext cx="9144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14400" y="533520"/>
            <a:ext cx="510552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ddress as Father the One who impartially judges according to each man's work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80880" y="1905120"/>
            <a:ext cx="556272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onduct yourselves in f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ring the time of your sta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pon ear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3520" y="3200400"/>
            <a:ext cx="22860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990720" y="3657600"/>
            <a:ext cx="678168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ere not redeemed with perishable things like silver or gold from your futile way of life inherited from your forefathers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4997520"/>
            <a:ext cx="7621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990720" y="5486400"/>
            <a:ext cx="327636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precious blo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990720" y="6324480"/>
            <a:ext cx="32763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loo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hrist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astern Med1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954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6400800" cy="236232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, an apostle of Jesus Christ, to those who reside as aliens, scattered throughout Pontus, Galatia, Cappadocia, Asia, and Bithynia, who are chosen…  (1 Peter 1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6477120" y="304920"/>
            <a:ext cx="22860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2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838080" y="339840"/>
            <a:ext cx="9144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143000" y="797040"/>
            <a:ext cx="51055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foreknown before the foundation of the world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14400" y="1711440"/>
            <a:ext cx="762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143000" y="2168640"/>
            <a:ext cx="51055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appeared in these last times for the sake of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057400" y="3540240"/>
            <a:ext cx="556272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Him are believers in God, who raised Him from the dead and gave Him glor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828800" y="308304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048120" y="4888080"/>
            <a:ext cx="12952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124080" y="5349960"/>
            <a:ext cx="32004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aith and hope are in Go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828800" y="3809880"/>
            <a:ext cx="281952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eed which is perishab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77120" y="6094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22-2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57040" y="120600"/>
            <a:ext cx="518184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you have in obedience to the truth purified your souls for a sincere love of the brethren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57200" y="1447920"/>
            <a:ext cx="46483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ervently love one another from the he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990720" y="2397240"/>
            <a:ext cx="281916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you have been born agai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828800" y="5216400"/>
            <a:ext cx="28195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ishab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295280" y="4759200"/>
            <a:ext cx="8384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295280" y="3352680"/>
            <a:ext cx="9907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828800" y="5735520"/>
            <a:ext cx="50292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, through the living and abiding word of Go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1873080" y="6188040"/>
            <a:ext cx="12193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810240" cy="30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4" name="Text Box 3"/>
          <p:cNvSpPr/>
          <p:nvPr/>
        </p:nvSpPr>
        <p:spPr>
          <a:xfrm>
            <a:off x="6477120" y="6094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24-2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914400" y="152280"/>
            <a:ext cx="5181120" cy="947160"/>
            <a:chOff x="914400" y="152280"/>
            <a:chExt cx="5181120" cy="947160"/>
          </a:xfrm>
        </p:grpSpPr>
        <p:sp>
          <p:nvSpPr>
            <p:cNvPr id="196" name="Text Box 5"/>
            <p:cNvSpPr/>
            <p:nvPr/>
          </p:nvSpPr>
          <p:spPr>
            <a:xfrm>
              <a:off x="914400" y="152280"/>
              <a:ext cx="5181120" cy="947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at is, through the living and abiding word of God.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7" name="AutoShape 6"/>
            <p:cNvSpPr/>
            <p:nvPr/>
          </p:nvSpPr>
          <p:spPr>
            <a:xfrm>
              <a:off x="959760" y="604800"/>
              <a:ext cx="12560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198" name="Text Box 7"/>
          <p:cNvSpPr/>
          <p:nvPr/>
        </p:nvSpPr>
        <p:spPr>
          <a:xfrm>
            <a:off x="304920" y="1219320"/>
            <a:ext cx="7617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80880" y="4227480"/>
            <a:ext cx="8384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00" name="Group 9"/>
          <p:cNvGrpSpPr/>
          <p:nvPr/>
        </p:nvGrpSpPr>
        <p:grpSpPr>
          <a:xfrm>
            <a:off x="457200" y="4724280"/>
            <a:ext cx="5791320" cy="520560"/>
            <a:chOff x="457200" y="4724280"/>
            <a:chExt cx="5791320" cy="520560"/>
          </a:xfrm>
        </p:grpSpPr>
        <p:sp>
          <p:nvSpPr>
            <p:cNvPr id="201" name="Text Box 10"/>
            <p:cNvSpPr/>
            <p:nvPr/>
          </p:nvSpPr>
          <p:spPr>
            <a:xfrm>
              <a:off x="457200" y="4724280"/>
              <a:ext cx="5791320" cy="520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 word of the Lord abides forever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2" name="AutoShape 11"/>
            <p:cNvSpPr/>
            <p:nvPr/>
          </p:nvSpPr>
          <p:spPr>
            <a:xfrm>
              <a:off x="3778200" y="4816440"/>
              <a:ext cx="1143000" cy="38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03" name="Text Box 12"/>
          <p:cNvSpPr/>
          <p:nvPr/>
        </p:nvSpPr>
        <p:spPr>
          <a:xfrm>
            <a:off x="380880" y="1676520"/>
            <a:ext cx="3429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lesh is like gras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066680" y="2209680"/>
            <a:ext cx="8384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380880" y="2727360"/>
            <a:ext cx="55627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ts glory like the flower of gras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1066680" y="3260880"/>
            <a:ext cx="396252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ass wither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flower falls off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1066680" y="5241960"/>
            <a:ext cx="83844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066680" y="5759280"/>
            <a:ext cx="708660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word which was preached to you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477120" y="304920"/>
            <a:ext cx="22860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-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04920" y="228600"/>
            <a:ext cx="19047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5800" y="685800"/>
            <a:ext cx="25909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ting aside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600200" y="1143000"/>
            <a:ext cx="2666880" cy="222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alice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ll deceit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ypocrisy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vy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ll slander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5800" y="3371760"/>
            <a:ext cx="35053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newborn babies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04920" y="3890880"/>
            <a:ext cx="67053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long for the pure milk of the wor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1523880" y="4419720"/>
            <a:ext cx="13716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600200" y="4924440"/>
            <a:ext cx="69343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it you may grow in respect to salvatio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2057400" y="5410080"/>
            <a:ext cx="3808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133720" y="5902200"/>
            <a:ext cx="678168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asted the kindness of the Lor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2454480" y="547056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66cc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 Class Conditi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Southwest Wall 2d 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6629400" y="38088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4-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43000" y="2000160"/>
            <a:ext cx="7621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43000" y="1482840"/>
            <a:ext cx="54100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has been rejected by me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143000" y="2533680"/>
            <a:ext cx="39625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hoice and precious in the sight of G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04920" y="568440"/>
            <a:ext cx="34290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ming to Him as to a living ston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Southwest Wall 2d 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5715000" y="4800600"/>
            <a:ext cx="312408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ritual sacrifices acceptable to God through Jesus Christ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143000" y="4815000"/>
            <a:ext cx="38098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spiritual house for a holy priestho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3000" y="3900600"/>
            <a:ext cx="26668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iving ston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6629400" y="38088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4-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143000" y="2000160"/>
            <a:ext cx="762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143000" y="1482840"/>
            <a:ext cx="54100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has been rejected by me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143000" y="2533680"/>
            <a:ext cx="396252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hoice and precious in the sight of G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04920" y="568440"/>
            <a:ext cx="34290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ming to Him as to a living ston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04920" y="3443400"/>
            <a:ext cx="198108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ls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304920" y="4357800"/>
            <a:ext cx="304776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being built up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5410080" y="4343400"/>
            <a:ext cx="228600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ffer up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4952880" y="4800240"/>
            <a:ext cx="381240" cy="547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outhwest Wall 2d 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6629400" y="38088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6-7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04920" y="304920"/>
            <a:ext cx="5715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ontained in Scripture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685800" y="822240"/>
            <a:ext cx="601992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ld I lay in Zion a choice ston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ecious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 who believes in Him shall not be disappointed.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04920" y="2631960"/>
            <a:ext cx="64008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ecious value, then, is for you who believe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85800" y="4572000"/>
            <a:ext cx="64008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ne which the builders rejected, This became the very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04920" y="3546360"/>
            <a:ext cx="7617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04920" y="4064040"/>
            <a:ext cx="64008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ose who disbelieve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Southwest Wall 2d 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6629400" y="38088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7-8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304920" y="3546360"/>
            <a:ext cx="6781680" cy="1972800"/>
            <a:chOff x="304920" y="3546360"/>
            <a:chExt cx="6781680" cy="1972800"/>
          </a:xfrm>
        </p:grpSpPr>
        <p:sp>
          <p:nvSpPr>
            <p:cNvPr id="250" name="Text Box 5"/>
            <p:cNvSpPr/>
            <p:nvPr/>
          </p:nvSpPr>
          <p:spPr>
            <a:xfrm>
              <a:off x="685800" y="4572000"/>
              <a:ext cx="6400800" cy="947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 stone which the builders rejected, This became the very corner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stone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,”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304920" y="3546360"/>
              <a:ext cx="761760" cy="52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ut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2" name="Text Box 7"/>
            <p:cNvSpPr/>
            <p:nvPr/>
          </p:nvSpPr>
          <p:spPr>
            <a:xfrm>
              <a:off x="304920" y="4064040"/>
              <a:ext cx="6400800" cy="520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or those who disbelieve,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53" name="Text Box 8"/>
          <p:cNvSpPr/>
          <p:nvPr/>
        </p:nvSpPr>
        <p:spPr>
          <a:xfrm>
            <a:off x="685800" y="2651040"/>
            <a:ext cx="73152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one of stumbling and a rock of offense”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120" y="213372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447920" y="3701880"/>
            <a:ext cx="4724280" cy="1800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tumble because they are disobedient to the word, and to 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so appointe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295280" y="3184560"/>
            <a:ext cx="6858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0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51445E-007 L 0.00416 -0.48324 E">
                                      <p:cBhvr>
                                        <p:cTn id="83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4038480" cy="12952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you who belie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86000"/>
            <a:ext cx="403848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ld I lay in Zion a choice stone, a precious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495680" y="990720"/>
            <a:ext cx="403884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those who disbelie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57200" y="5105520"/>
            <a:ext cx="4038480" cy="99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not be disappoint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4495680" y="2286000"/>
            <a:ext cx="403884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ne which the builders rejected, This became the very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4495680" y="4038480"/>
            <a:ext cx="403884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one of stumbling and a rock of offen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4495680" y="5105520"/>
            <a:ext cx="4038840" cy="990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so appointed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2704320" y="204840"/>
            <a:ext cx="348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1 Peter 2:6-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3"/>
          <a:stretch/>
        </p:blipFill>
        <p:spPr>
          <a:xfrm>
            <a:off x="4114800" y="5659560"/>
            <a:ext cx="797040" cy="119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DSCF3958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9-1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066680" y="628560"/>
            <a:ext cx="31244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osen ra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52280" y="152280"/>
            <a:ext cx="24386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you are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066680" y="1143000"/>
            <a:ext cx="31244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yal priestho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066680" y="1660680"/>
            <a:ext cx="3124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oly na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066680" y="2173320"/>
            <a:ext cx="58676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ople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'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 possess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609480" y="2819520"/>
            <a:ext cx="12193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1600200" y="3103560"/>
            <a:ext cx="571500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proclaim the excellencies of Him who has called you out of darkness into His marvelous ligh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609480" y="439884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1371600" y="4703760"/>
            <a:ext cx="266688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once were not a peopl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1371600" y="5826240"/>
            <a:ext cx="2666880" cy="9471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d not received merc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 flipH="1">
            <a:off x="3961800" y="4952880"/>
            <a:ext cx="780840" cy="520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4648320" y="4724280"/>
            <a:ext cx="2819160" cy="9471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are the people of G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 flipH="1">
            <a:off x="3961800" y="6024600"/>
            <a:ext cx="780840" cy="5205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4648320" y="5826240"/>
            <a:ext cx="3200400" cy="94716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have received mercy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Elements in the Epi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reside as aliens (1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scattered – diaspora (1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chosen (1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described as a chosen race, a royal priesthood, a holy nation, a people for God’s own possession (2: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457200" y="457200"/>
            <a:ext cx="4191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ipien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52280" y="152280"/>
            <a:ext cx="1524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v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1-1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7200" y="677880"/>
            <a:ext cx="18288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urge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371600" y="1206360"/>
            <a:ext cx="44956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liens and strang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57200" y="1727280"/>
            <a:ext cx="47242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bstain from fleshly lust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2590920" y="2222640"/>
            <a:ext cx="12189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590920" y="2755800"/>
            <a:ext cx="4572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war against the soul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762120" y="3733920"/>
            <a:ext cx="7848360" cy="2895480"/>
            <a:chOff x="762120" y="3733920"/>
            <a:chExt cx="7848360" cy="2895480"/>
          </a:xfrm>
        </p:grpSpPr>
        <p:sp>
          <p:nvSpPr>
            <p:cNvPr id="290" name="Oval 10"/>
            <p:cNvSpPr/>
            <p:nvPr/>
          </p:nvSpPr>
          <p:spPr>
            <a:xfrm>
              <a:off x="762120" y="3733920"/>
              <a:ext cx="7848360" cy="2895480"/>
            </a:xfrm>
            <a:prstGeom prst="ellipse">
              <a:avLst/>
            </a:prstGeom>
            <a:gradFill rotWithShape="0">
              <a:gsLst>
                <a:gs pos="0">
                  <a:srgbClr val="940502"/>
                </a:gs>
                <a:gs pos="100000">
                  <a:srgbClr val="44020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91" name="Oval 11"/>
            <p:cNvSpPr/>
            <p:nvPr/>
          </p:nvSpPr>
          <p:spPr>
            <a:xfrm>
              <a:off x="1142640" y="4016160"/>
              <a:ext cx="7010280" cy="2612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hat is the source of quarrels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nd conflicts among you? 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s not the source your pleasures 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at wage war in your members?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(James 4:1)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52280" y="152280"/>
            <a:ext cx="1524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v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1-1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457200" y="677880"/>
            <a:ext cx="18288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urge you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371600" y="1206360"/>
            <a:ext cx="44956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liens and strang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57200" y="1727280"/>
            <a:ext cx="47242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bstain from fleshly lust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590920" y="2222640"/>
            <a:ext cx="12189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590920" y="2755800"/>
            <a:ext cx="4572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war against the soul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3433680"/>
            <a:ext cx="54864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your behavior excellent among the Gentile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71600" y="4348080"/>
            <a:ext cx="13716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71600" y="4876920"/>
            <a:ext cx="7620120" cy="18003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thing in which they slander you as evildoers, they may because of your good deeds, as they obser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glorify God in the day of visitation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DSCF46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3-1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80880"/>
            <a:ext cx="5410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yourselves for the Lord’s sake to every human institutio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990720" y="1308240"/>
            <a:ext cx="38098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to a king as the one in authority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990720" y="2716200"/>
            <a:ext cx="48006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overnors as sent by him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1066680" y="2209680"/>
            <a:ext cx="5335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2819520" y="4695840"/>
            <a:ext cx="48006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aise of those who do right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2895480" y="3200400"/>
            <a:ext cx="7621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2895480" y="3733920"/>
            <a:ext cx="472464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nishment of evildo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3124080" y="421632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304920" y="5826240"/>
            <a:ext cx="830556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uch is the will of God that by doing right you may silence the ignorance of foolish me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DSCF46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1523880" y="3041640"/>
            <a:ext cx="47246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bondslaves of Go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6-17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523880" y="717480"/>
            <a:ext cx="28958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free me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523880" y="1666800"/>
            <a:ext cx="44197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use your freedom as a covering for evil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828800" y="2571840"/>
            <a:ext cx="762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828800" y="1174680"/>
            <a:ext cx="8380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2590920" y="3562200"/>
            <a:ext cx="3962160" cy="2000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all people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the brotherhoo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Go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the king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2210040" cy="1241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2:13-1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1920" y="1616040"/>
            <a:ext cx="2210040" cy="49528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yourselves to every human institution (13-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to free men (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honor (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362320" y="380880"/>
            <a:ext cx="2209680" cy="1241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2:18-25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4572000" y="380880"/>
            <a:ext cx="2209680" cy="1241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3:1-6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6781680" y="374760"/>
            <a:ext cx="2210040" cy="12412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3: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2362320" y="1616040"/>
            <a:ext cx="2209680" cy="495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missive to your masters, even to those who are not reasonable (18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600200" y="5648400"/>
            <a:ext cx="632448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bears up under sorrows when suffering unjustly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8-19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80880" y="304920"/>
            <a:ext cx="17528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ants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09480" y="800280"/>
            <a:ext cx="518184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missive to your masters with all respect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447920" y="2209680"/>
            <a:ext cx="56386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ose who are good and gentl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1143000" y="1739880"/>
            <a:ext cx="15238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1523880" y="3124080"/>
            <a:ext cx="55627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ose who are unreasonable.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143000" y="2666880"/>
            <a:ext cx="15238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als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609480" y="3733920"/>
            <a:ext cx="83844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609480" y="4191120"/>
            <a:ext cx="26672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nd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981080" y="5186520"/>
            <a:ext cx="632484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sake of conscience toward G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00200" y="4673520"/>
            <a:ext cx="53352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2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914400" y="1071720"/>
            <a:ext cx="38862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hat credit is ther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828800" y="2062080"/>
            <a:ext cx="63244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sin and are harshly treate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371600" y="1604880"/>
            <a:ext cx="6858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371600" y="2550960"/>
            <a:ext cx="48769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endure it with patience?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905120" y="3510000"/>
            <a:ext cx="632448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do what is right and suff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 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914400" y="3052800"/>
            <a:ext cx="1143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f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371600" y="4459320"/>
            <a:ext cx="48769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patiently endure i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914400" y="4957920"/>
            <a:ext cx="42670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nd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 with Go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2210040" cy="1241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2:13-1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51920" y="1616040"/>
            <a:ext cx="2210040" cy="49528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yourselves to every human institution (13-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to free men (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honor (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362320" y="380880"/>
            <a:ext cx="2209680" cy="1241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2:18-25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4572000" y="380880"/>
            <a:ext cx="2209680" cy="1241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3:1-6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781680" y="374760"/>
            <a:ext cx="2210040" cy="12412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3: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362320" y="1616040"/>
            <a:ext cx="2209680" cy="495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missive to your masters, even to those who are not reasonable (18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3"/>
          <a:stretch/>
        </p:blipFill>
        <p:spPr>
          <a:xfrm>
            <a:off x="3978360" y="5018040"/>
            <a:ext cx="120312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685800" y="2611440"/>
            <a:ext cx="4038480" cy="37195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21-2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28600" y="228600"/>
            <a:ext cx="49528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you have been called for this purpos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33520" y="1143000"/>
            <a:ext cx="56386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Christ also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uffe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you, leaving you an example for you to follow in His steps,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676520" y="2959200"/>
            <a:ext cx="647676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ted no si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 was any deceit found in His mouth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295280" y="246384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1676520" y="4362480"/>
            <a:ext cx="6781680" cy="22269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being revile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not revile in return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suffering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uttered no threats, but kept entrust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msel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m who judges righteously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2133720" y="3886200"/>
            <a:ext cx="9144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685800" y="2611440"/>
            <a:ext cx="4038480" cy="371952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24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676520" y="1238400"/>
            <a:ext cx="42670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imself bore our si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2133720" y="762120"/>
            <a:ext cx="9144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2895480" y="2286000"/>
            <a:ext cx="23623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ros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895480" y="1752480"/>
            <a:ext cx="23623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is bod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2209680" y="281952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2514600" y="3340080"/>
            <a:ext cx="33526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ight die to si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2514600" y="3835440"/>
            <a:ext cx="8380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2514600" y="4348080"/>
            <a:ext cx="36576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to righteousness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1676520" y="5033880"/>
            <a:ext cx="68580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1676520" y="5562720"/>
            <a:ext cx="541008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His wounds you were heale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Elements in the Epi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tile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conformed to the former lusts which were yours in ignorance (1:1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utile way of life inherited from your forefathers (1: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rried out the desire of the Gentiles, having pursued a course of sensuality, lusts, drunkenness, carousing, drinking parties, and abominable desires (4: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457200" y="457200"/>
            <a:ext cx="4191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ipien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85800" y="2611440"/>
            <a:ext cx="4038480" cy="37195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2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533520" y="380880"/>
            <a:ext cx="9144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990720" y="838080"/>
            <a:ext cx="487656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ere continually straying like sheep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762120" y="1752480"/>
            <a:ext cx="15238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now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90720" y="2235240"/>
            <a:ext cx="3200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return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2133720" y="2743200"/>
            <a:ext cx="40384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Shepherd and Guardian of your souls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-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990720" y="414360"/>
            <a:ext cx="29718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same way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533520" y="92232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ve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90720" y="1430280"/>
            <a:ext cx="350496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missive to your own husband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2666880" y="2852640"/>
            <a:ext cx="4114800" cy="3080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if an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disobedient to the word, they may be won without a word by the behavior of their wive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they observe your chaste and respectful behavior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2133720" y="2344680"/>
            <a:ext cx="13716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609480" y="3517920"/>
            <a:ext cx="12193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3-4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457200" y="228600"/>
            <a:ext cx="41148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adornment must not b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re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--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371600" y="3060720"/>
            <a:ext cx="35812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ting on dresses;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371600" y="1181160"/>
            <a:ext cx="29718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ding the hair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371600" y="2133720"/>
            <a:ext cx="35812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ing gold jewelry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371600" y="1676520"/>
            <a:ext cx="8380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371600" y="2608200"/>
            <a:ext cx="838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762120" y="3975120"/>
            <a:ext cx="65530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t it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dden person of the hear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447920" y="4444920"/>
            <a:ext cx="9144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1523880" y="4902120"/>
            <a:ext cx="655344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perishable quality of a gentle and quiet spiri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2590920" y="5816520"/>
            <a:ext cx="114300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3581280" y="6253200"/>
            <a:ext cx="5029200" cy="520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ecious in the sight of Go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5-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457200" y="228600"/>
            <a:ext cx="464832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n this way in former times the holy women also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457200" y="2133720"/>
            <a:ext cx="46483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adorn themselve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523880" y="1143000"/>
            <a:ext cx="9144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676520" y="1600200"/>
            <a:ext cx="25146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d in Go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600200" y="2616120"/>
            <a:ext cx="46483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submissive to their own husbands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66880" y="3570120"/>
            <a:ext cx="52578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as Sarah obeyed Abraham, calling him lor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666880" y="4941720"/>
            <a:ext cx="518184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become her children if you do what is right without being frightened by any fear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2666880" y="4484520"/>
            <a:ext cx="9144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2210040" cy="1241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2:13-1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51920" y="1616040"/>
            <a:ext cx="2210040" cy="49528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yourselves to every human institution (13-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to free men (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honor (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362320" y="380880"/>
            <a:ext cx="2209680" cy="1241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2:18-25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4572000" y="380880"/>
            <a:ext cx="2209680" cy="1241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3:1-6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6781680" y="374760"/>
            <a:ext cx="2210040" cy="12412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40d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 Peter 3:7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2362320" y="1616040"/>
            <a:ext cx="2209680" cy="495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missive to your masters, even to those who are not reasonable (18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4572000" y="1616040"/>
            <a:ext cx="2209680" cy="49528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missive to your own husbands (1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adornment (3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17" name="Picture 9" descr=""/>
          <p:cNvPicPr/>
          <p:nvPr/>
        </p:nvPicPr>
        <p:blipFill>
          <a:blip r:embed="rId4"/>
          <a:stretch/>
        </p:blipFill>
        <p:spPr>
          <a:xfrm>
            <a:off x="3978360" y="5018040"/>
            <a:ext cx="1203120" cy="18082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0"/>
          <p:cNvSpPr/>
          <p:nvPr/>
        </p:nvSpPr>
        <p:spPr>
          <a:xfrm>
            <a:off x="6781680" y="1616040"/>
            <a:ext cx="2210040" cy="49528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with your wife in an understand-ing way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her honor as a weaker vessel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0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7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503280"/>
            <a:ext cx="25146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usband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762120" y="1450800"/>
            <a:ext cx="38862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wiv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understanding way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295280" y="985680"/>
            <a:ext cx="28958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same way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1523880" y="2381400"/>
            <a:ext cx="43434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with someone weaker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2819520" y="2865600"/>
            <a:ext cx="11430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048120" y="3322800"/>
            <a:ext cx="28191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s a woman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762120" y="4313160"/>
            <a:ext cx="38862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her hon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762120" y="3794040"/>
            <a:ext cx="9144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523880" y="4835520"/>
            <a:ext cx="56390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fellow heir of the grace of lif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2819520" y="5303880"/>
            <a:ext cx="129528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048120" y="5796000"/>
            <a:ext cx="548640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rayers will not be hindere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523880" y="1295280"/>
            <a:ext cx="4876920" cy="350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ou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athetic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therly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dhearte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umble in spirit;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returning evil for evil or insult for insul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giving a blessing instead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8-9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304920" y="304920"/>
            <a:ext cx="19810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um up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685800" y="800280"/>
            <a:ext cx="22096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you b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066680" y="5292720"/>
            <a:ext cx="60199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ere called for the very purpose that you might inherit a blessing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685800" y="4881600"/>
            <a:ext cx="6858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3505320" y="43178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006cb6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8" name="AutoShape 9"/>
          <p:cNvSpPr/>
          <p:nvPr/>
        </p:nvSpPr>
        <p:spPr>
          <a:xfrm>
            <a:off x="4826160" y="581652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006cb6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609480" y="717480"/>
            <a:ext cx="6019920" cy="5213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e who desires lif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love and see good day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keep his tongue from evil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is lips from speaking deceit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ust turn away from evil and do good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him seek peace and pursue it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eyes of the Lord are toward the righteou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is ears attend to their prayer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he face of the Lord is against those who do evil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228600" y="274680"/>
            <a:ext cx="6858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0-1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42" name="Group 5"/>
          <p:cNvGrpSpPr/>
          <p:nvPr/>
        </p:nvGrpSpPr>
        <p:grpSpPr>
          <a:xfrm>
            <a:off x="6095880" y="1752480"/>
            <a:ext cx="2743200" cy="990360"/>
            <a:chOff x="6095880" y="1752480"/>
            <a:chExt cx="2743200" cy="990360"/>
          </a:xfrm>
        </p:grpSpPr>
        <p:sp>
          <p:nvSpPr>
            <p:cNvPr id="443" name="Cloud"/>
            <p:cNvSpPr/>
            <p:nvPr/>
          </p:nvSpPr>
          <p:spPr>
            <a:xfrm>
              <a:off x="6095880" y="1752480"/>
              <a:ext cx="2743200" cy="990360"/>
            </a:xfrm>
            <a:custGeom>
              <a:avLst/>
              <a:gdLst>
                <a:gd name="textAreaLeft" fmla="*/ 377640 w 2743200"/>
                <a:gd name="textAreaRight" fmla="*/ 2170440 w 2743200"/>
                <a:gd name="textAreaTop" fmla="*/ 149040 h 990360"/>
                <a:gd name="textAreaBottom" fmla="*/ 79524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44" name="Text Box 7"/>
            <p:cNvSpPr/>
            <p:nvPr/>
          </p:nvSpPr>
          <p:spPr>
            <a:xfrm>
              <a:off x="6300720" y="198108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alm 34:12-16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0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04920" y="533520"/>
            <a:ext cx="541008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there to harm you if you prove zealous for what is good?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3-14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066680" y="2819520"/>
            <a:ext cx="55627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o not fear their intimidation, And do not be troubled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04920" y="1905120"/>
            <a:ext cx="601956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if you should suffer for the sake of righteousness, you are blessed.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609480" y="1447920"/>
            <a:ext cx="7621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219320" y="4267080"/>
            <a:ext cx="662940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you are not to fear what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ear or be in dread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LORD of hosts whom you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regard as holy. (Isaiah 8:12-13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1066680" y="4191120"/>
            <a:ext cx="396252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ctify Christ as Lord in your heart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304920" y="533520"/>
            <a:ext cx="5410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there to harm you if you prove zealous for what is good?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3-15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1066680" y="2819520"/>
            <a:ext cx="55627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o not fear their intimidation, And do not be troubled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304920" y="1905120"/>
            <a:ext cx="601956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if you should suffer for the sake of righteousness, you are blessed.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609480" y="1447920"/>
            <a:ext cx="762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1219320" y="3733920"/>
            <a:ext cx="7617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Elements in the Epi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tile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once were not a people, but now you are the people of God, you had not received mercy, but now you have received mercy (2: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457200" y="457200"/>
            <a:ext cx="4191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ipien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5-1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1905120" y="2057400"/>
            <a:ext cx="6400800" cy="180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ke a defense to everyone who asks you to give an account for the hope that is in you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t with gentleness and reverence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295280" y="1523880"/>
            <a:ext cx="33530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1" name="AutoShape 5"/>
          <p:cNvSpPr/>
          <p:nvPr/>
        </p:nvSpPr>
        <p:spPr>
          <a:xfrm>
            <a:off x="3581280" y="2101680"/>
            <a:ext cx="13716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3809880" y="25909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3" name="Group 7"/>
          <p:cNvGrpSpPr/>
          <p:nvPr/>
        </p:nvGrpSpPr>
        <p:grpSpPr>
          <a:xfrm>
            <a:off x="2819520" y="4572000"/>
            <a:ext cx="4749480" cy="762120"/>
            <a:chOff x="2819520" y="4572000"/>
            <a:chExt cx="4749480" cy="762120"/>
          </a:xfrm>
        </p:grpSpPr>
        <p:sp>
          <p:nvSpPr>
            <p:cNvPr id="464" name="AutoShape 8"/>
            <p:cNvSpPr/>
            <p:nvPr/>
          </p:nvSpPr>
          <p:spPr>
            <a:xfrm>
              <a:off x="2819520" y="4572000"/>
              <a:ext cx="243828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wgrkl"/>
                </a:rPr>
                <a:t>avpologi,an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5" name="Text Box 9"/>
            <p:cNvSpPr/>
            <p:nvPr/>
          </p:nvSpPr>
          <p:spPr>
            <a:xfrm>
              <a:off x="5335560" y="4678200"/>
              <a:ext cx="22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Arial"/>
                </a:rPr>
                <a:t>- Apologian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466" name="Group 10"/>
          <p:cNvGrpSpPr/>
          <p:nvPr/>
        </p:nvGrpSpPr>
        <p:grpSpPr>
          <a:xfrm>
            <a:off x="1066680" y="3733920"/>
            <a:ext cx="3962520" cy="1404360"/>
            <a:chOff x="1066680" y="3733920"/>
            <a:chExt cx="3962520" cy="1404360"/>
          </a:xfrm>
        </p:grpSpPr>
        <p:sp>
          <p:nvSpPr>
            <p:cNvPr id="467" name="Text Box 11"/>
            <p:cNvSpPr/>
            <p:nvPr/>
          </p:nvSpPr>
          <p:spPr>
            <a:xfrm>
              <a:off x="1066680" y="4191120"/>
              <a:ext cx="3962520" cy="947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anctify Christ as Lord in your hearts, 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8" name="Text Box 12"/>
            <p:cNvSpPr/>
            <p:nvPr/>
          </p:nvSpPr>
          <p:spPr>
            <a:xfrm>
              <a:off x="1219320" y="3733920"/>
              <a:ext cx="761760" cy="520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ut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0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3.33333E-006 -0.52523 E">
                                      <p:cBhvr>
                                        <p:cTn id="1684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5-1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533520" y="609480"/>
            <a:ext cx="396216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ctify Christ as Lord in your heart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685800" y="152280"/>
            <a:ext cx="7621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905120" y="2057400"/>
            <a:ext cx="640080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ke a defense to everyone who asks you to give an account for the hope that is in you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t with gentleness and reverence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295280" y="1523880"/>
            <a:ext cx="33530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533520" y="3890880"/>
            <a:ext cx="8380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33520" y="4362480"/>
            <a:ext cx="41907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 good conscien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838080" y="4881600"/>
            <a:ext cx="13716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2057400" y="5334120"/>
            <a:ext cx="640080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thing in which you are slandered, those who revile your good behavior in Christ will be put to shame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nodeType="clickEffect" fill="hold">
                      <p:stCondLst>
                        <p:cond delay="0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2895480" y="2133720"/>
            <a:ext cx="3810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God should will it so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7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1905120" y="1657440"/>
            <a:ext cx="21333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etter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1600200" y="1200240"/>
            <a:ext cx="762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124080" y="3701880"/>
            <a:ext cx="19814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tha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905120" y="2647800"/>
            <a:ext cx="25905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you suff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2895480" y="4176720"/>
            <a:ext cx="39625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oing what is wrong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2895480" y="3168720"/>
            <a:ext cx="39625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oing what is righ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nodeType="clickEffect" fill="hold">
                      <p:stCondLst>
                        <p:cond delay="0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2133720" y="4302000"/>
            <a:ext cx="388620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alive in the spirit;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914400" y="914400"/>
            <a:ext cx="40384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 also died for si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8-19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533520" y="457200"/>
            <a:ext cx="7617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2209680" y="1371600"/>
            <a:ext cx="21337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for all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2209680" y="1892160"/>
            <a:ext cx="36576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jus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1295280" y="2362320"/>
            <a:ext cx="12956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295280" y="2854440"/>
            <a:ext cx="44960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ight bring us to Go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2133720" y="3387600"/>
            <a:ext cx="60958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been put to death in the flesh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2133720" y="3844800"/>
            <a:ext cx="7617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3124080" y="4815000"/>
            <a:ext cx="228600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ls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3124080" y="5292720"/>
            <a:ext cx="5410440" cy="9471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ent and made proclamation to the spir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iso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2"/>
          <p:cNvSpPr/>
          <p:nvPr/>
        </p:nvSpPr>
        <p:spPr>
          <a:xfrm>
            <a:off x="228600" y="4876920"/>
            <a:ext cx="876312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ts… made careful searches and inquiries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 of Christ within them was indicating as He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ed the sufferings of Christ… (1 Peter 1:10-11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1371600" y="2590920"/>
            <a:ext cx="5334120" cy="137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were disobedien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patience of God kept waitin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2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380880" y="685800"/>
            <a:ext cx="2286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ls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533520" y="1219320"/>
            <a:ext cx="54100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ent and made proclamation to the spir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iso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914400" y="2133720"/>
            <a:ext cx="9144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2286000" y="3962520"/>
            <a:ext cx="563868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days of Noah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construction of the ark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152280" y="228600"/>
            <a:ext cx="38862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alive in the spirit;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1981080" y="304920"/>
            <a:ext cx="1981440" cy="412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7" name="AutoShape 11"/>
          <p:cNvSpPr/>
          <p:nvPr/>
        </p:nvSpPr>
        <p:spPr>
          <a:xfrm>
            <a:off x="425520" y="5562720"/>
            <a:ext cx="29718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371600" y="2590920"/>
            <a:ext cx="5334120" cy="137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were disobedien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patience of God kept waitin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20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80880" y="685800"/>
            <a:ext cx="2286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ls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533520" y="1219320"/>
            <a:ext cx="54100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ent and made proclamation to the spir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iso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914400" y="2133720"/>
            <a:ext cx="9144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3809880" y="5364000"/>
            <a:ext cx="502920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w, that is, eight persons, were brought safely throug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657600" y="4906800"/>
            <a:ext cx="16002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2286000" y="3962520"/>
            <a:ext cx="563868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days of Noah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construction of the ark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152280" y="228600"/>
            <a:ext cx="38862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alive in the spirit;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609480" y="228600"/>
            <a:ext cx="381024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ing to tha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600200" y="1219320"/>
            <a:ext cx="50292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the removal of dirt from the flesh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600200" y="2590920"/>
            <a:ext cx="502920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ppeal to God for a good conscience--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752480" y="2133720"/>
            <a:ext cx="8384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228600" y="3505320"/>
            <a:ext cx="67057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the resurrection of Jesus Christ,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228600" y="749160"/>
            <a:ext cx="44197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ptism now saves you--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21-2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1905120" y="4438800"/>
            <a:ext cx="6705360" cy="1800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t the right hand of Go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gone into heave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ngels and authorities and powers had been subjected to Him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1447920" y="3981600"/>
            <a:ext cx="9144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-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914400" y="746280"/>
            <a:ext cx="426708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Christ has suffered in the flesh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04920" y="228600"/>
            <a:ext cx="20574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304920" y="1693800"/>
            <a:ext cx="42670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 yourselves also with the same purpos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295280" y="2639880"/>
            <a:ext cx="16765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1828800" y="3124080"/>
            <a:ext cx="53341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ho has suffered in the flesh has ceased from sin,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1295280" y="4038480"/>
            <a:ext cx="4496040" cy="180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as to live the rest of the time in the flesh no longer for the lusts of men, but for the will of Go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7086600" y="3048120"/>
            <a:ext cx="2055600" cy="1066680"/>
            <a:chOff x="7086600" y="3048120"/>
            <a:chExt cx="2055600" cy="1066680"/>
          </a:xfrm>
        </p:grpSpPr>
        <p:sp>
          <p:nvSpPr>
            <p:cNvPr id="534" name="AutoShape 10"/>
            <p:cNvSpPr/>
            <p:nvPr/>
          </p:nvSpPr>
          <p:spPr>
            <a:xfrm>
              <a:off x="7086600" y="3048120"/>
              <a:ext cx="609480" cy="10666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7402320" y="3143160"/>
              <a:ext cx="1739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ur identity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ith Christ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536" name="Group 12"/>
          <p:cNvGrpSpPr/>
          <p:nvPr/>
        </p:nvGrpSpPr>
        <p:grpSpPr>
          <a:xfrm>
            <a:off x="5791320" y="4419720"/>
            <a:ext cx="2818800" cy="1066680"/>
            <a:chOff x="5791320" y="4419720"/>
            <a:chExt cx="2818800" cy="1066680"/>
          </a:xfrm>
        </p:grpSpPr>
        <p:sp>
          <p:nvSpPr>
            <p:cNvPr id="537" name="AutoShape 13"/>
            <p:cNvSpPr/>
            <p:nvPr/>
          </p:nvSpPr>
          <p:spPr>
            <a:xfrm>
              <a:off x="5791320" y="4419720"/>
              <a:ext cx="609480" cy="10666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6157800" y="4514760"/>
              <a:ext cx="24523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outworking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f that identity</a:t>
              </a:r>
              <a:endParaRPr b="0" lang="en-US" sz="24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nodeType="clickEffect" fill="hold">
                      <p:stCondLst>
                        <p:cond delay="0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nodeType="clickEffect" fill="hold">
                      <p:stCondLst>
                        <p:cond delay="indefinite"/>
                      </p:stCondLst>
                      <p:childTnLst>
                        <p:par>
                          <p:cTn id="1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nodeType="clickEffect" fill="hold">
                      <p:stCondLst>
                        <p:cond delay="indefinite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3-5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304920" y="304920"/>
            <a:ext cx="5333760" cy="137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time already past is sufficien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 yo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ave carried out the desire of the Gentile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762120" y="1689120"/>
            <a:ext cx="746748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pursued a course of sensuality, lusts, drunkenness, carousing, drinking parties and abominable idolatries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304920" y="3048120"/>
            <a:ext cx="47242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, they are surprise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304920" y="4876920"/>
            <a:ext cx="281916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malig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838080" y="3521160"/>
            <a:ext cx="55627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you do not run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the same excesses of dissipatio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304920" y="4424400"/>
            <a:ext cx="8380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1676520" y="5791320"/>
            <a:ext cx="68580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give account to Him who is ready to judge the living and the dea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1143000" y="5334120"/>
            <a:ext cx="8380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04920" y="4419720"/>
            <a:ext cx="8229600" cy="2316600"/>
            <a:chOff x="304920" y="4419720"/>
            <a:chExt cx="8229600" cy="2316600"/>
          </a:xfrm>
        </p:grpSpPr>
        <p:sp>
          <p:nvSpPr>
            <p:cNvPr id="550" name="Text Box 4"/>
            <p:cNvSpPr/>
            <p:nvPr/>
          </p:nvSpPr>
          <p:spPr>
            <a:xfrm>
              <a:off x="304920" y="4872960"/>
              <a:ext cx="2819160" cy="947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y malign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;  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1" name="Text Box 5"/>
            <p:cNvSpPr/>
            <p:nvPr/>
          </p:nvSpPr>
          <p:spPr>
            <a:xfrm>
              <a:off x="304920" y="4419720"/>
              <a:ext cx="838080" cy="52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2" name="Text Box 6"/>
            <p:cNvSpPr/>
            <p:nvPr/>
          </p:nvSpPr>
          <p:spPr>
            <a:xfrm>
              <a:off x="1676520" y="5789160"/>
              <a:ext cx="6858000" cy="947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y will give account to Him who is ready to judge the living and the dead. 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3" name="Text Box 7"/>
            <p:cNvSpPr/>
            <p:nvPr/>
          </p:nvSpPr>
          <p:spPr>
            <a:xfrm>
              <a:off x="1143000" y="5331240"/>
              <a:ext cx="838080" cy="520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ut</a:t>
              </a:r>
              <a:endParaRPr b="0" lang="en-US" sz="2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554" name="Text Box 8"/>
          <p:cNvSpPr/>
          <p:nvPr/>
        </p:nvSpPr>
        <p:spPr>
          <a:xfrm>
            <a:off x="457200" y="2743200"/>
            <a:ext cx="586728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gospel has for this purpose been preached even to those who are dea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143000" y="4114800"/>
            <a:ext cx="8380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1600200" y="4572000"/>
            <a:ext cx="403848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they are judged in the flesh as me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1143000" y="5486400"/>
            <a:ext cx="464832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may live in the spirit according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will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5867280" y="2238480"/>
            <a:ext cx="9144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9" name="AutoShape 13"/>
          <p:cNvSpPr/>
          <p:nvPr/>
        </p:nvSpPr>
        <p:spPr>
          <a:xfrm>
            <a:off x="1114560" y="3657600"/>
            <a:ext cx="914400" cy="41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29" dur="indefinite" restart="never" nodeType="tmRoot">
          <p:childTnLst>
            <p:seq>
              <p:cTn id="2030" dur="indefinite" nodeType="mainSeq">
                <p:childTnLst>
                  <p:par>
                    <p:cTn id="2031" nodeType="clickEffect" fill="hold">
                      <p:stCondLst>
                        <p:cond delay="0"/>
                      </p:stCondLst>
                      <p:childTnLst>
                        <p:par>
                          <p:cTn id="2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-3.33333E-006 -0.58079 E">
                                      <p:cBhvr>
                                        <p:cTn id="2034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nodeType="clickEffect" fill="hold">
                      <p:stCondLst>
                        <p:cond delay="indefinite"/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astern Med1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954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6400800" cy="236232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, an apostle of Jesus Christ, to those who reside as aliens, scattered throughout Pontus, Galatia, Cappadocia, Asia, and Bithynia, who are chosen…  (1 Peter 1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478920" y="7621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ntu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72920" y="24382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alati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235280" y="19051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ppadoci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88720" y="2133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954320" y="1295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thynia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676520" y="2976480"/>
            <a:ext cx="441936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purpose of prayer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457200" y="538200"/>
            <a:ext cx="47242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 of all things is near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7-9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066680" y="1528920"/>
            <a:ext cx="38102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f sound judgmen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762120" y="1023840"/>
            <a:ext cx="18288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066680" y="2476440"/>
            <a:ext cx="22100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b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1143000" y="1986120"/>
            <a:ext cx="8380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762120" y="3498840"/>
            <a:ext cx="678168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all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fervent in your love for one another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1600200" y="4881600"/>
            <a:ext cx="51055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covers a multitude of sins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295280" y="4424400"/>
            <a:ext cx="16002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0" name="Text Box 12"/>
          <p:cNvSpPr/>
          <p:nvPr/>
        </p:nvSpPr>
        <p:spPr>
          <a:xfrm>
            <a:off x="762120" y="5567400"/>
            <a:ext cx="777240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hospitable to one another without complaint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2057400" y="5791320"/>
            <a:ext cx="662940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om belongs the glory and dominion forever and ever. Amen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295280" y="4876920"/>
            <a:ext cx="55627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ll things God may be glorified through Jesus Chris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304920" y="228600"/>
            <a:ext cx="434340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ch one has received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f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0-11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609480" y="1170000"/>
            <a:ext cx="533412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 it in serving one another as good stewards of the manifold grace of Go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838080" y="2554200"/>
            <a:ext cx="71629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ever speak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o do 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one who is speaking the utterances of God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838080" y="3500280"/>
            <a:ext cx="71629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ever serve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o do 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one who is serving by the strength which God supplies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1143000" y="4414680"/>
            <a:ext cx="12952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29" dur="indefinite" restart="never" nodeType="tmRoot">
          <p:childTnLst>
            <p:seq>
              <p:cTn id="2130" dur="indefinite" nodeType="mainSeq">
                <p:childTnLst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nodeType="clickEffect" fill="hold">
                      <p:stCondLst>
                        <p:cond delay="indefinite"/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nodeType="clickEffect" fill="hold">
                      <p:stCondLst>
                        <p:cond delay="indefinite"/>
                      </p:stCondLst>
                      <p:childTnLst>
                        <p:par>
                          <p:cTn id="2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143000" y="3513240"/>
            <a:ext cx="480060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degree that you share the sufferings of Chris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533520" y="213840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ough some strange thing were happening to you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33520" y="309600"/>
            <a:ext cx="51814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ved,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do not be surpris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the fiery ordeal among you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2-1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143000" y="1224000"/>
            <a:ext cx="38862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comes upon you for your testing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533520" y="3052800"/>
            <a:ext cx="7617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33520" y="4443480"/>
            <a:ext cx="32763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keep on rejoic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2895480" y="4957920"/>
            <a:ext cx="12956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3276720" y="5486400"/>
            <a:ext cx="54864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at the revelation of His glory you may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rejo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exultation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nodeType="clickEffect" fill="hold">
                      <p:stCondLst>
                        <p:cond delay="indefinite"/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nodeType="clickEffect" fill="hold">
                      <p:stCondLst>
                        <p:cond delay="indefinite"/>
                      </p:stCondLst>
                      <p:childTnLst>
                        <p:par>
                          <p:cTn id="2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nodeType="clickEffect" fill="hold">
                      <p:stCondLst>
                        <p:cond delay="indefinite"/>
                      </p:stCondLst>
                      <p:childTnLst>
                        <p:par>
                          <p:cTn id="2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nodeType="clickEffect" fill="hold">
                      <p:stCondLst>
                        <p:cond delay="indefinite"/>
                      </p:stCondLst>
                      <p:childTnLst>
                        <p:par>
                          <p:cTn id="2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143000" y="3513240"/>
            <a:ext cx="480060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degree that you share the sufferings of Chris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533520" y="213840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ough some strange thing were happening to you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533520" y="309600"/>
            <a:ext cx="51814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ved,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do not be surpris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the fiery ordeal among you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2-1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1143000" y="1224000"/>
            <a:ext cx="38862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comes upon you for your testing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533520" y="3052800"/>
            <a:ext cx="7617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533520" y="4443480"/>
            <a:ext cx="32763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keep on rejoic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2895480" y="4957920"/>
            <a:ext cx="12956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3276720" y="5486400"/>
            <a:ext cx="54864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at the revelation of His glory you may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rejo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exultation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7" name="AutoShape 11"/>
          <p:cNvSpPr/>
          <p:nvPr/>
        </p:nvSpPr>
        <p:spPr>
          <a:xfrm>
            <a:off x="6248520" y="2438280"/>
            <a:ext cx="2514600" cy="2057400"/>
          </a:xfrm>
          <a:prstGeom prst="horizontalScroll">
            <a:avLst>
              <a:gd name="adj" fmla="val 125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covers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ultitude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i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8" name="AutoShape 12"/>
          <p:cNvSpPr/>
          <p:nvPr/>
        </p:nvSpPr>
        <p:spPr>
          <a:xfrm>
            <a:off x="7283520" y="2743200"/>
            <a:ext cx="121896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6629400" y="160020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kalu,pte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alupte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0" name="AutoShape 14"/>
          <p:cNvSpPr/>
          <p:nvPr/>
        </p:nvSpPr>
        <p:spPr>
          <a:xfrm>
            <a:off x="5029200" y="5562720"/>
            <a:ext cx="16765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4800600" y="4419720"/>
            <a:ext cx="2666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pokalu,ye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pokalupse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nodeType="clickEffect" fill="hold">
                      <p:stCondLst>
                        <p:cond delay="0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5562720" y="5765760"/>
            <a:ext cx="274320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o glorify God in this name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533520" y="4495680"/>
            <a:ext cx="51814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one suffer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Christia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33520" y="3124080"/>
            <a:ext cx="81532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at none of you suffers as a murderer, or thief, or evildoer, or a troublesome meddler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533520" y="309600"/>
            <a:ext cx="518148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reviled for the name of Chris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4-16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533520" y="1263600"/>
            <a:ext cx="28191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blessed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1143000" y="1752480"/>
            <a:ext cx="16002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600200" y="2209680"/>
            <a:ext cx="48006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 of glory and of God rests on you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762120" y="4038480"/>
            <a:ext cx="76176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2635200" y="4968720"/>
            <a:ext cx="22860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not to be ashame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4844880" y="5506920"/>
            <a:ext cx="76212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43" dur="indefinite" restart="never" nodeType="tmRoot">
          <p:childTnLst>
            <p:seq>
              <p:cTn id="2244" dur="indefinite" nodeType="mainSeq">
                <p:childTnLst>
                  <p:par>
                    <p:cTn id="2245" nodeType="clickEffect" fill="hold">
                      <p:stCondLst>
                        <p:cond delay="0"/>
                      </p:stCondLst>
                      <p:childTnLst>
                        <p:par>
                          <p:cTn id="2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nodeType="clickEffect" fill="hold">
                      <p:stCondLst>
                        <p:cond delay="indefinite"/>
                      </p:stCondLst>
                      <p:childTnLst>
                        <p:par>
                          <p:cTn id="2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DSCF2835"/>
          <p:cNvPicPr/>
          <p:nvPr/>
        </p:nvPicPr>
        <p:blipFill>
          <a:blip r:embed="rId1"/>
          <a:stretch/>
        </p:blipFill>
        <p:spPr>
          <a:xfrm>
            <a:off x="3774960" y="304920"/>
            <a:ext cx="4902480" cy="63244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2286000" y="2438280"/>
            <a:ext cx="60199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utcome for those who do not obey the gospel of God?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533520" y="3800520"/>
            <a:ext cx="40384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with difficulty that the righteous is save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533520" y="1981080"/>
            <a:ext cx="39621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begi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us firs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533520" y="614520"/>
            <a:ext cx="541008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judgment to begin with the household of God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7-18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762120" y="1539720"/>
            <a:ext cx="8380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762120" y="3327480"/>
            <a:ext cx="838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2286000" y="4759200"/>
            <a:ext cx="541008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become of the godless man and the sinner?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nodeType="clickEffect" fill="hold">
                      <p:stCondLst>
                        <p:cond delay="indefinite"/>
                      </p:stCondLst>
                      <p:childTnLst>
                        <p:par>
                          <p:cTn id="2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nodeType="clickEffect" fill="hold">
                      <p:stCondLst>
                        <p:cond delay="indefinite"/>
                      </p:stCondLst>
                      <p:childTnLst>
                        <p:par>
                          <p:cTn id="2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DSCF2835"/>
          <p:cNvPicPr/>
          <p:nvPr/>
        </p:nvPicPr>
        <p:blipFill>
          <a:blip r:embed="rId1"/>
          <a:stretch/>
        </p:blipFill>
        <p:spPr>
          <a:xfrm>
            <a:off x="3774960" y="304920"/>
            <a:ext cx="4902480" cy="6324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3"/>
          <p:cNvSpPr/>
          <p:nvPr/>
        </p:nvSpPr>
        <p:spPr>
          <a:xfrm>
            <a:off x="685800" y="762120"/>
            <a:ext cx="19810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9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1295280" y="1219320"/>
            <a:ext cx="23623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ose also who suff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752480" y="2165400"/>
            <a:ext cx="25909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the will of G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295280" y="3108240"/>
            <a:ext cx="335304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ust their souls to a faithful Creator in doing what is right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46" dur="indefinite" restart="never" nodeType="tmRoot">
          <p:childTnLst>
            <p:seq>
              <p:cTn id="2347" dur="indefinite" nodeType="mainSeq">
                <p:childTnLst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nodeType="clickEffect" fill="hold">
                      <p:stCondLst>
                        <p:cond delay="indefinite"/>
                      </p:stCondLst>
                      <p:childTnLst>
                        <p:par>
                          <p:cTn id="2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828800" y="2900520"/>
            <a:ext cx="548640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aker also of the glory that is to be reveale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228600" y="228600"/>
            <a:ext cx="19810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1-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533520" y="746280"/>
            <a:ext cx="50292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hort the elders among you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1219320" y="1224000"/>
            <a:ext cx="6858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1828800" y="1528920"/>
            <a:ext cx="54864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low elder and witness of the sufferings of Chris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1905120" y="2427120"/>
            <a:ext cx="8380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533520" y="3814920"/>
            <a:ext cx="62481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 the flock of God among you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nodeType="clickEffect" fill="hold">
                      <p:stCondLst>
                        <p:cond delay="indefinite"/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nodeType="clickEffect" fill="hold">
                      <p:stCondLst>
                        <p:cond delay="indefinite"/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nodeType="clickEffect" fill="hold">
                      <p:stCondLst>
                        <p:cond delay="indefinite"/>
                      </p:stCondLst>
                      <p:childTnLst>
                        <p:par>
                          <p:cTn id="2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676520" y="6004080"/>
            <a:ext cx="586728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ng to be examples to the flock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228600" y="228600"/>
            <a:ext cx="19810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1-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533520" y="746280"/>
            <a:ext cx="50292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hort the elders among you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533520" y="3814920"/>
            <a:ext cx="62481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 the flock of God among you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1219320" y="1752480"/>
            <a:ext cx="34290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ing oversigh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1676520" y="3646440"/>
            <a:ext cx="33526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for sordid gai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with eagerness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1676520" y="4576680"/>
            <a:ext cx="510516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 yet as lording it over those allotted to your charg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4" name="Text Box 10"/>
          <p:cNvSpPr/>
          <p:nvPr/>
        </p:nvSpPr>
        <p:spPr>
          <a:xfrm>
            <a:off x="1905120" y="5506920"/>
            <a:ext cx="8380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5" name="Text Box 11"/>
          <p:cNvSpPr/>
          <p:nvPr/>
        </p:nvSpPr>
        <p:spPr>
          <a:xfrm>
            <a:off x="1676520" y="2244600"/>
            <a:ext cx="701028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under compulsio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voluntarily, according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will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6" name="Text Box 12"/>
          <p:cNvSpPr/>
          <p:nvPr/>
        </p:nvSpPr>
        <p:spPr>
          <a:xfrm>
            <a:off x="1828800" y="3160800"/>
            <a:ext cx="83808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04" dur="indefinite" restart="never" nodeType="tmRoot">
          <p:childTnLst>
            <p:seq>
              <p:cTn id="2405" dur="indefinite" nodeType="mainSeq">
                <p:childTnLst>
                  <p:par>
                    <p:cTn id="2406" nodeType="clickEffect" fill="hold">
                      <p:stCondLst>
                        <p:cond delay="0"/>
                      </p:stCondLst>
                      <p:childTnLst>
                        <p:par>
                          <p:cTn id="2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 -0.37246 E">
                                      <p:cBhvr>
                                        <p:cTn id="2409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nodeType="clickEffect" fill="hold">
                      <p:stCondLst>
                        <p:cond delay="indefinite"/>
                      </p:stCondLst>
                      <p:childTnLst>
                        <p:par>
                          <p:cTn id="2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delay="indefinite"/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1371600" y="1996920"/>
            <a:ext cx="9144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4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1676520" y="2514600"/>
            <a:ext cx="441936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hief Shepherd appear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2286000" y="3444840"/>
            <a:ext cx="27432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receiv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2666880" y="3962520"/>
            <a:ext cx="46483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fading crown of glory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nodeType="clickEffect" fill="hold">
                      <p:stCondLst>
                        <p:cond delay="0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57200" y="304920"/>
            <a:ext cx="32767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chosen…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400800" y="304920"/>
            <a:ext cx="25146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-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949320"/>
            <a:ext cx="21337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133720" y="1863720"/>
            <a:ext cx="33526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reknowledge of God the Fat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981080" y="3092400"/>
            <a:ext cx="548640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God is opposed to the proud, but gives grace to the humble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295280" y="2152800"/>
            <a:ext cx="55627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the yourselves with humility toward one another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295280" y="1160640"/>
            <a:ext cx="42674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ject to your elders;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304920" y="228600"/>
            <a:ext cx="31240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younger men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5-7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1523880" y="685800"/>
            <a:ext cx="16765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304920" y="1676520"/>
            <a:ext cx="24382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ll of you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380880" y="4038480"/>
            <a:ext cx="54864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ble yourselves, therefore, under the mighty hand of God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1981080" y="4952880"/>
            <a:ext cx="83844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380880" y="5746680"/>
            <a:ext cx="556272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ing all your anxiety upon Him, because He cares for you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2743200" y="5257800"/>
            <a:ext cx="594360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ay exalt you at the proper time,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nodeType="clickEffect" fill="hold">
                      <p:stCondLst>
                        <p:cond delay="indefinite"/>
                      </p:stCondLst>
                      <p:childTnLst>
                        <p:par>
                          <p:cTn id="2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nodeType="clickEffect" fill="hold">
                      <p:stCondLst>
                        <p:cond delay="indefinite"/>
                      </p:stCondLst>
                      <p:childTnLst>
                        <p:par>
                          <p:cTn id="2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nodeType="clickEffect" fill="hold">
                      <p:stCondLst>
                        <p:cond delay="indefinite"/>
                      </p:stCondLst>
                      <p:childTnLst>
                        <p:par>
                          <p:cTn id="2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685800" y="843120"/>
            <a:ext cx="304812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f sob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ir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n the alert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8-9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1447920" y="1757520"/>
            <a:ext cx="518148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adversary, the devil, prowls about like a roaring lion, seeking someone to devour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685800" y="3129120"/>
            <a:ext cx="27432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resist him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1447920" y="3659040"/>
            <a:ext cx="28954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,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1447920" y="4179960"/>
            <a:ext cx="22860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2438280" y="4713120"/>
            <a:ext cx="563904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me experiences of suffering are being accomplished by your brethren who are in the worl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4" dur="indefinite" restart="never" nodeType="tmRoot">
          <p:childTnLst>
            <p:seq>
              <p:cTn id="2535" dur="indefinite" nodeType="mainSeq">
                <p:childTnLst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nodeType="clickEffect" fill="hold">
                      <p:stCondLst>
                        <p:cond delay="indefinite"/>
                      </p:stCondLst>
                      <p:childTnLst>
                        <p:par>
                          <p:cTn id="2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219320" y="304920"/>
            <a:ext cx="411480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you have suffered for a little whil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10-11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457200" y="1263600"/>
            <a:ext cx="35053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d of all grace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1676520" y="1752480"/>
            <a:ext cx="9144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2286000" y="2209680"/>
            <a:ext cx="48769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you to His eternal glory in Chris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457200" y="3124080"/>
            <a:ext cx="21337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Himself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1295280" y="3641760"/>
            <a:ext cx="3124440" cy="180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rm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e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you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457200" y="5521320"/>
            <a:ext cx="624852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ion forever and ever. Amen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69" dur="indefinite" restart="never" nodeType="tmRoot">
          <p:childTnLst>
            <p:seq>
              <p:cTn id="2570" dur="indefinite" nodeType="mainSeq">
                <p:childTnLst>
                  <p:par>
                    <p:cTn id="2571" nodeType="clickEffect" fill="hold">
                      <p:stCondLst>
                        <p:cond delay="indefinite"/>
                      </p:stCondLst>
                      <p:childTnLst>
                        <p:par>
                          <p:cTn id="2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12-14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1371600" y="685800"/>
            <a:ext cx="3505320" cy="94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faithful brot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so I rega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380880" y="1616040"/>
            <a:ext cx="4572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written to you briefly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1295280" y="2133720"/>
            <a:ext cx="48006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horting and testifying that this is the true grace of God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firm in it!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80880" y="228600"/>
            <a:ext cx="32004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Silvanu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380880" y="3508200"/>
            <a:ext cx="480060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ho is in Babylon, chosen together with you, sends you greetings,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 do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son, Mark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1371600" y="5318280"/>
            <a:ext cx="64771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t one another with a kiss of love. Peace be to you all who are in Christ.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nodeType="clickEffect" fill="hold">
                      <p:stCondLst>
                        <p:cond delay="0"/>
                      </p:stCondLst>
                      <p:childTnLst>
                        <p:par>
                          <p:cTn id="2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nodeType="clickEffect" fill="hold">
                      <p:stCondLst>
                        <p:cond delay="indefinite"/>
                      </p:stCondLst>
                      <p:childTnLst>
                        <p:par>
                          <p:cTn id="2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240" y="2819160"/>
            <a:ext cx="2895480" cy="2057400"/>
          </a:xfrm>
          <a:prstGeom prst="rect">
            <a:avLst/>
          </a:prstGeom>
          <a:gradFill rotWithShape="0">
            <a:gsLst>
              <a:gs pos="0">
                <a:srgbClr val="4b1200"/>
              </a:gs>
              <a:gs pos="50000">
                <a:srgbClr val="a22700"/>
              </a:gs>
              <a:gs pos="100000">
                <a:srgbClr val="4b12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l to Holy Living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2895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1:1 - 2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3124080" y="2819520"/>
            <a:ext cx="2895840" cy="2057400"/>
          </a:xfrm>
          <a:prstGeom prst="rect">
            <a:avLst/>
          </a:prstGeom>
          <a:gradFill rotWithShape="0">
            <a:gsLst>
              <a:gs pos="0">
                <a:srgbClr val="4b1200"/>
              </a:gs>
              <a:gs pos="50000">
                <a:srgbClr val="a22700"/>
              </a:gs>
              <a:gs pos="100000">
                <a:srgbClr val="4b12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l to Submissive Living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6019920" y="2819520"/>
            <a:ext cx="2895480" cy="2057400"/>
          </a:xfrm>
          <a:prstGeom prst="rect">
            <a:avLst/>
          </a:prstGeom>
          <a:gradFill rotWithShape="0">
            <a:gsLst>
              <a:gs pos="0">
                <a:srgbClr val="4b1200"/>
              </a:gs>
              <a:gs pos="50000">
                <a:srgbClr val="a22700"/>
              </a:gs>
              <a:gs pos="100000">
                <a:srgbClr val="4b12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l to Suffering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3124080" y="1676520"/>
            <a:ext cx="289584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2:13 - 3:13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6019920" y="1676520"/>
            <a:ext cx="2895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3:14 - 5:14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nodeType="clickEffect" fill="hold">
                      <p:stCondLst>
                        <p:cond delay="0"/>
                      </p:stCondLst>
                      <p:childTnLst>
                        <p:par>
                          <p:cTn id="2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4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304920"/>
            <a:ext cx="32767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chosen…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43000" y="2859120"/>
            <a:ext cx="1066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400800" y="304920"/>
            <a:ext cx="25146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-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143000" y="949320"/>
            <a:ext cx="21337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133720" y="1863720"/>
            <a:ext cx="335268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reknowledge of God the Fat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133720" y="3159000"/>
            <a:ext cx="36576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nctifying work of the Spir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438640" y="4267080"/>
            <a:ext cx="5928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ctify:  To set ap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int: One who is set ap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: The quality of “set apartness”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57200" y="304920"/>
            <a:ext cx="32767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are chosen…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43000" y="2859120"/>
            <a:ext cx="1066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43000" y="4149720"/>
            <a:ext cx="10666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400800" y="304920"/>
            <a:ext cx="251460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-2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43000" y="949320"/>
            <a:ext cx="21337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…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33720" y="1863720"/>
            <a:ext cx="335268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reknowledge of God the Father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133720" y="3159000"/>
            <a:ext cx="36576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nctifying work of the Spiri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133720" y="4454640"/>
            <a:ext cx="426708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y Jesus Christ and be sprinkled with His blood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02:11Z</dcterms:created>
  <dc:creator>JohnStevenson</dc:creator>
  <dc:description/>
  <dc:language>en-US</dc:language>
  <cp:lastModifiedBy>Windows User</cp:lastModifiedBy>
  <dcterms:modified xsi:type="dcterms:W3CDTF">2017-07-29T03:02:18Z</dcterms:modified>
  <cp:revision>65</cp:revision>
  <dc:subject/>
  <dc:title>General Epistles</dc:title>
</cp:coreProperties>
</file>