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.jpeg" ContentType="image/jpeg"/>
  <Override PartName="/ppt/media/image33.png" ContentType="image/png"/>
  <Override PartName="/ppt/media/image45.jpeg" ContentType="image/jpeg"/>
  <Override PartName="/ppt/media/image41.jpeg" ContentType="image/jpeg"/>
  <Override PartName="/ppt/media/image54.png" ContentType="image/png"/>
  <Override PartName="/ppt/media/image34.png" ContentType="image/png"/>
  <Override PartName="/ppt/media/image46.png" ContentType="image/pn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52.png" ContentType="image/pn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EEB-B5BD-4B9A-83AA-51199860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788-87D5-4123-81FB-32C40D1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F6C-1A1A-4E4C-988E-A7B83EA7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CD0-5363-49DD-A926-C8E642A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D7C-044A-49B0-A38A-FE8C4514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E60-2AC0-42C1-9A5C-79F73AF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10F-CDA9-407C-A89E-FA46CC4F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950-268D-4C14-A513-365FF99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8A3-038C-48BF-BD10-930C8575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503-2C0D-41A9-B187-B9F3A9B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10E-DAE5-4381-984B-9F4BFE8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7A-2BD8-4075-A672-F7634FB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3DD-A051-4212-9AAE-4AB200B51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 Martin &amp; P. Dav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tionary of the Later New Testament and its Developmen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arsity,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2971800" y="399960"/>
            <a:ext cx="31813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6" descr="633475-L"/>
          <p:cNvPicPr/>
          <p:nvPr/>
        </p:nvPicPr>
        <p:blipFill>
          <a:blip r:embed="rId3"/>
          <a:stretch/>
        </p:blipFill>
        <p:spPr>
          <a:xfrm>
            <a:off x="1143000" y="1752480"/>
            <a:ext cx="2763720" cy="38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114440" y="2209680"/>
            <a:ext cx="4876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905120" y="838080"/>
            <a:ext cx="510516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eneral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09480" y="3504960"/>
            <a:ext cx="32767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makes them “general”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114440" y="2209680"/>
            <a:ext cx="4876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3"/>
          <p:cNvSpPr txBox="1"/>
          <p:nvPr/>
        </p:nvSpPr>
        <p:spPr>
          <a:xfrm>
            <a:off x="1905120" y="838080"/>
            <a:ext cx="510516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eneral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440" y="2286000"/>
            <a:ext cx="2895480" cy="2743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question of authorshi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2819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General Epistles have been questioned as to their canonic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what basis do critics claim someone else wrote these books other than their named autho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persuaded by these arg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209680" cy="211320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523880" y="380880"/>
            <a:ext cx="33433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mall Group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676520" y="1295280"/>
            <a:ext cx="312408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cuss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Question Photo"/>
          <p:cNvPicPr/>
          <p:nvPr/>
        </p:nvPicPr>
        <p:blipFill>
          <a:blip r:embed="rId1"/>
          <a:stretch/>
        </p:blipFill>
        <p:spPr>
          <a:xfrm>
            <a:off x="685800" y="990720"/>
            <a:ext cx="200016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are the distinguishing differences between the Pauline Epistles versus the General Epistl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3200400" cy="1241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alvation &amp; the Christian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560" y="1447920"/>
            <a:ext cx="4800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, Corinthians, Gala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3520" y="2666880"/>
            <a:ext cx="3200400" cy="1219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ison Epistl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733920" y="2666880"/>
            <a:ext cx="48006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esians, Philippians, Colossia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533520" y="3886200"/>
            <a:ext cx="32004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schatological Epistl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733920" y="3886200"/>
            <a:ext cx="4800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salonia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533520" y="5029200"/>
            <a:ext cx="32004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toral Epistl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733920" y="5029200"/>
            <a:ext cx="4800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, Titus, Philem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WordArt 14"/>
          <p:cNvSpPr txBox="1"/>
          <p:nvPr/>
        </p:nvSpPr>
        <p:spPr>
          <a:xfrm>
            <a:off x="2666880" y="476280"/>
            <a:ext cx="41673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's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3200400" cy="12412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alvatio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733560" y="1447920"/>
            <a:ext cx="4800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3520" y="2666880"/>
            <a:ext cx="320040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aith and Work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733920" y="2666880"/>
            <a:ext cx="48006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33520" y="4191120"/>
            <a:ext cx="32004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schatological Epist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733920" y="4191120"/>
            <a:ext cx="4800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33520" y="5334120"/>
            <a:ext cx="32004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hristian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733920" y="5334120"/>
            <a:ext cx="48006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and Jud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666880" y="457200"/>
            <a:ext cx="41673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33520" y="3429000"/>
            <a:ext cx="3200400" cy="7621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ffer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33920" y="3429000"/>
            <a:ext cx="4800600" cy="762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352320"/>
            <a:ext cx="30477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rgely Gentile Aud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371600" y="1219320"/>
            <a:ext cx="22860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1371600" y="2133720"/>
            <a:ext cx="22860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5638680" y="1219320"/>
            <a:ext cx="22860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5638680" y="2133720"/>
            <a:ext cx="22860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334120" y="3352680"/>
            <a:ext cx="30477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rgely Jewish Audi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3886200" y="175248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1858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tile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0" y="304920"/>
            <a:ext cx="4114800" cy="1858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wish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3772080" y="83808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371600" y="3295800"/>
            <a:ext cx="64771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 Difference?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1858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tile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14800" cy="3429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from point to point in a carefully organiz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572000" y="304920"/>
            <a:ext cx="4114800" cy="1858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wish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572000" y="2209680"/>
            <a:ext cx="4114800" cy="3429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st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in a journey through a series of though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7200" y="5638680"/>
            <a:ext cx="41148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arch after wisdo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572000" y="5638680"/>
            <a:ext cx="41148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want a sig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Owner\Desktop\0005.JPG"/>
          <p:cNvPicPr/>
          <p:nvPr/>
        </p:nvPicPr>
        <p:blipFill>
          <a:blip r:embed="rId1"/>
          <a:stretch/>
        </p:blipFill>
        <p:spPr>
          <a:xfrm>
            <a:off x="762120" y="1523880"/>
            <a:ext cx="5638680" cy="451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1904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tile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a champion came out from the armies of the Philistines named Goliath, from Gath, whose height was six cubits and a span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h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onze helmet on his head, and he was clothed with scale-armor which weighed five thousand shekels of bronze. (1 Samuel 17:4-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0" y="304920"/>
            <a:ext cx="4114800" cy="1904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wish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3772080" y="83808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1904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tile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ze greaves on his legs and a bronze javel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u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his shoulder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haft of his spear was like a weaver’s beam, and the head of his spea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igh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hundred shekels of iron; his shield-carrier also walked before him. (1 Samuel 17:6-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0" y="304920"/>
            <a:ext cx="4114800" cy="1904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wish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3772080" y="838080"/>
            <a:ext cx="1600200" cy="685800"/>
          </a:xfrm>
          <a:prstGeom prst="leftRightArrow">
            <a:avLst>
              <a:gd name="adj1" fmla="val 50000"/>
              <a:gd name="adj2" fmla="val 4645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0"/>
          <p:cNvSpPr/>
          <p:nvPr/>
        </p:nvSpPr>
        <p:spPr>
          <a:xfrm>
            <a:off x="3200400" y="1523880"/>
            <a:ext cx="2743200" cy="2743200"/>
          </a:xfrm>
          <a:prstGeom prst="ellipse">
            <a:avLst/>
          </a:prstGeom>
          <a:gradFill rotWithShape="0">
            <a:gsLst>
              <a:gs pos="0">
                <a:srgbClr val="3366cc">
                  <a:alpha val="13333"/>
                </a:srgbClr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3657600" y="251460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4419720" y="3429000"/>
            <a:ext cx="2743200" cy="2743200"/>
          </a:xfrm>
          <a:prstGeom prst="ellipse">
            <a:avLst/>
          </a:prstGeom>
          <a:gradFill rotWithShape="0">
            <a:gsLst>
              <a:gs pos="0">
                <a:srgbClr val="3366cc">
                  <a:alpha val="13333"/>
                </a:srgbClr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4876920" y="441972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wis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1981080" y="3429000"/>
            <a:ext cx="2743200" cy="2743200"/>
          </a:xfrm>
          <a:prstGeom prst="ellipse">
            <a:avLst/>
          </a:prstGeom>
          <a:gradFill rotWithShape="0">
            <a:gsLst>
              <a:gs pos="0">
                <a:srgbClr val="3366cc">
                  <a:alpha val="13333"/>
                </a:srgbClr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2590920" y="4419720"/>
            <a:ext cx="1676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k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304920" y="4572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irst Century World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Roman World"/>
          <p:cNvPicPr/>
          <p:nvPr/>
        </p:nvPicPr>
        <p:blipFill>
          <a:blip r:embed="rId1"/>
          <a:stretch/>
        </p:blipFill>
        <p:spPr>
          <a:xfrm>
            <a:off x="-154080" y="1440"/>
            <a:ext cx="9453600" cy="68551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04920" y="1600200"/>
            <a:ext cx="1676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m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733920" y="251460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k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7238880" y="43434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wis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990720" y="2590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l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867280" y="25909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nagogu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352680" y="2743200"/>
            <a:ext cx="2210040" cy="457200"/>
          </a:xfrm>
          <a:prstGeom prst="leftRightArrow">
            <a:avLst>
              <a:gd name="adj1" fmla="val 50000"/>
              <a:gd name="adj2" fmla="val 9622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0" name="Picture 7" descr="DSCF2646"/>
          <p:cNvPicPr/>
          <p:nvPr/>
        </p:nvPicPr>
        <p:blipFill>
          <a:blip r:embed="rId6"/>
          <a:stretch/>
        </p:blipFill>
        <p:spPr>
          <a:xfrm>
            <a:off x="2057400" y="365040"/>
            <a:ext cx="5029200" cy="18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Picture 8" descr="DSCF2382"/>
          <p:cNvPicPr/>
          <p:nvPr/>
        </p:nvPicPr>
        <p:blipFill>
          <a:blip r:embed="rId7"/>
          <a:stretch/>
        </p:blipFill>
        <p:spPr>
          <a:xfrm>
            <a:off x="2057400" y="3962520"/>
            <a:ext cx="5029200" cy="239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9520"/>
            <a:ext cx="35816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 Scriptur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952880" y="3809880"/>
            <a:ext cx="3581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k Septuagi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4" name="Picture 6" descr="septuagint"/>
          <p:cNvPicPr/>
          <p:nvPr/>
        </p:nvPicPr>
        <p:blipFill>
          <a:blip r:embed="rId1"/>
          <a:stretch/>
        </p:blipFill>
        <p:spPr>
          <a:xfrm>
            <a:off x="5489640" y="428760"/>
            <a:ext cx="2587680" cy="36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Picture 8" descr="torah_scroll"/>
          <p:cNvPicPr/>
          <p:nvPr/>
        </p:nvPicPr>
        <p:blipFill>
          <a:blip r:embed="rId2"/>
          <a:stretch/>
        </p:blipFill>
        <p:spPr>
          <a:xfrm>
            <a:off x="914400" y="457200"/>
            <a:ext cx="2921040" cy="36576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were some of the ethnic/racial issues faced by the early churc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SCF5854 Ephesus -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457200" y="586728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phes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SC05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533520" y="5181480"/>
            <a:ext cx="1847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le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762120" y="58672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temi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5" descr="DSC05382"/>
          <p:cNvPicPr/>
          <p:nvPr/>
        </p:nvPicPr>
        <p:blipFill>
          <a:blip r:embed="rId6"/>
          <a:stretch/>
        </p:blipFill>
        <p:spPr>
          <a:xfrm>
            <a:off x="5835600" y="380880"/>
            <a:ext cx="2762280" cy="586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IM0021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ChiefJohnStevenson"/>
          <p:cNvPicPr/>
          <p:nvPr/>
        </p:nvPicPr>
        <p:blipFill>
          <a:blip r:embed="rId1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229716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WordArt 3"/>
          <p:cNvSpPr txBox="1"/>
          <p:nvPr/>
        </p:nvSpPr>
        <p:spPr>
          <a:xfrm>
            <a:off x="1676520" y="106668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onys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1337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 of wine &amp; festiv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5486400" y="9907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clepi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81120" y="20574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 of heal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0" name="Picture 5" descr="DSC05614 Asklipios"/>
          <p:cNvPicPr/>
          <p:nvPr/>
        </p:nvPicPr>
        <p:blipFill>
          <a:blip r:embed="rId3"/>
          <a:stretch/>
        </p:blipFill>
        <p:spPr>
          <a:xfrm>
            <a:off x="533520" y="304920"/>
            <a:ext cx="4514760" cy="601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4495680" y="152388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seid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760" y="2514240"/>
            <a:ext cx="2895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d of sea &amp; stor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2457360" cy="33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DSC05707"/>
          <p:cNvPicPr/>
          <p:nvPr/>
        </p:nvPicPr>
        <p:blipFill>
          <a:blip r:embed="rId1"/>
          <a:stretch/>
        </p:blipFill>
        <p:spPr>
          <a:xfrm>
            <a:off x="457200" y="304920"/>
            <a:ext cx="7848720" cy="3895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5" descr="Hermes_Pio-Clementino_Inv907_n9"/>
          <p:cNvPicPr/>
          <p:nvPr/>
        </p:nvPicPr>
        <p:blipFill>
          <a:blip r:embed="rId2"/>
          <a:stretch/>
        </p:blipFill>
        <p:spPr>
          <a:xfrm>
            <a:off x="4343400" y="3962520"/>
            <a:ext cx="20574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WordArt 6"/>
          <p:cNvSpPr txBox="1"/>
          <p:nvPr/>
        </p:nvSpPr>
        <p:spPr>
          <a:xfrm>
            <a:off x="3962520" y="106668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eu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2743200" y="52578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m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Rome 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533520" y="53341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nthe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Rome 059"/>
          <p:cNvPicPr/>
          <p:nvPr/>
        </p:nvPicPr>
        <p:blipFill>
          <a:blip r:embed="rId1"/>
          <a:stretch/>
        </p:blipFill>
        <p:spPr>
          <a:xfrm>
            <a:off x="4191120" y="304920"/>
            <a:ext cx="4628880" cy="617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1" name="WordArt 5"/>
          <p:cNvSpPr txBox="1"/>
          <p:nvPr/>
        </p:nvSpPr>
        <p:spPr>
          <a:xfrm>
            <a:off x="533520" y="53341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nthe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00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3" name="WordArt 3"/>
          <p:cNvSpPr txBox="1"/>
          <p:nvPr/>
        </p:nvSpPr>
        <p:spPr>
          <a:xfrm>
            <a:off x="1981080" y="457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ersecuted Churc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wish Persecutio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Jewish Pers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ived charge of blasph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mbling block of the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for popularity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aliel’s reasoned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limited to Judea and the surrounding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56408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7" name="Text Box 3"/>
          <p:cNvSpPr/>
          <p:nvPr/>
        </p:nvSpPr>
        <p:spPr>
          <a:xfrm>
            <a:off x="5257800" y="533520"/>
            <a:ext cx="3352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n that day a great persecution began against the church in Jerusalem, and they were all scattered throughout the regions of Judea and Samaria, except the apostles. (Acts 8:1b)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wish Persecutio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for Jewish Pers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ived charge of blasph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mbling block of the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for popularity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aliel’s reasoned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limited to Judea and the surrounding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 punishment was initially unauthorized by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wish Persecutio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se on the “Nazareans” was added to the official Jewish prayers of the late first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ewish Persecution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se on the “Nazareans” was added to the official Jewish prayers of the late first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14400" y="3200400"/>
            <a:ext cx="464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left Judea and moved to Pella prior to the fall of Jerusal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5" name="Picture 5" descr="Copy of Copy of Israel Large3"/>
          <p:cNvPicPr/>
          <p:nvPr/>
        </p:nvPicPr>
        <p:blipFill>
          <a:blip r:embed="rId1"/>
          <a:stretch/>
        </p:blipFill>
        <p:spPr>
          <a:xfrm>
            <a:off x="5410080" y="2895480"/>
            <a:ext cx="316872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6" name="Text Box 6"/>
          <p:cNvSpPr/>
          <p:nvPr/>
        </p:nvSpPr>
        <p:spPr>
          <a:xfrm>
            <a:off x="7029360" y="3724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7515360" y="3695760"/>
            <a:ext cx="790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ll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ristianity versus Rome</a:t>
            </a:r>
            <a:br>
              <a:rPr sz="48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Conflict of Cult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512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schools taught pagan relig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emeteries offered up prayers to false id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IM001529"/>
          <p:cNvPicPr/>
          <p:nvPr/>
        </p:nvPicPr>
        <p:blipFill>
          <a:blip r:embed="rId1"/>
          <a:stretch/>
        </p:blipFill>
        <p:spPr>
          <a:xfrm>
            <a:off x="685800" y="3809880"/>
            <a:ext cx="7848720" cy="27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ristianity versus Rome</a:t>
            </a:r>
            <a:br>
              <a:rPr sz="48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Conflict of Cult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9512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schools taught pagan relig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emeteries offered up prayers to false id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marketplaces sold food that had been offered to Roman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an military personnel were required to swear oaths to the emperor, worshiping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hristianity versus Rome</a:t>
            </a:r>
            <a:br>
              <a:rPr sz="48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 Conflict of Cultu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85800" y="2362320"/>
            <a:ext cx="289548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man Religious Toleranc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34120" y="2362320"/>
            <a:ext cx="289548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ianity’s Exclusive Claim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352680" y="2739960"/>
            <a:ext cx="2210040" cy="990720"/>
          </a:xfrm>
          <a:prstGeom prst="leftRightArrow">
            <a:avLst>
              <a:gd name="adj1" fmla="val 50000"/>
              <a:gd name="adj2" fmla="val 4440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2120" y="4038480"/>
            <a:ext cx="7543800" cy="2439000"/>
            <a:chOff x="762120" y="4038480"/>
            <a:chExt cx="7543800" cy="2439000"/>
          </a:xfrm>
        </p:grpSpPr>
        <p:sp>
          <p:nvSpPr>
            <p:cNvPr id="198" name="Text Box 8"/>
            <p:cNvSpPr/>
            <p:nvPr/>
          </p:nvSpPr>
          <p:spPr>
            <a:xfrm>
              <a:off x="762120" y="528624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In what ways does Christianity conflict with today’s culture?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pic>
          <p:nvPicPr>
            <p:cNvPr id="199" name="Picture 9" descr=""/>
            <p:cNvPicPr/>
            <p:nvPr/>
          </p:nvPicPr>
          <p:blipFill>
            <a:blip r:embed="rId2"/>
            <a:stretch/>
          </p:blipFill>
          <p:spPr>
            <a:xfrm>
              <a:off x="3809880" y="40384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tevens@tiu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oup Introdu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m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you in the TIU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lasses have you already taken in the area of the Old or New Testa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e the different social situations and theological developments that distinguish the later New Testament epistles from the earlier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the critical issues of authorship of thes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xplain the political background of thes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the flow of thought of each individual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ssess the influences of various sub-Christian cults or religious tendencies such as Gnosticism, Doceticism, and the Ebion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duce contemporary applications of the lessons learned from thes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hall, Travis, &amp;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ploring the New Testament: A Guide to the Letters and Reve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arsity,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2971800" y="399960"/>
            <a:ext cx="31813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13" descr="51vCkZBFR0L"/>
          <p:cNvPicPr/>
          <p:nvPr/>
        </p:nvPicPr>
        <p:blipFill>
          <a:blip r:embed="rId3"/>
          <a:stretch/>
        </p:blipFill>
        <p:spPr>
          <a:xfrm>
            <a:off x="838080" y="1676520"/>
            <a:ext cx="2976840" cy="422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02:11Z</dcterms:created>
  <dc:creator>JohnStevenson</dc:creator>
  <dc:description/>
  <dc:language>en-US</dc:language>
  <cp:lastModifiedBy>Windows User</cp:lastModifiedBy>
  <dcterms:modified xsi:type="dcterms:W3CDTF">2017-07-11T15:28:56Z</dcterms:modified>
  <cp:revision>37</cp:revision>
  <dc:subject/>
  <dc:title>General Epistles</dc:title>
</cp:coreProperties>
</file>