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73E-6D22-494A-ADC2-0BAF63E3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292-23C5-4722-AC61-EF822329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EBC-4B44-4772-92DD-4BC90832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80B-7044-49D5-BA73-981A5A41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7C4C-3D96-4F62-A6C5-B0192C32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13B4-439D-4BB5-82EA-C8C8F79B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781-4EC6-4888-9DD9-A708D3D3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A17-2F91-43D2-B104-FAC6BA11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F2C-B9FE-4C98-B0A3-0A07AE0B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1A8-E822-445A-B26F-6740D9D3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E0A-6122-4086-B583-667A9918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639-0680-4BA4-9BF8-562191B0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4801-6823-4C70-B0CC-270AB441E1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666880" y="54100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56184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Work and Play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1219320" y="1752480"/>
            <a:ext cx="6553080" cy="113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Ethic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8-05-10T15:01:46Z</dcterms:modified>
  <cp:revision>115</cp:revision>
  <dc:subject/>
  <dc:title>Discipleship Across the Lifespan</dc:title>
</cp:coreProperties>
</file>