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25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2C0-AD1B-46F2-BB4C-DCCAB9B0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AEE-A1A3-42C1-99B6-F7614609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AE2-249E-4912-A67E-A3411C72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E38-D258-4CA1-9F81-61CE9D04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FD8-3471-45D5-88EF-F49C79D4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FF4-4F8B-4C44-AC1A-74E631D7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168-BB65-4B5C-9191-9C46C2B9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DB8-6272-41F9-860A-29B62703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5A1-DD45-479F-A0AC-55069466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567-D878-4547-9377-FDF649A6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9C2-29DE-42D2-BA31-35D30A2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255-96A5-4BBB-B8B6-236455E1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6EF2-C81C-4602-A47F-7978C4FE5C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image" Target="../media/image16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image" Target="../media/image16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source=images&amp;cd=&amp;cad=rja&amp;uact=8&amp;ved=2ahUKEwjA7PX3uKvbAhUJw1kKHZdIA9oQjRx6BAgBEAU&amp;url=http%3A%2F%2Fwww.opinionnigeria.com%2Fcivil-disobedience-the-way-to-revolution%2F&amp;psig=AOvVaw3xj1CmNZx8RASbxpgwxsak&amp;ust=1527701277805120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source=images&amp;cd=&amp;cad=rja&amp;uact=8&amp;ved=2ahUKEwiv8JSVuavbAhWQmlkKHT7-ANQQjRx6BAgBEAU&amp;url=http%3A%2F%2Fteleread.com%2Fmassive-civil-disobedience-for-scholarly-open-access%2Findex.html&amp;psig=AOvVaw3xj1CmNZx8RASbxpgwxsak&amp;ust=152770127780512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666880" y="5410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6184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ivil Disobedience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&amp; Social Justic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1219320" y="1752480"/>
            <a:ext cx="6553080" cy="113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Ethi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228600" y="2209680"/>
            <a:ext cx="4229280" cy="911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457200" y="333360"/>
            <a:ext cx="8001000" cy="73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to Disobey the Gover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7543800" y="6488280"/>
            <a:ext cx="15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isler 2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28600" y="1219320"/>
            <a:ext cx="4229280" cy="990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vo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457880" y="1219320"/>
            <a:ext cx="4379760" cy="9903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fu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459320" y="2209680"/>
            <a:ext cx="4379760" cy="911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vio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3111480"/>
            <a:ext cx="422928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449600" y="3111480"/>
            <a:ext cx="4378320" cy="838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39760" y="3949560"/>
            <a:ext cx="422892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ect its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459320" y="3949560"/>
            <a:ext cx="437976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 its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285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dom &amp; Gomorrah (Genesis 14: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’s Revolt against David (2 Samuel 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oboam’s Revolt (1 Kings 11:26 - 12: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zekiah’s Revolt against Sennacherib of Assyria (2 Kings 18: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dekiah’s Revolt against Nebuchadnezzar (2 Kings 24: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457200" y="3049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Examp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4876920" y="1143000"/>
            <a:ext cx="266688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f Revol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Owner\Desktop\Rome3 102.jpg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1274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0"/>
          <p:cNvSpPr txBox="1"/>
          <p:nvPr/>
        </p:nvSpPr>
        <p:spPr>
          <a:xfrm>
            <a:off x="457200" y="3049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Examp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4876920" y="1143000"/>
            <a:ext cx="266688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f Revol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2285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aoh and midwives (Exodus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aoh and parents of Moses (Exodus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’s Friends (Daniel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 and Prayer Ordinance (Daniel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uilding the Temple (Ezra 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i and Herod the Great (Matthew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 and the Sanhedrin (Acts 3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457200" y="3049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Exampl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4876920" y="1143000"/>
            <a:ext cx="2666880" cy="10666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f Refus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son, fear the LORD and the king;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 not associate with those who are given to change,</a:t>
            </a:r>
            <a:br>
              <a:rPr sz="3200"/>
            </a:b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For their calamity will rise suddenly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who knows the ruin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that comes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rom both of them? (Proverbs 24:21-2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gradFill rotWithShape="0">
            <a:gsLst>
              <a:gs pos="0">
                <a:srgbClr val="12367d"/>
              </a:gs>
              <a:gs pos="100000">
                <a:srgbClr val="2862d7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ear the LORD and the king, my son, and do not join with rebellious officials,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for those two will send sudden destruction on them, and who knows what calamities they can bring? (Proverbs 24:21-22 NI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8"/>
              </a:gs>
              <a:gs pos="50000">
                <a:srgbClr val="660033"/>
              </a:gs>
              <a:gs pos="100000">
                <a:srgbClr val="2f0018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15" name="Line 6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19" name="Line 10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13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23" name="Line 14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6" name="Picture 17" descr="Constantine DSCF4613"/>
          <p:cNvPicPr/>
          <p:nvPr/>
        </p:nvPicPr>
        <p:blipFill>
          <a:blip r:embed="rId1"/>
          <a:stretch/>
        </p:blipFill>
        <p:spPr>
          <a:xfrm>
            <a:off x="4876920" y="1066680"/>
            <a:ext cx="1498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map"/>
          <p:cNvPicPr/>
          <p:nvPr/>
        </p:nvPicPr>
        <p:blipFill>
          <a:blip r:embed="rId2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"/>
          <p:cNvPicPr/>
          <p:nvPr/>
        </p:nvPicPr>
        <p:blipFill>
          <a:blip r:embed="rId3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8"/>
              </a:gs>
              <a:gs pos="50000">
                <a:srgbClr val="660033"/>
              </a:gs>
              <a:gs pos="100000">
                <a:srgbClr val="2f0018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33" name="Line 6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9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37" name="Line 10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41" name="Line 14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6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Rectangle 20"/>
          <p:cNvSpPr/>
          <p:nvPr/>
        </p:nvSpPr>
        <p:spPr>
          <a:xfrm>
            <a:off x="4724280" y="274680"/>
            <a:ext cx="3962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pared to the early church, is it harder, easier, or about the same for us to be Christians in our world tod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2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8"/>
              </a:gs>
              <a:gs pos="50000">
                <a:srgbClr val="660033"/>
              </a:gs>
              <a:gs pos="100000">
                <a:srgbClr val="2f0018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7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49" name="Line 6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18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53" name="Line 8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1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57" name="Line 9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Picture 16" descr="Constantine DSCF4613"/>
          <p:cNvPicPr/>
          <p:nvPr/>
        </p:nvPicPr>
        <p:blipFill>
          <a:blip r:embed="rId1"/>
          <a:stretch/>
        </p:blipFill>
        <p:spPr>
          <a:xfrm>
            <a:off x="4876920" y="1066680"/>
            <a:ext cx="1498320" cy="1905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map"/>
          <p:cNvPicPr/>
          <p:nvPr/>
        </p:nvPicPr>
        <p:blipFill>
          <a:blip r:embed="rId2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3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22"/>
          <p:cNvGrpSpPr/>
          <p:nvPr/>
        </p:nvGrpSpPr>
        <p:grpSpPr>
          <a:xfrm>
            <a:off x="4648320" y="228600"/>
            <a:ext cx="4267080" cy="2669400"/>
            <a:chOff x="4648320" y="228600"/>
            <a:chExt cx="4267080" cy="2669400"/>
          </a:xfrm>
        </p:grpSpPr>
        <p:sp>
          <p:nvSpPr>
            <p:cNvPr id="164" name="Rectangle 23"/>
            <p:cNvSpPr/>
            <p:nvPr/>
          </p:nvSpPr>
          <p:spPr>
            <a:xfrm>
              <a:off x="4648320" y="228600"/>
              <a:ext cx="4267080" cy="266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4724280" y="2438280"/>
              <a:ext cx="41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4762440" y="457200"/>
              <a:ext cx="403812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26"/>
            <p:cNvSpPr/>
            <p:nvPr/>
          </p:nvSpPr>
          <p:spPr>
            <a:xfrm>
              <a:off x="7086600" y="533160"/>
              <a:ext cx="1218600" cy="1067040"/>
            </a:xfrm>
            <a:prstGeom prst="upArrowCallout">
              <a:avLst>
                <a:gd name="adj1" fmla="val 41043"/>
                <a:gd name="adj2" fmla="val 28551"/>
                <a:gd name="adj3" fmla="val 50389"/>
                <a:gd name="adj4" fmla="val 100778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6708600" y="167616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4800600" y="533160"/>
              <a:ext cx="152352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31"/>
          <p:cNvGrpSpPr/>
          <p:nvPr/>
        </p:nvGrpSpPr>
        <p:grpSpPr>
          <a:xfrm>
            <a:off x="4267080" y="0"/>
            <a:ext cx="381240" cy="2895480"/>
            <a:chOff x="4267080" y="0"/>
            <a:chExt cx="381240" cy="2895480"/>
          </a:xfrm>
        </p:grpSpPr>
        <p:sp>
          <p:nvSpPr>
            <p:cNvPr id="171" name="Line 29"/>
            <p:cNvSpPr/>
            <p:nvPr/>
          </p:nvSpPr>
          <p:spPr>
            <a:xfrm>
              <a:off x="4267080" y="1066680"/>
              <a:ext cx="38124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4267080" y="0"/>
              <a:ext cx="38124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8"/>
              </a:gs>
              <a:gs pos="50000">
                <a:srgbClr val="660033"/>
              </a:gs>
              <a:gs pos="100000">
                <a:srgbClr val="2f0018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177" name="Line 6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181" name="Line 10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11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13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185" name="Line 14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16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8" name="Picture 18" descr="map"/>
          <p:cNvPicPr/>
          <p:nvPr/>
        </p:nvPicPr>
        <p:blipFill>
          <a:blip r:embed="rId1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"/>
          <p:cNvPicPr/>
          <p:nvPr/>
        </p:nvPicPr>
        <p:blipFill>
          <a:blip r:embed="rId2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20"/>
          <p:cNvGrpSpPr/>
          <p:nvPr/>
        </p:nvGrpSpPr>
        <p:grpSpPr>
          <a:xfrm>
            <a:off x="4648320" y="838080"/>
            <a:ext cx="4267080" cy="2669400"/>
            <a:chOff x="4648320" y="838080"/>
            <a:chExt cx="4267080" cy="2669400"/>
          </a:xfrm>
        </p:grpSpPr>
        <p:sp>
          <p:nvSpPr>
            <p:cNvPr id="191" name="Rectangle 21"/>
            <p:cNvSpPr/>
            <p:nvPr/>
          </p:nvSpPr>
          <p:spPr>
            <a:xfrm>
              <a:off x="4648320" y="83808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2"/>
            <p:cNvSpPr/>
            <p:nvPr/>
          </p:nvSpPr>
          <p:spPr>
            <a:xfrm>
              <a:off x="4724640" y="304776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23"/>
            <p:cNvSpPr/>
            <p:nvPr/>
          </p:nvSpPr>
          <p:spPr>
            <a:xfrm>
              <a:off x="5791320" y="99036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24"/>
            <p:cNvSpPr/>
            <p:nvPr/>
          </p:nvSpPr>
          <p:spPr>
            <a:xfrm>
              <a:off x="5943600" y="114300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25"/>
            <p:cNvSpPr/>
            <p:nvPr/>
          </p:nvSpPr>
          <p:spPr>
            <a:xfrm>
              <a:off x="6172200" y="121896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6"/>
            <p:cNvSpPr/>
            <p:nvPr/>
          </p:nvSpPr>
          <p:spPr>
            <a:xfrm>
              <a:off x="6327000" y="243828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Group 29"/>
          <p:cNvGrpSpPr/>
          <p:nvPr/>
        </p:nvGrpSpPr>
        <p:grpSpPr>
          <a:xfrm>
            <a:off x="4267080" y="837720"/>
            <a:ext cx="381240" cy="2667600"/>
            <a:chOff x="4267080" y="837720"/>
            <a:chExt cx="381240" cy="2667600"/>
          </a:xfrm>
        </p:grpSpPr>
        <p:sp>
          <p:nvSpPr>
            <p:cNvPr id="198" name="Line 27"/>
            <p:cNvSpPr/>
            <p:nvPr/>
          </p:nvSpPr>
          <p:spPr>
            <a:xfrm>
              <a:off x="4267080" y="3124080"/>
              <a:ext cx="38124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 flipV="1">
              <a:off x="4267080" y="837720"/>
              <a:ext cx="38124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8"/>
              </a:gs>
              <a:gs pos="50000">
                <a:srgbClr val="660033"/>
              </a:gs>
              <a:gs pos="100000">
                <a:srgbClr val="2f0018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204" name="Line 6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9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208" name="Line 10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11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212" name="Line 14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5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Rectangle 29"/>
          <p:cNvSpPr/>
          <p:nvPr/>
        </p:nvSpPr>
        <p:spPr>
          <a:xfrm>
            <a:off x="4724280" y="274680"/>
            <a:ext cx="396252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en the world recognizes the church as a part of society, should Christians withdraw for the sake of purity or take advantage of the situation and attempt to influence the cultu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228600" y="1981080"/>
            <a:ext cx="2514600" cy="250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throw all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343080" y="1592280"/>
            <a:ext cx="2286000" cy="606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rch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254400" y="1989000"/>
            <a:ext cx="2514600" cy="250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obey th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3254400" y="1600200"/>
            <a:ext cx="2514600" cy="606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bmis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302520" y="1989000"/>
            <a:ext cx="2514600" cy="250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obey th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6302520" y="1600200"/>
            <a:ext cx="2514600" cy="606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triot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6531120" y="939960"/>
            <a:ext cx="1981080" cy="606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ad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609480" y="4221000"/>
            <a:ext cx="7794720" cy="533520"/>
          </a:xfrm>
          <a:prstGeom prst="leftRightArrow">
            <a:avLst>
              <a:gd name="adj1" fmla="val 50000"/>
              <a:gd name="adj2" fmla="val 91380"/>
            </a:avLst>
          </a:prstGeom>
          <a:gradFill rotWithShape="0">
            <a:gsLst>
              <a:gs pos="0">
                <a:srgbClr val="0683ff"/>
              </a:gs>
              <a:gs pos="100000">
                <a:srgbClr val="0033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8"/>
              </a:gs>
              <a:gs pos="50000">
                <a:srgbClr val="660033"/>
              </a:gs>
              <a:gs pos="100000">
                <a:srgbClr val="2f0018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220" name="Line 6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7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8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9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224" name="Line 10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13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228" name="Line 14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5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6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1" name="Picture 17" descr="map"/>
          <p:cNvPicPr/>
          <p:nvPr/>
        </p:nvPicPr>
        <p:blipFill>
          <a:blip r:embed="rId1"/>
          <a:stretch/>
        </p:blipFill>
        <p:spPr>
          <a:xfrm>
            <a:off x="5638680" y="3124080"/>
            <a:ext cx="2819520" cy="17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"/>
          <p:cNvPicPr/>
          <p:nvPr/>
        </p:nvPicPr>
        <p:blipFill>
          <a:blip r:embed="rId2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29"/>
          <p:cNvGrpSpPr/>
          <p:nvPr/>
        </p:nvGrpSpPr>
        <p:grpSpPr>
          <a:xfrm>
            <a:off x="4572000" y="2819520"/>
            <a:ext cx="4267080" cy="2669400"/>
            <a:chOff x="4572000" y="2819520"/>
            <a:chExt cx="4267080" cy="2669400"/>
          </a:xfrm>
        </p:grpSpPr>
        <p:sp>
          <p:nvSpPr>
            <p:cNvPr id="234" name="Rectangle 30"/>
            <p:cNvSpPr/>
            <p:nvPr/>
          </p:nvSpPr>
          <p:spPr>
            <a:xfrm>
              <a:off x="4572000" y="28195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 Box 31"/>
            <p:cNvSpPr/>
            <p:nvPr/>
          </p:nvSpPr>
          <p:spPr>
            <a:xfrm>
              <a:off x="4622400" y="5029200"/>
              <a:ext cx="41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32"/>
            <p:cNvSpPr/>
            <p:nvPr/>
          </p:nvSpPr>
          <p:spPr>
            <a:xfrm>
              <a:off x="5714640" y="3124440"/>
              <a:ext cx="182844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33"/>
            <p:cNvSpPr/>
            <p:nvPr/>
          </p:nvSpPr>
          <p:spPr>
            <a:xfrm>
              <a:off x="6476760" y="342900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660033"/>
                </a:gs>
                <a:gs pos="100000">
                  <a:srgbClr val="0072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34"/>
            <p:cNvSpPr/>
            <p:nvPr/>
          </p:nvSpPr>
          <p:spPr>
            <a:xfrm>
              <a:off x="5878800" y="350532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35"/>
            <p:cNvSpPr/>
            <p:nvPr/>
          </p:nvSpPr>
          <p:spPr>
            <a:xfrm>
              <a:off x="6517800" y="401328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8"/>
          <p:cNvGrpSpPr/>
          <p:nvPr/>
        </p:nvGrpSpPr>
        <p:grpSpPr>
          <a:xfrm>
            <a:off x="4267080" y="2819520"/>
            <a:ext cx="304920" cy="2666880"/>
            <a:chOff x="4267080" y="2819520"/>
            <a:chExt cx="304920" cy="2666880"/>
          </a:xfrm>
        </p:grpSpPr>
        <p:sp>
          <p:nvSpPr>
            <p:cNvPr id="241" name="Line 36"/>
            <p:cNvSpPr/>
            <p:nvPr/>
          </p:nvSpPr>
          <p:spPr>
            <a:xfrm>
              <a:off x="4267080" y="4952880"/>
              <a:ext cx="30492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37"/>
            <p:cNvSpPr/>
            <p:nvPr/>
          </p:nvSpPr>
          <p:spPr>
            <a:xfrm flipV="1">
              <a:off x="4267080" y="2819520"/>
              <a:ext cx="30492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143000" y="0"/>
            <a:ext cx="3124080" cy="68580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-7668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arly Chur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2f0018"/>
              </a:gs>
              <a:gs pos="50000">
                <a:srgbClr val="660033"/>
              </a:gs>
              <a:gs pos="100000">
                <a:srgbClr val="2f0018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0" y="1066680"/>
            <a:ext cx="4267080" cy="1219320"/>
            <a:chOff x="0" y="1066680"/>
            <a:chExt cx="4267080" cy="1219320"/>
          </a:xfrm>
        </p:grpSpPr>
        <p:sp>
          <p:nvSpPr>
            <p:cNvPr id="247" name="Line 6"/>
            <p:cNvSpPr/>
            <p:nvPr/>
          </p:nvSpPr>
          <p:spPr>
            <a:xfrm>
              <a:off x="0" y="1066680"/>
              <a:ext cx="426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154440" y="106668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1066680" y="1066680"/>
              <a:ext cx="28958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oma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9"/>
          <p:cNvGrpSpPr/>
          <p:nvPr/>
        </p:nvGrpSpPr>
        <p:grpSpPr>
          <a:xfrm>
            <a:off x="-15840" y="3108240"/>
            <a:ext cx="4282920" cy="1828800"/>
            <a:chOff x="-15840" y="3108240"/>
            <a:chExt cx="4282920" cy="1828800"/>
          </a:xfrm>
        </p:grpSpPr>
        <p:sp>
          <p:nvSpPr>
            <p:cNvPr id="251" name="Line 10"/>
            <p:cNvSpPr/>
            <p:nvPr/>
          </p:nvSpPr>
          <p:spPr>
            <a:xfrm>
              <a:off x="-15840" y="31240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2160" y="31240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5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2"/>
            <p:cNvSpPr/>
            <p:nvPr/>
          </p:nvSpPr>
          <p:spPr>
            <a:xfrm>
              <a:off x="1235160" y="3108240"/>
              <a:ext cx="28954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Schism between Rome &amp; Eas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Group 13"/>
          <p:cNvGrpSpPr/>
          <p:nvPr/>
        </p:nvGrpSpPr>
        <p:grpSpPr>
          <a:xfrm>
            <a:off x="-15840" y="4952880"/>
            <a:ext cx="4282920" cy="1219320"/>
            <a:chOff x="-15840" y="4952880"/>
            <a:chExt cx="4282920" cy="1219320"/>
          </a:xfrm>
        </p:grpSpPr>
        <p:sp>
          <p:nvSpPr>
            <p:cNvPr id="255" name="Line 14"/>
            <p:cNvSpPr/>
            <p:nvPr/>
          </p:nvSpPr>
          <p:spPr>
            <a:xfrm>
              <a:off x="-15840" y="4952880"/>
              <a:ext cx="42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15"/>
            <p:cNvSpPr/>
            <p:nvPr/>
          </p:nvSpPr>
          <p:spPr>
            <a:xfrm>
              <a:off x="34200" y="49528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1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1219320" y="4952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Reformation Churc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8" name="Picture 18" descr=""/>
          <p:cNvPicPr/>
          <p:nvPr/>
        </p:nvPicPr>
        <p:blipFill>
          <a:blip r:embed="rId1"/>
          <a:stretch/>
        </p:blipFill>
        <p:spPr>
          <a:xfrm>
            <a:off x="4572000" y="4998960"/>
            <a:ext cx="1166760" cy="17067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29"/>
          <p:cNvGrpSpPr/>
          <p:nvPr/>
        </p:nvGrpSpPr>
        <p:grpSpPr>
          <a:xfrm>
            <a:off x="4876920" y="2717640"/>
            <a:ext cx="4267080" cy="2543040"/>
            <a:chOff x="4876920" y="2717640"/>
            <a:chExt cx="4267080" cy="2543040"/>
          </a:xfrm>
        </p:grpSpPr>
        <p:sp>
          <p:nvSpPr>
            <p:cNvPr id="260" name="Rectangle 30"/>
            <p:cNvSpPr/>
            <p:nvPr/>
          </p:nvSpPr>
          <p:spPr>
            <a:xfrm>
              <a:off x="4876920" y="2717640"/>
              <a:ext cx="4267080" cy="2514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31"/>
            <p:cNvSpPr/>
            <p:nvPr/>
          </p:nvSpPr>
          <p:spPr>
            <a:xfrm>
              <a:off x="4953240" y="480096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6019920" y="2860920"/>
              <a:ext cx="2057400" cy="18680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33"/>
            <p:cNvSpPr/>
            <p:nvPr/>
          </p:nvSpPr>
          <p:spPr>
            <a:xfrm>
              <a:off x="6172200" y="3004920"/>
              <a:ext cx="1828800" cy="150876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AutoShape 34"/>
            <p:cNvSpPr/>
            <p:nvPr/>
          </p:nvSpPr>
          <p:spPr>
            <a:xfrm>
              <a:off x="6400800" y="3076560"/>
              <a:ext cx="1219320" cy="1005840"/>
            </a:xfrm>
            <a:prstGeom prst="upArrowCallout">
              <a:avLst>
                <a:gd name="adj1" fmla="val 43566"/>
                <a:gd name="adj2" fmla="val 30306"/>
                <a:gd name="adj3" fmla="val 50389"/>
                <a:gd name="adj4" fmla="val 100778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35"/>
            <p:cNvSpPr/>
            <p:nvPr/>
          </p:nvSpPr>
          <p:spPr>
            <a:xfrm>
              <a:off x="6555600" y="422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Group 45"/>
          <p:cNvGrpSpPr/>
          <p:nvPr/>
        </p:nvGrpSpPr>
        <p:grpSpPr>
          <a:xfrm>
            <a:off x="4267080" y="380520"/>
            <a:ext cx="609840" cy="6477120"/>
            <a:chOff x="4267080" y="380520"/>
            <a:chExt cx="609840" cy="6477120"/>
          </a:xfrm>
        </p:grpSpPr>
        <p:sp>
          <p:nvSpPr>
            <p:cNvPr id="267" name="Line 43"/>
            <p:cNvSpPr/>
            <p:nvPr/>
          </p:nvSpPr>
          <p:spPr>
            <a:xfrm flipV="1">
              <a:off x="4267080" y="5274360"/>
              <a:ext cx="609840" cy="158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4"/>
            <p:cNvSpPr/>
            <p:nvPr/>
          </p:nvSpPr>
          <p:spPr>
            <a:xfrm flipV="1">
              <a:off x="4267080" y="380520"/>
              <a:ext cx="228600" cy="467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6"/>
          <p:cNvGrpSpPr/>
          <p:nvPr/>
        </p:nvGrpSpPr>
        <p:grpSpPr>
          <a:xfrm>
            <a:off x="4495680" y="355680"/>
            <a:ext cx="4267440" cy="2542680"/>
            <a:chOff x="4495680" y="355680"/>
            <a:chExt cx="4267440" cy="2542680"/>
          </a:xfrm>
        </p:grpSpPr>
        <p:sp>
          <p:nvSpPr>
            <p:cNvPr id="270" name="Rectangle 37"/>
            <p:cNvSpPr/>
            <p:nvPr/>
          </p:nvSpPr>
          <p:spPr>
            <a:xfrm>
              <a:off x="4495680" y="355680"/>
              <a:ext cx="4267440" cy="2514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4572000" y="243864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39"/>
            <p:cNvSpPr/>
            <p:nvPr/>
          </p:nvSpPr>
          <p:spPr>
            <a:xfrm>
              <a:off x="4610160" y="570960"/>
              <a:ext cx="4038480" cy="17240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AutoShape 40"/>
            <p:cNvSpPr/>
            <p:nvPr/>
          </p:nvSpPr>
          <p:spPr>
            <a:xfrm>
              <a:off x="6934320" y="642600"/>
              <a:ext cx="1218960" cy="1005840"/>
            </a:xfrm>
            <a:prstGeom prst="upArrowCallout">
              <a:avLst>
                <a:gd name="adj1" fmla="val 43553"/>
                <a:gd name="adj2" fmla="val 30297"/>
                <a:gd name="adj3" fmla="val 50389"/>
                <a:gd name="adj4" fmla="val 100778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1"/>
            <p:cNvSpPr/>
            <p:nvPr/>
          </p:nvSpPr>
          <p:spPr>
            <a:xfrm>
              <a:off x="6556320" y="172044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42"/>
            <p:cNvSpPr/>
            <p:nvPr/>
          </p:nvSpPr>
          <p:spPr>
            <a:xfrm>
              <a:off x="4648320" y="642600"/>
              <a:ext cx="1523880" cy="136476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ich Model describes your Church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278" name="Rectangle 4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8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10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285" name="Rectangle 11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2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13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5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17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292" name="Rectangle 18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9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20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utoShape 21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AutoShape 22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3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Group 24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299" name="Rectangle 25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6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27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28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660033"/>
                </a:gs>
                <a:gs pos="100000">
                  <a:srgbClr val="0072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29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30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5" name="Picture 31" descr=""/>
          <p:cNvPicPr/>
          <p:nvPr/>
        </p:nvPicPr>
        <p:blipFill>
          <a:blip r:embed="rId8"/>
          <a:stretch/>
        </p:blipFill>
        <p:spPr>
          <a:xfrm>
            <a:off x="6477120" y="1371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ich model makes the most sense to you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4724280" y="990720"/>
            <a:ext cx="4267440" cy="2669400"/>
            <a:chOff x="4724280" y="990720"/>
            <a:chExt cx="4267440" cy="2669400"/>
          </a:xfrm>
        </p:grpSpPr>
        <p:sp>
          <p:nvSpPr>
            <p:cNvPr id="308" name="Rectangle 4"/>
            <p:cNvSpPr/>
            <p:nvPr/>
          </p:nvSpPr>
          <p:spPr>
            <a:xfrm>
              <a:off x="4724280" y="990720"/>
              <a:ext cx="4267440" cy="2666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4800600" y="3200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onversionist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6"/>
            <p:cNvSpPr/>
            <p:nvPr/>
          </p:nvSpPr>
          <p:spPr>
            <a:xfrm>
              <a:off x="4838760" y="1219320"/>
              <a:ext cx="4038480" cy="182880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AutoShape 7"/>
            <p:cNvSpPr/>
            <p:nvPr/>
          </p:nvSpPr>
          <p:spPr>
            <a:xfrm>
              <a:off x="7162920" y="1295280"/>
              <a:ext cx="1218960" cy="1067040"/>
            </a:xfrm>
            <a:prstGeom prst="upArrowCallout">
              <a:avLst>
                <a:gd name="adj1" fmla="val 41055"/>
                <a:gd name="adj2" fmla="val 28559"/>
                <a:gd name="adj3" fmla="val 50389"/>
                <a:gd name="adj4" fmla="val 100778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678492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9"/>
            <p:cNvSpPr/>
            <p:nvPr/>
          </p:nvSpPr>
          <p:spPr>
            <a:xfrm>
              <a:off x="4876920" y="12952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Group 10"/>
          <p:cNvGrpSpPr/>
          <p:nvPr/>
        </p:nvGrpSpPr>
        <p:grpSpPr>
          <a:xfrm>
            <a:off x="228600" y="990720"/>
            <a:ext cx="4267080" cy="2669400"/>
            <a:chOff x="228600" y="990720"/>
            <a:chExt cx="4267080" cy="2669400"/>
          </a:xfrm>
        </p:grpSpPr>
        <p:sp>
          <p:nvSpPr>
            <p:cNvPr id="315" name="Rectangle 11"/>
            <p:cNvSpPr/>
            <p:nvPr/>
          </p:nvSpPr>
          <p:spPr>
            <a:xfrm>
              <a:off x="228600" y="990720"/>
              <a:ext cx="4267080" cy="266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12"/>
            <p:cNvSpPr/>
            <p:nvPr/>
          </p:nvSpPr>
          <p:spPr>
            <a:xfrm>
              <a:off x="533520" y="3200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13"/>
            <p:cNvSpPr/>
            <p:nvPr/>
          </p:nvSpPr>
          <p:spPr>
            <a:xfrm>
              <a:off x="380880" y="12952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4"/>
            <p:cNvSpPr/>
            <p:nvPr/>
          </p:nvSpPr>
          <p:spPr>
            <a:xfrm>
              <a:off x="2133720" y="12193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AutoShape 15"/>
            <p:cNvSpPr/>
            <p:nvPr/>
          </p:nvSpPr>
          <p:spPr>
            <a:xfrm>
              <a:off x="2666880" y="12952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6"/>
            <p:cNvSpPr/>
            <p:nvPr/>
          </p:nvSpPr>
          <p:spPr>
            <a:xfrm>
              <a:off x="2289240" y="24382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17"/>
          <p:cNvGrpSpPr/>
          <p:nvPr/>
        </p:nvGrpSpPr>
        <p:grpSpPr>
          <a:xfrm>
            <a:off x="228600" y="3886200"/>
            <a:ext cx="4267080" cy="2669400"/>
            <a:chOff x="228600" y="3886200"/>
            <a:chExt cx="4267080" cy="2669400"/>
          </a:xfrm>
        </p:grpSpPr>
        <p:sp>
          <p:nvSpPr>
            <p:cNvPr id="322" name="Rectangle 18"/>
            <p:cNvSpPr/>
            <p:nvPr/>
          </p:nvSpPr>
          <p:spPr>
            <a:xfrm>
              <a:off x="228600" y="3886200"/>
              <a:ext cx="4267080" cy="266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304920" y="6095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ransforming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20"/>
            <p:cNvSpPr/>
            <p:nvPr/>
          </p:nvSpPr>
          <p:spPr>
            <a:xfrm>
              <a:off x="1371600" y="4038480"/>
              <a:ext cx="2057400" cy="198144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AutoShape 21"/>
            <p:cNvSpPr/>
            <p:nvPr/>
          </p:nvSpPr>
          <p:spPr>
            <a:xfrm>
              <a:off x="1523880" y="4191120"/>
              <a:ext cx="1828800" cy="1600200"/>
            </a:xfrm>
            <a:prstGeom prst="irregularSeal2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2"/>
            <p:cNvSpPr/>
            <p:nvPr/>
          </p:nvSpPr>
          <p:spPr>
            <a:xfrm>
              <a:off x="1752480" y="42670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23"/>
            <p:cNvSpPr/>
            <p:nvPr/>
          </p:nvSpPr>
          <p:spPr>
            <a:xfrm>
              <a:off x="1907280" y="54864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roup 24"/>
          <p:cNvGrpSpPr/>
          <p:nvPr/>
        </p:nvGrpSpPr>
        <p:grpSpPr>
          <a:xfrm>
            <a:off x="4724280" y="3886200"/>
            <a:ext cx="4267440" cy="2669400"/>
            <a:chOff x="4724280" y="3886200"/>
            <a:chExt cx="4267440" cy="2669400"/>
          </a:xfrm>
        </p:grpSpPr>
        <p:sp>
          <p:nvSpPr>
            <p:cNvPr id="329" name="Rectangle 25"/>
            <p:cNvSpPr/>
            <p:nvPr/>
          </p:nvSpPr>
          <p:spPr>
            <a:xfrm>
              <a:off x="4724280" y="3886200"/>
              <a:ext cx="4267440" cy="2666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4775040" y="60958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ccommodation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27"/>
            <p:cNvSpPr/>
            <p:nvPr/>
          </p:nvSpPr>
          <p:spPr>
            <a:xfrm>
              <a:off x="5867280" y="4191120"/>
              <a:ext cx="1828800" cy="175248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28"/>
            <p:cNvSpPr/>
            <p:nvPr/>
          </p:nvSpPr>
          <p:spPr>
            <a:xfrm>
              <a:off x="6629400" y="44956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gradFill rotWithShape="0">
              <a:gsLst>
                <a:gs pos="0">
                  <a:srgbClr val="660033"/>
                </a:gs>
                <a:gs pos="100000">
                  <a:srgbClr val="0072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9"/>
            <p:cNvSpPr/>
            <p:nvPr/>
          </p:nvSpPr>
          <p:spPr>
            <a:xfrm>
              <a:off x="6031440" y="457200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0"/>
            <p:cNvSpPr/>
            <p:nvPr/>
          </p:nvSpPr>
          <p:spPr>
            <a:xfrm>
              <a:off x="6670440" y="50799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5" name="Picture 31" descr=""/>
          <p:cNvPicPr/>
          <p:nvPr/>
        </p:nvPicPr>
        <p:blipFill>
          <a:blip r:embed="rId8"/>
          <a:stretch/>
        </p:blipFill>
        <p:spPr>
          <a:xfrm>
            <a:off x="6477120" y="1371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Priestho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334120" y="5410080"/>
            <a:ext cx="3581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ierarchical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667240" cy="3543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"/>
          <p:cNvPicPr/>
          <p:nvPr/>
        </p:nvPicPr>
        <p:blipFill>
          <a:blip r:embed="rId2"/>
          <a:stretch/>
        </p:blipFill>
        <p:spPr>
          <a:xfrm>
            <a:off x="703440" y="1676520"/>
            <a:ext cx="2449440" cy="35812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8"/>
          <p:cNvSpPr/>
          <p:nvPr/>
        </p:nvSpPr>
        <p:spPr>
          <a:xfrm>
            <a:off x="380880" y="541008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esthood of all belie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11"/>
          <p:cNvGrpSpPr/>
          <p:nvPr/>
        </p:nvGrpSpPr>
        <p:grpSpPr>
          <a:xfrm>
            <a:off x="3200400" y="1600200"/>
            <a:ext cx="2666520" cy="4267080"/>
            <a:chOff x="3200400" y="1600200"/>
            <a:chExt cx="2666520" cy="4267080"/>
          </a:xfrm>
        </p:grpSpPr>
        <p:sp>
          <p:nvSpPr>
            <p:cNvPr id="342" name="Rectangle 9"/>
            <p:cNvSpPr/>
            <p:nvPr/>
          </p:nvSpPr>
          <p:spPr>
            <a:xfrm>
              <a:off x="3200400" y="1600200"/>
              <a:ext cx="26665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ffff"/>
                  </a:solidFill>
                  <a:latin typeface="Arial"/>
                </a:rPr>
                <a:t>How does the principle of the priesthood relate to your life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3" name="Picture 10" descr=""/>
            <p:cNvPicPr/>
            <p:nvPr/>
          </p:nvPicPr>
          <p:blipFill>
            <a:blip r:embed="rId3"/>
            <a:stretch/>
          </p:blipFill>
          <p:spPr>
            <a:xfrm>
              <a:off x="3846600" y="4572000"/>
              <a:ext cx="137376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nabapti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724280" y="152388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from the prevail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ed by the Essenes in the first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304920" y="1447920"/>
            <a:ext cx="4267080" cy="2669400"/>
            <a:chOff x="304920" y="1447920"/>
            <a:chExt cx="4267080" cy="2669400"/>
          </a:xfrm>
        </p:grpSpPr>
        <p:sp>
          <p:nvSpPr>
            <p:cNvPr id="347" name="Rectangle 5"/>
            <p:cNvSpPr/>
            <p:nvPr/>
          </p:nvSpPr>
          <p:spPr>
            <a:xfrm>
              <a:off x="304920" y="1447920"/>
              <a:ext cx="4267080" cy="2666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6"/>
            <p:cNvSpPr/>
            <p:nvPr/>
          </p:nvSpPr>
          <p:spPr>
            <a:xfrm>
              <a:off x="609840" y="36576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ntithesis 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7"/>
            <p:cNvSpPr/>
            <p:nvPr/>
          </p:nvSpPr>
          <p:spPr>
            <a:xfrm>
              <a:off x="457200" y="1752480"/>
              <a:ext cx="1524240" cy="1447920"/>
            </a:xfrm>
            <a:prstGeom prst="ellipse">
              <a:avLst/>
            </a:prstGeom>
            <a:gradFill rotWithShape="0">
              <a:gsLst>
                <a:gs pos="0">
                  <a:srgbClr val="660033"/>
                </a:gs>
                <a:gs pos="100000">
                  <a:srgbClr val="2f00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Worl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8"/>
            <p:cNvSpPr/>
            <p:nvPr/>
          </p:nvSpPr>
          <p:spPr>
            <a:xfrm>
              <a:off x="2210040" y="1676520"/>
              <a:ext cx="2209680" cy="175248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82f5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AutoShape 9"/>
            <p:cNvSpPr/>
            <p:nvPr/>
          </p:nvSpPr>
          <p:spPr>
            <a:xfrm>
              <a:off x="2743200" y="1752480"/>
              <a:ext cx="1219320" cy="1067040"/>
            </a:xfrm>
            <a:prstGeom prst="upArrowCallout">
              <a:avLst>
                <a:gd name="adj1" fmla="val 41067"/>
                <a:gd name="adj2" fmla="val 28568"/>
                <a:gd name="adj3" fmla="val 50389"/>
                <a:gd name="adj4" fmla="val 100778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u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2365560" y="289548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d’s Real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hould Christians be involved in politic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engagement in politics necessarily result in a trade-off or some degree of compromi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8148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467480" cy="485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95120" y="380880"/>
            <a:ext cx="34290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re movements like the Religious Right similar to or different from the medieval papac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12256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46784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bmit yourselves for the Lord's sake to every human institution, whether to a king as the one in authority,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or to governors as sent by him for the punishment of evildoers and the praise of those who do right.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For such is the will of God that by doing right you may silence the ignorance of foolish men.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1 Peter 2:13-1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655344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the relationship between the Great Commission and the Cultural Mandat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eat Commis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294920" y="1066320"/>
            <a:ext cx="6629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came up and spoke to them, saying, “All authority has been given to Me in heaven and on earth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 therefore and make disciples of all the nations, baptizing them in the name of the Father and the Son and the Holy Spirit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aching them to observe all that I commanded you; and lo, I am with you always, even to the end of the age.” (Matthew 28:18-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>
            <a:off x="60948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ltural Mand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142640" y="1066320"/>
            <a:ext cx="6629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blessed them; and God said to them, “Be fruitful and multiply, and fill the earth, and subdue it; and rule over the fish of the sea and over the birds of the sky and over every living thing that moves on the earth.” (Genesis 1:2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609480" y="8380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411480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ultural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nda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41148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ndate to rule the world as the representatives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4495680" y="304920"/>
            <a:ext cx="411480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reat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m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4495680" y="1523880"/>
            <a:ext cx="4114800" cy="1447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ission to go into all the world and make dis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380880" y="29718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a fruitful multi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4495680" y="2971800"/>
            <a:ext cx="411480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a fruitful multi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380880" y="4038480"/>
            <a:ext cx="411480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a delegated authority conferred to those made in the imag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4495680" y="4038480"/>
            <a:ext cx="411480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a delegated authority to those who are joined to Christ to whom has been given all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ing the rule of Christ to the entir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5181480" y="1219320"/>
            <a:ext cx="3429000" cy="2305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imarily through making disciples of the n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>
            <a:off x="3733920" y="1905120"/>
            <a:ext cx="1523880" cy="990360"/>
          </a:xfrm>
          <a:prstGeom prst="rightArrow">
            <a:avLst>
              <a:gd name="adj1" fmla="val 50000"/>
              <a:gd name="adj2" fmla="val 64647"/>
            </a:avLst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304560" y="1218960"/>
            <a:ext cx="3429000" cy="2305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e fulfill the cultural mandate toda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ichard Niebuh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62160" y="220968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against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of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above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transforming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and culture in paradox (a tension between the tw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971800" y="114300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at Y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christ culture"/>
          <p:cNvPicPr/>
          <p:nvPr/>
        </p:nvPicPr>
        <p:blipFill>
          <a:blip r:embed="rId1"/>
          <a:stretch/>
        </p:blipFill>
        <p:spPr>
          <a:xfrm>
            <a:off x="766800" y="2286000"/>
            <a:ext cx="2662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have been the effects of Christian boycott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disneyboycott_c"/>
          <p:cNvPicPr/>
          <p:nvPr/>
        </p:nvPicPr>
        <p:blipFill>
          <a:blip r:embed="rId2"/>
          <a:stretch/>
        </p:blipFill>
        <p:spPr>
          <a:xfrm>
            <a:off x="3352680" y="4267080"/>
            <a:ext cx="2362320" cy="2006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724640" cy="6095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2004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are the problems with equating patriotism with Christian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696440" cy="5765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248520" cy="38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28600" y="2365200"/>
            <a:ext cx="4229280" cy="2664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bey government when it passes a law that is contrary to the Scrip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457200" y="333360"/>
            <a:ext cx="8001000" cy="73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n to Disobey the Gover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543800" y="6488280"/>
            <a:ext cx="15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isler 2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28600" y="1219320"/>
            <a:ext cx="4229280" cy="1145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tipromulgation 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4457880" y="1219320"/>
            <a:ext cx="4379760" cy="1145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ticompulsion 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459320" y="2365200"/>
            <a:ext cx="4379760" cy="2664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bey government when commands Christians to act in a way contrary to the Scrip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5029200"/>
            <a:ext cx="422928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permits or endorses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449600" y="5029200"/>
            <a:ext cx="43783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commands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361476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257800" cy="359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 what are Christians know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224172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For what should we be known?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96" name="Picture 6" descr=""/>
          <p:cNvPicPr/>
          <p:nvPr/>
        </p:nvPicPr>
        <p:blipFill>
          <a:blip r:embed="rId1"/>
          <a:stretch/>
        </p:blipFill>
        <p:spPr>
          <a:xfrm>
            <a:off x="3886200" y="3886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benefits might there be for the church and our culture if Christians performed the task of cultural criticism more adequately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ames 1: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990720" y="10663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f any of you lacks wisdom, let him ask of God, who gives to all generously and without reproach, and it will be given to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762120" y="914400"/>
            <a:ext cx="7391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28600" y="2365200"/>
            <a:ext cx="4229280" cy="1216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passes evil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457200" y="333360"/>
            <a:ext cx="8001000" cy="73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n to Disobey the Gover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7543800" y="6488280"/>
            <a:ext cx="15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isler 2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8600" y="1219320"/>
            <a:ext cx="4229280" cy="1145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tipromulgation 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57880" y="1219320"/>
            <a:ext cx="4379760" cy="1145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ticompulsion 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459320" y="2365200"/>
            <a:ext cx="4379760" cy="1216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compels evil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28600" y="3581280"/>
            <a:ext cx="422928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limits free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449600" y="3581280"/>
            <a:ext cx="437832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negates free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39760" y="4648320"/>
            <a:ext cx="422892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is politically oppr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459320" y="4648320"/>
            <a:ext cx="4379760" cy="1066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t is religiously oppr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28600" y="2365200"/>
            <a:ext cx="4229280" cy="2587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allows ab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WordArt 10"/>
          <p:cNvSpPr txBox="1"/>
          <p:nvPr/>
        </p:nvSpPr>
        <p:spPr>
          <a:xfrm>
            <a:off x="457200" y="333360"/>
            <a:ext cx="8001000" cy="73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n to Disobey the Gover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7543800" y="6488280"/>
            <a:ext cx="15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isler 2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28600" y="1219320"/>
            <a:ext cx="4229280" cy="1145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tipromulgation 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457880" y="1219320"/>
            <a:ext cx="4379760" cy="1145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ticompulsion 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459320" y="2365200"/>
            <a:ext cx="4379760" cy="2587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does not command ab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3429000" y="2209680"/>
            <a:ext cx="205740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r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10"/>
          <p:cNvSpPr txBox="1"/>
          <p:nvPr/>
        </p:nvSpPr>
        <p:spPr>
          <a:xfrm>
            <a:off x="457200" y="333360"/>
            <a:ext cx="8001000" cy="73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n to Disobey the Gover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7543800" y="6488280"/>
            <a:ext cx="15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isler 2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28600" y="1219320"/>
            <a:ext cx="4229280" cy="1145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tipromulgation 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457880" y="1219320"/>
            <a:ext cx="4379760" cy="1145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ticompulsion 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"/>
          <p:cNvGrpSpPr/>
          <p:nvPr/>
        </p:nvGrpSpPr>
        <p:grpSpPr>
          <a:xfrm>
            <a:off x="228600" y="2365200"/>
            <a:ext cx="4229280" cy="3807000"/>
            <a:chOff x="228600" y="2365200"/>
            <a:chExt cx="4229280" cy="3807000"/>
          </a:xfrm>
        </p:grpSpPr>
        <p:sp>
          <p:nvSpPr>
            <p:cNvPr id="83" name="Rectangle 3"/>
            <p:cNvSpPr/>
            <p:nvPr/>
          </p:nvSpPr>
          <p:spPr>
            <a:xfrm>
              <a:off x="228600" y="2365200"/>
              <a:ext cx="4229280" cy="3807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merican Revolut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" name="Picture 3" descr="C:\Users\Owner\Desktop\washington-delaware.jpg"/>
            <p:cNvPicPr/>
            <p:nvPr/>
          </p:nvPicPr>
          <p:blipFill>
            <a:blip r:embed="rId3"/>
            <a:stretch/>
          </p:blipFill>
          <p:spPr>
            <a:xfrm>
              <a:off x="376200" y="2514240"/>
              <a:ext cx="3933720" cy="308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3"/>
          <p:cNvGrpSpPr/>
          <p:nvPr/>
        </p:nvGrpSpPr>
        <p:grpSpPr>
          <a:xfrm>
            <a:off x="4457880" y="2365200"/>
            <a:ext cx="4381200" cy="3807000"/>
            <a:chOff x="4457880" y="2365200"/>
            <a:chExt cx="4381200" cy="3807000"/>
          </a:xfrm>
        </p:grpSpPr>
        <p:sp>
          <p:nvSpPr>
            <p:cNvPr id="86" name="Rectangle 3"/>
            <p:cNvSpPr/>
            <p:nvPr/>
          </p:nvSpPr>
          <p:spPr>
            <a:xfrm>
              <a:off x="4457880" y="2365200"/>
              <a:ext cx="4381200" cy="3807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8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postles &amp; Sanhedri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" name="Picture 5" descr="C:\Users\Owner\Desktop\c01f5007613dd533217d0b0d621e0670.png"/>
            <p:cNvPicPr/>
            <p:nvPr/>
          </p:nvPicPr>
          <p:blipFill>
            <a:blip r:embed="rId4"/>
            <a:stretch/>
          </p:blipFill>
          <p:spPr>
            <a:xfrm>
              <a:off x="4596840" y="2514240"/>
              <a:ext cx="4031280" cy="2972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 result for civil disobedie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143000"/>
            <a:ext cx="7315200" cy="438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Image result for civil disobedie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79360" y="716040"/>
            <a:ext cx="6629400" cy="528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8-05-31T17:01:18Z</dcterms:modified>
  <cp:revision>133</cp:revision>
  <dc:subject/>
  <dc:title>Discipleship Across the Lifespan</dc:title>
</cp:coreProperties>
</file>