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41.jpeg" ContentType="image/jpeg"/>
  <Override PartName="/ppt/media/image18.png" ContentType="image/png"/>
  <Override PartName="/ppt/media/image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5D7-968D-4556-9873-A5F66444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221-F7E9-426F-8F35-5ACA6B13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807-370E-42AE-BD50-14E5045B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0EF-D254-4349-8A67-DC24B06A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F5C-034E-484B-9316-7CDC10A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5F8-31A5-44A4-9E80-D27F618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F3A-257B-48F6-B792-3C7FDCC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577-597D-4999-92B0-8769AE9E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232-2178-40E0-BADF-F8DF6C6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FE6-9969-4CDC-82D1-9448338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1DF-C23C-426D-8F59-3A71F9E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1DA-85AA-4220-B354-CCCD418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DDE-824F-42DC-93F2-5A9239B6AB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s://www.google.com/url?sa=i&amp;source=images&amp;cd=&amp;cad=rja&amp;uact=8&amp;ved=2ahUKEwij9-qRn43bAhUFXawKHQFKDvMQjRx6BAgBEAU&amp;url=https%3A%2F%2Fnorthmemorial.com%2Fspecialty%2Fhospice%2F&amp;psig=AOvVaw0NOb8sXxSNjZJ7Qxlv3gcB&amp;ust=1526663512763437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ved=2ahUKEwia79O_s93bAhVSKqwKHQulA9IQjRx6BAgBEAU&amp;url=https%3A%2F%2Fwww.imdb.com%2Fname%2Fnm0000245%2F&amp;psig=AOvVaw1d0JMMxw_8_fxmYnMFJPVP&amp;ust=1529417808023819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s://www.google.com/url?sa=i&amp;rct=j&amp;q=&amp;esrc=s&amp;source=imgres&amp;cd=&amp;cad=rja&amp;uact=8&amp;ved=2ahUKEwjLveajs93bAhVFOKwKHXrPDwwQjRx6BAgBEAU&amp;url=https%3A%2F%2Fen.wikipedia.org%2Fwiki%2FCleopatra&amp;psig=AOvVaw3VVCLfCDN6hxe2ZNijZJDM&amp;ust=1529417759497866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hyperlink" Target="https://www.google.com/url?sa=i&amp;rct=j&amp;q=&amp;esrc=s&amp;source=imgres&amp;cd=&amp;cad=rja&amp;uact=8&amp;ved=2ahUKEwjf0Pfbs93bAhUJS6wKHV00AB4QjRx6BAgBEAU&amp;url=https%3A%2F%2Fwww.metropoles.com%2Fvida-e-estilo%2Fcelebridades%2Fobjetos-pessoais-de-marilyn-monroe-vao-a-leilao-milionario&amp;psig=AOvVaw2OVwYTntlzAqlYQ0DLhBGc&amp;ust=1529417869735252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s://www.google.com/url?sa=i&amp;rct=j&amp;q=&amp;esrc=s&amp;source=images&amp;cd=&amp;cad=rja&amp;uact=8&amp;ved=2ahUKEwiqsI2NtN3bAhVOXK0KHT1QCHIQjRx6BAgBEAU&amp;url=https%3A%2F%2Fwww.caminteresse.fr%2Fhistoire%2Fcomment-van-gogh-sest-il-coupe-loreille-1172272%2F&amp;psig=AOvVaw1xyKmAARPs_eong8ZlQtZt&amp;ust=1529417962411752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s://www.google.com/url?sa=i&amp;source=imgres&amp;cd=&amp;cad=rja&amp;uact=8&amp;ved=2ahUKEwjpnJK4q43bAhXqmq0KHYGeBTAQjRx6BAgBEAU&amp;url=http%3A%2F%2Fwww.arcalog.com%2Fpapers%2Fthe-tophet-child-sacrifice%2F&amp;psig=AOvVaw09Fuy_KLSE5jS5vdnIjriP&amp;ust=1526666846336274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ianPajjY3bAhUNbq0KHXtHBCAQjRx6BAgBEAU&amp;url=http%3A%2F%2Fwww.sfbc.edu%2Fabout-sfbc-2%2F&amp;psig=AOvVaw0IDtNBEBNuTHHqqzh15xSA&amp;ust=1526658762199727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ir0MbH3I7bAhWhrVkKHZwBB8IQjRx6BAgBEAU&amp;url=http%3A%2F%2Fukc.ksea.org%2FUKC2016%2F%3Fpage_id%3D336&amp;psig=AOvVaw1VwBvBpNosBz8tGSGu4pqU&amp;ust=1526714409929663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iE04v3q43bAhVqmK0KHZysB-0QjRx6BAgBEAU&amp;url=http%3A%2F%2Flooklex.com%2Fe.o%2Fsargon.htm&amp;psig=AOvVaw0pd_I6bhOkzOe8iMhoAPxu&amp;ust=1526666998041803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iSnLrWyo7bAhUhw1kKHUS9DXwQjRx6BAgBEAU&amp;url=https%3A%2F%2Fwww.liveaction.org%2Fnews%2Fpartial-birth-abortion-horror-revisited-nurse-tells-grisly-tale-of-the-procedure%2F&amp;psig=AOvVaw0VaYgOM0enqKuv4wJbkwb-&amp;ust=1526709599727197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68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nfanticide, Euthanasia,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nd Biomedical Issu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219320" y="1752480"/>
            <a:ext cx="6553080" cy="113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th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y were bringing even their babies to Him so that He would touch them, but when the disciples saw it, they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buking them.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Jesus called for them, saying, “Permit the children to come to Me, and do not hinder them, for the kingdom of God belongs to such as these.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ruly I say to you, whoever does not receive the kingdom of God like a child will not enter it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at all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” (Luke 18:15-17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80720"/>
            <a:ext cx="3571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: 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atos: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257720" y="762120"/>
            <a:ext cx="4048200" cy="5333760"/>
          </a:xfrm>
          <a:prstGeom prst="rect">
            <a:avLst/>
          </a:prstGeom>
          <a:ln w="0">
            <a:noFill/>
          </a:ln>
        </p:spPr>
      </p:pic>
      <p:sp>
        <p:nvSpPr>
          <p:cNvPr id="72" name="WordArt 10"/>
          <p:cNvSpPr txBox="1"/>
          <p:nvPr/>
        </p:nvSpPr>
        <p:spPr>
          <a:xfrm>
            <a:off x="685800" y="784080"/>
            <a:ext cx="4495680" cy="84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uthanas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440" y="19807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voluntary Euthanasia:  Patient unable to indicate his informed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untary Euthanasia:  Takes place against the patient’s will (mu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Euthanasia:  Discontinuing lif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WordArt 10"/>
          <p:cNvSpPr txBox="1"/>
          <p:nvPr/>
        </p:nvSpPr>
        <p:spPr>
          <a:xfrm>
            <a:off x="685800" y="784080"/>
            <a:ext cx="4495680" cy="84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uthanas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191120" cy="6286680"/>
          </a:xfrm>
          <a:prstGeom prst="rect">
            <a:avLst/>
          </a:prstGeom>
          <a:ln w="0">
            <a:noFill/>
          </a:ln>
        </p:spPr>
      </p:pic>
      <p:sp>
        <p:nvSpPr>
          <p:cNvPr id="76" name="WordArt 10"/>
          <p:cNvSpPr txBox="1"/>
          <p:nvPr/>
        </p:nvSpPr>
        <p:spPr>
          <a:xfrm>
            <a:off x="685800" y="784080"/>
            <a:ext cx="4495680" cy="84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uthanas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3"/>
          <p:cNvSpPr/>
          <p:nvPr/>
        </p:nvSpPr>
        <p:spPr>
          <a:xfrm>
            <a:off x="152280" y="2778120"/>
            <a:ext cx="297180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yet 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3124080" y="2778120"/>
            <a:ext cx="2971800" cy="10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6095880" y="2784600"/>
            <a:ext cx="2971800" cy="108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5520" y="831600"/>
            <a:ext cx="2971800" cy="780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uthanasi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1920" y="1620720"/>
            <a:ext cx="2971800" cy="58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124080" y="838080"/>
            <a:ext cx="2971800" cy="781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ion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44360" y="839880"/>
            <a:ext cx="2971800" cy="7808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r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124080" y="1620720"/>
            <a:ext cx="2971800" cy="588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095880" y="1614600"/>
            <a:ext cx="2971800" cy="671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2280" y="2209680"/>
            <a:ext cx="2971800" cy="58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124080" y="2209680"/>
            <a:ext cx="2971800" cy="588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6095880" y="2209680"/>
            <a:ext cx="2971800" cy="58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52280" y="3865680"/>
            <a:ext cx="2971800" cy="108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w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124080" y="3865680"/>
            <a:ext cx="2971800" cy="1087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of Res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095880" y="3871800"/>
            <a:ext cx="297180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nursing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152280" y="4952880"/>
            <a:ext cx="297180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yet hav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3124080" y="4952880"/>
            <a:ext cx="2971800" cy="10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aningfu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6095880" y="4952880"/>
            <a:ext cx="2971800" cy="1087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has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have right over their own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rates &amp; Hem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an ever threw away life while it was worth keeping” – David H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o refus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elf-Determination Act,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en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in on medic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533520" y="465120"/>
            <a:ext cx="792468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guments for Assisted Su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990720" y="3581280"/>
            <a:ext cx="2438280" cy="19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 Trea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486400" y="3581280"/>
            <a:ext cx="2438280" cy="19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Euthan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 rot="14896200">
            <a:off x="4553640" y="2429640"/>
            <a:ext cx="2001600" cy="99036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Wingdings 3"/>
              </a:rPr>
              <a:t>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00" name="WordArt 7"/>
          <p:cNvSpPr txBox="1"/>
          <p:nvPr/>
        </p:nvSpPr>
        <p:spPr>
          <a:xfrm rot="3960000">
            <a:off x="1560600" y="1948680"/>
            <a:ext cx="2003400" cy="104256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Wingdings 3"/>
              </a:rPr>
              <a:t>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09680" y="990720"/>
            <a:ext cx="441972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4191120" y="2941560"/>
            <a:ext cx="609480" cy="830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$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114440" y="181944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com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ot include life-prolong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of six months or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usually provided in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533520" y="465120"/>
            <a:ext cx="510516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spice C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52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mage result for hospic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28800"/>
            <a:ext cx="330696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1"/>
          <p:cNvSpPr/>
          <p:nvPr/>
        </p:nvSpPr>
        <p:spPr>
          <a:xfrm>
            <a:off x="1447920" y="380880"/>
            <a:ext cx="6476760" cy="6172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3048120" y="2057400"/>
            <a:ext cx="4495680" cy="4114800"/>
          </a:xfrm>
          <a:prstGeom prst="ellipse">
            <a:avLst/>
          </a:prstGeom>
          <a:solidFill>
            <a:srgbClr val="3366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4699080" y="3657600"/>
            <a:ext cx="2286000" cy="22860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66880" y="120816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886200" y="2884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-of-life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029200" y="4262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pice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43000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39152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enesis 9:5-6</a:t>
            </a:r>
            <a:br>
              <a:rPr sz="4800"/>
            </a:br>
            <a:br>
              <a:rPr sz="9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Surely I will require your lifeblood; from every beast I will require it. And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, from every man's brother I will require the life of man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ever sheds man’s blood, By man his blood shall be shed, For in the image of God He made man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457200" y="380880"/>
            <a:ext cx="7848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does the Bible Sa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143000" y="259092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0"/>
          <p:cNvSpPr txBox="1"/>
          <p:nvPr/>
        </p:nvSpPr>
        <p:spPr>
          <a:xfrm>
            <a:off x="1981080" y="1600200"/>
            <a:ext cx="510552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286000" y="33415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urder of an inf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is an appointed time for everything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re is a time for every event under heaven--  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A time to give birth and a time to die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Ecclesiastes 3:1-2)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457200" y="380880"/>
            <a:ext cx="7848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does the Bible Sa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4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overbs 31:4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for kings, O Lemue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for kings to drink w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for rulers to desire strong drink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y will drink and forget what is decre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ervert the rights of all the afflict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 strong drink to him who is perish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ine to him whose life is b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68580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mage result for robin willia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09680"/>
            <a:ext cx="2419200" cy="358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Image result for cleopat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9760" y="685800"/>
            <a:ext cx="2095200" cy="27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>
            <a:off x="2514600" y="609480"/>
            <a:ext cx="3886200" cy="77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6" descr="Related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27672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Related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24280" y="4191120"/>
            <a:ext cx="4073760" cy="229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&amp; his armor-bearer (1 Samuel 31:3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Judges 16:25-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(Judges 9:50-5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ophel (2 Samuel 17:2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mri (1 Kings 16:15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s Iscariot (Matthew 27:3-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533520" y="647640"/>
            <a:ext cx="8001000" cy="77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xamples of Su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10"/>
          <p:cNvSpPr txBox="1"/>
          <p:nvPr/>
        </p:nvSpPr>
        <p:spPr>
          <a:xfrm>
            <a:off x="1219320" y="1752480"/>
            <a:ext cx="6553080" cy="113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e for the Ag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190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 is more likely to get hired for a job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Picture 2" descr="C:\Users\Owner\Desktop\483907056.jpg"/>
          <p:cNvPicPr/>
          <p:nvPr/>
        </p:nvPicPr>
        <p:blipFill>
          <a:blip r:embed="rId1"/>
          <a:stretch/>
        </p:blipFill>
        <p:spPr>
          <a:xfrm>
            <a:off x="1197000" y="457200"/>
            <a:ext cx="2733480" cy="3886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Owner\Desktop\544358212.jpg"/>
          <p:cNvPicPr/>
          <p:nvPr/>
        </p:nvPicPr>
        <p:blipFill>
          <a:blip r:embed="rId2"/>
          <a:stretch/>
        </p:blipFill>
        <p:spPr>
          <a:xfrm>
            <a:off x="5334120" y="476280"/>
            <a:ext cx="2590560" cy="384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572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glory of young men is their strength, And the honor of old men is their gray hair. (Proverbs 20:29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4" name="Picture 2" descr="C:\Users\Owner\Desktop\483907056.jpg"/>
          <p:cNvPicPr/>
          <p:nvPr/>
        </p:nvPicPr>
        <p:blipFill>
          <a:blip r:embed="rId1"/>
          <a:stretch/>
        </p:blipFill>
        <p:spPr>
          <a:xfrm>
            <a:off x="1197000" y="457200"/>
            <a:ext cx="273348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Owner\Desktop\544358212.jpg"/>
          <p:cNvPicPr/>
          <p:nvPr/>
        </p:nvPicPr>
        <p:blipFill>
          <a:blip r:embed="rId2"/>
          <a:stretch/>
        </p:blipFill>
        <p:spPr>
          <a:xfrm>
            <a:off x="5334120" y="476280"/>
            <a:ext cx="2590560" cy="384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 shall rise up before the grayheaded and honor the aged, and you shall revere your God; I am the LORD. (Leviticus 19:3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Owner\Desktop\Dr-Joe-Guadagnino[1].jpg"/>
          <p:cNvPicPr/>
          <p:nvPr/>
        </p:nvPicPr>
        <p:blipFill>
          <a:blip r:embed="rId1"/>
          <a:stretch/>
        </p:blipFill>
        <p:spPr>
          <a:xfrm>
            <a:off x="380880" y="380880"/>
            <a:ext cx="6269040" cy="609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9280" y="533520"/>
            <a:ext cx="40384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gray head is a crown of glory;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found in the way of righteousness. (Proverbs 16:3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randchildren are the crown of old men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the glory of sons is their fathers. (Proverbs 17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304920" y="40176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2" descr="Related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514600"/>
            <a:ext cx="518184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36320"/>
            <a:ext cx="4191120" cy="59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lder men are to be temperate, dignified, sensible, sound in faith, in love, in perseverance. (Titus 2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1" name="Picture 2" descr="Image result for joseph guadagni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76520"/>
            <a:ext cx="251460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lder women likewise are to be reverent in their behavior, not malicious gossips nor enslaved to much wine, teaching what is good,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so that they may encourage the young women to love their husbands, to love their children,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o b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nsible, pure, workers at home, kind, being subject to their own husbands, so that the word of God will not be dishonored. (Titus 2:2-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1-2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harply rebuke an older man, b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ath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ather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ounger men as brothers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older women as mother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ounger women as sisters, in all p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3-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widows who are widows indeed;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if any widow has children or grandchildren, they must first learn to practice piety in regard to their own family and to make some return to their parents; for this is acceptable in the sight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5-7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she who is a widow indeed and who has been left alone, has fixed her hope on God and continues in entreaties and prayers night and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she who gives herself to wanton pleasure is dead even while she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cribe these things as well, so that they may be above re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8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anyone does not provide for his own, and especially for those of his household, he has denied the faith and is worse than an unbeli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9-10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dow is to be put on the list only if she is not less than sixty years ol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aving be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fe of one man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ing a reputation for good works;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he has brought up children, if she has shown hospitality to strangers, if she has washed the saints' feet, if she has assisted those in distress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he has devoted herself to every goo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11-12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refus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pu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er widow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 the l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r when they feel sensual desires in disregard of Christ, they want to get married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urring condemnation, because they have set aside their previous p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13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they also lear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le, as they go around from house to house; and not merely idle, but also gossips and busybodies, talking about things not prop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m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14-15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I want young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dow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et married, bear children, keep house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enemy no occasion for reproach;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ome have already turned aside to follow Sa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Public\Pictures\Pictures\Bible and Ancient History\Egypt\Pharaohs\Amenhotep II.jpg"/>
          <p:cNvPicPr/>
          <p:nvPr/>
        </p:nvPicPr>
        <p:blipFill>
          <a:blip r:embed="rId1"/>
          <a:stretch/>
        </p:blipFill>
        <p:spPr>
          <a:xfrm>
            <a:off x="3924360" y="2590920"/>
            <a:ext cx="4332240" cy="32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and the Phar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04920" y="40176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1 Timothy 3:1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21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y woman who is a believer h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pend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ows, she must assist them and the church must not be burdened, so that it may assist those who are widows ind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4"/>
          <p:cNvSpPr/>
          <p:nvPr/>
        </p:nvSpPr>
        <p:spPr>
          <a:xfrm>
            <a:off x="685800" y="11430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1219320" y="1905120"/>
            <a:ext cx="6553080" cy="982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medical Issu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42920" y="228600"/>
            <a:ext cx="442116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hristian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4360" y="1219320"/>
            <a:ext cx="44020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546440" y="228600"/>
            <a:ext cx="444528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istic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54360" y="1219320"/>
            <a:ext cx="442944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4360" y="2057400"/>
            <a:ext cx="44020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54360" y="2057400"/>
            <a:ext cx="442944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lsory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39680" y="2895480"/>
            <a:ext cx="44038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hum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51480" y="2895480"/>
            <a:ext cx="44272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hum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39680" y="3733920"/>
            <a:ext cx="44038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airing hum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551480" y="3733920"/>
            <a:ext cx="44272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creating hum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44360" y="4572000"/>
            <a:ext cx="44020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554360" y="4572000"/>
            <a:ext cx="442944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ineering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9680" y="5410080"/>
            <a:ext cx="44038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551480" y="5410080"/>
            <a:ext cx="442728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fabr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7010280" y="6488280"/>
            <a:ext cx="21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, Pg 1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42920" y="228600"/>
            <a:ext cx="442116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hristian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44360" y="1219320"/>
            <a:ext cx="440208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with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46440" y="228600"/>
            <a:ext cx="4445280" cy="9907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umanistic 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554360" y="1219320"/>
            <a:ext cx="442944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over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7010280" y="6488280"/>
            <a:ext cx="21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, Pg 1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Explosion 1 16"/>
          <p:cNvGrpSpPr/>
          <p:nvPr/>
        </p:nvGrpSpPr>
        <p:grpSpPr>
          <a:xfrm>
            <a:off x="128520" y="2200320"/>
            <a:ext cx="4303800" cy="2768400"/>
            <a:chOff x="128520" y="2200320"/>
            <a:chExt cx="4303800" cy="2768400"/>
          </a:xfrm>
        </p:grpSpPr>
        <p:pic>
          <p:nvPicPr>
            <p:cNvPr id="192" name="Explosion 1 16" descr=""/>
            <p:cNvPicPr/>
            <p:nvPr/>
          </p:nvPicPr>
          <p:blipFill>
            <a:blip r:embed="rId1"/>
            <a:stretch/>
          </p:blipFill>
          <p:spPr>
            <a:xfrm>
              <a:off x="128520" y="2200320"/>
              <a:ext cx="430380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058760" y="3013200"/>
              <a:ext cx="23907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God is sovereig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Explosion 1 17"/>
          <p:cNvGrpSpPr/>
          <p:nvPr/>
        </p:nvGrpSpPr>
        <p:grpSpPr>
          <a:xfrm>
            <a:off x="4627440" y="2200320"/>
            <a:ext cx="4303800" cy="2768400"/>
            <a:chOff x="4627440" y="2200320"/>
            <a:chExt cx="4303800" cy="2768400"/>
          </a:xfrm>
        </p:grpSpPr>
        <p:pic>
          <p:nvPicPr>
            <p:cNvPr id="195" name="Explosion 1 17" descr=""/>
            <p:cNvPicPr/>
            <p:nvPr/>
          </p:nvPicPr>
          <p:blipFill>
            <a:blip r:embed="rId2"/>
            <a:stretch/>
          </p:blipFill>
          <p:spPr>
            <a:xfrm>
              <a:off x="4627440" y="2200320"/>
              <a:ext cx="430380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54800" y="3013200"/>
              <a:ext cx="23907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an is sovereig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mage result for biomedic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2476440" cy="4953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 Trans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life versus chang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ender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Detection &amp;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icial Inse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hu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do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990720" y="465120"/>
            <a:ext cx="693396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ther Biomedical Issu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Image result for biomedical"/>
          <p:cNvPicPr/>
          <p:nvPr/>
        </p:nvPicPr>
        <p:blipFill>
          <a:blip r:embed="rId1"/>
          <a:stretch/>
        </p:blipFill>
        <p:spPr>
          <a:xfrm>
            <a:off x="685800" y="1523880"/>
            <a:ext cx="247644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rogate Mother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Vitro Fer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 &amp; Tissue Harv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m Cell C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-spli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10"/>
          <p:cNvSpPr txBox="1"/>
          <p:nvPr/>
        </p:nvSpPr>
        <p:spPr>
          <a:xfrm>
            <a:off x="990720" y="465120"/>
            <a:ext cx="693396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ther Biomedical Issu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6"/>
          <p:cNvSpPr txBox="1"/>
          <p:nvPr/>
        </p:nvSpPr>
        <p:spPr>
          <a:xfrm>
            <a:off x="685800" y="205740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Question of Clon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Image result for movies about cloning"/>
          <p:cNvPicPr/>
          <p:nvPr/>
        </p:nvPicPr>
        <p:blipFill>
          <a:blip r:embed="rId1"/>
          <a:stretch/>
        </p:blipFill>
        <p:spPr>
          <a:xfrm>
            <a:off x="422280" y="380880"/>
            <a:ext cx="2362320" cy="347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5" name="Picture 4" descr="Image result for movies about cloning"/>
          <p:cNvPicPr/>
          <p:nvPr/>
        </p:nvPicPr>
        <p:blipFill>
          <a:blip r:embed="rId2"/>
          <a:stretch/>
        </p:blipFill>
        <p:spPr>
          <a:xfrm>
            <a:off x="6031080" y="328680"/>
            <a:ext cx="2361960" cy="353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6" descr="Image result for movies about cloning"/>
          <p:cNvPicPr/>
          <p:nvPr/>
        </p:nvPicPr>
        <p:blipFill>
          <a:blip r:embed="rId3"/>
          <a:stretch/>
        </p:blipFill>
        <p:spPr>
          <a:xfrm>
            <a:off x="2971800" y="1535040"/>
            <a:ext cx="3262320" cy="482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8" descr="Image result for movies about cloning"/>
          <p:cNvPicPr/>
          <p:nvPr/>
        </p:nvPicPr>
        <p:blipFill>
          <a:blip r:embed="rId4"/>
          <a:stretch/>
        </p:blipFill>
        <p:spPr>
          <a:xfrm>
            <a:off x="932040" y="3352680"/>
            <a:ext cx="217296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10" descr="Image result for movies about cloning"/>
          <p:cNvPicPr/>
          <p:nvPr/>
        </p:nvPicPr>
        <p:blipFill>
          <a:blip r:embed="rId5"/>
          <a:stretch/>
        </p:blipFill>
        <p:spPr>
          <a:xfrm>
            <a:off x="6532560" y="3309840"/>
            <a:ext cx="2230560" cy="331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Owner\Desktop\aHR0cDovL3d3dy5saXZlc2NpZW5jZS5jb20vaW1hZ2VzL2kvMDAwLzA4OS83NDIvb3JpZ2luYWwvRG9sbHlTaWRlVmlldy5qcGc=[1].jpg"/>
          <p:cNvPicPr/>
          <p:nvPr/>
        </p:nvPicPr>
        <p:blipFill>
          <a:blip r:embed="rId1"/>
          <a:stretch/>
        </p:blipFill>
        <p:spPr>
          <a:xfrm>
            <a:off x="380880" y="1832040"/>
            <a:ext cx="5240520" cy="44164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0"/>
          <p:cNvSpPr txBox="1"/>
          <p:nvPr/>
        </p:nvSpPr>
        <p:spPr>
          <a:xfrm>
            <a:off x="1905120" y="466560"/>
            <a:ext cx="5333760" cy="98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lly the Shee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66720" y="1832040"/>
            <a:ext cx="441972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ned in 19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only 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nes have been more success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nes used to reproduce extinct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Image result for cloning of ear"/>
          <p:cNvPicPr/>
          <p:nvPr/>
        </p:nvPicPr>
        <p:blipFill>
          <a:blip r:embed="rId1"/>
          <a:stretch/>
        </p:blipFill>
        <p:spPr>
          <a:xfrm>
            <a:off x="3865680" y="3733920"/>
            <a:ext cx="4572000" cy="2666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9144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birth for non-fertile cou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f body parts to replace damage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762120" y="466560"/>
            <a:ext cx="7696080" cy="98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nefits of Clon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age result for sargon the gre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066680"/>
            <a:ext cx="343080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and the Phar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gon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304920" y="40176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9144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angering indivi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a clone have equal r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one have the right to be a unique individu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ing of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tem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762120" y="466560"/>
            <a:ext cx="7696080" cy="98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ical Issues in Clon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523520" y="190512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ghting Genetic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gner 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ing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your child’s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wing in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WordArt 10"/>
          <p:cNvSpPr txBox="1"/>
          <p:nvPr/>
        </p:nvSpPr>
        <p:spPr>
          <a:xfrm>
            <a:off x="762120" y="466560"/>
            <a:ext cx="7696080" cy="982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enetic Manipul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 formed my inward part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ove me in my mother's wom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will give thanks to You, for I am fearfully and wonderfully made; Wonderful are Your work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y soul knows it very well. (Psalms 139:13-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391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rame was not hidden from You, When I was made in secr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fully wrought in the depths of the ear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r eyes have seen my unformed substanc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n Your book were all writt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s that were ordai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en as yet there was not on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salms 139:15-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and the Phar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gon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ulus &amp; Re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304920" y="40176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2" descr="C:\Users\Owner\Desktop\Cap-Museum 016.jpg"/>
          <p:cNvPicPr/>
          <p:nvPr/>
        </p:nvPicPr>
        <p:blipFill>
          <a:blip r:embed="rId3"/>
          <a:stretch/>
        </p:blipFill>
        <p:spPr>
          <a:xfrm>
            <a:off x="4495680" y="32767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Owner\Desktop\Constantine DSCF4614.JPG"/>
          <p:cNvPicPr/>
          <p:nvPr/>
        </p:nvPicPr>
        <p:blipFill>
          <a:blip r:embed="rId1"/>
          <a:stretch/>
        </p:blipFill>
        <p:spPr>
          <a:xfrm>
            <a:off x="5791320" y="1236600"/>
            <a:ext cx="2768400" cy="539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and the Phara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gon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ulus &amp; Re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&amp; Roman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illegal by Constan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304920" y="40176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tory of Infantic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 result for partial birth abor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47920"/>
            <a:ext cx="7925040" cy="4383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0"/>
          <p:cNvSpPr txBox="1"/>
          <p:nvPr/>
        </p:nvSpPr>
        <p:spPr>
          <a:xfrm>
            <a:off x="914400" y="762120"/>
            <a:ext cx="7238880" cy="906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al Birth Abor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94920" y="3429000"/>
            <a:ext cx="6846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gued for “after-birth abor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al significance of fetal development is arbit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born baby is not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of the mother outweigh the value of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C:\Users\Owner\Desktop\FrancescaMinervare.jpg"/>
          <p:cNvPicPr/>
          <p:nvPr/>
        </p:nvPicPr>
        <p:blipFill>
          <a:blip r:embed="rId1"/>
          <a:stretch/>
        </p:blipFill>
        <p:spPr>
          <a:xfrm>
            <a:off x="6400800" y="304920"/>
            <a:ext cx="2057400" cy="3019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6680" y="2514240"/>
            <a:ext cx="255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rancesca Minerva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Picture 4" descr="C:\Users\Owner\Desktop\Giubilini.jpg"/>
          <p:cNvPicPr/>
          <p:nvPr/>
        </p:nvPicPr>
        <p:blipFill>
          <a:blip r:embed="rId2"/>
          <a:stretch/>
        </p:blipFill>
        <p:spPr>
          <a:xfrm>
            <a:off x="3886200" y="304920"/>
            <a:ext cx="2247840" cy="3049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3733920" y="2514600"/>
            <a:ext cx="255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lberto Giubil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582480" y="458640"/>
            <a:ext cx="31244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Journal of Medical Eth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6-18T14:39:35Z</dcterms:modified>
  <cp:revision>161</cp:revision>
  <dc:subject/>
  <dc:title>Discipleship Across the Lifespan</dc:title>
</cp:coreProperties>
</file>