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0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5.png" ContentType="image/png"/>
  <Override PartName="/ppt/media/image35.png" ContentType="image/png"/>
  <Override PartName="/ppt/media/image37.png" ContentType="image/png"/>
  <Override PartName="/ppt/media/image31.jpeg" ContentType="image/jpeg"/>
  <Override PartName="/ppt/media/image25.png" ContentType="image/png"/>
  <Override PartName="/ppt/media/image41.png" ContentType="image/pn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32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3EB-A02D-436A-B3D2-186C4DD3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7BD-A46D-46D2-BE84-27308567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49C-DE53-4742-A58F-F1926223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D15-9640-44BC-9978-0042C985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602-44CC-4EF4-82F5-48918A41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163-F328-45F5-8A3B-CEA8EE59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D60-2ABC-4D36-9638-BCFCA2EA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B8C-4F3F-43FF-A26E-4EDD22A6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36A-E2BF-4F4E-969E-31659B55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55C-12A6-4E6D-A303-EC0E244A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AFB-F478-4A97-A5D7-60AFFAE9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987-2719-4BAD-BAD2-220799DC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E9FA-3F49-4C36-9CF3-7946BD8A0E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666880" y="5410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56184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solutism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1219320" y="1752480"/>
            <a:ext cx="6553080" cy="113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Ethi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905120" y="1752120"/>
            <a:ext cx="6781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ntended to pass by them (Mark 6:4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touched Me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ickness is not to end in death” (John 11: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Emmaus Road (Luke 2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WordArt 10"/>
          <p:cNvSpPr txBox="1"/>
          <p:nvPr/>
        </p:nvSpPr>
        <p:spPr>
          <a:xfrm>
            <a:off x="533520" y="457200"/>
            <a:ext cx="327636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e know that the Law is good, if one uses it lawfully,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alizing the fact that law is not made for a righteous person, but for those who are lawless and rebellious, for the ungodly and sinners, for the unholy and profane, for those who kill their fathers or mothers, for murderers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immoral men and homosexuals and kidnappers and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ia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perjurers, and whatever else is contrary to sound teaching… (1 Timothy 1:8-1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0400" y="304560"/>
            <a:ext cx="556272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for the cowardly and unbelieving and abominable and murderers and immoral persons and sorcerers and idolaters and all liars, their part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will b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 the lake that burns with fire and brimstone, which is the second death” (Revelation 21: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1" name="Picture 3" descr="C:\Users\Owner\Desktop\827d9921-65cc-4d71-a6e2-1bcf500506f4-large16x9_ImportedfromLakana.jpg"/>
          <p:cNvPicPr/>
          <p:nvPr/>
        </p:nvPicPr>
        <p:blipFill>
          <a:blip r:embed="rId1"/>
          <a:stretch/>
        </p:blipFill>
        <p:spPr>
          <a:xfrm>
            <a:off x="609480" y="838080"/>
            <a:ext cx="2419560" cy="528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8840" y="366840"/>
            <a:ext cx="2895480" cy="61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ne of themselves, a prophet of their own, said, “Cretans are always liars, evil beasts, lazy gluttons.” (Titus 1:1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219320" y="1371600"/>
            <a:ext cx="2971800" cy="4114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hope of eternal life, which God, who cannot lie, promised long ages ago… (Titus 1: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is desirable in a man is his kindness,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it is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tter to be a poor man than a liar. (Proverbs 19:2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34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refore, laying aside falsehoo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truth each on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f yo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his neighbor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for we are members of one another. (Ephesians 4:2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85800" y="3657600"/>
            <a:ext cx="7772400" cy="2286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se are the things which you should do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the truth to one another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; judge with truth and judgment for peace in your gates (Zechariah 8:1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677880" y="2286000"/>
            <a:ext cx="2666880" cy="1905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solut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715000" y="2286000"/>
            <a:ext cx="2666880" cy="1905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lativ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3124080" y="2971800"/>
            <a:ext cx="2819520" cy="533520"/>
          </a:xfrm>
          <a:prstGeom prst="leftRightArrow">
            <a:avLst>
              <a:gd name="adj1" fmla="val 50000"/>
              <a:gd name="adj2" fmla="val 91406"/>
            </a:avLst>
          </a:prstGeom>
          <a:gradFill rotWithShape="0">
            <a:gsLst>
              <a:gs pos="0">
                <a:srgbClr val="0683ff"/>
              </a:gs>
              <a:gs pos="100000">
                <a:srgbClr val="0033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77880" y="2286000"/>
            <a:ext cx="2666880" cy="1905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solut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343400" y="380880"/>
            <a:ext cx="243828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nqualified Absolu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343400" y="2438280"/>
            <a:ext cx="243828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nflicting Absolu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343400" y="4572000"/>
            <a:ext cx="243828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raded Absolu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7010280" y="533520"/>
            <a:ext cx="12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break 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7010280" y="2514600"/>
            <a:ext cx="12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he lesser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7010280" y="48369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the higher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Straight Connector 9"/>
          <p:cNvSpPr/>
          <p:nvPr/>
        </p:nvSpPr>
        <p:spPr>
          <a:xfrm flipV="1">
            <a:off x="3344760" y="1180800"/>
            <a:ext cx="99864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Straight Connector 10"/>
          <p:cNvSpPr/>
          <p:nvPr/>
        </p:nvSpPr>
        <p:spPr>
          <a:xfrm>
            <a:off x="3344760" y="3238560"/>
            <a:ext cx="99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traight Connector 13"/>
          <p:cNvSpPr/>
          <p:nvPr/>
        </p:nvSpPr>
        <p:spPr>
          <a:xfrm>
            <a:off x="3344760" y="3238560"/>
            <a:ext cx="99864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4289400" y="119160"/>
            <a:ext cx="2546280" cy="566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abaptis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4495680" y="2133720"/>
            <a:ext cx="2133720" cy="566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uther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4487760" y="4305240"/>
            <a:ext cx="2217960" cy="566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form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0"/>
          <p:cNvSpPr txBox="1"/>
          <p:nvPr/>
        </p:nvSpPr>
        <p:spPr>
          <a:xfrm>
            <a:off x="838080" y="380880"/>
            <a:ext cx="7239240" cy="830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qualified Absolut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1" descr="C:\Users\Owner\Desktop\Saint_Augustine_Portrait1.jpg"/>
          <p:cNvPicPr/>
          <p:nvPr/>
        </p:nvPicPr>
        <p:blipFill>
          <a:blip r:embed="rId3"/>
          <a:stretch/>
        </p:blipFill>
        <p:spPr>
          <a:xfrm>
            <a:off x="5257800" y="1371600"/>
            <a:ext cx="3200400" cy="486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ine (354 - 4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s in the Bible are not necessarily examples to be follo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C:\Users\Owner\Desktop\Works-of-Immanuel-Kant_Apple.jpg"/>
          <p:cNvPicPr/>
          <p:nvPr/>
        </p:nvPicPr>
        <p:blipFill>
          <a:blip r:embed="rId1"/>
          <a:stretch/>
        </p:blipFill>
        <p:spPr>
          <a:xfrm>
            <a:off x="5791320" y="1582560"/>
            <a:ext cx="2452680" cy="4757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anuel Kant (1724 - 180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egorical Impe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uty must be fulfilled regardless of the con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838080" y="380880"/>
            <a:ext cx="7239240" cy="830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qualified Absolut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10"/>
          <p:cNvSpPr txBox="1"/>
          <p:nvPr/>
        </p:nvSpPr>
        <p:spPr>
          <a:xfrm>
            <a:off x="1447920" y="1676520"/>
            <a:ext cx="655308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 it ever Permiss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10"/>
          <p:cNvSpPr txBox="1"/>
          <p:nvPr/>
        </p:nvSpPr>
        <p:spPr>
          <a:xfrm>
            <a:off x="3505320" y="2827440"/>
            <a:ext cx="220968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 Lie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5"/>
          <a:stretch/>
        </p:blipFill>
        <p:spPr>
          <a:xfrm>
            <a:off x="4000680" y="4267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mage result for John Murray theologian"/>
          <p:cNvPicPr/>
          <p:nvPr/>
        </p:nvPicPr>
        <p:blipFill>
          <a:blip r:embed="rId1"/>
          <a:stretch/>
        </p:blipFill>
        <p:spPr>
          <a:xfrm>
            <a:off x="6019920" y="2819520"/>
            <a:ext cx="2550960" cy="2895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anuel Kant (Died 180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Murray (1898 - 197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absolute, therefore His law is absol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oes not mean you cannot avoid telling the truth; silence is not a 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838080" y="380880"/>
            <a:ext cx="7239240" cy="830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qualified Absolut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law is ab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ive in a fallen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al conflicts sometimes take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in is sin, but some sins are worse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we must do the lesser of two ev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giveness is available if we confess ou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10"/>
          <p:cNvSpPr txBox="1"/>
          <p:nvPr/>
        </p:nvSpPr>
        <p:spPr>
          <a:xfrm>
            <a:off x="838080" y="380880"/>
            <a:ext cx="7239240" cy="830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flicting Absolut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200040" y="167652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t the age of 12: Parents versus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on the Sabb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d the woman taken in adult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10"/>
          <p:cNvSpPr txBox="1"/>
          <p:nvPr/>
        </p:nvSpPr>
        <p:spPr>
          <a:xfrm>
            <a:off x="457200" y="380880"/>
            <a:ext cx="7238880" cy="830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s and the La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2" descr="C:\Users\Public\Pictures\Pictures\Bible and Ancient History\Bible\Bible Stories\Jesus\Icon 1.jpg"/>
          <p:cNvPicPr/>
          <p:nvPr/>
        </p:nvPicPr>
        <p:blipFill>
          <a:blip r:embed="rId3"/>
          <a:stretch/>
        </p:blipFill>
        <p:spPr>
          <a:xfrm>
            <a:off x="1066680" y="1752480"/>
            <a:ext cx="2057400" cy="398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4724280" y="1714680"/>
            <a:ext cx="2438640" cy="1600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nflicting Absolu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391520" y="1790640"/>
            <a:ext cx="129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he lesser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C:\Users\Public\Pictures\Pictures\Bible and Ancient History\Bible\Bible Stories\Jesus\Icon 1.jpg"/>
          <p:cNvPicPr/>
          <p:nvPr/>
        </p:nvPicPr>
        <p:blipFill>
          <a:blip r:embed="rId1"/>
          <a:stretch/>
        </p:blipFill>
        <p:spPr>
          <a:xfrm>
            <a:off x="1066680" y="1752480"/>
            <a:ext cx="2057400" cy="398808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0"/>
          <p:cNvSpPr txBox="1"/>
          <p:nvPr/>
        </p:nvSpPr>
        <p:spPr>
          <a:xfrm>
            <a:off x="457200" y="380880"/>
            <a:ext cx="7238880" cy="830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s and the La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629240" y="3886200"/>
            <a:ext cx="398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s that Jesus did evil, though it was the lesser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ead of the lesser of two evils, we are called to the greater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wo duties clash, choose the higher du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ust obey God rather than men (Acts 5: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it is right in the sight of God to give heed to you rather than to God, you be the judge (Acts 4: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838080" y="380880"/>
            <a:ext cx="7239240" cy="830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aded Absolut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76320" y="898560"/>
            <a:ext cx="4495680" cy="930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ituational Eth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6320" y="1828800"/>
            <a:ext cx="449568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s there are no absolutes except for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572000" y="898560"/>
            <a:ext cx="4495680" cy="930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raded Absolut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572000" y="1828800"/>
            <a:ext cx="4495680" cy="1523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ts to absolutes, but sees some as gre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320" y="3352680"/>
            <a:ext cx="449568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 determines what you should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4572000" y="3352680"/>
            <a:ext cx="449568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 helps to discover which command of God is appli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6320" y="5472000"/>
            <a:ext cx="8991360" cy="77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idental simila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ur Roles for Popular A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cultural values and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ing social and cultural cri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soc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ng to the collective 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18412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ich Role is being Utiliz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cultural values and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ing social and cultural cri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soc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ng to the collective 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410080" y="1752480"/>
            <a:ext cx="298296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ich Role is being Utiliz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cultural values and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ing social and cultural cri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soc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ng to the collective 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29433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ich Role is being Utiliz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cultural values and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ing social and cultural cri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soc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ng to the collective 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5435640" y="1676520"/>
            <a:ext cx="30002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10"/>
          <p:cNvSpPr txBox="1"/>
          <p:nvPr/>
        </p:nvSpPr>
        <p:spPr>
          <a:xfrm>
            <a:off x="838080" y="504720"/>
            <a:ext cx="2133720" cy="866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at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2" descr="Image result for plato"/>
          <p:cNvPicPr/>
          <p:nvPr/>
        </p:nvPicPr>
        <p:blipFill>
          <a:blip r:embed="rId3"/>
          <a:stretch/>
        </p:blipFill>
        <p:spPr>
          <a:xfrm>
            <a:off x="304920" y="1600200"/>
            <a:ext cx="366228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35232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 must sometimes tell a “noble li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er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ing death of a pet to a very young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ta Claus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ich Role is being Utiliz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cultural values and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ing social and cultural cri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soc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ng to the collective 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83680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ich Role is being Utilize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cultural values and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ing social and cultural cri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ing soc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ing to the collective mem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895480" cy="393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81120" y="609120"/>
            <a:ext cx="3505320" cy="44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hould evil be graphically depicted in modern forms of art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gollum maquette"/>
          <p:cNvPicPr/>
          <p:nvPr/>
        </p:nvPicPr>
        <p:blipFill>
          <a:blip r:embed="rId3"/>
          <a:stretch/>
        </p:blipFill>
        <p:spPr>
          <a:xfrm>
            <a:off x="1752480" y="2971800"/>
            <a:ext cx="1444680" cy="1797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4"/>
          <a:stretch/>
        </p:blipFill>
        <p:spPr>
          <a:xfrm>
            <a:off x="228600" y="1752480"/>
            <a:ext cx="1646280" cy="2171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5"/>
          <a:stretch/>
        </p:blipFill>
        <p:spPr>
          <a:xfrm>
            <a:off x="304920" y="4572000"/>
            <a:ext cx="2628720" cy="193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5640" y="0"/>
            <a:ext cx="44197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are the themes of forgiveness and redemption portrayed in popular ar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3809880" y="49528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016000" cy="2971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6718320" y="3505320"/>
            <a:ext cx="2044800" cy="2895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024280" cy="29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5"/>
          <a:stretch/>
        </p:blipFill>
        <p:spPr>
          <a:xfrm>
            <a:off x="6705720" y="228600"/>
            <a:ext cx="207324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y do people – Christians included – want, even demand happy endings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809880" y="495288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312444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Quest for Happy Ending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2046240" cy="304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086200" cy="3105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6477120" y="380880"/>
            <a:ext cx="2257200" cy="297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4"/>
          <a:stretch/>
        </p:blipFill>
        <p:spPr>
          <a:xfrm>
            <a:off x="6019920" y="2895480"/>
            <a:ext cx="2157120" cy="3162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5"/>
          <a:stretch/>
        </p:blipFill>
        <p:spPr>
          <a:xfrm>
            <a:off x="3429000" y="3352680"/>
            <a:ext cx="226548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hould Christians make of our cultural obsession with living happily ever after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657600" y="4983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Owner\Desktop\Machiavelli-crashworks.jpg"/>
          <p:cNvPicPr/>
          <p:nvPr/>
        </p:nvPicPr>
        <p:blipFill>
          <a:blip r:embed="rId1"/>
          <a:stretch/>
        </p:blipFill>
        <p:spPr>
          <a:xfrm>
            <a:off x="457200" y="1905120"/>
            <a:ext cx="4991040" cy="3746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885840" y="18288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and wrong are prag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 justifies the m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uth is easier than a l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ader needs the truth from his foll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838080" y="504720"/>
            <a:ext cx="5486400" cy="866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chiavell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377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ght implies c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tell the tr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ing destroys the very concept of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Image result for immanuel kant"/>
          <p:cNvPicPr/>
          <p:nvPr/>
        </p:nvPicPr>
        <p:blipFill>
          <a:blip r:embed="rId1"/>
          <a:stretch/>
        </p:blipFill>
        <p:spPr>
          <a:xfrm>
            <a:off x="5257800" y="1066680"/>
            <a:ext cx="322272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10"/>
          <p:cNvSpPr txBox="1"/>
          <p:nvPr/>
        </p:nvSpPr>
        <p:spPr>
          <a:xfrm>
            <a:off x="838080" y="504720"/>
            <a:ext cx="5486400" cy="866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manuel Ka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Image result"/>
          <p:cNvPicPr/>
          <p:nvPr/>
        </p:nvPicPr>
        <p:blipFill>
          <a:blip r:embed="rId1"/>
          <a:stretch/>
        </p:blipFill>
        <p:spPr>
          <a:xfrm>
            <a:off x="4876920" y="1523880"/>
            <a:ext cx="3435120" cy="4314960"/>
          </a:xfrm>
          <a:prstGeom prst="rect">
            <a:avLst/>
          </a:prstGeom>
          <a:ln w="0">
            <a:noFill/>
          </a:ln>
        </p:spPr>
      </p:pic>
      <p:sp>
        <p:nvSpPr>
          <p:cNvPr id="57" name="WordArt 10"/>
          <p:cNvSpPr txBox="1"/>
          <p:nvPr/>
        </p:nvSpPr>
        <p:spPr>
          <a:xfrm>
            <a:off x="1905120" y="689040"/>
            <a:ext cx="556236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hn Stuart Mil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985680" y="2743200"/>
            <a:ext cx="38862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ing is justified if it brings about a good res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2895480" y="1676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1806 - 187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09680" y="1752120"/>
            <a:ext cx="5943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rpent in the gard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in’s avoid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raham concerning Sar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WordArt 10"/>
          <p:cNvSpPr txBox="1"/>
          <p:nvPr/>
        </p:nvSpPr>
        <p:spPr>
          <a:xfrm>
            <a:off x="838080" y="504720"/>
            <a:ext cx="5486400" cy="866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Reflec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Owner\Desktop\504817548_0604e156f6_b.jpg"/>
          <p:cNvPicPr/>
          <p:nvPr/>
        </p:nvPicPr>
        <p:blipFill>
          <a:blip r:embed="rId1"/>
          <a:stretch/>
        </p:blipFill>
        <p:spPr>
          <a:xfrm>
            <a:off x="609480" y="1305000"/>
            <a:ext cx="3581640" cy="4616280"/>
          </a:xfrm>
          <a:prstGeom prst="rect">
            <a:avLst/>
          </a:prstGeom>
          <a:ln w="0">
            <a:noFill/>
          </a:ln>
        </p:spPr>
      </p:pic>
      <p:sp>
        <p:nvSpPr>
          <p:cNvPr id="63" name="WordArt 10"/>
          <p:cNvSpPr txBox="1"/>
          <p:nvPr/>
        </p:nvSpPr>
        <p:spPr>
          <a:xfrm>
            <a:off x="1905120" y="689040"/>
            <a:ext cx="556236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gyptian Midwiv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191120" y="1752480"/>
            <a:ext cx="4038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Hebrew women are not as the Egyptian women; for they are vigorous and give birth before the midwife can get to them” (Exodus 1:1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10"/>
          <p:cNvSpPr txBox="1"/>
          <p:nvPr/>
        </p:nvSpPr>
        <p:spPr>
          <a:xfrm>
            <a:off x="1905120" y="689040"/>
            <a:ext cx="556236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ahab of Jerich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1257480" y="2133720"/>
            <a:ext cx="685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the men came to me, but I did not know where they were from.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came about w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was ti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ut the gate at dark, that the men went out; I do not know where the men went. Pursue them quickly, for you will overtake them” (Joshua 2:4-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8-05-21T05:14:50Z</dcterms:modified>
  <cp:revision>124</cp:revision>
  <dc:subject/>
  <dc:title>Discipleship Across the Lifespan</dc:title>
</cp:coreProperties>
</file>