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89.jpeg" ContentType="image/jpeg"/>
  <Override PartName="/ppt/media/image67.png" ContentType="image/png"/>
  <Override PartName="/ppt/media/image30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80.png" ContentType="image/png"/>
  <Override PartName="/ppt/media/image15.png" ContentType="image/png"/>
  <Override PartName="/ppt/media/image11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24E-3984-4FAE-8A39-C78333BD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C7A-776B-493E-9170-FA28EF40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6AB-B95B-461C-95F7-A03AB90F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CC2-7FE7-4E59-9FF6-5576F8DA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6A5-875B-4565-93A1-F494DD44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E46-7C6A-4AE9-8F1A-D92063D7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5C7-E69C-423F-9215-47D0348B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44E-0E0F-41B6-8B13-5E786F9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2D3-354D-42C7-9AD6-EC324251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8A8-7A37-481A-8579-AEAD312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8F7-1782-4EEC-9A55-BBB21F8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EEA-7B87-4D2D-9B88-DFDD6FB8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0BC1-A81A-49E2-98D0-2C41C0C4E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5.png"/><Relationship Id="rId7" Type="http://schemas.openxmlformats.org/officeDocument/2006/relationships/image" Target="../media/image16.png"/><Relationship Id="rId8" Type="http://schemas.openxmlformats.org/officeDocument/2006/relationships/image" Target="../media/image32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33.png"/><Relationship Id="rId4" Type="http://schemas.openxmlformats.org/officeDocument/2006/relationships/image" Target="../media/image16.png"/><Relationship Id="rId5" Type="http://schemas.openxmlformats.org/officeDocument/2006/relationships/image" Target="../media/image32.png"/><Relationship Id="rId6" Type="http://schemas.openxmlformats.org/officeDocument/2006/relationships/image" Target="../media/image16.png"/><Relationship Id="rId7" Type="http://schemas.openxmlformats.org/officeDocument/2006/relationships/image" Target="../media/image32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1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1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1.png"/><Relationship Id="rId7" Type="http://schemas.openxmlformats.org/officeDocument/2006/relationships/image" Target="../media/image44.png"/><Relationship Id="rId8" Type="http://schemas.openxmlformats.org/officeDocument/2006/relationships/image" Target="../media/image41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6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35.png"/><Relationship Id="rId4" Type="http://schemas.openxmlformats.org/officeDocument/2006/relationships/image" Target="../media/image8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7.png"/><Relationship Id="rId6" Type="http://schemas.openxmlformats.org/officeDocument/2006/relationships/image" Target="../media/image58.png"/><Relationship Id="rId7" Type="http://schemas.openxmlformats.org/officeDocument/2006/relationships/image" Target="../media/image32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png"/><Relationship Id="rId3" Type="http://schemas.openxmlformats.org/officeDocument/2006/relationships/image" Target="../media/image71.png"/><Relationship Id="rId4" Type="http://schemas.openxmlformats.org/officeDocument/2006/relationships/image" Target="../media/image31.png"/><Relationship Id="rId5" Type="http://schemas.openxmlformats.org/officeDocument/2006/relationships/image" Target="../media/image72.png"/><Relationship Id="rId6" Type="http://schemas.openxmlformats.org/officeDocument/2006/relationships/image" Target="../media/image57.png"/><Relationship Id="rId7" Type="http://schemas.openxmlformats.org/officeDocument/2006/relationships/image" Target="../media/image73.png"/><Relationship Id="rId8" Type="http://schemas.openxmlformats.org/officeDocument/2006/relationships/image" Target="../media/image7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png"/><Relationship Id="rId3" Type="http://schemas.openxmlformats.org/officeDocument/2006/relationships/image" Target="../media/image74.png"/><Relationship Id="rId4" Type="http://schemas.openxmlformats.org/officeDocument/2006/relationships/image" Target="../media/image65.png"/><Relationship Id="rId5" Type="http://schemas.openxmlformats.org/officeDocument/2006/relationships/image" Target="../media/image39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61.png"/><Relationship Id="rId10" Type="http://schemas.openxmlformats.org/officeDocument/2006/relationships/image" Target="../media/image65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8.png"/><Relationship Id="rId3" Type="http://schemas.openxmlformats.org/officeDocument/2006/relationships/image" Target="../media/image61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9.png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44.png"/><Relationship Id="rId6" Type="http://schemas.openxmlformats.org/officeDocument/2006/relationships/image" Target="../media/image61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17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 Black"/>
              </a:rPr>
              <a:t>The Epistles 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&amp;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he Practical Christian Lif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ass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General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5653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76320"/>
            <a:ext cx="495288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o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84040"/>
            <a:ext cx="213372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9-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25640"/>
            <a:ext cx="160020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895480"/>
            <a:ext cx="3886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503360"/>
            <a:ext cx="701064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o well to pay attention as to a lamp shining in a dark place until the day dawns and the morning star arises in your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4320"/>
            <a:ext cx="6781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cripture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mat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ne's own interpreta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394160"/>
            <a:ext cx="5486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ever made by an act of human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308560"/>
            <a:ext cx="7621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786280"/>
            <a:ext cx="548640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moved by the Holy Spirit spoke from G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438280"/>
            <a:ext cx="1295280" cy="2160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438280"/>
            <a:ext cx="2895840" cy="1413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438280"/>
            <a:ext cx="1600200" cy="18288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304920"/>
            <a:ext cx="38862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833400"/>
            <a:ext cx="60199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cripture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mat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ne's own interpreta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803240"/>
            <a:ext cx="54864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n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ever made by an act of human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717640"/>
            <a:ext cx="76212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195720"/>
            <a:ext cx="54864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moved by the Holy Spirit spoke from G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20 – 2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267080"/>
            <a:ext cx="7621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745160"/>
            <a:ext cx="815328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ph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so arose among the people, just as there will also be false teachers among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2133720"/>
            <a:ext cx="54864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secretly introduce destructive heres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1895400"/>
            <a:ext cx="243828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4267080"/>
            <a:ext cx="8153280" cy="1425240"/>
            <a:chOff x="228600" y="4267080"/>
            <a:chExt cx="8153280" cy="1425240"/>
          </a:xfrm>
        </p:grpSpPr>
        <p:sp>
          <p:nvSpPr>
            <p:cNvPr id="135" name=""/>
            <p:cNvSpPr/>
            <p:nvPr/>
          </p:nvSpPr>
          <p:spPr>
            <a:xfrm>
              <a:off x="228600" y="4267080"/>
              <a:ext cx="76212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u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4745160"/>
              <a:ext cx="8153280" cy="947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alse </a:t>
              </a:r>
              <a:r>
                <a:rPr b="0" lang="en-US" sz="2800" spc="-1" strike="noStrike">
                  <a:solidFill>
                    <a:srgbClr val="ccffff"/>
                  </a:solidFill>
                  <a:latin typeface="Arial"/>
                </a:rPr>
                <a:t>prophet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lso arose among the people, just as there will also be false teachers among you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62120" y="1676520"/>
            <a:ext cx="99036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092400"/>
            <a:ext cx="71625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denying the Master who bought them, bringing swift destruction upon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7513E-006 L -0.00416 -0.58137 E">
                                      <p:cBhvr>
                                        <p:cTn id="40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4745160"/>
            <a:ext cx="861048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ondemned the cities of Sodom and Gomorrah to destruction by reduc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hes, having made them an example to those who would live ungodly thereaft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487600"/>
            <a:ext cx="861048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spare the ancient world, but preserved Noah, a preacher of righteousness, with seven others, when He brought a flood upon the world of the ungodl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04920"/>
            <a:ext cx="59436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 God did not spare angels when they sinned, but cast them into hell and committed them to pits of darkness, reserved for judgmen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4-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05740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267080"/>
            <a:ext cx="9144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4343400"/>
            <a:ext cx="3429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knows 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58800"/>
            <a:ext cx="518148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scued righteous Lot, oppressed by the sensual conduct of unprincipled 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7-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28600"/>
            <a:ext cx="10666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036880"/>
            <a:ext cx="6553440" cy="18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by what he saw and hea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 man, while living among them, fel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 soul tormented day after day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less deeds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814920"/>
            <a:ext cx="10666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4856040"/>
            <a:ext cx="77724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scue the godly from temp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5735520"/>
            <a:ext cx="777240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unrighteous under punishment for the day of judgm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5318280"/>
            <a:ext cx="10670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28600" y="3814920"/>
            <a:ext cx="8381880" cy="2867760"/>
            <a:chOff x="228600" y="3814920"/>
            <a:chExt cx="8381880" cy="2867760"/>
          </a:xfrm>
        </p:grpSpPr>
        <p:sp>
          <p:nvSpPr>
            <p:cNvPr id="155" name=""/>
            <p:cNvSpPr/>
            <p:nvPr/>
          </p:nvSpPr>
          <p:spPr>
            <a:xfrm>
              <a:off x="228600" y="4343400"/>
              <a:ext cx="3429000" cy="52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he Lord knows ho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" y="3814920"/>
              <a:ext cx="106668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080" y="4856040"/>
              <a:ext cx="777240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o rescue the godly from temp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5735520"/>
              <a:ext cx="7772400" cy="947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o keep the unrighteous under punishment for the day of judgment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080" y="5318280"/>
              <a:ext cx="1067040" cy="520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05720" y="380880"/>
            <a:ext cx="22096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9-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465360"/>
            <a:ext cx="77724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those who indulge the flesh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upt desires and despise author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048120"/>
            <a:ext cx="106704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4419720"/>
            <a:ext cx="7772400" cy="22269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ing, self-willed, they do not tremble when they revile angelic majestie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reas angels who are greater in might and power do not bring a reviling judgment against them before the Lo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2566E-007 L -3.33333E-006 -0.5208 E">
                                      <p:cBhvr>
                                        <p:cTn id="50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304920"/>
            <a:ext cx="114300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20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838080"/>
            <a:ext cx="533376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y have escaped the defilements of the world by the knowledge of the Lord and Savior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646360"/>
            <a:ext cx="693432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again entangled in them and are over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038480"/>
            <a:ext cx="57913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state has become worse for them than the fir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581280"/>
            <a:ext cx="1143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987800"/>
            <a:ext cx="8229600" cy="1800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t would be better for them not to have known the way of righteousness, than having known it, to turn away from the holy commandment delivered to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2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09480"/>
            <a:ext cx="50292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happened to them according to the true pr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971800"/>
            <a:ext cx="9907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3484440"/>
            <a:ext cx="380988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A sow, after wash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925640"/>
            <a:ext cx="28954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A d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438280"/>
            <a:ext cx="457200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s to its own vomit,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3997440"/>
            <a:ext cx="419076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tur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wallowing in the mire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1337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hould we handle false teaching in the church toda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Second Epistle of Pe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ts True &amp;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373212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5a1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5a1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5a1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4382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438280"/>
            <a:ext cx="2895840" cy="1544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2438280"/>
            <a:ext cx="1600200" cy="1998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438280"/>
            <a:ext cx="1600200" cy="1998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2438280"/>
            <a:ext cx="1295280" cy="2362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28600"/>
            <a:ext cx="54864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w, beloved, the second letter I am writing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198440"/>
            <a:ext cx="15242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76520"/>
            <a:ext cx="472464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stirring up your sincere mind by way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262584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159000"/>
            <a:ext cx="449568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hould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e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words spoken before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108320"/>
            <a:ext cx="76176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5632560"/>
            <a:ext cx="609588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andment of the Lord and Savi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k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your apost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606920"/>
            <a:ext cx="502920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oly proph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5103720"/>
            <a:ext cx="83808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3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8600"/>
            <a:ext cx="35053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is firs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762120"/>
            <a:ext cx="5029200" cy="180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n the last days mockers will com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cking, following after their own lusts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say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556000"/>
            <a:ext cx="632448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Where is the promise of His coming?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v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the fathers fell asleep, all continues just as it was from the beginning of creation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8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3644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 not let this on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pe your notice, belov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1092240"/>
            <a:ext cx="487656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with the Lord one day is as a thousand years, and a thousand years as one 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2637000"/>
            <a:ext cx="25905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i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149640"/>
            <a:ext cx="48769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low about His promise, as some count slow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637160"/>
            <a:ext cx="487692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atient toward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5165640"/>
            <a:ext cx="487692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wishing for any to per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6232680"/>
            <a:ext cx="49528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ll to come to repen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4119480"/>
            <a:ext cx="76212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699160"/>
            <a:ext cx="76212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77148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day of the Lo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come like a th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5033880"/>
            <a:ext cx="678204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 and its works will be burned u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1727280"/>
            <a:ext cx="16002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3591000"/>
            <a:ext cx="518184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will be destroyed with intense hea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233440"/>
            <a:ext cx="472464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vens will pass away with a ro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09680" y="3133800"/>
            <a:ext cx="9558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505400"/>
            <a:ext cx="95580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38240"/>
            <a:ext cx="4800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all these things are to be destroyed in this wa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066680"/>
            <a:ext cx="358164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ort of people ought you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992320"/>
            <a:ext cx="4800600" cy="947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for and hastening the coming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day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3946680"/>
            <a:ext cx="34290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ccount of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2016000"/>
            <a:ext cx="6094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2494080"/>
            <a:ext cx="48006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conduct and godli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2160" y="4475160"/>
            <a:ext cx="5111640" cy="94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vens will be destroyed by bu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5369040"/>
            <a:ext cx="83844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5826240"/>
            <a:ext cx="4800600" cy="9471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will melt with intense heat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7712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4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52280"/>
            <a:ext cx="32767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el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112840"/>
            <a:ext cx="83808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685800"/>
            <a:ext cx="53341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you look for these thing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590920"/>
            <a:ext cx="769608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ard the patience of our Lor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198440"/>
            <a:ext cx="533412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diligent to be found by Him in peace, spotless and blamel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117960"/>
            <a:ext cx="64008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as also our beloved brother Paul, according to the wisdom given him, wrote to y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495680"/>
            <a:ext cx="7467480" cy="22269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lso in a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s, speaking in them of these things, in which are some things hard to understand, which the untaught and unstable distort,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 d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the rest of the Scriptures, to their own destr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400800" y="380880"/>
            <a:ext cx="2438280" cy="106884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3:17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233280"/>
            <a:ext cx="419076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therefore, beloved, knowing this before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182600"/>
            <a:ext cx="3048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on your gu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701720"/>
            <a:ext cx="9907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193840"/>
            <a:ext cx="777240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carried away by the error of unprincipled men, you fall from your own steadfastn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3133800"/>
            <a:ext cx="83844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3662280"/>
            <a:ext cx="594360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 in the grace and knowledge of our Lord and Savior Jesus Chri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4632480"/>
            <a:ext cx="358128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l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5165640"/>
            <a:ext cx="1904760" cy="5205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699160"/>
            <a:ext cx="4419360" cy="520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o the day of etern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6024600"/>
            <a:ext cx="1447920" cy="52056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First Epistle of Joh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334120" y="3429000"/>
            <a:ext cx="259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in the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320040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8377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523880"/>
            <a:ext cx="289584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1523880"/>
            <a:ext cx="2895480" cy="914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4a11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838080"/>
            <a:ext cx="2895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83808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438280"/>
            <a:ext cx="1295280" cy="22100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438280"/>
            <a:ext cx="2895840" cy="14446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438280"/>
            <a:ext cx="1600200" cy="18702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2438280"/>
            <a:ext cx="1600200" cy="18702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Coming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2438280"/>
            <a:ext cx="1295280" cy="22100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is a Book of Contra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versus Dar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 versus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versus Hat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versus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Rise of Gnostic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n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“knowledge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arise in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but its seeds were already evid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ysical is bad; the spiri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s of Jes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etism:  Christ only seemed to be hu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enthianism:  The Divine Christ entered Jesus at His baptism and departed prior to His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through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36480"/>
            <a:ext cx="8229600" cy="146988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our walk in the light will be evidenc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6840" y="3906360"/>
            <a:ext cx="198108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walk and in what you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3906720"/>
            <a:ext cx="167652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ob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3906720"/>
            <a:ext cx="144792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906720"/>
            <a:ext cx="152388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3906720"/>
            <a:ext cx="1600200" cy="1752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w you b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88760" y="209520"/>
            <a:ext cx="584388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1</a:t>
            </a:r>
            <a:r>
              <a:rPr b="0" lang="en-US" sz="4800" spc="-1" strike="noStrike" baseline="30000">
                <a:solidFill>
                  <a:srgbClr val="ccecff"/>
                </a:solidFill>
                <a:latin typeface="Arial Black"/>
              </a:rPr>
              <a:t>st</a:t>
            </a:r>
            <a:r>
              <a:rPr b="0" lang="en-US" sz="4800" spc="-1" strike="noStrike">
                <a:solidFill>
                  <a:srgbClr val="ccecff"/>
                </a:solidFill>
                <a:latin typeface="Arial Black"/>
              </a:rPr>
              <a:t> JO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  <a:ea typeface="Arial"/>
              </a:rPr>
              <a:t>WALKING IN THE L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905120"/>
            <a:ext cx="19810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19051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905120"/>
            <a:ext cx="14479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62720" y="1905120"/>
            <a:ext cx="15238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19051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pt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Second Epistle of Joh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324480" y="3352320"/>
            <a:ext cx="236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 Versus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4934160" cy="370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40" y="3429000"/>
            <a:ext cx="19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2680" y="3886200"/>
            <a:ext cx="60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chosen lady and her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419720"/>
            <a:ext cx="67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m I love in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and not only I, 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all who know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ke of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abid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us and will be with us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in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429000"/>
            <a:ext cx="51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glad to find som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children walking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722840"/>
            <a:ext cx="5105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as we have received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ment that w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from the begi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60339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we love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in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2209680"/>
            <a:ext cx="243828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 against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3429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39765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4586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de in the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527220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receive those wh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hold to t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uth Vs. Err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in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2209680"/>
            <a:ext cx="243828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ing against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2209680"/>
            <a:ext cx="2057400" cy="9907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600200"/>
            <a:ext cx="2438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7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4038480" cy="917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Pe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4038480" cy="838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600200"/>
            <a:ext cx="4038480" cy="91764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P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514600"/>
            <a:ext cx="4038480" cy="838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352680"/>
            <a:ext cx="4038480" cy="838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352680"/>
            <a:ext cx="4038480" cy="838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se Prophe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Third Epistle of Joh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324480" y="3352320"/>
            <a:ext cx="236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in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441936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3040" y="3962520"/>
            <a:ext cx="19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43376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beloved Ga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89096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thren came and bore witness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57294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ear witness to your love bef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xample of Diotrep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40384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loves to be th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45100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 not accept what we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5043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oes not receive the breth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954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xample of Diotrep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xample of Demet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30840" y="4038480"/>
            <a:ext cx="400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ceived a good testimony from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86400" y="502920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86400" y="55767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uth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3</a:t>
            </a:r>
            <a:r>
              <a:rPr b="0" lang="en-US" sz="4800" spc="-1" strike="noStrike" baseline="30000">
                <a:solidFill>
                  <a:srgbClr val="cc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John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alking in Trut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52280" y="2209680"/>
            <a:ext cx="27432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dation for Walking in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xample of Diotrep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10280" y="2209680"/>
            <a:ext cx="198144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1600200"/>
            <a:ext cx="2743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9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3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2209680"/>
            <a:ext cx="2057400" cy="1524240"/>
          </a:xfrm>
          <a:prstGeom prst="rect">
            <a:avLst/>
          </a:prstGeom>
          <a:solidFill>
            <a:srgbClr val="701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xample of Demet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160020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Epistle of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Ju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324480" y="3352320"/>
            <a:ext cx="236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nger of Dece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23880" y="2666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Jude</a:t>
            </a:r>
            <a:br>
              <a:rPr sz="48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Danger of Decep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1981440" cy="12193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asion for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2209680"/>
            <a:ext cx="2514600" cy="12193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of the Ungo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10280" y="2209680"/>
            <a:ext cx="1981440" cy="12193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Dox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1600200"/>
            <a:ext cx="2514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5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1600200"/>
            <a:ext cx="1981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4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2209680"/>
            <a:ext cx="2361960" cy="304812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hortation to the Go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600200"/>
            <a:ext cx="2361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:20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3429000"/>
            <a:ext cx="1981440" cy="182880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you who are kept in Chr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3429000"/>
            <a:ext cx="2514600" cy="182880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3429000"/>
            <a:ext cx="1981440" cy="1828800"/>
          </a:xfrm>
          <a:prstGeom prst="rect">
            <a:avLst/>
          </a:prstGeom>
          <a:gradFill rotWithShape="0">
            <a:gsLst>
              <a:gs pos="0">
                <a:srgbClr val="701b00"/>
              </a:gs>
              <a:gs pos="100000">
                <a:srgbClr val="330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Him who is able to keep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cel Instructor &amp; Course Evalu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:  Epistles &amp; Practic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or:  Dr. John Steve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549360"/>
            <a:ext cx="335304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 and peace be multiplied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2-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508040"/>
            <a:ext cx="30481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41560"/>
            <a:ext cx="1676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56860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087720"/>
            <a:ext cx="3809880" cy="5205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Jesus our Lor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581280"/>
            <a:ext cx="6400800" cy="13737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ing that His divine power has granted to us everything pertaining to life and godl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4976640"/>
            <a:ext cx="4648320" cy="5205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rue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5500800"/>
            <a:ext cx="541008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Him who called us by His own glory and excell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947560" y="1676520"/>
            <a:ext cx="3068640" cy="977760"/>
            <a:chOff x="5947560" y="1676520"/>
            <a:chExt cx="3068640" cy="977760"/>
          </a:xfrm>
        </p:grpSpPr>
        <p:sp>
          <p:nvSpPr>
            <p:cNvPr id="74" name=""/>
            <p:cNvSpPr/>
            <p:nvPr/>
          </p:nvSpPr>
          <p:spPr>
            <a:xfrm>
              <a:off x="6317280" y="1676520"/>
              <a:ext cx="22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Bwgrkl"/>
                </a:rPr>
                <a:t>epignosij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7560" y="2133720"/>
              <a:ext cx="306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ver-Knowledge”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876920" y="1828800"/>
            <a:ext cx="1371600" cy="152280"/>
          </a:xfrm>
          <a:custGeom>
            <a:avLst/>
            <a:gdLst/>
            <a:ahLst/>
            <a:rect l="l" t="t" r="r" b="b"/>
            <a:pathLst>
              <a:path w="864" h="96">
                <a:moveTo>
                  <a:pt x="864" y="96"/>
                </a:moveTo>
                <a:cubicBezTo>
                  <a:pt x="864" y="96"/>
                  <a:pt x="432" y="48"/>
                  <a:pt x="0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2666880"/>
            <a:ext cx="1562040" cy="2527560"/>
          </a:xfrm>
          <a:custGeom>
            <a:avLst/>
            <a:gdLst/>
            <a:ahLst/>
            <a:rect l="l" t="t" r="r" b="b"/>
            <a:pathLst>
              <a:path w="984" h="1592">
                <a:moveTo>
                  <a:pt x="960" y="0"/>
                </a:moveTo>
                <a:cubicBezTo>
                  <a:pt x="960" y="192"/>
                  <a:pt x="960" y="384"/>
                  <a:pt x="960" y="576"/>
                </a:cubicBezTo>
                <a:cubicBezTo>
                  <a:pt x="960" y="768"/>
                  <a:pt x="960" y="1032"/>
                  <a:pt x="960" y="1152"/>
                </a:cubicBezTo>
                <a:cubicBezTo>
                  <a:pt x="960" y="1272"/>
                  <a:pt x="968" y="1232"/>
                  <a:pt x="960" y="1296"/>
                </a:cubicBezTo>
                <a:cubicBezTo>
                  <a:pt x="952" y="1360"/>
                  <a:pt x="984" y="1488"/>
                  <a:pt x="912" y="1536"/>
                </a:cubicBezTo>
                <a:cubicBezTo>
                  <a:pt x="840" y="1584"/>
                  <a:pt x="680" y="1576"/>
                  <a:pt x="528" y="1584"/>
                </a:cubicBezTo>
                <a:cubicBezTo>
                  <a:pt x="376" y="1592"/>
                  <a:pt x="188" y="1588"/>
                  <a:pt x="0" y="158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38088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y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500800"/>
            <a:ext cx="54100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Him who called us by His own glory and excell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893880"/>
            <a:ext cx="3733920" cy="13737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granted to us His precious and magnificen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914400"/>
            <a:ext cx="2133720" cy="4724280"/>
          </a:xfrm>
          <a:custGeom>
            <a:avLst/>
            <a:gdLst/>
            <a:ahLst/>
            <a:rect l="l" t="t" r="r" b="b"/>
            <a:pathLst>
              <a:path w="1344" h="2976">
                <a:moveTo>
                  <a:pt x="1344" y="2976"/>
                </a:moveTo>
                <a:cubicBezTo>
                  <a:pt x="1188" y="2840"/>
                  <a:pt x="1032" y="2704"/>
                  <a:pt x="912" y="2592"/>
                </a:cubicBezTo>
                <a:cubicBezTo>
                  <a:pt x="792" y="2480"/>
                  <a:pt x="736" y="2416"/>
                  <a:pt x="624" y="2304"/>
                </a:cubicBezTo>
                <a:cubicBezTo>
                  <a:pt x="512" y="2192"/>
                  <a:pt x="336" y="2056"/>
                  <a:pt x="240" y="1920"/>
                </a:cubicBezTo>
                <a:cubicBezTo>
                  <a:pt x="144" y="1784"/>
                  <a:pt x="88" y="1808"/>
                  <a:pt x="48" y="1488"/>
                </a:cubicBezTo>
                <a:cubicBezTo>
                  <a:pt x="8" y="1168"/>
                  <a:pt x="4" y="58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80880"/>
            <a:ext cx="220968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y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5720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893880"/>
            <a:ext cx="3733920" cy="137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granted to us His precious and magnificen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279520"/>
            <a:ext cx="21337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813040"/>
            <a:ext cx="3352680" cy="13737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m you might become partaker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ne n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191120"/>
            <a:ext cx="548640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escaped the corruption that is in the world by l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73160"/>
            <a:ext cx="19051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692280"/>
            <a:ext cx="464832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hall always be ready to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of thes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643040"/>
            <a:ext cx="624816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you already know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160720"/>
            <a:ext cx="9144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647800"/>
            <a:ext cx="62481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been established in the truth which is present with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738600"/>
            <a:ext cx="3886200" cy="5205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 consider it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181480"/>
            <a:ext cx="701028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ing that the laying aside of m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rth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ing is imminent, as also our Lord Jesus Christ has made clear to 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267080"/>
            <a:ext cx="6477120" cy="94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I am in th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arth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ing, to stir you up by way of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in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2-1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73160"/>
            <a:ext cx="3657600" cy="94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e did not follow cleverly devised 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3160"/>
            <a:ext cx="3886200" cy="581400"/>
          </a:xfrm>
          <a:prstGeom prst="rect">
            <a:avLst/>
          </a:prstGeom>
          <a:gradFill rotWithShape="0">
            <a:gsLst>
              <a:gs pos="0">
                <a:srgbClr val="a22700"/>
              </a:gs>
              <a:gs pos="100000">
                <a:srgbClr val="1d0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 Peter 1:16-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122480"/>
            <a:ext cx="6781680" cy="947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made known to you the power and coming of our Lord Jesus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057400"/>
            <a:ext cx="91440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79760"/>
            <a:ext cx="640080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eyewitnesses of His majes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97080"/>
            <a:ext cx="7467480" cy="13737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when He received honor and glory from God the Father, such an utterance as this was made to Him by the Majestic Glor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4475160"/>
            <a:ext cx="7467480" cy="94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This is My beloved Son with whom I am well-pleased "-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433840"/>
            <a:ext cx="8458200" cy="13737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e ourselves heard this utterance made from heaven when we were with Him on the holy mountai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08-09-16T01:55:19Z</dcterms:modified>
  <cp:revision>257</cp:revision>
  <dc:subject/>
  <dc:title>Discipleship Across the Lifespan</dc:title>
</cp:coreProperties>
</file>