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5397-9CDF-46F1-8C61-12A2736D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9871-D3BC-4A3F-BB7D-B4613F08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7F0E-498B-499B-ABBB-3A62EDA3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7A36-8F62-4302-A76F-4DD1FE9C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9E04-AA2B-4714-94C0-E13D79F2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C79F-7BF4-4B9B-955A-33E04F01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B52C-1C1C-4C6E-B4B8-A25D8DDA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155-BAD5-4F04-BFB8-8205B3B0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5FCB-1DBA-4401-9630-158A8209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8E1F-9BBD-4267-B956-E17E9717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21DB-0C67-43A3-9141-4599E3E8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19B3-DBEB-448F-BC42-EA2DA776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85D4-92A0-4770-958B-613C6414A0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1200"/>
            <a:ext cx="77724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 Black"/>
              </a:rPr>
              <a:t>The Epistles </a:t>
            </a:r>
            <a:br>
              <a:rPr sz="4800"/>
            </a:b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&amp;</a:t>
            </a:r>
            <a:br>
              <a:rPr sz="4000"/>
            </a:b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The Practical Christian Lif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ass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Pastoral Epis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56530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7524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 the face of false teaching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28800" y="3657240"/>
            <a:ext cx="4191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all for men to pray (2:1-8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all for women to adorn themselves modestly and with good works (2:9-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533520"/>
            <a:ext cx="18288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1219320"/>
            <a:ext cx="891540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struction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533520"/>
            <a:ext cx="167616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1828800"/>
            <a:ext cx="1752480" cy="1676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bout men and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533520"/>
            <a:ext cx="20574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s 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533520"/>
            <a:ext cx="16002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533520"/>
            <a:ext cx="175284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7524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 the face of false teaching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80920" y="3504960"/>
            <a:ext cx="4419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fications for leaders (3:1-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teachers (4:1-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instructions to Timothy (4:12-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533520"/>
            <a:ext cx="18288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1219320"/>
            <a:ext cx="891540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struction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533520"/>
            <a:ext cx="167616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1828800"/>
            <a:ext cx="1752480" cy="1676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bout men and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1828800"/>
            <a:ext cx="205740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or 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533520"/>
            <a:ext cx="20574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s 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533520"/>
            <a:ext cx="16002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533520"/>
            <a:ext cx="175284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7524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 the face of false teaching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62720" y="3581280"/>
            <a:ext cx="3581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or to the elderly (5:1-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 for widows (5:3-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or for elders &amp; leaders (5:17-2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533520"/>
            <a:ext cx="18288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1219320"/>
            <a:ext cx="891540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struction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533520"/>
            <a:ext cx="167616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1828800"/>
            <a:ext cx="1752480" cy="1676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bout men and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1828800"/>
            <a:ext cx="205740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or 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533520"/>
            <a:ext cx="20574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s 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1828800"/>
            <a:ext cx="1600200" cy="1676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bout the elde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33520"/>
            <a:ext cx="16002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38880" y="533520"/>
            <a:ext cx="175284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7524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 the face of false teaching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0" y="3580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ves &amp; Masters (6:1-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seek financial profit (6:3-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harge to personal faithfulness (6:11-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ctions to the rich (6:17-1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 (6:20-2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320" y="533520"/>
            <a:ext cx="18288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1219320"/>
            <a:ext cx="891540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struction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533520"/>
            <a:ext cx="167616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1828800"/>
            <a:ext cx="1752480" cy="1676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bout men and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828800"/>
            <a:ext cx="205740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or 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533520"/>
            <a:ext cx="20574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s 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1828800"/>
            <a:ext cx="1600200" cy="1676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bout the elde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533520"/>
            <a:ext cx="16002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1828800"/>
            <a:ext cx="175284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 the face of false teac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533520"/>
            <a:ext cx="175284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76360" y="151920"/>
            <a:ext cx="5562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he Epistle to Tit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943240" y="2743200"/>
            <a:ext cx="2590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orning the Gospel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4967280" cy="3257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52280" y="0"/>
            <a:ext cx="9372600" cy="6840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114800" y="3462480"/>
            <a:ext cx="1447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r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914400"/>
            <a:ext cx="228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Nicopolis 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96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rue Leader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960" y="380988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ing Salutation (1:1-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32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320" y="1219320"/>
            <a:ext cx="327636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685800"/>
            <a:ext cx="175248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685800"/>
            <a:ext cx="205740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685800"/>
            <a:ext cx="182880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38880" y="685800"/>
            <a:ext cx="175284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1219320"/>
            <a:ext cx="563904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ITUS – Adorning the Doctrine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91120" y="2666880"/>
            <a:ext cx="411480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, a bond-servant of God, and an apostle of Jesus Christ, for the faith of those chosen of God and the knowledge of the truth which is according to godliness, (Titus 1: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181480" y="2971800"/>
            <a:ext cx="3962520" cy="4572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96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rue Leader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960" y="380988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ing Salutation (1:1-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320" y="1219320"/>
            <a:ext cx="327636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685800"/>
            <a:ext cx="17524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685800"/>
            <a:ext cx="20574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685800"/>
            <a:ext cx="18288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8880" y="685800"/>
            <a:ext cx="175284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1219320"/>
            <a:ext cx="563904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ITUS – Adorning the Doctrine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2495520"/>
            <a:ext cx="510552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ope of eternal life, which God, who cannot lie, promised long ages ago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ut at the proper time manifested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v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word, in the proclamation with which I was entrusted according to the commandment of God our Savior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5124600"/>
            <a:ext cx="3301920" cy="642600"/>
          </a:xfrm>
          <a:prstGeom prst="rect">
            <a:avLst/>
          </a:prstGeom>
          <a:solidFill>
            <a:srgbClr val="66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vyeudhj qeoj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3276720"/>
            <a:ext cx="1600200" cy="1828800"/>
          </a:xfrm>
          <a:custGeom>
            <a:avLst/>
            <a:gdLst/>
            <a:ahLst/>
            <a:rect l="l" t="t" r="r" b="b"/>
            <a:pathLst>
              <a:path w="1008" h="1152">
                <a:moveTo>
                  <a:pt x="1008" y="0"/>
                </a:moveTo>
                <a:lnTo>
                  <a:pt x="864" y="96"/>
                </a:lnTo>
                <a:cubicBezTo>
                  <a:pt x="864" y="96"/>
                  <a:pt x="549" y="109"/>
                  <a:pt x="432" y="144"/>
                </a:cubicBezTo>
                <a:cubicBezTo>
                  <a:pt x="315" y="179"/>
                  <a:pt x="227" y="216"/>
                  <a:pt x="163" y="304"/>
                </a:cubicBezTo>
                <a:cubicBezTo>
                  <a:pt x="99" y="392"/>
                  <a:pt x="75" y="531"/>
                  <a:pt x="48" y="672"/>
                </a:cubicBezTo>
                <a:cubicBezTo>
                  <a:pt x="21" y="813"/>
                  <a:pt x="10" y="1052"/>
                  <a:pt x="0" y="115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96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rue Leader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320" y="3809880"/>
            <a:ext cx="53337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ing Salutation (1:1-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us’ Job Description: To appoint elders in every city (1: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fications for elders/overseers (1:6-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32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320" y="1219320"/>
            <a:ext cx="327636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685800"/>
            <a:ext cx="17524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52680" y="685800"/>
            <a:ext cx="20574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685800"/>
            <a:ext cx="18288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685800"/>
            <a:ext cx="175284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1219320"/>
            <a:ext cx="563904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ITUS – Adorning the Doctrine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ourse Outline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676160"/>
            <a:ext cx="167652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676520"/>
            <a:ext cx="167652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 Tw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1676520"/>
            <a:ext cx="167616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 Th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1676520"/>
            <a:ext cx="167652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 F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86600" y="1676520"/>
            <a:ext cx="167652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 F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743200"/>
            <a:ext cx="1676520" cy="2286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 to Pau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stles as a gen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2743200"/>
            <a:ext cx="5029200" cy="685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’s Epistles &amp; The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2743200"/>
            <a:ext cx="1676520" cy="2286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eneral Epist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3429000"/>
            <a:ext cx="16765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&amp;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429000"/>
            <a:ext cx="167616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trinal Epist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3429000"/>
            <a:ext cx="167652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toral Epist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96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rue Leader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3520" y="3809880"/>
            <a:ext cx="5334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 of Rebellious Men (1:10-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stimony of Rebellious Men (1:12-1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 for Rebellious Men (1:13-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219320"/>
            <a:ext cx="327636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685800"/>
            <a:ext cx="17524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685800"/>
            <a:ext cx="20574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685800"/>
            <a:ext cx="18288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85800"/>
            <a:ext cx="175284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1219320"/>
            <a:ext cx="563904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1828800"/>
            <a:ext cx="17524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als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ITUS – Adorning the Doctrine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96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rue Leader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352320" y="3733560"/>
            <a:ext cx="5334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ng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ng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us as 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32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1219320"/>
            <a:ext cx="327636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685800"/>
            <a:ext cx="17524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685800"/>
            <a:ext cx="20574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685800"/>
            <a:ext cx="18288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38880" y="685800"/>
            <a:ext cx="175284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1219320"/>
            <a:ext cx="563904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1828800"/>
            <a:ext cx="17524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als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1828800"/>
            <a:ext cx="205740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structions to Various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ITUS – Adorning the Doctrine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96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rue Leader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95480" y="373356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ace of God has appeared, bringing salvati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cting u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deny ungodl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liv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ing for the appearing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32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1219320"/>
            <a:ext cx="327636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685800"/>
            <a:ext cx="17524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685800"/>
            <a:ext cx="20574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685800"/>
            <a:ext cx="18288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685800"/>
            <a:ext cx="175284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1219320"/>
            <a:ext cx="563904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1828800"/>
            <a:ext cx="17524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als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1828800"/>
            <a:ext cx="205740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structions to Various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10080" y="1828800"/>
            <a:ext cx="190512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iving for the appearing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ITUS – Adorning the Doctrine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rue Leader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95480" y="3733560"/>
            <a:ext cx="6019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er to do good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 for good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all to good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jection of those who cause divi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actical exercise in good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32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320" y="1219320"/>
            <a:ext cx="327636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685800"/>
            <a:ext cx="175248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685800"/>
            <a:ext cx="20574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685800"/>
            <a:ext cx="182880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1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38880" y="685800"/>
            <a:ext cx="1752840" cy="5335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1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1219320"/>
            <a:ext cx="563904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a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0200" y="1828800"/>
            <a:ext cx="17524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als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52680" y="1828800"/>
            <a:ext cx="205740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structions to Various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1828800"/>
            <a:ext cx="190512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iving for the appearing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15200" y="1828800"/>
            <a:ext cx="167652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iving in the light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ITUS – Adorning the Doctrine of G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ession Objectiv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391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basic hermeneutical principles for interpreting and applying epist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the Big Idea of the Pastoral Epist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 developing skills to assess aspects of current worldview, ethical practice, and church life in light of theological principles taught in the epist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15160" y="2527200"/>
            <a:ext cx="2100240" cy="173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Timo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Timo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2527200"/>
            <a:ext cx="2243160" cy="173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Thessalon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Thessalon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24240" y="2527200"/>
            <a:ext cx="2147760" cy="173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hes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ilipp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ss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ile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527200"/>
            <a:ext cx="2195640" cy="173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Corinth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Corinth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lat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15160" y="774720"/>
            <a:ext cx="2100240" cy="1739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toral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774720"/>
            <a:ext cx="2243160" cy="1739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hetic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240" y="774720"/>
            <a:ext cx="2147760" cy="1739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son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774720"/>
            <a:ext cx="2195640" cy="1739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ational 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15160" y="4267080"/>
            <a:ext cx="2100240" cy="95724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the congre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267080"/>
            <a:ext cx="2243160" cy="95724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second 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24240" y="4267080"/>
            <a:ext cx="2147760" cy="95724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the chu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267080"/>
            <a:ext cx="2195640" cy="95724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&amp; the cr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15160" y="5207040"/>
            <a:ext cx="2100240" cy="57132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clesi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5207040"/>
            <a:ext cx="2243160" cy="57132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at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24240" y="5207040"/>
            <a:ext cx="2147760" cy="57132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207040"/>
            <a:ext cx="2195640" cy="571320"/>
          </a:xfrm>
          <a:prstGeom prst="rect">
            <a:avLst/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teri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uthorship of the Pastoral Epistl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2255760"/>
            <a:ext cx="7543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questioned until early 1800’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ent from Marcion’s can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ent from 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4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one of earliest Pauline manuscrip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and style notably different from Paul’s other epist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ole-Pla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mber of your church has been taking a college class in which he has been told that the Pastoral Epistles are not authored by Paul.  What would you s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809880" y="13716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76360" y="151920"/>
            <a:ext cx="5562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he First Epistle to Timothy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943240" y="2743200"/>
            <a:ext cx="2590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Father to 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2550960"/>
            <a:ext cx="5105520" cy="385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533520" y="0"/>
            <a:ext cx="9982440" cy="6954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96240" y="199548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GREE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360" y="160020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ASIA MIN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64600" y="2743200"/>
            <a:ext cx="19209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ph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1160" y="76212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Macedo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75248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 the face of false teaching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320" y="3809880"/>
            <a:ext cx="67053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othy’s mission in Ephesus (1:2-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: Teachers of the Law (1:6-1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sgiving for God’s mercy (1:12-1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othy’s commission (1:18-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320" y="533520"/>
            <a:ext cx="18288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320" y="1219320"/>
            <a:ext cx="891540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struction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533520"/>
            <a:ext cx="167616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533520"/>
            <a:ext cx="20574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s 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33520"/>
            <a:ext cx="160020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533520"/>
            <a:ext cx="1752840" cy="6858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46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08-09-07T21:24:52Z</dcterms:modified>
  <cp:revision>243</cp:revision>
  <dc:subject/>
  <dc:title>Discipleship Across the Lifespan</dc:title>
</cp:coreProperties>
</file>