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7.jpeg" ContentType="image/jpeg"/>
  <Override PartName="/ppt/media/image16.png" ContentType="image/png"/>
  <Override PartName="/ppt/media/image15.jpeg" ContentType="image/jpeg"/>
  <Override PartName="/ppt/media/image14.gif" ContentType="image/gi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0FBE3-F85C-45D1-AC2D-47CBAF71F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7877-A844-461B-A8CA-CF7FC6EE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F2496-F425-43B2-BC6F-2C91DD181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E5F6-DCE6-4CAF-86F4-0DFF8B6F2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9CF7C-03B7-4CA4-BFA5-4C26D7B6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891E-6628-443E-B50D-EF9715D4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77C26-07F5-43EA-A47A-9588C825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9E821-03B8-4C46-AF6C-23E18E17A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08748-00DF-4E1D-AFC0-3D277E1B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1826-C05A-4FF9-A8A2-D238C716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9118-3691-47D2-8C94-ABD46F2B4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CA48-AA9F-4BB7-B4A3-01EC17C3D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DE01-7C09-4322-9101-3573DE2FBB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gi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1200"/>
            <a:ext cx="7772400" cy="26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The Epistles </a:t>
            </a:r>
            <a:br>
              <a:rPr sz="4800"/>
            </a:br>
            <a:r>
              <a:rPr b="0" lang="en-US" sz="4000" spc="-1" strike="noStrike">
                <a:solidFill>
                  <a:srgbClr val="ccffff"/>
                </a:solidFill>
                <a:latin typeface="Arial Black"/>
              </a:rPr>
              <a:t>&amp;</a:t>
            </a:r>
            <a:br>
              <a:rPr sz="4000"/>
            </a:br>
            <a:r>
              <a:rPr b="0" lang="en-US" sz="4000" spc="-1" strike="noStrike">
                <a:solidFill>
                  <a:srgbClr val="ccffff"/>
                </a:solidFill>
                <a:latin typeface="Arial Black"/>
              </a:rPr>
              <a:t>the Practical Christian Life</a:t>
            </a:r>
            <a:endParaRPr b="0" lang="en-US" sz="4000" spc="-1" strike="noStrike">
              <a:solidFill>
                <a:srgbClr val="ccffff"/>
              </a:solidFill>
              <a:latin typeface="Arial"/>
            </a:endParaRPr>
          </a:p>
        </p:txBody>
      </p:sp>
      <p:sp>
        <p:nvSpPr>
          <p:cNvPr id="42" name="PlaceHolder 2"/>
          <p:cNvSpPr>
            <a:spLocks noGrp="1"/>
          </p:cNvSpPr>
          <p:nvPr>
            <p:ph type="subTitle"/>
          </p:nvPr>
        </p:nvSpPr>
        <p:spPr>
          <a:xfrm>
            <a:off x="1371600" y="41144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ass 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Doctrinal Epistles</a:t>
            </a:r>
            <a:endParaRPr b="0" lang="en-US" sz="3200" spc="-1" strike="noStrike">
              <a:solidFill>
                <a:srgbClr val="ffffff"/>
              </a:solidFill>
              <a:latin typeface="Arial"/>
            </a:endParaRPr>
          </a:p>
        </p:txBody>
      </p:sp>
      <p:sp>
        <p:nvSpPr>
          <p:cNvPr id="43" name=""/>
          <p:cNvSpPr/>
          <p:nvPr/>
        </p:nvSpPr>
        <p:spPr>
          <a:xfrm>
            <a:off x="2895480" y="5653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81120" y="380520"/>
            <a:ext cx="35053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us</a:t>
            </a:r>
            <a:endParaRPr b="0" lang="en-US" sz="4400" spc="-1" strike="noStrike">
              <a:solidFill>
                <a:srgbClr val="ccffff"/>
              </a:solidFill>
              <a:latin typeface="Arial"/>
            </a:endParaRPr>
          </a:p>
        </p:txBody>
      </p:sp>
      <p:pic>
        <p:nvPicPr>
          <p:cNvPr id="88" name="" descr=""/>
          <p:cNvPicPr/>
          <p:nvPr/>
        </p:nvPicPr>
        <p:blipFill>
          <a:blip r:embed="rId2"/>
          <a:stretch/>
        </p:blipFill>
        <p:spPr>
          <a:xfrm>
            <a:off x="2666880" y="2370240"/>
            <a:ext cx="6185160" cy="4221000"/>
          </a:xfrm>
          <a:prstGeom prst="rect">
            <a:avLst/>
          </a:prstGeom>
          <a:ln w="0">
            <a:noFill/>
          </a:ln>
        </p:spPr>
      </p:pic>
      <p:sp>
        <p:nvSpPr>
          <p:cNvPr id="89" name="PlaceHolder 2"/>
          <p:cNvSpPr>
            <a:spLocks noGrp="1"/>
          </p:cNvSpPr>
          <p:nvPr>
            <p:ph type="subTitle"/>
          </p:nvPr>
        </p:nvSpPr>
        <p:spPr>
          <a:xfrm>
            <a:off x="4855680" y="3393720"/>
            <a:ext cx="2210040" cy="6858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a:t>
            </a:r>
            <a:r>
              <a:rPr b="0" lang="en-US" sz="2000" spc="-1" strike="noStrike">
                <a:solidFill>
                  <a:srgbClr val="000066"/>
                </a:solidFill>
                <a:latin typeface="Arial Black"/>
              </a:rPr>
              <a:t>Ephesus</a:t>
            </a:r>
            <a:endParaRPr b="0" lang="en-US" sz="2000" spc="-1" strike="noStrike">
              <a:solidFill>
                <a:srgbClr val="ffffff"/>
              </a:solidFill>
              <a:latin typeface="Arial"/>
            </a:endParaRPr>
          </a:p>
        </p:txBody>
      </p:sp>
      <p:pic>
        <p:nvPicPr>
          <p:cNvPr id="90" name="" descr=""/>
          <p:cNvPicPr/>
          <p:nvPr/>
        </p:nvPicPr>
        <p:blipFill>
          <a:blip r:embed="rId3"/>
          <a:stretch/>
        </p:blipFill>
        <p:spPr>
          <a:xfrm>
            <a:off x="304920" y="304920"/>
            <a:ext cx="3174840" cy="5651280"/>
          </a:xfrm>
          <a:prstGeom prst="rect">
            <a:avLst/>
          </a:prstGeom>
          <a:ln w="0">
            <a:noFill/>
          </a:ln>
        </p:spPr>
      </p:pic>
    </p:spTree>
  </p:cSld>
  <p:transition spd="med">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53">
                                  <p:stCondLst>
                                    <p:cond delay="0"/>
                                  </p:stCondLst>
                                  <p:childTnLst>
                                    <p:set>
                                      <p:cBhvr>
                                        <p:cTn id="196" dur="1" fill="hold">
                                          <p:stCondLst>
                                            <p:cond delay="0"/>
                                          </p:stCondLst>
                                        </p:cTn>
                                        <p:tgtEl>
                                          <p:spTgt spid="90"/>
                                        </p:tgtEl>
                                        <p:attrNameLst>
                                          <p:attrName>style.visibility</p:attrName>
                                        </p:attrNameLst>
                                      </p:cBhvr>
                                      <p:to>
                                        <p:strVal val="visible"/>
                                      </p:to>
                                    </p:set>
                                    <p:anim calcmode="lin" valueType="num">
                                      <p:cBhvr additive="repl">
                                        <p:cTn id="197" dur="2000" fill="hold"/>
                                        <p:tgtEl>
                                          <p:spTgt spid="90"/>
                                        </p:tgtEl>
                                        <p:attrNameLst>
                                          <p:attrName>ppt_w</p:attrName>
                                        </p:attrNameLst>
                                      </p:cBhvr>
                                      <p:tavLst>
                                        <p:tav tm="0">
                                          <p:val>
                                            <p:fltVal val="0"/>
                                          </p:val>
                                        </p:tav>
                                        <p:tav tm="100000">
                                          <p:val>
                                            <p:strVal val="#ppt_w"/>
                                          </p:val>
                                        </p:tav>
                                      </p:tavLst>
                                    </p:anim>
                                    <p:anim calcmode="lin" valueType="num">
                                      <p:cBhvr additive="repl">
                                        <p:cTn id="198" dur="2000" fill="hold"/>
                                        <p:tgtEl>
                                          <p:spTgt spid="90"/>
                                        </p:tgtEl>
                                        <p:attrNameLst>
                                          <p:attrName>ppt_h</p:attrName>
                                        </p:attrNameLst>
                                      </p:cBhvr>
                                      <p:tavLst>
                                        <p:tav tm="0">
                                          <p:val>
                                            <p:fltVal val="0"/>
                                          </p:val>
                                        </p:tav>
                                        <p:tav tm="100000">
                                          <p:val>
                                            <p:strVal val="#ppt_h"/>
                                          </p:val>
                                        </p:tav>
                                      </p:tavLst>
                                    </p:anim>
                                    <p:animEffect filter="fade" transition="in">
                                      <p:cBhvr additive="repl">
                                        <p:cTn id="19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80880" y="0"/>
            <a:ext cx="10058400" cy="6797520"/>
          </a:xfrm>
          <a:prstGeom prst="rect">
            <a:avLst/>
          </a:prstGeom>
          <a:ln w="0">
            <a:noFill/>
          </a:ln>
        </p:spPr>
      </p:pic>
      <p:pic>
        <p:nvPicPr>
          <p:cNvPr id="92" name="" descr=""/>
          <p:cNvPicPr/>
          <p:nvPr/>
        </p:nvPicPr>
        <p:blipFill>
          <a:blip r:embed="rId3"/>
          <a:stretch/>
        </p:blipFill>
        <p:spPr>
          <a:xfrm>
            <a:off x="0" y="0"/>
            <a:ext cx="5176800" cy="6858000"/>
          </a:xfrm>
          <a:prstGeom prst="rect">
            <a:avLst/>
          </a:prstGeom>
          <a:ln w="0">
            <a:noFill/>
          </a:ln>
        </p:spPr>
      </p:pic>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mph" presetID="6">
                                  <p:stCondLst>
                                    <p:cond delay="0"/>
                                  </p:stCondLst>
                                  <p:childTnLst>
                                    <p:animScale>
                                      <p:cBhvr>
                                        <p:cTn id="205" dur="5000" fill="hold"/>
                                        <p:tgtEl>
                                          <p:spTgt spid="91"/>
                                        </p:tgtEl>
                                      </p:cBhvr>
                                      <p:to x="150000" y="150000"/>
                                    </p:animScale>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92"/>
                                        </p:tgtEl>
                                        <p:attrNameLst>
                                          <p:attrName>style.visibility</p:attrName>
                                        </p:attrNameLst>
                                      </p:cBhvr>
                                      <p:to>
                                        <p:strVal val="visible"/>
                                      </p:to>
                                    </p:set>
                                    <p:animEffect filter="fade" transition="in">
                                      <p:cBhvr additive="repl">
                                        <p:cTn id="210" dur="3000"/>
                                        <p:tgtEl>
                                          <p:spTgt spid="92"/>
                                        </p:tgtEl>
                                      </p:cBhvr>
                                    </p:animEffect>
                                  </p:childTnLst>
                                </p:cTn>
                              </p:par>
                            </p:childTnLst>
                          </p:cTn>
                        </p:par>
                        <p:par>
                          <p:cTn id="211" fill="hold">
                            <p:stCondLst>
                              <p:cond delay="3000"/>
                            </p:stCondLst>
                            <p:childTnLst>
                              <p:par>
                                <p:cTn id="212" nodeType="afterEffect" fill="hold" presetClass="emph" presetID="6">
                                  <p:stCondLst>
                                    <p:cond delay="0"/>
                                  </p:stCondLst>
                                  <p:childTnLst>
                                    <p:animScale>
                                      <p:cBhvr>
                                        <p:cTn id="213" dur="5000" fill="hold"/>
                                        <p:tgtEl>
                                          <p:spTgt spid="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0"/>
            <a:ext cx="9524880" cy="7191360"/>
          </a:xfrm>
          <a:prstGeom prst="rect">
            <a:avLst/>
          </a:prstGeom>
          <a:ln w="0">
            <a:noFill/>
          </a:ln>
        </p:spPr>
      </p:pic>
    </p:spTree>
  </p:cSld>
  <p:transition spd="med">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mph" presetID="6">
                                  <p:stCondLst>
                                    <p:cond delay="0"/>
                                  </p:stCondLst>
                                  <p:childTnLst>
                                    <p:animScale>
                                      <p:cBhvr>
                                        <p:cTn id="219" dur="5000" fill="hold"/>
                                        <p:tgtEl>
                                          <p:spTgt spid="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urpose of the Epistle</a:t>
            </a:r>
            <a:endParaRPr b="0" lang="en-US" sz="4400" spc="-1" strike="noStrike">
              <a:solidFill>
                <a:srgbClr val="ccffff"/>
              </a:solidFill>
              <a:latin typeface="Arial"/>
            </a:endParaRPr>
          </a:p>
        </p:txBody>
      </p:sp>
      <p:sp>
        <p:nvSpPr>
          <p:cNvPr id="95" name="PlaceHolder 2"/>
          <p:cNvSpPr>
            <a:spLocks noGrp="1"/>
          </p:cNvSpPr>
          <p:nvPr>
            <p:ph/>
          </p:nvPr>
        </p:nvSpPr>
        <p:spPr>
          <a:xfrm>
            <a:off x="457200" y="1294920"/>
            <a:ext cx="815328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firm the position that we have in Chr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scribe what should be the corresponding conduct which believers ought to exhibit as a result of that new position.</a:t>
            </a:r>
            <a:endParaRPr b="0" lang="en-US" sz="2800" spc="-1" strike="noStrike">
              <a:solidFill>
                <a:srgbClr val="ffffff"/>
              </a:solidFill>
              <a:latin typeface="Arial"/>
            </a:endParaRPr>
          </a:p>
        </p:txBody>
      </p:sp>
      <p:pic>
        <p:nvPicPr>
          <p:cNvPr id="96" name="" descr=""/>
          <p:cNvPicPr/>
          <p:nvPr/>
        </p:nvPicPr>
        <p:blipFill>
          <a:blip r:embed="rId2"/>
          <a:stretch/>
        </p:blipFill>
        <p:spPr>
          <a:xfrm>
            <a:off x="990720" y="3532320"/>
            <a:ext cx="7315200" cy="2581200"/>
          </a:xfrm>
          <a:prstGeom prst="rect">
            <a:avLst/>
          </a:prstGeom>
          <a:ln w="0">
            <a:noFill/>
          </a:ln>
        </p:spPr>
      </p:pic>
    </p:spTree>
  </p:cSld>
  <p:transition spd="med">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95">
                                            <p:txEl>
                                              <p:pRg st="0" end="0"/>
                                            </p:txEl>
                                          </p:spTgt>
                                        </p:tgtEl>
                                        <p:attrNameLst>
                                          <p:attrName>style.visibility</p:attrName>
                                        </p:attrNameLst>
                                      </p:cBhvr>
                                      <p:to>
                                        <p:strVal val="visible"/>
                                      </p:to>
                                    </p:set>
                                    <p:anim calcmode="lin" valueType="num">
                                      <p:cBhvr additive="repl">
                                        <p:cTn id="226"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95">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95">
                                            <p:txEl>
                                              <p:pRg st="1" end="1"/>
                                            </p:txEl>
                                          </p:spTgt>
                                        </p:tgtEl>
                                        <p:attrNameLst>
                                          <p:attrName>style.visibility</p:attrName>
                                        </p:attrNameLst>
                                      </p:cBhvr>
                                      <p:to>
                                        <p:strVal val="visible"/>
                                      </p:to>
                                    </p:set>
                                    <p:anim calcmode="lin" valueType="num">
                                      <p:cBhvr additive="repl">
                                        <p:cTn id="23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235"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nique Characteristic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personal notes or biographical references within the boo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 number of very long sentences within the epistl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1:3-14</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1:15-23</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3:1-7</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3:8-12</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hesians 4:11-16</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st translations have broken these up into several sentences, but in the original Greek text they are one continuous sentence.</a:t>
            </a:r>
            <a:endParaRPr b="0" lang="en-US" sz="2800" spc="-1" strike="noStrike">
              <a:solidFill>
                <a:srgbClr val="ffffff"/>
              </a:solidFill>
              <a:latin typeface="Arial"/>
            </a:endParaRPr>
          </a:p>
        </p:txBody>
      </p:sp>
    </p:spTree>
  </p:cSld>
  <p:transition spd="med">
    <p:fad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98">
                                            <p:txEl>
                                              <p:pRg st="0" end="0"/>
                                            </p:txEl>
                                          </p:spTgt>
                                        </p:tgtEl>
                                        <p:attrNameLst>
                                          <p:attrName>style.visibility</p:attrName>
                                        </p:attrNameLst>
                                      </p:cBhvr>
                                      <p:to>
                                        <p:strVal val="visible"/>
                                      </p:to>
                                    </p:set>
                                    <p:anim calcmode="lin" valueType="num">
                                      <p:cBhvr additive="repl">
                                        <p:cTn id="242"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44" dur="500"/>
                                        <p:tgtEl>
                                          <p:spTgt spid="98">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98">
                                            <p:txEl>
                                              <p:pRg st="1" end="1"/>
                                            </p:txEl>
                                          </p:spTgt>
                                        </p:tgtEl>
                                        <p:attrNameLst>
                                          <p:attrName>style.visibility</p:attrName>
                                        </p:attrNameLst>
                                      </p:cBhvr>
                                      <p:to>
                                        <p:strVal val="visible"/>
                                      </p:to>
                                    </p:set>
                                    <p:anim calcmode="lin" valueType="num">
                                      <p:cBhvr additive="repl">
                                        <p:cTn id="249"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251" dur="500"/>
                                        <p:tgtEl>
                                          <p:spTgt spid="98">
                                            <p:txEl>
                                              <p:pRg st="1" end="1"/>
                                            </p:txEl>
                                          </p:spTgt>
                                        </p:tgtEl>
                                      </p:cBhvr>
                                    </p:animEffect>
                                  </p:childTnLst>
                                </p:cTn>
                              </p:par>
                              <p:par>
                                <p:cTn id="252" nodeType="withEffect" fill="hold" presetClass="entr" presetID="53">
                                  <p:stCondLst>
                                    <p:cond delay="0"/>
                                  </p:stCondLst>
                                  <p:childTnLst>
                                    <p:set>
                                      <p:cBhvr>
                                        <p:cTn id="253" dur="1" fill="hold">
                                          <p:stCondLst>
                                            <p:cond delay="0"/>
                                          </p:stCondLst>
                                        </p:cTn>
                                        <p:tgtEl>
                                          <p:spTgt spid="98">
                                            <p:txEl>
                                              <p:pRg st="2" end="2"/>
                                            </p:txEl>
                                          </p:spTgt>
                                        </p:tgtEl>
                                        <p:attrNameLst>
                                          <p:attrName>style.visibility</p:attrName>
                                        </p:attrNameLst>
                                      </p:cBhvr>
                                      <p:to>
                                        <p:strVal val="visible"/>
                                      </p:to>
                                    </p:set>
                                    <p:anim calcmode="lin" valueType="num">
                                      <p:cBhvr additive="repl">
                                        <p:cTn id="254"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55" dur="5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256" dur="500"/>
                                        <p:tgtEl>
                                          <p:spTgt spid="98">
                                            <p:txEl>
                                              <p:pRg st="2" end="2"/>
                                            </p:txEl>
                                          </p:spTgt>
                                        </p:tgtEl>
                                      </p:cBhvr>
                                    </p:animEffect>
                                  </p:childTnLst>
                                </p:cTn>
                              </p:par>
                              <p:par>
                                <p:cTn id="257" nodeType="withEffect" fill="hold" presetClass="entr" presetID="53">
                                  <p:stCondLst>
                                    <p:cond delay="0"/>
                                  </p:stCondLst>
                                  <p:childTnLst>
                                    <p:set>
                                      <p:cBhvr>
                                        <p:cTn id="258" dur="1" fill="hold">
                                          <p:stCondLst>
                                            <p:cond delay="0"/>
                                          </p:stCondLst>
                                        </p:cTn>
                                        <p:tgtEl>
                                          <p:spTgt spid="98">
                                            <p:txEl>
                                              <p:pRg st="3" end="3"/>
                                            </p:txEl>
                                          </p:spTgt>
                                        </p:tgtEl>
                                        <p:attrNameLst>
                                          <p:attrName>style.visibility</p:attrName>
                                        </p:attrNameLst>
                                      </p:cBhvr>
                                      <p:to>
                                        <p:strVal val="visible"/>
                                      </p:to>
                                    </p:set>
                                    <p:anim calcmode="lin" valueType="num">
                                      <p:cBhvr additive="repl">
                                        <p:cTn id="259"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8">
                                            <p:txEl>
                                              <p:pRg st="3" end="3"/>
                                            </p:txEl>
                                          </p:spTgt>
                                        </p:tgtEl>
                                        <p:attrNameLst>
                                          <p:attrName>ppt_h</p:attrName>
                                        </p:attrNameLst>
                                      </p:cBhvr>
                                      <p:tavLst>
                                        <p:tav tm="0">
                                          <p:val>
                                            <p:fltVal val="0"/>
                                          </p:val>
                                        </p:tav>
                                        <p:tav tm="100000">
                                          <p:val>
                                            <p:strVal val="#ppt_h"/>
                                          </p:val>
                                        </p:tav>
                                      </p:tavLst>
                                    </p:anim>
                                    <p:animEffect filter="fade" transition="in">
                                      <p:cBhvr additive="repl">
                                        <p:cTn id="261" dur="500"/>
                                        <p:tgtEl>
                                          <p:spTgt spid="98">
                                            <p:txEl>
                                              <p:pRg st="3" end="3"/>
                                            </p:txEl>
                                          </p:spTgt>
                                        </p:tgtEl>
                                      </p:cBhvr>
                                    </p:animEffect>
                                  </p:childTnLst>
                                </p:cTn>
                              </p:par>
                              <p:par>
                                <p:cTn id="262" nodeType="withEffect" fill="hold" presetClass="entr" presetID="53">
                                  <p:stCondLst>
                                    <p:cond delay="0"/>
                                  </p:stCondLst>
                                  <p:childTnLst>
                                    <p:set>
                                      <p:cBhvr>
                                        <p:cTn id="263" dur="1" fill="hold">
                                          <p:stCondLst>
                                            <p:cond delay="0"/>
                                          </p:stCondLst>
                                        </p:cTn>
                                        <p:tgtEl>
                                          <p:spTgt spid="98">
                                            <p:txEl>
                                              <p:pRg st="4" end="4"/>
                                            </p:txEl>
                                          </p:spTgt>
                                        </p:tgtEl>
                                        <p:attrNameLst>
                                          <p:attrName>style.visibility</p:attrName>
                                        </p:attrNameLst>
                                      </p:cBhvr>
                                      <p:to>
                                        <p:strVal val="visible"/>
                                      </p:to>
                                    </p:set>
                                    <p:anim calcmode="lin" valueType="num">
                                      <p:cBhvr additive="repl">
                                        <p:cTn id="264"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265" dur="500" fill="hold"/>
                                        <p:tgtEl>
                                          <p:spTgt spid="98">
                                            <p:txEl>
                                              <p:pRg st="4" end="4"/>
                                            </p:txEl>
                                          </p:spTgt>
                                        </p:tgtEl>
                                        <p:attrNameLst>
                                          <p:attrName>ppt_h</p:attrName>
                                        </p:attrNameLst>
                                      </p:cBhvr>
                                      <p:tavLst>
                                        <p:tav tm="0">
                                          <p:val>
                                            <p:fltVal val="0"/>
                                          </p:val>
                                        </p:tav>
                                        <p:tav tm="100000">
                                          <p:val>
                                            <p:strVal val="#ppt_h"/>
                                          </p:val>
                                        </p:tav>
                                      </p:tavLst>
                                    </p:anim>
                                    <p:animEffect filter="fade" transition="in">
                                      <p:cBhvr additive="repl">
                                        <p:cTn id="266" dur="500"/>
                                        <p:tgtEl>
                                          <p:spTgt spid="98">
                                            <p:txEl>
                                              <p:pRg st="4" end="4"/>
                                            </p:txEl>
                                          </p:spTgt>
                                        </p:tgtEl>
                                      </p:cBhvr>
                                    </p:animEffect>
                                  </p:childTnLst>
                                </p:cTn>
                              </p:par>
                              <p:par>
                                <p:cTn id="267" nodeType="withEffect" fill="hold" presetClass="entr" presetID="53">
                                  <p:stCondLst>
                                    <p:cond delay="0"/>
                                  </p:stCondLst>
                                  <p:childTnLst>
                                    <p:set>
                                      <p:cBhvr>
                                        <p:cTn id="268" dur="1" fill="hold">
                                          <p:stCondLst>
                                            <p:cond delay="0"/>
                                          </p:stCondLst>
                                        </p:cTn>
                                        <p:tgtEl>
                                          <p:spTgt spid="98">
                                            <p:txEl>
                                              <p:pRg st="5" end="5"/>
                                            </p:txEl>
                                          </p:spTgt>
                                        </p:tgtEl>
                                        <p:attrNameLst>
                                          <p:attrName>style.visibility</p:attrName>
                                        </p:attrNameLst>
                                      </p:cBhvr>
                                      <p:to>
                                        <p:strVal val="visible"/>
                                      </p:to>
                                    </p:set>
                                    <p:anim calcmode="lin" valueType="num">
                                      <p:cBhvr additive="repl">
                                        <p:cTn id="269" dur="5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270" dur="500" fill="hold"/>
                                        <p:tgtEl>
                                          <p:spTgt spid="98">
                                            <p:txEl>
                                              <p:pRg st="5" end="5"/>
                                            </p:txEl>
                                          </p:spTgt>
                                        </p:tgtEl>
                                        <p:attrNameLst>
                                          <p:attrName>ppt_h</p:attrName>
                                        </p:attrNameLst>
                                      </p:cBhvr>
                                      <p:tavLst>
                                        <p:tav tm="0">
                                          <p:val>
                                            <p:fltVal val="0"/>
                                          </p:val>
                                        </p:tav>
                                        <p:tav tm="100000">
                                          <p:val>
                                            <p:strVal val="#ppt_h"/>
                                          </p:val>
                                        </p:tav>
                                      </p:tavLst>
                                    </p:anim>
                                    <p:animEffect filter="fade" transition="in">
                                      <p:cBhvr additive="repl">
                                        <p:cTn id="271" dur="500"/>
                                        <p:tgtEl>
                                          <p:spTgt spid="98">
                                            <p:txEl>
                                              <p:pRg st="5" end="5"/>
                                            </p:txEl>
                                          </p:spTgt>
                                        </p:tgtEl>
                                      </p:cBhvr>
                                    </p:animEffect>
                                  </p:childTnLst>
                                </p:cTn>
                              </p:par>
                              <p:par>
                                <p:cTn id="272" nodeType="withEffect" fill="hold" presetClass="entr" presetID="53">
                                  <p:stCondLst>
                                    <p:cond delay="0"/>
                                  </p:stCondLst>
                                  <p:childTnLst>
                                    <p:set>
                                      <p:cBhvr>
                                        <p:cTn id="273" dur="1" fill="hold">
                                          <p:stCondLst>
                                            <p:cond delay="0"/>
                                          </p:stCondLst>
                                        </p:cTn>
                                        <p:tgtEl>
                                          <p:spTgt spid="98">
                                            <p:txEl>
                                              <p:pRg st="6" end="6"/>
                                            </p:txEl>
                                          </p:spTgt>
                                        </p:tgtEl>
                                        <p:attrNameLst>
                                          <p:attrName>style.visibility</p:attrName>
                                        </p:attrNameLst>
                                      </p:cBhvr>
                                      <p:to>
                                        <p:strVal val="visible"/>
                                      </p:to>
                                    </p:set>
                                    <p:anim calcmode="lin" valueType="num">
                                      <p:cBhvr additive="repl">
                                        <p:cTn id="274" dur="500" fill="hold"/>
                                        <p:tgtEl>
                                          <p:spTgt spid="98">
                                            <p:txEl>
                                              <p:pRg st="6" end="6"/>
                                            </p:txEl>
                                          </p:spTgt>
                                        </p:tgtEl>
                                        <p:attrNameLst>
                                          <p:attrName>ppt_w</p:attrName>
                                        </p:attrNameLst>
                                      </p:cBhvr>
                                      <p:tavLst>
                                        <p:tav tm="0">
                                          <p:val>
                                            <p:fltVal val="0"/>
                                          </p:val>
                                        </p:tav>
                                        <p:tav tm="100000">
                                          <p:val>
                                            <p:strVal val="#ppt_w"/>
                                          </p:val>
                                        </p:tav>
                                      </p:tavLst>
                                    </p:anim>
                                    <p:anim calcmode="lin" valueType="num">
                                      <p:cBhvr additive="repl">
                                        <p:cTn id="275" dur="500" fill="hold"/>
                                        <p:tgtEl>
                                          <p:spTgt spid="98">
                                            <p:txEl>
                                              <p:pRg st="6" end="6"/>
                                            </p:txEl>
                                          </p:spTgt>
                                        </p:tgtEl>
                                        <p:attrNameLst>
                                          <p:attrName>ppt_h</p:attrName>
                                        </p:attrNameLst>
                                      </p:cBhvr>
                                      <p:tavLst>
                                        <p:tav tm="0">
                                          <p:val>
                                            <p:fltVal val="0"/>
                                          </p:val>
                                        </p:tav>
                                        <p:tav tm="100000">
                                          <p:val>
                                            <p:strVal val="#ppt_h"/>
                                          </p:val>
                                        </p:tav>
                                      </p:tavLst>
                                    </p:anim>
                                    <p:animEffect filter="fade" transition="in">
                                      <p:cBhvr additive="repl">
                                        <p:cTn id="276" dur="500"/>
                                        <p:tgtEl>
                                          <p:spTgt spid="98">
                                            <p:txEl>
                                              <p:pRg st="6" end="6"/>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98">
                                            <p:txEl>
                                              <p:pRg st="7" end="7"/>
                                            </p:txEl>
                                          </p:spTgt>
                                        </p:tgtEl>
                                        <p:attrNameLst>
                                          <p:attrName>style.visibility</p:attrName>
                                        </p:attrNameLst>
                                      </p:cBhvr>
                                      <p:to>
                                        <p:strVal val="visible"/>
                                      </p:to>
                                    </p:set>
                                    <p:anim calcmode="lin" valueType="num">
                                      <p:cBhvr additive="repl">
                                        <p:cTn id="281" dur="5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282" dur="500" fill="hold"/>
                                        <p:tgtEl>
                                          <p:spTgt spid="98">
                                            <p:txEl>
                                              <p:pRg st="7" end="7"/>
                                            </p:txEl>
                                          </p:spTgt>
                                        </p:tgtEl>
                                        <p:attrNameLst>
                                          <p:attrName>ppt_h</p:attrName>
                                        </p:attrNameLst>
                                      </p:cBhvr>
                                      <p:tavLst>
                                        <p:tav tm="0">
                                          <p:val>
                                            <p:fltVal val="0"/>
                                          </p:val>
                                        </p:tav>
                                        <p:tav tm="100000">
                                          <p:val>
                                            <p:strVal val="#ppt_h"/>
                                          </p:val>
                                        </p:tav>
                                      </p:tavLst>
                                    </p:anim>
                                    <p:animEffect filter="fade" transition="in">
                                      <p:cBhvr additive="repl">
                                        <p:cTn id="283"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1676520"/>
            <a:ext cx="8534160" cy="34290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4120" y="1828800"/>
            <a:ext cx="341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Paul, an Apostle of Christ Jes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Roman Prison</a:t>
            </a:r>
            <a:endParaRPr b="0" lang="en-US" sz="1800" spc="-1" strike="noStrike">
              <a:solidFill>
                <a:srgbClr val="ffffff"/>
              </a:solidFill>
              <a:latin typeface="Arial"/>
            </a:endParaRPr>
          </a:p>
        </p:txBody>
      </p:sp>
      <p:sp>
        <p:nvSpPr>
          <p:cNvPr id="101" name=""/>
          <p:cNvSpPr/>
          <p:nvPr/>
        </p:nvSpPr>
        <p:spPr>
          <a:xfrm>
            <a:off x="3735000" y="3733920"/>
            <a:ext cx="416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To the Saints &amp; Faithful 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phesus, Asia Minor</a:t>
            </a:r>
            <a:endParaRPr b="0" lang="en-US" sz="2400" spc="-1" strike="noStrike">
              <a:solidFill>
                <a:srgbClr val="ffffff"/>
              </a:solidFill>
              <a:latin typeface="Arial"/>
            </a:endParaRPr>
          </a:p>
        </p:txBody>
      </p:sp>
      <p:sp>
        <p:nvSpPr>
          <p:cNvPr id="102" name=""/>
          <p:cNvSpPr/>
          <p:nvPr/>
        </p:nvSpPr>
        <p:spPr>
          <a:xfrm>
            <a:off x="80773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8153280" y="1905120"/>
            <a:ext cx="457200" cy="685800"/>
            <a:chOff x="8153280" y="1905120"/>
            <a:chExt cx="457200" cy="685800"/>
          </a:xfrm>
        </p:grpSpPr>
        <p:sp>
          <p:nvSpPr>
            <p:cNvPr id="104" name=""/>
            <p:cNvSpPr/>
            <p:nvPr/>
          </p:nvSpPr>
          <p:spPr>
            <a:xfrm flipH="1">
              <a:off x="8167320" y="1948680"/>
              <a:ext cx="428760" cy="583560"/>
            </a:xfrm>
            <a:prstGeom prst="ellipse">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8310600" y="2036160"/>
              <a:ext cx="257040" cy="248040"/>
              <a:chOff x="8310600" y="2036160"/>
              <a:chExt cx="257040" cy="248040"/>
            </a:xfrm>
          </p:grpSpPr>
          <p:sp>
            <p:nvSpPr>
              <p:cNvPr id="106" name=""/>
              <p:cNvSpPr/>
              <p:nvPr/>
            </p:nvSpPr>
            <p:spPr>
              <a:xfrm flipH="1">
                <a:off x="842472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H="1">
                <a:off x="8324640" y="2036160"/>
                <a:ext cx="114120" cy="248040"/>
              </a:xfrm>
              <a:prstGeom prst="ellipse">
                <a:avLst/>
              </a:prstGeom>
              <a:solidFill>
                <a:srgbClr val="ffe701"/>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flipH="1">
                <a:off x="8310600" y="2152800"/>
                <a:ext cx="257040" cy="29160"/>
              </a:xfrm>
              <a:custGeom>
                <a:avLst/>
                <a:gdLst/>
                <a:ahLst/>
                <a:rect l="l" t="t" r="r" b="b"/>
                <a:pathLst>
                  <a:path w="864" h="96">
                    <a:moveTo>
                      <a:pt x="0" y="0"/>
                    </a:moveTo>
                    <a:cubicBezTo>
                      <a:pt x="168" y="48"/>
                      <a:pt x="336" y="96"/>
                      <a:pt x="480" y="96"/>
                    </a:cubicBezTo>
                    <a:cubicBezTo>
                      <a:pt x="624" y="96"/>
                      <a:pt x="744" y="48"/>
                      <a:pt x="864" y="0"/>
                    </a:cubicBezTo>
                  </a:path>
                </a:pathLst>
              </a:custGeom>
              <a:noFill/>
              <a:ln w="28440">
                <a:solidFill>
                  <a:srgbClr val="000099"/>
                </a:solidFill>
                <a:round/>
              </a:ln>
            </p:spPr>
            <p:style>
              <a:lnRef idx="0"/>
              <a:fillRef idx="0"/>
              <a:effectRef idx="0"/>
              <a:fontRef idx="minor"/>
            </p:style>
            <p:txBody>
              <a:bodyPr wrap="none" lIns="90000" rIns="90000" tIns="-17640" bIns="-17640" anchor="ctr">
                <a:noAutofit/>
              </a:bodyPr>
              <a:p>
                <a:endParaRPr b="0" lang="en-US" sz="1800" spc="-1" strike="noStrike">
                  <a:solidFill>
                    <a:srgbClr val="ffffff"/>
                  </a:solidFill>
                  <a:latin typeface="Arial"/>
                </a:endParaRPr>
              </a:p>
            </p:txBody>
          </p:sp>
          <p:sp>
            <p:nvSpPr>
              <p:cNvPr id="109" name=""/>
              <p:cNvSpPr/>
              <p:nvPr/>
            </p:nvSpPr>
            <p:spPr>
              <a:xfrm flipH="1">
                <a:off x="848160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H="1">
                <a:off x="8381520" y="2167560"/>
                <a:ext cx="42840" cy="43560"/>
              </a:xfrm>
              <a:prstGeom prst="ellipse">
                <a:avLst/>
              </a:prstGeom>
              <a:solidFill>
                <a:srgbClr val="003366"/>
              </a:solidFill>
              <a:ln w="28440">
                <a:solidFill>
                  <a:srgbClr val="000099"/>
                </a:solidFill>
                <a:miter/>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
            <p:cNvSpPr/>
            <p:nvPr/>
          </p:nvSpPr>
          <p:spPr>
            <a:xfrm flipH="1">
              <a:off x="8415360" y="2284560"/>
              <a:ext cx="109440" cy="60480"/>
            </a:xfrm>
            <a:custGeom>
              <a:avLst/>
              <a:gdLst/>
              <a:ahLst/>
              <a:rect l="l" t="t" r="r" b="b"/>
              <a:pathLst>
                <a:path w="368" h="200">
                  <a:moveTo>
                    <a:pt x="320" y="0"/>
                  </a:moveTo>
                  <a:cubicBezTo>
                    <a:pt x="192" y="8"/>
                    <a:pt x="64" y="16"/>
                    <a:pt x="32" y="48"/>
                  </a:cubicBezTo>
                  <a:cubicBezTo>
                    <a:pt x="0" y="80"/>
                    <a:pt x="72" y="184"/>
                    <a:pt x="128" y="192"/>
                  </a:cubicBezTo>
                  <a:cubicBezTo>
                    <a:pt x="184" y="200"/>
                    <a:pt x="328" y="112"/>
                    <a:pt x="368" y="96"/>
                  </a:cubicBezTo>
                </a:path>
              </a:pathLst>
            </a:custGeom>
            <a:noFill/>
            <a:ln w="38160">
              <a:solidFill>
                <a:srgbClr val="000099"/>
              </a:solidFill>
              <a:round/>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112" name=""/>
            <p:cNvSpPr/>
            <p:nvPr/>
          </p:nvSpPr>
          <p:spPr>
            <a:xfrm flipH="1">
              <a:off x="8234280" y="2109240"/>
              <a:ext cx="32760" cy="135000"/>
            </a:xfrm>
            <a:custGeom>
              <a:avLst/>
              <a:gdLst/>
              <a:ahLst/>
              <a:rect l="l" t="t" r="r" b="b"/>
              <a:pathLst>
                <a:path w="111" h="445">
                  <a:moveTo>
                    <a:pt x="0" y="78"/>
                  </a:moveTo>
                  <a:cubicBezTo>
                    <a:pt x="26" y="0"/>
                    <a:pt x="0" y="4"/>
                    <a:pt x="55" y="22"/>
                  </a:cubicBezTo>
                  <a:cubicBezTo>
                    <a:pt x="94" y="61"/>
                    <a:pt x="75" y="35"/>
                    <a:pt x="100" y="111"/>
                  </a:cubicBezTo>
                  <a:cubicBezTo>
                    <a:pt x="104" y="122"/>
                    <a:pt x="111" y="145"/>
                    <a:pt x="111" y="145"/>
                  </a:cubicBezTo>
                  <a:cubicBezTo>
                    <a:pt x="104" y="221"/>
                    <a:pt x="92" y="383"/>
                    <a:pt x="33" y="445"/>
                  </a:cubicBezTo>
                  <a:cubicBezTo>
                    <a:pt x="21" y="408"/>
                    <a:pt x="11" y="372"/>
                    <a:pt x="11" y="333"/>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8153280" y="1905120"/>
              <a:ext cx="457200" cy="481680"/>
            </a:xfrm>
            <a:custGeom>
              <a:avLst/>
              <a:gdLst/>
              <a:ahLst/>
              <a:rect l="l" t="t" r="r" b="b"/>
              <a:pathLst>
                <a:path w="1536" h="1584">
                  <a:moveTo>
                    <a:pt x="912" y="240"/>
                  </a:moveTo>
                  <a:lnTo>
                    <a:pt x="768" y="336"/>
                  </a:lnTo>
                  <a:lnTo>
                    <a:pt x="336" y="480"/>
                  </a:lnTo>
                  <a:lnTo>
                    <a:pt x="144" y="624"/>
                  </a:lnTo>
                  <a:lnTo>
                    <a:pt x="48" y="960"/>
                  </a:lnTo>
                  <a:lnTo>
                    <a:pt x="0" y="1008"/>
                  </a:lnTo>
                  <a:lnTo>
                    <a:pt x="0" y="912"/>
                  </a:lnTo>
                  <a:lnTo>
                    <a:pt x="0" y="768"/>
                  </a:lnTo>
                  <a:lnTo>
                    <a:pt x="0" y="432"/>
                  </a:lnTo>
                  <a:lnTo>
                    <a:pt x="240" y="192"/>
                  </a:lnTo>
                  <a:lnTo>
                    <a:pt x="528" y="48"/>
                  </a:lnTo>
                  <a:lnTo>
                    <a:pt x="816" y="0"/>
                  </a:lnTo>
                  <a:lnTo>
                    <a:pt x="1248" y="144"/>
                  </a:lnTo>
                  <a:lnTo>
                    <a:pt x="1392" y="384"/>
                  </a:lnTo>
                  <a:lnTo>
                    <a:pt x="1536" y="768"/>
                  </a:lnTo>
                  <a:lnTo>
                    <a:pt x="1536" y="1248"/>
                  </a:lnTo>
                  <a:lnTo>
                    <a:pt x="1440" y="1584"/>
                  </a:lnTo>
                  <a:lnTo>
                    <a:pt x="1344" y="1344"/>
                  </a:lnTo>
                  <a:lnTo>
                    <a:pt x="1248" y="1056"/>
                  </a:lnTo>
                  <a:lnTo>
                    <a:pt x="1248" y="864"/>
                  </a:lnTo>
                  <a:lnTo>
                    <a:pt x="1296" y="816"/>
                  </a:lnTo>
                  <a:lnTo>
                    <a:pt x="1248" y="720"/>
                  </a:lnTo>
                  <a:lnTo>
                    <a:pt x="1152" y="720"/>
                  </a:lnTo>
                  <a:lnTo>
                    <a:pt x="1152" y="816"/>
                  </a:lnTo>
                  <a:lnTo>
                    <a:pt x="1152" y="912"/>
                  </a:lnTo>
                  <a:lnTo>
                    <a:pt x="1056" y="672"/>
                  </a:lnTo>
                  <a:lnTo>
                    <a:pt x="912" y="432"/>
                  </a:lnTo>
                  <a:lnTo>
                    <a:pt x="816" y="336"/>
                  </a:lnTo>
                  <a:lnTo>
                    <a:pt x="864" y="288"/>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H="1">
              <a:off x="8238600" y="2211480"/>
              <a:ext cx="343080" cy="379440"/>
            </a:xfrm>
            <a:custGeom>
              <a:avLst/>
              <a:gdLst/>
              <a:ahLst/>
              <a:rect l="l" t="t" r="r" b="b"/>
              <a:pathLst>
                <a:path w="1152" h="1248">
                  <a:moveTo>
                    <a:pt x="1056" y="0"/>
                  </a:moveTo>
                  <a:lnTo>
                    <a:pt x="1008" y="336"/>
                  </a:lnTo>
                  <a:lnTo>
                    <a:pt x="816" y="432"/>
                  </a:lnTo>
                  <a:lnTo>
                    <a:pt x="720" y="384"/>
                  </a:lnTo>
                  <a:lnTo>
                    <a:pt x="624" y="384"/>
                  </a:lnTo>
                  <a:lnTo>
                    <a:pt x="432" y="432"/>
                  </a:lnTo>
                  <a:lnTo>
                    <a:pt x="384" y="480"/>
                  </a:lnTo>
                  <a:lnTo>
                    <a:pt x="240" y="528"/>
                  </a:lnTo>
                  <a:lnTo>
                    <a:pt x="96" y="432"/>
                  </a:lnTo>
                  <a:lnTo>
                    <a:pt x="0" y="384"/>
                  </a:lnTo>
                  <a:lnTo>
                    <a:pt x="96" y="720"/>
                  </a:lnTo>
                  <a:lnTo>
                    <a:pt x="192" y="960"/>
                  </a:lnTo>
                  <a:lnTo>
                    <a:pt x="432" y="1200"/>
                  </a:lnTo>
                  <a:lnTo>
                    <a:pt x="672" y="1248"/>
                  </a:lnTo>
                  <a:lnTo>
                    <a:pt x="1056" y="1104"/>
                  </a:lnTo>
                  <a:lnTo>
                    <a:pt x="1152" y="720"/>
                  </a:lnTo>
                  <a:lnTo>
                    <a:pt x="1104" y="288"/>
                  </a:lnTo>
                  <a:lnTo>
                    <a:pt x="1056" y="96"/>
                  </a:lnTo>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8381880" y="2357280"/>
              <a:ext cx="100080" cy="58320"/>
            </a:xfrm>
            <a:custGeom>
              <a:avLst/>
              <a:gdLst/>
              <a:ahLst/>
              <a:rect l="l" t="t" r="r" b="b"/>
              <a:pathLst>
                <a:path w="288" h="192">
                  <a:moveTo>
                    <a:pt x="0" y="96"/>
                  </a:moveTo>
                  <a:lnTo>
                    <a:pt x="144" y="96"/>
                  </a:lnTo>
                  <a:lnTo>
                    <a:pt x="240" y="0"/>
                  </a:lnTo>
                  <a:lnTo>
                    <a:pt x="288" y="144"/>
                  </a:lnTo>
                  <a:lnTo>
                    <a:pt x="144" y="192"/>
                  </a:lnTo>
                  <a:lnTo>
                    <a:pt x="0" y="96"/>
                  </a:lnTo>
                  <a:close/>
                </a:path>
              </a:pathLst>
            </a:custGeom>
            <a:solidFill>
              <a:srgbClr val="000099"/>
            </a:solidFill>
            <a:ln w="9360">
              <a:solidFill>
                <a:srgbClr val="ffffff"/>
              </a:solidFill>
              <a:round/>
            </a:ln>
          </p:spPr>
          <p:style>
            <a:lnRef idx="0"/>
            <a:fillRef idx="0"/>
            <a:effectRef idx="0"/>
            <a:fontRef idx="minor"/>
          </p:style>
          <p:txBody>
            <a:bodyPr wrap="none" lIns="90000" rIns="90000" tIns="11520" bIns="11520" anchor="ctr">
              <a:noAutofit/>
            </a:bodyPr>
            <a:p>
              <a:endParaRPr b="0" lang="en-US" sz="1800" spc="-1" strike="noStrike">
                <a:solidFill>
                  <a:srgbClr val="ffffff"/>
                </a:solidFill>
                <a:latin typeface="Arial"/>
              </a:endParaRPr>
            </a:p>
          </p:txBody>
        </p:sp>
      </p:grpSp>
      <p:sp>
        <p:nvSpPr>
          <p:cNvPr id="116" name=""/>
          <p:cNvSpPr/>
          <p:nvPr/>
        </p:nvSpPr>
        <p:spPr>
          <a:xfrm>
            <a:off x="7391520" y="1828800"/>
            <a:ext cx="609480" cy="914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7543800" y="1905120"/>
            <a:ext cx="380880" cy="761400"/>
            <a:chOff x="7543800" y="1905120"/>
            <a:chExt cx="380880" cy="761400"/>
          </a:xfrm>
        </p:grpSpPr>
        <p:sp>
          <p:nvSpPr>
            <p:cNvPr id="118" name=""/>
            <p:cNvSpPr/>
            <p:nvPr/>
          </p:nvSpPr>
          <p:spPr>
            <a:xfrm>
              <a:off x="7812720" y="1935360"/>
              <a:ext cx="93960" cy="290520"/>
            </a:xfrm>
            <a:custGeom>
              <a:avLst/>
              <a:gdLst/>
              <a:ahLst/>
              <a:rect l="l" t="t" r="r" b="b"/>
              <a:pathLst>
                <a:path w="336" h="912">
                  <a:moveTo>
                    <a:pt x="48" y="0"/>
                  </a:moveTo>
                  <a:lnTo>
                    <a:pt x="240" y="192"/>
                  </a:lnTo>
                  <a:lnTo>
                    <a:pt x="336" y="432"/>
                  </a:lnTo>
                  <a:lnTo>
                    <a:pt x="336" y="720"/>
                  </a:lnTo>
                  <a:lnTo>
                    <a:pt x="240" y="912"/>
                  </a:lnTo>
                  <a:lnTo>
                    <a:pt x="192" y="528"/>
                  </a:lnTo>
                  <a:lnTo>
                    <a:pt x="48" y="240"/>
                  </a:lnTo>
                  <a:lnTo>
                    <a:pt x="0" y="96"/>
                  </a:lnTo>
                  <a:lnTo>
                    <a:pt x="48" y="0"/>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543800" y="1935360"/>
              <a:ext cx="380880" cy="731160"/>
            </a:xfrm>
            <a:custGeom>
              <a:avLst/>
              <a:gdLst/>
              <a:ahLst/>
              <a:rect l="l" t="t" r="r" b="b"/>
              <a:pathLst>
                <a:path w="1360" h="2296">
                  <a:moveTo>
                    <a:pt x="160" y="624"/>
                  </a:moveTo>
                  <a:lnTo>
                    <a:pt x="256" y="240"/>
                  </a:lnTo>
                  <a:lnTo>
                    <a:pt x="496" y="48"/>
                  </a:lnTo>
                  <a:lnTo>
                    <a:pt x="784" y="0"/>
                  </a:lnTo>
                  <a:cubicBezTo>
                    <a:pt x="872" y="8"/>
                    <a:pt x="952" y="40"/>
                    <a:pt x="1024" y="96"/>
                  </a:cubicBezTo>
                  <a:cubicBezTo>
                    <a:pt x="1096" y="152"/>
                    <a:pt x="1176" y="224"/>
                    <a:pt x="1216" y="336"/>
                  </a:cubicBezTo>
                  <a:lnTo>
                    <a:pt x="1264" y="768"/>
                  </a:lnTo>
                  <a:cubicBezTo>
                    <a:pt x="1264" y="768"/>
                    <a:pt x="1272" y="1164"/>
                    <a:pt x="1264" y="1152"/>
                  </a:cubicBezTo>
                  <a:cubicBezTo>
                    <a:pt x="1256" y="1140"/>
                    <a:pt x="1360" y="1488"/>
                    <a:pt x="1360" y="1488"/>
                  </a:cubicBezTo>
                  <a:cubicBezTo>
                    <a:pt x="1360" y="1488"/>
                    <a:pt x="1312" y="1824"/>
                    <a:pt x="1312" y="1824"/>
                  </a:cubicBezTo>
                  <a:cubicBezTo>
                    <a:pt x="1312" y="1824"/>
                    <a:pt x="1256" y="1944"/>
                    <a:pt x="1168" y="2016"/>
                  </a:cubicBezTo>
                  <a:cubicBezTo>
                    <a:pt x="1080" y="2088"/>
                    <a:pt x="944" y="2220"/>
                    <a:pt x="784" y="2256"/>
                  </a:cubicBezTo>
                  <a:cubicBezTo>
                    <a:pt x="656" y="2288"/>
                    <a:pt x="520" y="2296"/>
                    <a:pt x="400" y="2208"/>
                  </a:cubicBezTo>
                  <a:cubicBezTo>
                    <a:pt x="280" y="2120"/>
                    <a:pt x="128" y="1888"/>
                    <a:pt x="64" y="1728"/>
                  </a:cubicBezTo>
                  <a:cubicBezTo>
                    <a:pt x="0" y="1568"/>
                    <a:pt x="0" y="1432"/>
                    <a:pt x="16" y="1248"/>
                  </a:cubicBezTo>
                  <a:cubicBezTo>
                    <a:pt x="32" y="1064"/>
                    <a:pt x="130" y="754"/>
                    <a:pt x="160" y="624"/>
                  </a:cubicBezTo>
                  <a:close/>
                </a:path>
              </a:pathLst>
            </a:custGeom>
            <a:solidFill>
              <a:srgbClr val="fbdc85"/>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78572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21" name=""/>
            <p:cNvSpPr/>
            <p:nvPr/>
          </p:nvSpPr>
          <p:spPr>
            <a:xfrm>
              <a:off x="7678080" y="2118960"/>
              <a:ext cx="40320" cy="60840"/>
            </a:xfrm>
            <a:prstGeom prst="ellipse">
              <a:avLst/>
            </a:prstGeom>
            <a:solidFill>
              <a:srgbClr val="3333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ffffff"/>
                </a:solidFill>
                <a:latin typeface="Arial"/>
              </a:endParaRPr>
            </a:p>
          </p:txBody>
        </p:sp>
        <p:sp>
          <p:nvSpPr>
            <p:cNvPr id="122" name=""/>
            <p:cNvSpPr/>
            <p:nvPr/>
          </p:nvSpPr>
          <p:spPr>
            <a:xfrm>
              <a:off x="7691760" y="2378880"/>
              <a:ext cx="120960" cy="60840"/>
            </a:xfrm>
            <a:custGeom>
              <a:avLst/>
              <a:gdLst/>
              <a:ahLst/>
              <a:rect l="l" t="t" r="r" b="b"/>
              <a:pathLst>
                <a:path w="432" h="192">
                  <a:moveTo>
                    <a:pt x="336" y="48"/>
                  </a:moveTo>
                  <a:lnTo>
                    <a:pt x="96" y="0"/>
                  </a:lnTo>
                  <a:lnTo>
                    <a:pt x="0" y="96"/>
                  </a:lnTo>
                  <a:lnTo>
                    <a:pt x="336" y="192"/>
                  </a:lnTo>
                  <a:lnTo>
                    <a:pt x="432" y="144"/>
                  </a:lnTo>
                  <a:lnTo>
                    <a:pt x="432" y="0"/>
                  </a:lnTo>
                  <a:lnTo>
                    <a:pt x="336" y="48"/>
                  </a:lnTo>
                  <a:close/>
                </a:path>
              </a:pathLst>
            </a:custGeom>
            <a:solidFill>
              <a:srgbClr val="333300"/>
            </a:solidFill>
            <a:ln w="9360">
              <a:solidFill>
                <a:srgbClr val="ffffff"/>
              </a:solidFill>
              <a:round/>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123" name=""/>
            <p:cNvSpPr/>
            <p:nvPr/>
          </p:nvSpPr>
          <p:spPr>
            <a:xfrm>
              <a:off x="7718400" y="2210760"/>
              <a:ext cx="136440" cy="124560"/>
            </a:xfrm>
            <a:custGeom>
              <a:avLst/>
              <a:gdLst/>
              <a:ahLst/>
              <a:rect l="l" t="t" r="r" b="b"/>
              <a:pathLst>
                <a:path w="488" h="472">
                  <a:moveTo>
                    <a:pt x="48" y="152"/>
                  </a:moveTo>
                  <a:cubicBezTo>
                    <a:pt x="156" y="76"/>
                    <a:pt x="264" y="0"/>
                    <a:pt x="336" y="8"/>
                  </a:cubicBezTo>
                  <a:cubicBezTo>
                    <a:pt x="408" y="16"/>
                    <a:pt x="488" y="128"/>
                    <a:pt x="480" y="200"/>
                  </a:cubicBezTo>
                  <a:cubicBezTo>
                    <a:pt x="472" y="272"/>
                    <a:pt x="368" y="408"/>
                    <a:pt x="288" y="440"/>
                  </a:cubicBezTo>
                  <a:cubicBezTo>
                    <a:pt x="208" y="472"/>
                    <a:pt x="104" y="432"/>
                    <a:pt x="0" y="392"/>
                  </a:cubicBezTo>
                </a:path>
              </a:pathLst>
            </a:custGeom>
            <a:noFill/>
            <a:ln w="324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543800" y="1905120"/>
              <a:ext cx="268920" cy="443160"/>
            </a:xfrm>
            <a:custGeom>
              <a:avLst/>
              <a:gdLst/>
              <a:ahLst/>
              <a:rect l="l" t="t" r="r" b="b"/>
              <a:pathLst>
                <a:path w="960" h="1392">
                  <a:moveTo>
                    <a:pt x="960" y="192"/>
                  </a:moveTo>
                  <a:lnTo>
                    <a:pt x="672" y="144"/>
                  </a:lnTo>
                  <a:lnTo>
                    <a:pt x="384" y="288"/>
                  </a:lnTo>
                  <a:lnTo>
                    <a:pt x="288" y="432"/>
                  </a:lnTo>
                  <a:lnTo>
                    <a:pt x="192" y="624"/>
                  </a:lnTo>
                  <a:lnTo>
                    <a:pt x="192" y="960"/>
                  </a:lnTo>
                  <a:lnTo>
                    <a:pt x="96" y="864"/>
                  </a:lnTo>
                  <a:lnTo>
                    <a:pt x="48" y="1152"/>
                  </a:lnTo>
                  <a:lnTo>
                    <a:pt x="0" y="1392"/>
                  </a:lnTo>
                  <a:lnTo>
                    <a:pt x="0" y="816"/>
                  </a:lnTo>
                  <a:lnTo>
                    <a:pt x="48" y="384"/>
                  </a:lnTo>
                  <a:lnTo>
                    <a:pt x="336" y="96"/>
                  </a:lnTo>
                  <a:lnTo>
                    <a:pt x="624" y="0"/>
                  </a:lnTo>
                  <a:lnTo>
                    <a:pt x="912" y="48"/>
                  </a:lnTo>
                  <a:lnTo>
                    <a:pt x="960" y="192"/>
                  </a:lnTo>
                  <a:close/>
                </a:path>
              </a:pathLst>
            </a:custGeom>
            <a:solidFill>
              <a:srgbClr val="663300"/>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746928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ychic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nesimus</a:t>
            </a:r>
            <a:endParaRPr b="0" lang="en-US" sz="16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6" name=""/>
          <p:cNvGraphicFramePr/>
          <p:nvPr/>
        </p:nvGraphicFramePr>
        <p:xfrm>
          <a:off x="152280" y="152280"/>
          <a:ext cx="8915400" cy="1143000"/>
        </p:xfrm>
        <a:graphic>
          <a:graphicData uri="http://schemas.openxmlformats.org/drawingml/2006/table">
            <a:tbl>
              <a:tblPr/>
              <a:tblGrid>
                <a:gridCol w="4457880"/>
                <a:gridCol w="4457520"/>
              </a:tblGrid>
              <a:tr h="495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1-3</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hapters 4-6</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ealth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alk of the Christian</a:t>
                      </a:r>
                      <a:endParaRPr b="0" lang="en-US" sz="32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127" name="PlaceHolder 1"/>
          <p:cNvSpPr>
            <a:spLocks noGrp="1"/>
          </p:cNvSpPr>
          <p:nvPr>
            <p:ph/>
          </p:nvPr>
        </p:nvSpPr>
        <p:spPr>
          <a:xfrm>
            <a:off x="228600" y="1447560"/>
            <a:ext cx="41911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r>
              <a:rPr b="0" lang="en-US" sz="2400" spc="-1" strike="noStrike">
                <a:solidFill>
                  <a:srgbClr val="ffffff"/>
                </a:solidFill>
                <a:latin typeface="Arial"/>
              </a:rPr>
              <a:t>	</a:t>
            </a:r>
            <a:r>
              <a:rPr b="0" lang="en-US" sz="2400" spc="-1" strike="noStrike">
                <a:solidFill>
                  <a:srgbClr val="ffffff"/>
                </a:solidFill>
                <a:latin typeface="Arial"/>
              </a:rPr>
              <a:t> “according to th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 “we have obtained an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a pledge of our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 “the riches of the glory of His inherita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r>
              <a:rPr b="0" lang="en-US" sz="2400" spc="-1" strike="noStrike">
                <a:solidFill>
                  <a:srgbClr val="ffffff"/>
                </a:solidFill>
                <a:latin typeface="Arial"/>
              </a:rPr>
              <a:t>	</a:t>
            </a:r>
            <a:r>
              <a:rPr b="0" lang="en-US" sz="2400" spc="-1" strike="noStrike">
                <a:solidFill>
                  <a:srgbClr val="ffffff"/>
                </a:solidFill>
                <a:latin typeface="Arial"/>
              </a:rPr>
              <a:t> “the surpassing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r>
              <a:rPr b="0" lang="en-US" sz="2400" spc="-1" strike="noStrike">
                <a:solidFill>
                  <a:srgbClr val="ffffff"/>
                </a:solidFill>
                <a:latin typeface="Arial"/>
              </a:rPr>
              <a:t>	</a:t>
            </a:r>
            <a:r>
              <a:rPr b="0" lang="en-US" sz="2400" spc="-1" strike="noStrike">
                <a:solidFill>
                  <a:srgbClr val="ffffff"/>
                </a:solidFill>
                <a:latin typeface="Arial"/>
              </a:rPr>
              <a:t> “the unfathomable riches of His g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 “the riches of His glory”</a:t>
            </a:r>
            <a:endParaRPr b="0" lang="en-US" sz="2400" spc="-1" strike="noStrike">
              <a:solidFill>
                <a:srgbClr val="ffffff"/>
              </a:solidFill>
              <a:latin typeface="Arial"/>
            </a:endParaRPr>
          </a:p>
        </p:txBody>
      </p:sp>
      <p:sp>
        <p:nvSpPr>
          <p:cNvPr id="128" name=""/>
          <p:cNvSpPr/>
          <p:nvPr/>
        </p:nvSpPr>
        <p:spPr>
          <a:xfrm>
            <a:off x="4648320" y="1447920"/>
            <a:ext cx="4495680" cy="5257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r>
              <a:rPr b="0" lang="en-US" sz="2400" spc="-1" strike="noStrike">
                <a:solidFill>
                  <a:srgbClr val="ffffff"/>
                </a:solidFill>
                <a:latin typeface="Arial"/>
              </a:rPr>
              <a:t>	</a:t>
            </a:r>
            <a:r>
              <a:rPr b="0" lang="en-US" sz="2400" spc="-1" strike="noStrike">
                <a:solidFill>
                  <a:srgbClr val="ffffff"/>
                </a:solidFill>
                <a:latin typeface="Arial"/>
              </a:rPr>
              <a:t>“walk in a manner worthy of the calling with which you have been calle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7 “walk no longer just as the Gentiles also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en-US" sz="2400" spc="-1" strike="noStrike">
                <a:solidFill>
                  <a:srgbClr val="ffffff"/>
                </a:solidFill>
                <a:latin typeface="Arial"/>
              </a:rPr>
              <a:t>	</a:t>
            </a:r>
            <a:r>
              <a:rPr b="0" lang="en-US" sz="2400" spc="-1" strike="noStrike">
                <a:solidFill>
                  <a:srgbClr val="ffffff"/>
                </a:solidFill>
                <a:latin typeface="Arial"/>
              </a:rPr>
              <a:t>“walk in love”</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a:t>
            </a:r>
            <a:r>
              <a:rPr b="0" lang="en-US" sz="2400" spc="-1" strike="noStrike">
                <a:solidFill>
                  <a:srgbClr val="ffffff"/>
                </a:solidFill>
                <a:latin typeface="Arial"/>
              </a:rPr>
              <a:t>	</a:t>
            </a:r>
            <a:r>
              <a:rPr b="0" lang="en-US" sz="2400" spc="-1" strike="noStrike">
                <a:solidFill>
                  <a:srgbClr val="ffffff"/>
                </a:solidFill>
                <a:latin typeface="Arial"/>
              </a:rPr>
              <a:t>“walk as children of light”</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5 “be careful how you walk”</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1 “stand firm against the schemes of the devil”</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3 “stand fir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 “Stand firm”</a:t>
            </a:r>
            <a:endParaRPr b="0" lang="en-US" sz="2400" spc="-1" strike="noStrike">
              <a:solidFill>
                <a:srgbClr val="ffffff"/>
              </a:solidFill>
              <a:latin typeface="Arial"/>
            </a:endParaRPr>
          </a:p>
        </p:txBody>
      </p:sp>
    </p:spTree>
  </p:cSld>
  <p:transition spd="med">
    <p:fad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90" dur="500"/>
                                        <p:tgtEl>
                                          <p:spTgt spid="12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95" dur="500"/>
                                        <p:tgtEl>
                                          <p:spTgt spid="127">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00" dur="500"/>
                                        <p:tgtEl>
                                          <p:spTgt spid="127">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05" dur="500"/>
                                        <p:tgtEl>
                                          <p:spTgt spid="127">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10" dur="500"/>
                                        <p:tgtEl>
                                          <p:spTgt spid="127">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5" dur="500"/>
                                        <p:tgtEl>
                                          <p:spTgt spid="127">
                                            <p:txEl>
                                              <p:pRg st="5" end="5"/>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320" dur="500"/>
                                        <p:tgtEl>
                                          <p:spTgt spid="127">
                                            <p:txEl>
                                              <p:pRg st="6" end="6"/>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25" dur="500"/>
                                        <p:tgtEl>
                                          <p:spTgt spid="12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30" dur="500"/>
                                        <p:tgtEl>
                                          <p:spTgt spid="128">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335" dur="500"/>
                                        <p:tgtEl>
                                          <p:spTgt spid="128">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28">
                                            <p:txEl>
                                              <p:pRg st="3" end="3"/>
                                            </p:txEl>
                                          </p:spTgt>
                                        </p:tgtEl>
                                        <p:attrNameLst>
                                          <p:attrName>style.visibility</p:attrName>
                                        </p:attrNameLst>
                                      </p:cBhvr>
                                      <p:to>
                                        <p:strVal val="visible"/>
                                      </p:to>
                                    </p:set>
                                    <p:animEffect filter="fade" transition="in">
                                      <p:cBhvr additive="repl">
                                        <p:cTn id="340" dur="500"/>
                                        <p:tgtEl>
                                          <p:spTgt spid="128">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28">
                                            <p:txEl>
                                              <p:pRg st="4" end="4"/>
                                            </p:txEl>
                                          </p:spTgt>
                                        </p:tgtEl>
                                        <p:attrNameLst>
                                          <p:attrName>style.visibility</p:attrName>
                                        </p:attrNameLst>
                                      </p:cBhvr>
                                      <p:to>
                                        <p:strVal val="visible"/>
                                      </p:to>
                                    </p:set>
                                    <p:animEffect filter="fade" transition="in">
                                      <p:cBhvr additive="repl">
                                        <p:cTn id="345" dur="500"/>
                                        <p:tgtEl>
                                          <p:spTgt spid="128">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350" dur="500"/>
                                        <p:tgtEl>
                                          <p:spTgt spid="128">
                                            <p:txEl>
                                              <p:pRg st="5" end="5"/>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28">
                                            <p:txEl>
                                              <p:pRg st="6" end="6"/>
                                            </p:txEl>
                                          </p:spTgt>
                                        </p:tgtEl>
                                        <p:attrNameLst>
                                          <p:attrName>style.visibility</p:attrName>
                                        </p:attrNameLst>
                                      </p:cBhvr>
                                      <p:to>
                                        <p:strVal val="visible"/>
                                      </p:to>
                                    </p:set>
                                    <p:animEffect filter="fade" transition="in">
                                      <p:cBhvr additive="repl">
                                        <p:cTn id="355" dur="500"/>
                                        <p:tgtEl>
                                          <p:spTgt spid="128">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28">
                                            <p:txEl>
                                              <p:pRg st="7" end="7"/>
                                            </p:txEl>
                                          </p:spTgt>
                                        </p:tgtEl>
                                        <p:attrNameLst>
                                          <p:attrName>style.visibility</p:attrName>
                                        </p:attrNameLst>
                                      </p:cBhvr>
                                      <p:to>
                                        <p:strVal val="visible"/>
                                      </p:to>
                                    </p:set>
                                    <p:animEffect filter="fade" transition="in">
                                      <p:cBhvr additive="repl">
                                        <p:cTn id="360"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65640" y="4470480"/>
            <a:ext cx="1676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1:3-4</a:t>
            </a:r>
            <a:endParaRPr b="0" lang="en-US" sz="4400" spc="-1" strike="noStrike">
              <a:solidFill>
                <a:srgbClr val="ccffff"/>
              </a:solidFill>
              <a:latin typeface="Arial"/>
            </a:endParaRPr>
          </a:p>
        </p:txBody>
      </p:sp>
      <p:sp>
        <p:nvSpPr>
          <p:cNvPr id="131" name="PlaceHolder 2"/>
          <p:cNvSpPr>
            <a:spLocks noGrp="1"/>
          </p:cNvSpPr>
          <p:nvPr>
            <p:ph type="subTitle"/>
          </p:nvPr>
        </p:nvSpPr>
        <p:spPr>
          <a:xfrm>
            <a:off x="1371600" y="914400"/>
            <a:ext cx="6400800" cy="26668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378440" y="4027320"/>
            <a:ext cx="2000520" cy="9471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in Christ</a:t>
            </a:r>
            <a:endParaRPr b="0" lang="en-US" sz="2800" spc="-1" strike="noStrike">
              <a:solidFill>
                <a:srgbClr val="ffffff"/>
              </a:solidFill>
              <a:latin typeface="Arial"/>
            </a:endParaRPr>
          </a:p>
        </p:txBody>
      </p:sp>
      <p:sp>
        <p:nvSpPr>
          <p:cNvPr id="134" name=""/>
          <p:cNvSpPr/>
          <p:nvPr/>
        </p:nvSpPr>
        <p:spPr>
          <a:xfrm>
            <a:off x="5323320" y="4038480"/>
            <a:ext cx="2713680" cy="9471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st as 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se us in Him</a:t>
            </a:r>
            <a:endParaRPr b="0" lang="en-US" sz="2800" spc="-1" strike="noStrike">
              <a:solidFill>
                <a:srgbClr val="ffffff"/>
              </a:solidFill>
              <a:latin typeface="Arial"/>
            </a:endParaRPr>
          </a:p>
        </p:txBody>
      </p:sp>
    </p:spTree>
  </p:cSld>
  <p:transition spd="med">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33"/>
                                        </p:tgtEl>
                                        <p:attrNameLst>
                                          <p:attrName>style.visibility</p:attrName>
                                        </p:attrNameLst>
                                      </p:cBhvr>
                                      <p:to>
                                        <p:strVal val="visible"/>
                                      </p:to>
                                    </p:set>
                                    <p:anim calcmode="lin" valueType="num">
                                      <p:cBhvr additive="repl">
                                        <p:cTn id="367" dur="1000" fill="hold"/>
                                        <p:tgtEl>
                                          <p:spTgt spid="133"/>
                                        </p:tgtEl>
                                        <p:attrNameLst>
                                          <p:attrName>ppt_w</p:attrName>
                                        </p:attrNameLst>
                                      </p:cBhvr>
                                      <p:tavLst>
                                        <p:tav tm="0">
                                          <p:val>
                                            <p:fltVal val="0"/>
                                          </p:val>
                                        </p:tav>
                                        <p:tav tm="100000">
                                          <p:val>
                                            <p:strVal val="#ppt_w"/>
                                          </p:val>
                                        </p:tav>
                                      </p:tavLst>
                                    </p:anim>
                                    <p:anim calcmode="lin" valueType="num">
                                      <p:cBhvr additive="repl">
                                        <p:cTn id="368" dur="1000" fill="hold"/>
                                        <p:tgtEl>
                                          <p:spTgt spid="133"/>
                                        </p:tgtEl>
                                        <p:attrNameLst>
                                          <p:attrName>ppt_h</p:attrName>
                                        </p:attrNameLst>
                                      </p:cBhvr>
                                      <p:tavLst>
                                        <p:tav tm="0">
                                          <p:val>
                                            <p:fltVal val="0"/>
                                          </p:val>
                                        </p:tav>
                                        <p:tav tm="100000">
                                          <p:val>
                                            <p:strVal val="#ppt_h"/>
                                          </p:val>
                                        </p:tav>
                                      </p:tavLst>
                                    </p:anim>
                                    <p:animEffect filter="fade" transition="in">
                                      <p:cBhvr additive="repl">
                                        <p:cTn id="369" dur="1000"/>
                                        <p:tgtEl>
                                          <p:spTgt spid="133"/>
                                        </p:tgtEl>
                                      </p:cBhvr>
                                    </p:animEffect>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29"/>
                                        </p:tgtEl>
                                        <p:attrNameLst>
                                          <p:attrName>style.visibility</p:attrName>
                                        </p:attrNameLst>
                                      </p:cBhvr>
                                      <p:to>
                                        <p:strVal val="visible"/>
                                      </p:to>
                                    </p:set>
                                    <p:animEffect filter="wipe(left)" transition="in">
                                      <p:cBhvr additive="repl">
                                        <p:cTn id="373" dur="500"/>
                                        <p:tgtEl>
                                          <p:spTgt spid="129"/>
                                        </p:tgtEl>
                                      </p:cBhvr>
                                    </p:animEffect>
                                  </p:childTnLst>
                                </p:cTn>
                              </p:par>
                            </p:childTnLst>
                          </p:cTn>
                        </p:par>
                        <p:par>
                          <p:cTn id="374" fill="hold">
                            <p:stCondLst>
                              <p:cond delay="1500"/>
                            </p:stCondLst>
                            <p:childTnLst>
                              <p:par>
                                <p:cTn id="375" nodeType="afterEffect" fill="hold" presetClass="entr" presetID="53">
                                  <p:stCondLst>
                                    <p:cond delay="0"/>
                                  </p:stCondLst>
                                  <p:childTnLst>
                                    <p:set>
                                      <p:cBhvr>
                                        <p:cTn id="376" dur="1" fill="hold">
                                          <p:stCondLst>
                                            <p:cond delay="0"/>
                                          </p:stCondLst>
                                        </p:cTn>
                                        <p:tgtEl>
                                          <p:spTgt spid="134"/>
                                        </p:tgtEl>
                                        <p:attrNameLst>
                                          <p:attrName>style.visibility</p:attrName>
                                        </p:attrNameLst>
                                      </p:cBhvr>
                                      <p:to>
                                        <p:strVal val="visible"/>
                                      </p:to>
                                    </p:set>
                                    <p:anim calcmode="lin" valueType="num">
                                      <p:cBhvr additive="repl">
                                        <p:cTn id="377" dur="500" fill="hold"/>
                                        <p:tgtEl>
                                          <p:spTgt spid="134"/>
                                        </p:tgtEl>
                                        <p:attrNameLst>
                                          <p:attrName>ppt_w</p:attrName>
                                        </p:attrNameLst>
                                      </p:cBhvr>
                                      <p:tavLst>
                                        <p:tav tm="0">
                                          <p:val>
                                            <p:fltVal val="0"/>
                                          </p:val>
                                        </p:tav>
                                        <p:tav tm="100000">
                                          <p:val>
                                            <p:strVal val="#ppt_w"/>
                                          </p:val>
                                        </p:tav>
                                      </p:tavLst>
                                    </p:anim>
                                    <p:anim calcmode="lin" valueType="num">
                                      <p:cBhvr additive="repl">
                                        <p:cTn id="378" dur="500" fill="hold"/>
                                        <p:tgtEl>
                                          <p:spTgt spid="134"/>
                                        </p:tgtEl>
                                        <p:attrNameLst>
                                          <p:attrName>ppt_h</p:attrName>
                                        </p:attrNameLst>
                                      </p:cBhvr>
                                      <p:tavLst>
                                        <p:tav tm="0">
                                          <p:val>
                                            <p:fltVal val="0"/>
                                          </p:val>
                                        </p:tav>
                                        <p:tav tm="100000">
                                          <p:val>
                                            <p:strVal val="#ppt_h"/>
                                          </p:val>
                                        </p:tav>
                                      </p:tavLst>
                                    </p:anim>
                                    <p:animEffect filter="fade" transition="in">
                                      <p:cBhvr additive="repl">
                                        <p:cTn id="37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1:3-4</a:t>
            </a:r>
            <a:endParaRPr b="0" lang="en-US" sz="4400" spc="-1" strike="noStrike">
              <a:solidFill>
                <a:srgbClr val="ccffff"/>
              </a:solidFill>
              <a:latin typeface="Arial"/>
            </a:endParaRPr>
          </a:p>
        </p:txBody>
      </p:sp>
      <p:sp>
        <p:nvSpPr>
          <p:cNvPr id="136" name="PlaceHolder 2"/>
          <p:cNvSpPr>
            <a:spLocks noGrp="1"/>
          </p:cNvSpPr>
          <p:nvPr>
            <p:ph type="subTitle"/>
          </p:nvPr>
        </p:nvSpPr>
        <p:spPr>
          <a:xfrm>
            <a:off x="1371600" y="914040"/>
            <a:ext cx="6400800" cy="4724280"/>
          </a:xfrm>
          <a:prstGeom prst="rect">
            <a:avLst/>
          </a:prstGeom>
          <a:noFill/>
          <a:ln w="0">
            <a:noFill/>
          </a:ln>
        </p:spPr>
        <p:txBody>
          <a:bodyPr lIns="90000" rIns="90000" tIns="46800" bIns="46800" anchor="t">
            <a:noAutofit/>
          </a:bodyPr>
          <a:p>
            <a:pPr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Blessed </a:t>
            </a:r>
            <a:r>
              <a:rPr b="0" i="1" lang="en-US" sz="2800" spc="-1" strike="noStrike">
                <a:solidFill>
                  <a:srgbClr val="ffffff"/>
                </a:solidFill>
                <a:latin typeface="Arial"/>
              </a:rPr>
              <a:t>be </a:t>
            </a:r>
            <a:r>
              <a:rPr b="0" lang="en-US" sz="2800" spc="-1" strike="noStrike">
                <a:solidFill>
                  <a:srgbClr val="ffffff"/>
                </a:solidFill>
                <a:latin typeface="Arial"/>
              </a:rPr>
              <a:t>the God and Father of our Lord Jesus Christ, who has blessed us with every spiritual blessing in the heavenly </a:t>
            </a:r>
            <a:r>
              <a:rPr b="0" i="1" lang="en-US" sz="2800" spc="-1" strike="noStrike">
                <a:solidFill>
                  <a:srgbClr val="ffffff"/>
                </a:solidFill>
                <a:latin typeface="Arial"/>
              </a:rPr>
              <a:t>places </a:t>
            </a:r>
            <a:r>
              <a:rPr b="0" lang="en-US" sz="2800" spc="-1" strike="noStrike">
                <a:solidFill>
                  <a:srgbClr val="ffffff"/>
                </a:solidFill>
                <a:latin typeface="Arial"/>
              </a:rPr>
              <a:t>in Christ, </a:t>
            </a:r>
            <a:r>
              <a:rPr b="0" lang="en-US" sz="1800" spc="-1" strike="noStrike">
                <a:solidFill>
                  <a:srgbClr val="ffffff"/>
                </a:solidFill>
                <a:latin typeface="Arial"/>
              </a:rPr>
              <a:t>4</a:t>
            </a:r>
            <a:r>
              <a:rPr b="0" lang="en-US" sz="2800" spc="-1" strike="noStrike">
                <a:solidFill>
                  <a:srgbClr val="ffffff"/>
                </a:solidFill>
                <a:latin typeface="Arial"/>
              </a:rPr>
              <a:t> just as He chose us in Him before the foundation of the world, that we should be holy and blameless before Him. In love </a:t>
            </a:r>
            <a:r>
              <a:rPr b="0" lang="en-US" sz="1800" spc="-1" strike="noStrike">
                <a:solidFill>
                  <a:srgbClr val="ffffff"/>
                </a:solidFill>
                <a:latin typeface="Arial"/>
              </a:rPr>
              <a:t>5</a:t>
            </a:r>
            <a:r>
              <a:rPr b="0" lang="en-US" sz="2800" spc="-1" strike="noStrike">
                <a:solidFill>
                  <a:srgbClr val="ffffff"/>
                </a:solidFill>
                <a:latin typeface="Arial"/>
              </a:rPr>
              <a:t> He predestined us to adoption as sons through Jesus Christ to Himself, according to the kind intention of His will, </a:t>
            </a:r>
            <a:r>
              <a:rPr b="0" lang="en-US" sz="1800" spc="-1" strike="noStrike">
                <a:solidFill>
                  <a:srgbClr val="ffffff"/>
                </a:solidFill>
                <a:latin typeface="Arial"/>
              </a:rPr>
              <a:t>6</a:t>
            </a:r>
            <a:r>
              <a:rPr b="0" lang="en-US" sz="2800" spc="-1" strike="noStrike">
                <a:solidFill>
                  <a:srgbClr val="ffffff"/>
                </a:solidFill>
                <a:latin typeface="Arial"/>
              </a:rPr>
              <a:t> to the praise of the glory of His grace, which He freely bestowed on us in the Beloved.</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5143680" y="3406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39" name=""/>
          <p:cNvGraphicFramePr/>
          <p:nvPr/>
        </p:nvGraphicFramePr>
        <p:xfrm>
          <a:off x="990720" y="1828800"/>
          <a:ext cx="7696080" cy="2971800"/>
        </p:xfrm>
        <a:graphic>
          <a:graphicData uri="http://schemas.openxmlformats.org/drawingml/2006/table">
            <a:tbl>
              <a:tblPr/>
              <a:tblGrid>
                <a:gridCol w="2350800"/>
                <a:gridCol w="2565720"/>
                <a:gridCol w="2779560"/>
              </a:tblGrid>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3</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1:15</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8125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Salutation</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ea typeface="Times New Roman"/>
                        </a:rPr>
                        <a:t>Blessings in Christ</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1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Times New Roman"/>
                          <a:ea typeface="Times New Roman"/>
                        </a:rPr>
                        <a:t>Position and Possessions</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0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ise</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ea typeface="Times New Roman"/>
                        </a:rPr>
                        <a:t>Prayer</a:t>
                      </a:r>
                      <a:endParaRPr b="0" lang="en-US" sz="3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456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Epistle to Philemon</a:t>
            </a:r>
            <a:endParaRPr b="0" lang="en-US" sz="4400" spc="-1" strike="noStrike">
              <a:solidFill>
                <a:srgbClr val="ccffff"/>
              </a:solidFill>
              <a:latin typeface="Arial"/>
            </a:endParaRPr>
          </a:p>
        </p:txBody>
      </p:sp>
      <p:sp>
        <p:nvSpPr>
          <p:cNvPr id="45" name="PlaceHolder 2"/>
          <p:cNvSpPr>
            <a:spLocks noGrp="1"/>
          </p:cNvSpPr>
          <p:nvPr>
            <p:ph type="subTitle"/>
          </p:nvPr>
        </p:nvSpPr>
        <p:spPr>
          <a:xfrm>
            <a:off x="1066320" y="3276720"/>
            <a:ext cx="2590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Slavery to Brotherhood</a:t>
            </a:r>
            <a:endParaRPr b="0" lang="en-US" sz="3200" spc="-1" strike="noStrike">
              <a:solidFill>
                <a:srgbClr val="ffffff"/>
              </a:solidFill>
              <a:latin typeface="Arial"/>
            </a:endParaRPr>
          </a:p>
        </p:txBody>
      </p:sp>
      <p:pic>
        <p:nvPicPr>
          <p:cNvPr id="46" name="" descr=""/>
          <p:cNvPicPr/>
          <p:nvPr/>
        </p:nvPicPr>
        <p:blipFill>
          <a:blip r:embed="rId2"/>
          <a:stretch/>
        </p:blipFill>
        <p:spPr>
          <a:xfrm>
            <a:off x="5105520" y="2286000"/>
            <a:ext cx="3430440" cy="41529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0" name=""/>
          <p:cNvGraphicFramePr/>
          <p:nvPr/>
        </p:nvGraphicFramePr>
        <p:xfrm>
          <a:off x="228600" y="457200"/>
          <a:ext cx="8763120" cy="5516640"/>
        </p:xfrm>
        <a:graphic>
          <a:graphicData uri="http://schemas.openxmlformats.org/drawingml/2006/table">
            <a:tbl>
              <a:tblPr/>
              <a:tblGrid>
                <a:gridCol w="2738520"/>
                <a:gridCol w="3103560"/>
                <a:gridCol w="2921040"/>
              </a:tblGrid>
              <a:tr h="9471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 pray that the eyes of your heart may be enlightened, so that you will know...</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b</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8c</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19</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hope of His calling</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are the riches of the glory of His inheritance in the saints</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Times New Roman"/>
                        </a:rPr>
                        <a:t>What is the surpassing greatness of His power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64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ition Principle: We have a position in Christ.</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ssession Principle: We are the inheritance - shows that we are greatly valued.</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ower Principle: This power is directed toward us who believe.</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eal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th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ork of the Christian</a:t>
                      </a:r>
                      <a:endParaRPr b="0" lang="en-US" sz="24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1" name=""/>
          <p:cNvGraphicFramePr/>
          <p:nvPr/>
        </p:nvGraphicFramePr>
        <p:xfrm>
          <a:off x="380880" y="1143000"/>
          <a:ext cx="8610840" cy="5008680"/>
        </p:xfrm>
        <a:graphic>
          <a:graphicData uri="http://schemas.openxmlformats.org/drawingml/2006/table">
            <a:tbl>
              <a:tblPr/>
              <a:tblGrid>
                <a:gridCol w="4253040"/>
                <a:gridCol w="4357800"/>
              </a:tblGrid>
              <a:tr h="60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Ephesians 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Ephesians 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142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ives us the past, present and future of God’s great plan of salv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ives us the past present and future of the people whom God save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60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God’s perspecti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Our perspectiv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00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Starts with God’s election prior to the cre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Starts with our lost condition prior to salv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37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Ends with all things in subjection to Chris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ea typeface="Times New Roman"/>
                        </a:rPr>
                        <a:t>Ends with the church being built up into a dwelling of God.</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4114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way we were…</a:t>
            </a:r>
            <a:endParaRPr b="0" lang="en-US" sz="4000" spc="-1" strike="noStrike">
              <a:solidFill>
                <a:srgbClr val="ccffff"/>
              </a:solidFill>
              <a:latin typeface="Arial"/>
            </a:endParaRPr>
          </a:p>
        </p:txBody>
      </p:sp>
      <p:sp>
        <p:nvSpPr>
          <p:cNvPr id="143" name="PlaceHolder 2"/>
          <p:cNvSpPr>
            <a:spLocks noGrp="1"/>
          </p:cNvSpPr>
          <p:nvPr>
            <p:ph/>
          </p:nvPr>
        </p:nvSpPr>
        <p:spPr>
          <a:xfrm>
            <a:off x="152280" y="1371600"/>
            <a:ext cx="46483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in your trespasses and sins (2: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you formerly walked according to the course of this world (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by nature children of wrath (2:3)</a:t>
            </a:r>
            <a:endParaRPr b="0" lang="en-US" sz="3200" spc="-1" strike="noStrike">
              <a:solidFill>
                <a:srgbClr val="ffffff"/>
              </a:solidFill>
              <a:latin typeface="Arial"/>
            </a:endParaRPr>
          </a:p>
        </p:txBody>
      </p:sp>
      <p:sp>
        <p:nvSpPr>
          <p:cNvPr id="144" name=""/>
          <p:cNvSpPr/>
          <p:nvPr/>
        </p:nvSpPr>
        <p:spPr>
          <a:xfrm>
            <a:off x="4648320" y="304920"/>
            <a:ext cx="41148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t God…</a:t>
            </a:r>
            <a:endParaRPr b="0" lang="en-US" sz="4000" spc="-1" strike="noStrike">
              <a:solidFill>
                <a:srgbClr val="ffffff"/>
              </a:solidFill>
              <a:latin typeface="Arial"/>
            </a:endParaRPr>
          </a:p>
        </p:txBody>
      </p:sp>
      <p:sp>
        <p:nvSpPr>
          <p:cNvPr id="145" name=""/>
          <p:cNvSpPr/>
          <p:nvPr/>
        </p:nvSpPr>
        <p:spPr>
          <a:xfrm>
            <a:off x="4648320" y="1371600"/>
            <a:ext cx="464796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s alive toether with Christ (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aise us up with Him (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seated us with Him in the heavenly places in Christ (2:6)</a:t>
            </a:r>
            <a:endParaRPr b="0" lang="en-US" sz="3200" spc="-1" strike="noStrike">
              <a:solidFill>
                <a:srgbClr val="ffffff"/>
              </a:solidFill>
              <a:latin typeface="Arial"/>
            </a:endParaRPr>
          </a:p>
        </p:txBody>
      </p:sp>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43">
                                            <p:txEl>
                                              <p:pRg st="0" end="0"/>
                                            </p:txEl>
                                          </p:spTgt>
                                        </p:tgtEl>
                                        <p:attrNameLst>
                                          <p:attrName>style.visibility</p:attrName>
                                        </p:attrNameLst>
                                      </p:cBhvr>
                                      <p:to>
                                        <p:strVal val="visible"/>
                                      </p:to>
                                    </p:set>
                                    <p:anim calcmode="lin" valueType="num">
                                      <p:cBhvr additive="repl">
                                        <p:cTn id="38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43">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43">
                                            <p:txEl>
                                              <p:pRg st="1" end="1"/>
                                            </p:txEl>
                                          </p:spTgt>
                                        </p:tgtEl>
                                        <p:attrNameLst>
                                          <p:attrName>style.visibility</p:attrName>
                                        </p:attrNameLst>
                                      </p:cBhvr>
                                      <p:to>
                                        <p:strVal val="visible"/>
                                      </p:to>
                                    </p:set>
                                    <p:anim calcmode="lin" valueType="num">
                                      <p:cBhvr additive="repl">
                                        <p:cTn id="39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43">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43">
                                            <p:txEl>
                                              <p:pRg st="2" end="2"/>
                                            </p:txEl>
                                          </p:spTgt>
                                        </p:tgtEl>
                                        <p:attrNameLst>
                                          <p:attrName>style.visibility</p:attrName>
                                        </p:attrNameLst>
                                      </p:cBhvr>
                                      <p:to>
                                        <p:strVal val="visible"/>
                                      </p:to>
                                    </p:set>
                                    <p:anim calcmode="lin" valueType="num">
                                      <p:cBhvr additive="repl">
                                        <p:cTn id="400"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402" dur="500"/>
                                        <p:tgtEl>
                                          <p:spTgt spid="143">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44"/>
                                        </p:tgtEl>
                                        <p:attrNameLst>
                                          <p:attrName>style.visibility</p:attrName>
                                        </p:attrNameLst>
                                      </p:cBhvr>
                                      <p:to>
                                        <p:strVal val="visible"/>
                                      </p:to>
                                    </p:set>
                                    <p:animEffect filter="dissolve" transition="in">
                                      <p:cBhvr additive="repl">
                                        <p:cTn id="407" dur="500"/>
                                        <p:tgtEl>
                                          <p:spTgt spid="14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145">
                                            <p:txEl>
                                              <p:pRg st="0" end="0"/>
                                            </p:txEl>
                                          </p:spTgt>
                                        </p:tgtEl>
                                        <p:attrNameLst>
                                          <p:attrName>style.visibility</p:attrName>
                                        </p:attrNameLst>
                                      </p:cBhvr>
                                      <p:to>
                                        <p:strVal val="visible"/>
                                      </p:to>
                                    </p:set>
                                    <p:anim calcmode="lin" valueType="num">
                                      <p:cBhvr additive="repl">
                                        <p:cTn id="41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145">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3">
                                  <p:stCondLst>
                                    <p:cond delay="0"/>
                                  </p:stCondLst>
                                  <p:childTnLst>
                                    <p:set>
                                      <p:cBhvr>
                                        <p:cTn id="418" dur="1" fill="hold">
                                          <p:stCondLst>
                                            <p:cond delay="0"/>
                                          </p:stCondLst>
                                        </p:cTn>
                                        <p:tgtEl>
                                          <p:spTgt spid="145">
                                            <p:txEl>
                                              <p:pRg st="1" end="1"/>
                                            </p:txEl>
                                          </p:spTgt>
                                        </p:tgtEl>
                                        <p:attrNameLst>
                                          <p:attrName>style.visibility</p:attrName>
                                        </p:attrNameLst>
                                      </p:cBhvr>
                                      <p:to>
                                        <p:strVal val="visible"/>
                                      </p:to>
                                    </p:set>
                                    <p:anim calcmode="lin" valueType="num">
                                      <p:cBhvr additive="repl">
                                        <p:cTn id="419"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421" dur="500"/>
                                        <p:tgtEl>
                                          <p:spTgt spid="145">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45">
                                            <p:txEl>
                                              <p:pRg st="2" end="2"/>
                                            </p:txEl>
                                          </p:spTgt>
                                        </p:tgtEl>
                                        <p:attrNameLst>
                                          <p:attrName>style.visibility</p:attrName>
                                        </p:attrNameLst>
                                      </p:cBhvr>
                                      <p:to>
                                        <p:strVal val="visible"/>
                                      </p:to>
                                    </p:set>
                                    <p:anim calcmode="lin" valueType="num">
                                      <p:cBhvr additive="repl">
                                        <p:cTn id="426"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428"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8-10</a:t>
            </a:r>
            <a:endParaRPr b="0" lang="en-US" sz="4400" spc="-1" strike="noStrike">
              <a:solidFill>
                <a:srgbClr val="ccffff"/>
              </a:solidFill>
              <a:latin typeface="Arial"/>
            </a:endParaRPr>
          </a:p>
        </p:txBody>
      </p:sp>
      <p:sp>
        <p:nvSpPr>
          <p:cNvPr id="147" name="PlaceHolder 2"/>
          <p:cNvSpPr>
            <a:spLocks noGrp="1"/>
          </p:cNvSpPr>
          <p:nvPr>
            <p:ph type="subTitle"/>
          </p:nvPr>
        </p:nvSpPr>
        <p:spPr>
          <a:xfrm>
            <a:off x="1371600" y="914040"/>
            <a:ext cx="6400800" cy="52578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1800" spc="-1" strike="noStrike">
                <a:solidFill>
                  <a:srgbClr val="ffffff"/>
                </a:solidFill>
                <a:latin typeface="Arial"/>
              </a:rPr>
              <a:t>8</a:t>
            </a:r>
            <a:r>
              <a:rPr b="0" lang="en-US" sz="2800" spc="-1" strike="noStrike">
                <a:solidFill>
                  <a:srgbClr val="ffffff"/>
                </a:solidFill>
                <a:latin typeface="Arial"/>
              </a:rPr>
              <a:t> For by grace you have been saved through faith; and that not of yourselves, </a:t>
            </a:r>
            <a:r>
              <a:rPr b="0" i="1" lang="en-US" sz="2800" spc="-1" strike="noStrike">
                <a:solidFill>
                  <a:srgbClr val="ffffff"/>
                </a:solidFill>
                <a:latin typeface="Arial"/>
              </a:rPr>
              <a:t>it is </a:t>
            </a:r>
            <a:r>
              <a:rPr b="0" lang="en-US" sz="2800" spc="-1" strike="noStrike">
                <a:solidFill>
                  <a:srgbClr val="ffffff"/>
                </a:solidFill>
                <a:latin typeface="Arial"/>
              </a:rPr>
              <a:t>the gift of God; </a:t>
            </a:r>
            <a:r>
              <a:rPr b="0" lang="en-US" sz="1800" spc="-1" strike="noStrike">
                <a:solidFill>
                  <a:srgbClr val="ffffff"/>
                </a:solidFill>
                <a:latin typeface="Arial"/>
              </a:rPr>
              <a:t>9</a:t>
            </a:r>
            <a:r>
              <a:rPr b="0" lang="en-US" sz="2800" spc="-1" strike="noStrike">
                <a:solidFill>
                  <a:srgbClr val="ffffff"/>
                </a:solidFill>
                <a:latin typeface="Arial"/>
              </a:rPr>
              <a:t> not as a result of works, that no one should boast.</a:t>
            </a:r>
            <a:endParaRPr b="0" lang="en-US" sz="2800" spc="-1" strike="noStrike">
              <a:solidFill>
                <a:srgbClr val="ffffff"/>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For we are His workmanship, created in Christ Jesus for good works, which God prepared beforehand, that we should walk in them.</a:t>
            </a:r>
            <a:endParaRPr b="0" lang="en-US" sz="2800" spc="-1" strike="noStrike">
              <a:solidFill>
                <a:srgbClr val="ffffff"/>
              </a:solidFill>
              <a:latin typeface="Arial"/>
            </a:endParaRPr>
          </a:p>
        </p:txBody>
      </p:sp>
      <p:sp>
        <p:nvSpPr>
          <p:cNvPr id="14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1-12</a:t>
            </a:r>
            <a:endParaRPr b="0" lang="en-US" sz="4400" spc="-1" strike="noStrike">
              <a:solidFill>
                <a:srgbClr val="ccffff"/>
              </a:solidFill>
              <a:latin typeface="Arial"/>
            </a:endParaRPr>
          </a:p>
        </p:txBody>
      </p:sp>
      <p:sp>
        <p:nvSpPr>
          <p:cNvPr id="150"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Therefore remember, that formerly you, the Gentiles in the flesh, who are called "Uncircumcision" by the so-called "Circumcision," </a:t>
            </a:r>
            <a:r>
              <a:rPr b="0" i="1" lang="en-US" sz="2800" spc="-1" strike="noStrike">
                <a:solidFill>
                  <a:srgbClr val="ffffff"/>
                </a:solidFill>
                <a:latin typeface="Arial"/>
              </a:rPr>
              <a:t>which is </a:t>
            </a:r>
            <a:r>
              <a:rPr b="0" lang="en-US" sz="2800" spc="-1" strike="noStrike">
                <a:solidFill>
                  <a:srgbClr val="ffffff"/>
                </a:solidFill>
                <a:latin typeface="Arial"/>
              </a:rPr>
              <a:t>performed in the flesh by human hands-- </a:t>
            </a:r>
            <a:r>
              <a:rPr b="0" lang="en-US" sz="1800" spc="-1" strike="noStrike">
                <a:solidFill>
                  <a:srgbClr val="ffffff"/>
                </a:solidFill>
                <a:latin typeface="Arial"/>
              </a:rPr>
              <a:t>12</a:t>
            </a:r>
            <a:r>
              <a:rPr b="0" lang="en-US" sz="2800" spc="-1" strike="noStrike">
                <a:solidFill>
                  <a:srgbClr val="ffffff"/>
                </a:solidFill>
                <a:latin typeface="Arial"/>
              </a:rPr>
              <a:t> </a:t>
            </a:r>
            <a:r>
              <a:rPr b="0" i="1" lang="en-US" sz="2800" spc="-1" strike="noStrike">
                <a:solidFill>
                  <a:srgbClr val="ffffff"/>
                </a:solidFill>
                <a:latin typeface="Arial"/>
              </a:rPr>
              <a:t>remember </a:t>
            </a:r>
            <a:r>
              <a:rPr b="0" lang="en-US" sz="2800" spc="-1" strike="noStrike">
                <a:solidFill>
                  <a:srgbClr val="ffffff"/>
                </a:solidFill>
                <a:latin typeface="Arial"/>
              </a:rPr>
              <a:t>that you were at that time separate from Christ, excluded from the commonwealth of Israel, and strangers to the covenants of promise, having no hope and without God in the world.</a:t>
            </a:r>
            <a:endParaRPr b="0" lang="en-US" sz="2800" spc="-1" strike="noStrike">
              <a:solidFill>
                <a:srgbClr val="ffffff"/>
              </a:solidFill>
              <a:latin typeface="Arial"/>
            </a:endParaRPr>
          </a:p>
        </p:txBody>
      </p:sp>
      <p:sp>
        <p:nvSpPr>
          <p:cNvPr id="15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3</a:t>
            </a:r>
            <a:endParaRPr b="0" lang="en-US" sz="4400" spc="-1" strike="noStrike">
              <a:solidFill>
                <a:srgbClr val="ccffff"/>
              </a:solidFill>
              <a:latin typeface="Arial"/>
            </a:endParaRPr>
          </a:p>
        </p:txBody>
      </p:sp>
      <p:sp>
        <p:nvSpPr>
          <p:cNvPr id="153"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now in Christ Jesus you who formerly were far off have been brought near by the blood of Christ.</a:t>
            </a:r>
            <a:endParaRPr b="0" lang="en-US" sz="3200" spc="-1" strike="noStrike">
              <a:solidFill>
                <a:srgbClr val="ffffff"/>
              </a:solidFill>
              <a:latin typeface="Arial"/>
            </a:endParaRPr>
          </a:p>
        </p:txBody>
      </p:sp>
      <p:sp>
        <p:nvSpPr>
          <p:cNvPr id="15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2971800" y="2895480"/>
            <a:ext cx="3504960" cy="2003400"/>
            <a:chOff x="2971800" y="2895480"/>
            <a:chExt cx="3504960" cy="2003400"/>
          </a:xfrm>
        </p:grpSpPr>
        <p:sp>
          <p:nvSpPr>
            <p:cNvPr id="156" name=""/>
            <p:cNvSpPr/>
            <p:nvPr/>
          </p:nvSpPr>
          <p:spPr>
            <a:xfrm>
              <a:off x="3925800" y="2895480"/>
              <a:ext cx="2550960" cy="2003400"/>
            </a:xfrm>
            <a:custGeom>
              <a:avLst/>
              <a:gdLst/>
              <a:ahLst/>
              <a:rect l="l" t="t" r="r" b="b"/>
              <a:pathLst>
                <a:path w="11071" h="7950">
                  <a:moveTo>
                    <a:pt x="9205" y="6364"/>
                  </a:moveTo>
                  <a:lnTo>
                    <a:pt x="9205" y="6173"/>
                  </a:lnTo>
                  <a:lnTo>
                    <a:pt x="9218" y="5982"/>
                  </a:lnTo>
                  <a:lnTo>
                    <a:pt x="9234" y="5797"/>
                  </a:lnTo>
                  <a:lnTo>
                    <a:pt x="9252" y="5611"/>
                  </a:lnTo>
                  <a:lnTo>
                    <a:pt x="9269" y="5426"/>
                  </a:lnTo>
                  <a:lnTo>
                    <a:pt x="9292" y="5240"/>
                  </a:lnTo>
                  <a:lnTo>
                    <a:pt x="9304" y="5060"/>
                  </a:lnTo>
                  <a:lnTo>
                    <a:pt x="9316" y="4880"/>
                  </a:lnTo>
                  <a:lnTo>
                    <a:pt x="9316" y="4824"/>
                  </a:lnTo>
                  <a:lnTo>
                    <a:pt x="9322" y="4768"/>
                  </a:lnTo>
                  <a:lnTo>
                    <a:pt x="9333" y="4701"/>
                  </a:lnTo>
                  <a:lnTo>
                    <a:pt x="9345" y="4639"/>
                  </a:lnTo>
                  <a:lnTo>
                    <a:pt x="9345" y="4571"/>
                  </a:lnTo>
                  <a:lnTo>
                    <a:pt x="9350" y="4503"/>
                  </a:lnTo>
                  <a:lnTo>
                    <a:pt x="9345" y="4436"/>
                  </a:lnTo>
                  <a:lnTo>
                    <a:pt x="9339" y="4380"/>
                  </a:lnTo>
                  <a:lnTo>
                    <a:pt x="9322" y="4341"/>
                  </a:lnTo>
                  <a:lnTo>
                    <a:pt x="9299" y="4307"/>
                  </a:lnTo>
                  <a:lnTo>
                    <a:pt x="9269" y="4262"/>
                  </a:lnTo>
                  <a:lnTo>
                    <a:pt x="9246" y="4223"/>
                  </a:lnTo>
                  <a:lnTo>
                    <a:pt x="9218" y="4177"/>
                  </a:lnTo>
                  <a:lnTo>
                    <a:pt x="9188" y="4144"/>
                  </a:lnTo>
                  <a:lnTo>
                    <a:pt x="9159" y="4105"/>
                  </a:lnTo>
                  <a:lnTo>
                    <a:pt x="9142" y="4082"/>
                  </a:lnTo>
                  <a:lnTo>
                    <a:pt x="9119" y="4122"/>
                  </a:lnTo>
                  <a:lnTo>
                    <a:pt x="9112" y="4172"/>
                  </a:lnTo>
                  <a:lnTo>
                    <a:pt x="9107" y="4233"/>
                  </a:lnTo>
                  <a:lnTo>
                    <a:pt x="9107" y="4301"/>
                  </a:lnTo>
                  <a:lnTo>
                    <a:pt x="9107" y="4363"/>
                  </a:lnTo>
                  <a:lnTo>
                    <a:pt x="9112" y="4425"/>
                  </a:lnTo>
                  <a:lnTo>
                    <a:pt x="9112" y="4481"/>
                  </a:lnTo>
                  <a:lnTo>
                    <a:pt x="9112" y="4537"/>
                  </a:lnTo>
                  <a:lnTo>
                    <a:pt x="9101" y="4655"/>
                  </a:lnTo>
                  <a:lnTo>
                    <a:pt x="9101" y="4779"/>
                  </a:lnTo>
                  <a:lnTo>
                    <a:pt x="9101" y="4892"/>
                  </a:lnTo>
                  <a:lnTo>
                    <a:pt x="9107" y="5010"/>
                  </a:lnTo>
                  <a:lnTo>
                    <a:pt x="9107" y="5122"/>
                  </a:lnTo>
                  <a:lnTo>
                    <a:pt x="9112" y="5240"/>
                  </a:lnTo>
                  <a:lnTo>
                    <a:pt x="9112" y="5358"/>
                  </a:lnTo>
                  <a:lnTo>
                    <a:pt x="9112" y="5488"/>
                  </a:lnTo>
                  <a:lnTo>
                    <a:pt x="9101" y="5577"/>
                  </a:lnTo>
                  <a:lnTo>
                    <a:pt x="9101" y="5673"/>
                  </a:lnTo>
                  <a:lnTo>
                    <a:pt x="9095" y="5775"/>
                  </a:lnTo>
                  <a:lnTo>
                    <a:pt x="9095" y="5876"/>
                  </a:lnTo>
                  <a:lnTo>
                    <a:pt x="9095" y="5971"/>
                  </a:lnTo>
                  <a:lnTo>
                    <a:pt x="9101" y="6067"/>
                  </a:lnTo>
                  <a:lnTo>
                    <a:pt x="9107" y="6157"/>
                  </a:lnTo>
                  <a:lnTo>
                    <a:pt x="9124" y="6246"/>
                  </a:lnTo>
                  <a:lnTo>
                    <a:pt x="9130" y="6286"/>
                  </a:lnTo>
                  <a:lnTo>
                    <a:pt x="9147" y="6325"/>
                  </a:lnTo>
                  <a:lnTo>
                    <a:pt x="9165" y="6348"/>
                  </a:lnTo>
                  <a:lnTo>
                    <a:pt x="9205" y="6364"/>
                  </a:lnTo>
                  <a:lnTo>
                    <a:pt x="9177" y="6573"/>
                  </a:lnTo>
                  <a:lnTo>
                    <a:pt x="9048" y="6567"/>
                  </a:lnTo>
                  <a:lnTo>
                    <a:pt x="8932" y="6567"/>
                  </a:lnTo>
                  <a:lnTo>
                    <a:pt x="8816" y="6562"/>
                  </a:lnTo>
                  <a:lnTo>
                    <a:pt x="8711" y="6562"/>
                  </a:lnTo>
                  <a:lnTo>
                    <a:pt x="8595" y="6550"/>
                  </a:lnTo>
                  <a:lnTo>
                    <a:pt x="8485" y="6545"/>
                  </a:lnTo>
                  <a:lnTo>
                    <a:pt x="8363" y="6539"/>
                  </a:lnTo>
                  <a:lnTo>
                    <a:pt x="8247" y="6533"/>
                  </a:lnTo>
                  <a:lnTo>
                    <a:pt x="8212" y="6528"/>
                  </a:lnTo>
                  <a:lnTo>
                    <a:pt x="8171" y="6528"/>
                  </a:lnTo>
                  <a:lnTo>
                    <a:pt x="8125" y="6533"/>
                  </a:lnTo>
                  <a:lnTo>
                    <a:pt x="8078" y="6539"/>
                  </a:lnTo>
                  <a:lnTo>
                    <a:pt x="8026" y="6539"/>
                  </a:lnTo>
                  <a:lnTo>
                    <a:pt x="7974" y="6539"/>
                  </a:lnTo>
                  <a:lnTo>
                    <a:pt x="7921" y="6533"/>
                  </a:lnTo>
                  <a:lnTo>
                    <a:pt x="7887" y="6533"/>
                  </a:lnTo>
                  <a:lnTo>
                    <a:pt x="7852" y="6506"/>
                  </a:lnTo>
                  <a:lnTo>
                    <a:pt x="7834" y="6477"/>
                  </a:lnTo>
                  <a:lnTo>
                    <a:pt x="7817" y="6432"/>
                  </a:lnTo>
                  <a:lnTo>
                    <a:pt x="7804" y="6393"/>
                  </a:lnTo>
                  <a:lnTo>
                    <a:pt x="7764" y="6381"/>
                  </a:lnTo>
                  <a:lnTo>
                    <a:pt x="7723" y="6376"/>
                  </a:lnTo>
                  <a:lnTo>
                    <a:pt x="7683" y="6376"/>
                  </a:lnTo>
                  <a:lnTo>
                    <a:pt x="7649" y="6381"/>
                  </a:lnTo>
                  <a:lnTo>
                    <a:pt x="7665" y="6196"/>
                  </a:lnTo>
                  <a:lnTo>
                    <a:pt x="7689" y="6011"/>
                  </a:lnTo>
                  <a:lnTo>
                    <a:pt x="7706" y="5825"/>
                  </a:lnTo>
                  <a:lnTo>
                    <a:pt x="7723" y="5640"/>
                  </a:lnTo>
                  <a:lnTo>
                    <a:pt x="7730" y="5449"/>
                  </a:lnTo>
                  <a:lnTo>
                    <a:pt x="7747" y="5263"/>
                  </a:lnTo>
                  <a:lnTo>
                    <a:pt x="7753" y="5066"/>
                  </a:lnTo>
                  <a:lnTo>
                    <a:pt x="7770" y="4870"/>
                  </a:lnTo>
                  <a:lnTo>
                    <a:pt x="7770" y="4802"/>
                  </a:lnTo>
                  <a:lnTo>
                    <a:pt x="7781" y="4740"/>
                  </a:lnTo>
                  <a:lnTo>
                    <a:pt x="7793" y="4661"/>
                  </a:lnTo>
                  <a:lnTo>
                    <a:pt x="7804" y="4588"/>
                  </a:lnTo>
                  <a:lnTo>
                    <a:pt x="7811" y="4510"/>
                  </a:lnTo>
                  <a:lnTo>
                    <a:pt x="7817" y="4442"/>
                  </a:lnTo>
                  <a:lnTo>
                    <a:pt x="7811" y="4375"/>
                  </a:lnTo>
                  <a:lnTo>
                    <a:pt x="7804" y="4329"/>
                  </a:lnTo>
                  <a:lnTo>
                    <a:pt x="7788" y="4329"/>
                  </a:lnTo>
                  <a:lnTo>
                    <a:pt x="7770" y="4329"/>
                  </a:lnTo>
                  <a:lnTo>
                    <a:pt x="7730" y="4262"/>
                  </a:lnTo>
                  <a:lnTo>
                    <a:pt x="7695" y="4200"/>
                  </a:lnTo>
                  <a:lnTo>
                    <a:pt x="7660" y="4138"/>
                  </a:lnTo>
                  <a:lnTo>
                    <a:pt x="7624" y="4088"/>
                  </a:lnTo>
                  <a:lnTo>
                    <a:pt x="7578" y="4026"/>
                  </a:lnTo>
                  <a:lnTo>
                    <a:pt x="7538" y="3975"/>
                  </a:lnTo>
                  <a:lnTo>
                    <a:pt x="7492" y="3924"/>
                  </a:lnTo>
                  <a:lnTo>
                    <a:pt x="7444" y="3880"/>
                  </a:lnTo>
                  <a:lnTo>
                    <a:pt x="7444" y="3958"/>
                  </a:lnTo>
                  <a:lnTo>
                    <a:pt x="7433" y="4037"/>
                  </a:lnTo>
                  <a:lnTo>
                    <a:pt x="7410" y="4105"/>
                  </a:lnTo>
                  <a:lnTo>
                    <a:pt x="7381" y="4155"/>
                  </a:lnTo>
                  <a:lnTo>
                    <a:pt x="7328" y="4183"/>
                  </a:lnTo>
                  <a:lnTo>
                    <a:pt x="7276" y="4200"/>
                  </a:lnTo>
                  <a:lnTo>
                    <a:pt x="7206" y="4189"/>
                  </a:lnTo>
                  <a:lnTo>
                    <a:pt x="7131" y="4161"/>
                  </a:lnTo>
                  <a:lnTo>
                    <a:pt x="7125" y="4172"/>
                  </a:lnTo>
                  <a:lnTo>
                    <a:pt x="7125" y="4200"/>
                  </a:lnTo>
                  <a:lnTo>
                    <a:pt x="7125" y="4228"/>
                  </a:lnTo>
                  <a:lnTo>
                    <a:pt x="7131" y="4240"/>
                  </a:lnTo>
                  <a:lnTo>
                    <a:pt x="7131" y="4335"/>
                  </a:lnTo>
                  <a:lnTo>
                    <a:pt x="7131" y="4431"/>
                  </a:lnTo>
                  <a:lnTo>
                    <a:pt x="7131" y="4515"/>
                  </a:lnTo>
                  <a:lnTo>
                    <a:pt x="7137" y="4605"/>
                  </a:lnTo>
                  <a:lnTo>
                    <a:pt x="7142" y="4689"/>
                  </a:lnTo>
                  <a:lnTo>
                    <a:pt x="7148" y="4779"/>
                  </a:lnTo>
                  <a:lnTo>
                    <a:pt x="7154" y="4863"/>
                  </a:lnTo>
                  <a:lnTo>
                    <a:pt x="7165" y="4965"/>
                  </a:lnTo>
                  <a:lnTo>
                    <a:pt x="7172" y="5100"/>
                  </a:lnTo>
                  <a:lnTo>
                    <a:pt x="7188" y="5246"/>
                  </a:lnTo>
                  <a:lnTo>
                    <a:pt x="7206" y="5398"/>
                  </a:lnTo>
                  <a:lnTo>
                    <a:pt x="7229" y="5550"/>
                  </a:lnTo>
                  <a:lnTo>
                    <a:pt x="7236" y="5701"/>
                  </a:lnTo>
                  <a:lnTo>
                    <a:pt x="7247" y="5859"/>
                  </a:lnTo>
                  <a:lnTo>
                    <a:pt x="7241" y="6011"/>
                  </a:lnTo>
                  <a:lnTo>
                    <a:pt x="7236" y="6163"/>
                  </a:lnTo>
                  <a:lnTo>
                    <a:pt x="7271" y="6168"/>
                  </a:lnTo>
                  <a:lnTo>
                    <a:pt x="7305" y="6173"/>
                  </a:lnTo>
                  <a:lnTo>
                    <a:pt x="7340" y="6179"/>
                  </a:lnTo>
                  <a:lnTo>
                    <a:pt x="7375" y="6185"/>
                  </a:lnTo>
                  <a:lnTo>
                    <a:pt x="7410" y="6190"/>
                  </a:lnTo>
                  <a:lnTo>
                    <a:pt x="7444" y="6196"/>
                  </a:lnTo>
                  <a:lnTo>
                    <a:pt x="7479" y="6202"/>
                  </a:lnTo>
                  <a:lnTo>
                    <a:pt x="7526" y="6212"/>
                  </a:lnTo>
                  <a:lnTo>
                    <a:pt x="7526" y="6286"/>
                  </a:lnTo>
                  <a:lnTo>
                    <a:pt x="7509" y="6292"/>
                  </a:lnTo>
                  <a:lnTo>
                    <a:pt x="7509" y="6314"/>
                  </a:lnTo>
                  <a:lnTo>
                    <a:pt x="7515" y="6331"/>
                  </a:lnTo>
                  <a:lnTo>
                    <a:pt x="7526" y="6342"/>
                  </a:lnTo>
                  <a:lnTo>
                    <a:pt x="7503" y="6376"/>
                  </a:lnTo>
                  <a:lnTo>
                    <a:pt x="7479" y="6404"/>
                  </a:lnTo>
                  <a:lnTo>
                    <a:pt x="7451" y="6415"/>
                  </a:lnTo>
                  <a:lnTo>
                    <a:pt x="7421" y="6421"/>
                  </a:lnTo>
                  <a:lnTo>
                    <a:pt x="7381" y="6415"/>
                  </a:lnTo>
                  <a:lnTo>
                    <a:pt x="7345" y="6415"/>
                  </a:lnTo>
                  <a:lnTo>
                    <a:pt x="7294" y="6415"/>
                  </a:lnTo>
                  <a:lnTo>
                    <a:pt x="7247" y="6415"/>
                  </a:lnTo>
                  <a:lnTo>
                    <a:pt x="7247" y="6444"/>
                  </a:lnTo>
                  <a:lnTo>
                    <a:pt x="7247" y="6466"/>
                  </a:lnTo>
                  <a:lnTo>
                    <a:pt x="7206" y="6489"/>
                  </a:lnTo>
                  <a:lnTo>
                    <a:pt x="7172" y="6506"/>
                  </a:lnTo>
                  <a:lnTo>
                    <a:pt x="7137" y="6511"/>
                  </a:lnTo>
                  <a:lnTo>
                    <a:pt x="7102" y="6516"/>
                  </a:lnTo>
                  <a:lnTo>
                    <a:pt x="7056" y="6511"/>
                  </a:lnTo>
                  <a:lnTo>
                    <a:pt x="7015" y="6506"/>
                  </a:lnTo>
                  <a:lnTo>
                    <a:pt x="6968" y="6494"/>
                  </a:lnTo>
                  <a:lnTo>
                    <a:pt x="6927" y="6494"/>
                  </a:lnTo>
                  <a:lnTo>
                    <a:pt x="6846" y="6483"/>
                  </a:lnTo>
                  <a:lnTo>
                    <a:pt x="6770" y="6477"/>
                  </a:lnTo>
                  <a:lnTo>
                    <a:pt x="6695" y="6466"/>
                  </a:lnTo>
                  <a:lnTo>
                    <a:pt x="6625" y="6460"/>
                  </a:lnTo>
                  <a:lnTo>
                    <a:pt x="6549" y="6455"/>
                  </a:lnTo>
                  <a:lnTo>
                    <a:pt x="6480" y="6449"/>
                  </a:lnTo>
                  <a:lnTo>
                    <a:pt x="6410" y="6444"/>
                  </a:lnTo>
                  <a:lnTo>
                    <a:pt x="6358" y="6444"/>
                  </a:lnTo>
                  <a:lnTo>
                    <a:pt x="6352" y="6393"/>
                  </a:lnTo>
                  <a:lnTo>
                    <a:pt x="6352" y="6359"/>
                  </a:lnTo>
                  <a:lnTo>
                    <a:pt x="6352" y="6331"/>
                  </a:lnTo>
                  <a:lnTo>
                    <a:pt x="6352" y="6314"/>
                  </a:lnTo>
                  <a:lnTo>
                    <a:pt x="6334" y="6297"/>
                  </a:lnTo>
                  <a:lnTo>
                    <a:pt x="6323" y="6286"/>
                  </a:lnTo>
                  <a:lnTo>
                    <a:pt x="6294" y="6269"/>
                  </a:lnTo>
                  <a:lnTo>
                    <a:pt x="6265" y="6263"/>
                  </a:lnTo>
                  <a:lnTo>
                    <a:pt x="6247" y="6196"/>
                  </a:lnTo>
                  <a:lnTo>
                    <a:pt x="6253" y="6106"/>
                  </a:lnTo>
                  <a:lnTo>
                    <a:pt x="6260" y="6016"/>
                  </a:lnTo>
                  <a:lnTo>
                    <a:pt x="6265" y="5920"/>
                  </a:lnTo>
                  <a:lnTo>
                    <a:pt x="6276" y="5831"/>
                  </a:lnTo>
                  <a:lnTo>
                    <a:pt x="6276" y="5729"/>
                  </a:lnTo>
                  <a:lnTo>
                    <a:pt x="6283" y="5645"/>
                  </a:lnTo>
                  <a:lnTo>
                    <a:pt x="6283" y="5561"/>
                  </a:lnTo>
                  <a:lnTo>
                    <a:pt x="6288" y="5499"/>
                  </a:lnTo>
                  <a:lnTo>
                    <a:pt x="6283" y="5476"/>
                  </a:lnTo>
                  <a:lnTo>
                    <a:pt x="6283" y="5442"/>
                  </a:lnTo>
                  <a:lnTo>
                    <a:pt x="6276" y="5409"/>
                  </a:lnTo>
                  <a:lnTo>
                    <a:pt x="6276" y="5398"/>
                  </a:lnTo>
                  <a:lnTo>
                    <a:pt x="6276" y="5370"/>
                  </a:lnTo>
                  <a:lnTo>
                    <a:pt x="6288" y="5319"/>
                  </a:lnTo>
                  <a:lnTo>
                    <a:pt x="6294" y="5240"/>
                  </a:lnTo>
                  <a:lnTo>
                    <a:pt x="6311" y="5155"/>
                  </a:lnTo>
                  <a:lnTo>
                    <a:pt x="6318" y="5060"/>
                  </a:lnTo>
                  <a:lnTo>
                    <a:pt x="6323" y="4971"/>
                  </a:lnTo>
                  <a:lnTo>
                    <a:pt x="6323" y="4897"/>
                  </a:lnTo>
                  <a:lnTo>
                    <a:pt x="6329" y="4858"/>
                  </a:lnTo>
                  <a:lnTo>
                    <a:pt x="6311" y="4802"/>
                  </a:lnTo>
                  <a:lnTo>
                    <a:pt x="6294" y="4751"/>
                  </a:lnTo>
                  <a:lnTo>
                    <a:pt x="6271" y="4694"/>
                  </a:lnTo>
                  <a:lnTo>
                    <a:pt x="6253" y="4644"/>
                  </a:lnTo>
                  <a:lnTo>
                    <a:pt x="6230" y="4588"/>
                  </a:lnTo>
                  <a:lnTo>
                    <a:pt x="6212" y="4532"/>
                  </a:lnTo>
                  <a:lnTo>
                    <a:pt x="6201" y="4476"/>
                  </a:lnTo>
                  <a:lnTo>
                    <a:pt x="6207" y="4419"/>
                  </a:lnTo>
                  <a:lnTo>
                    <a:pt x="6219" y="4363"/>
                  </a:lnTo>
                  <a:lnTo>
                    <a:pt x="6253" y="4318"/>
                  </a:lnTo>
                  <a:lnTo>
                    <a:pt x="6288" y="4273"/>
                  </a:lnTo>
                  <a:lnTo>
                    <a:pt x="6318" y="4240"/>
                  </a:lnTo>
                  <a:lnTo>
                    <a:pt x="6323" y="4149"/>
                  </a:lnTo>
                  <a:lnTo>
                    <a:pt x="6323" y="4065"/>
                  </a:lnTo>
                  <a:lnTo>
                    <a:pt x="6306" y="3975"/>
                  </a:lnTo>
                  <a:lnTo>
                    <a:pt x="6288" y="3891"/>
                  </a:lnTo>
                  <a:lnTo>
                    <a:pt x="6260" y="3801"/>
                  </a:lnTo>
                  <a:lnTo>
                    <a:pt x="6230" y="3728"/>
                  </a:lnTo>
                  <a:lnTo>
                    <a:pt x="6207" y="3661"/>
                  </a:lnTo>
                  <a:lnTo>
                    <a:pt x="6195" y="3610"/>
                  </a:lnTo>
                  <a:lnTo>
                    <a:pt x="6114" y="3615"/>
                  </a:lnTo>
                  <a:lnTo>
                    <a:pt x="6050" y="3637"/>
                  </a:lnTo>
                  <a:lnTo>
                    <a:pt x="5981" y="3654"/>
                  </a:lnTo>
                  <a:lnTo>
                    <a:pt x="5922" y="3683"/>
                  </a:lnTo>
                  <a:lnTo>
                    <a:pt x="5852" y="3705"/>
                  </a:lnTo>
                  <a:lnTo>
                    <a:pt x="5789" y="3728"/>
                  </a:lnTo>
                  <a:lnTo>
                    <a:pt x="5718" y="3750"/>
                  </a:lnTo>
                  <a:lnTo>
                    <a:pt x="5649" y="3779"/>
                  </a:lnTo>
                  <a:lnTo>
                    <a:pt x="5626" y="4042"/>
                  </a:lnTo>
                  <a:lnTo>
                    <a:pt x="5626" y="4324"/>
                  </a:lnTo>
                  <a:lnTo>
                    <a:pt x="5637" y="4616"/>
                  </a:lnTo>
                  <a:lnTo>
                    <a:pt x="5667" y="4920"/>
                  </a:lnTo>
                  <a:lnTo>
                    <a:pt x="5695" y="5218"/>
                  </a:lnTo>
                  <a:lnTo>
                    <a:pt x="5736" y="5510"/>
                  </a:lnTo>
                  <a:lnTo>
                    <a:pt x="5776" y="5792"/>
                  </a:lnTo>
                  <a:lnTo>
                    <a:pt x="5824" y="6055"/>
                  </a:lnTo>
                  <a:lnTo>
                    <a:pt x="5789" y="6072"/>
                  </a:lnTo>
                  <a:lnTo>
                    <a:pt x="5771" y="6089"/>
                  </a:lnTo>
                  <a:lnTo>
                    <a:pt x="5753" y="6112"/>
                  </a:lnTo>
                  <a:lnTo>
                    <a:pt x="5742" y="6146"/>
                  </a:lnTo>
                  <a:lnTo>
                    <a:pt x="5672" y="6140"/>
                  </a:lnTo>
                  <a:lnTo>
                    <a:pt x="5579" y="6140"/>
                  </a:lnTo>
                  <a:lnTo>
                    <a:pt x="5474" y="6134"/>
                  </a:lnTo>
                  <a:lnTo>
                    <a:pt x="5365" y="6134"/>
                  </a:lnTo>
                  <a:lnTo>
                    <a:pt x="5254" y="6129"/>
                  </a:lnTo>
                  <a:lnTo>
                    <a:pt x="5155" y="6123"/>
                  </a:lnTo>
                  <a:lnTo>
                    <a:pt x="5079" y="6106"/>
                  </a:lnTo>
                  <a:lnTo>
                    <a:pt x="5039" y="6095"/>
                  </a:lnTo>
                  <a:lnTo>
                    <a:pt x="4980" y="5999"/>
                  </a:lnTo>
                  <a:lnTo>
                    <a:pt x="4945" y="5836"/>
                  </a:lnTo>
                  <a:lnTo>
                    <a:pt x="4922" y="5616"/>
                  </a:lnTo>
                  <a:lnTo>
                    <a:pt x="4917" y="5375"/>
                  </a:lnTo>
                  <a:lnTo>
                    <a:pt x="4905" y="5111"/>
                  </a:lnTo>
                  <a:lnTo>
                    <a:pt x="4894" y="4870"/>
                  </a:lnTo>
                  <a:lnTo>
                    <a:pt x="4876" y="4661"/>
                  </a:lnTo>
                  <a:lnTo>
                    <a:pt x="4853" y="4510"/>
                  </a:lnTo>
                  <a:lnTo>
                    <a:pt x="4841" y="4481"/>
                  </a:lnTo>
                  <a:lnTo>
                    <a:pt x="4835" y="4453"/>
                  </a:lnTo>
                  <a:lnTo>
                    <a:pt x="4823" y="4425"/>
                  </a:lnTo>
                  <a:lnTo>
                    <a:pt x="4823" y="4402"/>
                  </a:lnTo>
                  <a:lnTo>
                    <a:pt x="4812" y="4358"/>
                  </a:lnTo>
                  <a:lnTo>
                    <a:pt x="4812" y="4346"/>
                  </a:lnTo>
                  <a:lnTo>
                    <a:pt x="4806" y="4296"/>
                  </a:lnTo>
                  <a:lnTo>
                    <a:pt x="4806" y="4250"/>
                  </a:lnTo>
                  <a:lnTo>
                    <a:pt x="4800" y="4206"/>
                  </a:lnTo>
                  <a:lnTo>
                    <a:pt x="4800" y="4166"/>
                  </a:lnTo>
                  <a:lnTo>
                    <a:pt x="4789" y="4127"/>
                  </a:lnTo>
                  <a:lnTo>
                    <a:pt x="4783" y="4088"/>
                  </a:lnTo>
                  <a:lnTo>
                    <a:pt x="4777" y="4054"/>
                  </a:lnTo>
                  <a:lnTo>
                    <a:pt x="4772" y="4020"/>
                  </a:lnTo>
                  <a:lnTo>
                    <a:pt x="4737" y="4037"/>
                  </a:lnTo>
                  <a:lnTo>
                    <a:pt x="4702" y="4059"/>
                  </a:lnTo>
                  <a:lnTo>
                    <a:pt x="4719" y="4149"/>
                  </a:lnTo>
                  <a:lnTo>
                    <a:pt x="4737" y="4257"/>
                  </a:lnTo>
                  <a:lnTo>
                    <a:pt x="4742" y="4368"/>
                  </a:lnTo>
                  <a:lnTo>
                    <a:pt x="4754" y="4498"/>
                  </a:lnTo>
                  <a:lnTo>
                    <a:pt x="4754" y="4622"/>
                  </a:lnTo>
                  <a:lnTo>
                    <a:pt x="4754" y="4751"/>
                  </a:lnTo>
                  <a:lnTo>
                    <a:pt x="4748" y="4870"/>
                  </a:lnTo>
                  <a:lnTo>
                    <a:pt x="4742" y="4988"/>
                  </a:lnTo>
                  <a:lnTo>
                    <a:pt x="4731" y="5049"/>
                  </a:lnTo>
                  <a:lnTo>
                    <a:pt x="4731" y="5145"/>
                  </a:lnTo>
                  <a:lnTo>
                    <a:pt x="4725" y="5257"/>
                  </a:lnTo>
                  <a:lnTo>
                    <a:pt x="4731" y="5386"/>
                  </a:lnTo>
                  <a:lnTo>
                    <a:pt x="4731" y="5505"/>
                  </a:lnTo>
                  <a:lnTo>
                    <a:pt x="4737" y="5623"/>
                  </a:lnTo>
                  <a:lnTo>
                    <a:pt x="4748" y="5712"/>
                  </a:lnTo>
                  <a:lnTo>
                    <a:pt x="4772" y="5775"/>
                  </a:lnTo>
                  <a:lnTo>
                    <a:pt x="4777" y="5780"/>
                  </a:lnTo>
                  <a:lnTo>
                    <a:pt x="4800" y="5785"/>
                  </a:lnTo>
                  <a:lnTo>
                    <a:pt x="4818" y="5785"/>
                  </a:lnTo>
                  <a:lnTo>
                    <a:pt x="4835" y="5797"/>
                  </a:lnTo>
                  <a:lnTo>
                    <a:pt x="4853" y="5831"/>
                  </a:lnTo>
                  <a:lnTo>
                    <a:pt x="4871" y="5881"/>
                  </a:lnTo>
                  <a:lnTo>
                    <a:pt x="4882" y="5932"/>
                  </a:lnTo>
                  <a:lnTo>
                    <a:pt x="4905" y="5982"/>
                  </a:lnTo>
                  <a:lnTo>
                    <a:pt x="4876" y="6005"/>
                  </a:lnTo>
                  <a:lnTo>
                    <a:pt x="4853" y="6033"/>
                  </a:lnTo>
                  <a:lnTo>
                    <a:pt x="4789" y="6038"/>
                  </a:lnTo>
                  <a:lnTo>
                    <a:pt x="4731" y="6045"/>
                  </a:lnTo>
                  <a:lnTo>
                    <a:pt x="4661" y="6033"/>
                  </a:lnTo>
                  <a:lnTo>
                    <a:pt x="4592" y="6028"/>
                  </a:lnTo>
                  <a:lnTo>
                    <a:pt x="4521" y="6011"/>
                  </a:lnTo>
                  <a:lnTo>
                    <a:pt x="4463" y="5999"/>
                  </a:lnTo>
                  <a:lnTo>
                    <a:pt x="4405" y="5994"/>
                  </a:lnTo>
                  <a:lnTo>
                    <a:pt x="4370" y="5994"/>
                  </a:lnTo>
                  <a:lnTo>
                    <a:pt x="4289" y="5988"/>
                  </a:lnTo>
                  <a:lnTo>
                    <a:pt x="4207" y="5994"/>
                  </a:lnTo>
                  <a:lnTo>
                    <a:pt x="4121" y="5994"/>
                  </a:lnTo>
                  <a:lnTo>
                    <a:pt x="4039" y="6005"/>
                  </a:lnTo>
                  <a:lnTo>
                    <a:pt x="3952" y="6011"/>
                  </a:lnTo>
                  <a:lnTo>
                    <a:pt x="3865" y="6016"/>
                  </a:lnTo>
                  <a:lnTo>
                    <a:pt x="3778" y="6016"/>
                  </a:lnTo>
                  <a:lnTo>
                    <a:pt x="3702" y="6016"/>
                  </a:lnTo>
                  <a:lnTo>
                    <a:pt x="3696" y="5949"/>
                  </a:lnTo>
                  <a:lnTo>
                    <a:pt x="3708" y="5903"/>
                  </a:lnTo>
                  <a:lnTo>
                    <a:pt x="3725" y="5870"/>
                  </a:lnTo>
                  <a:lnTo>
                    <a:pt x="3761" y="5853"/>
                  </a:lnTo>
                  <a:lnTo>
                    <a:pt x="3789" y="5831"/>
                  </a:lnTo>
                  <a:lnTo>
                    <a:pt x="3836" y="5819"/>
                  </a:lnTo>
                  <a:lnTo>
                    <a:pt x="3888" y="5808"/>
                  </a:lnTo>
                  <a:lnTo>
                    <a:pt x="3946" y="5797"/>
                  </a:lnTo>
                  <a:lnTo>
                    <a:pt x="3941" y="5696"/>
                  </a:lnTo>
                  <a:lnTo>
                    <a:pt x="3941" y="5601"/>
                  </a:lnTo>
                  <a:lnTo>
                    <a:pt x="3929" y="5505"/>
                  </a:lnTo>
                  <a:lnTo>
                    <a:pt x="3923" y="5415"/>
                  </a:lnTo>
                  <a:lnTo>
                    <a:pt x="3911" y="5319"/>
                  </a:lnTo>
                  <a:lnTo>
                    <a:pt x="3900" y="5229"/>
                  </a:lnTo>
                  <a:lnTo>
                    <a:pt x="3882" y="5145"/>
                  </a:lnTo>
                  <a:lnTo>
                    <a:pt x="3877" y="5066"/>
                  </a:lnTo>
                  <a:lnTo>
                    <a:pt x="3859" y="4931"/>
                  </a:lnTo>
                  <a:lnTo>
                    <a:pt x="3853" y="4802"/>
                  </a:lnTo>
                  <a:lnTo>
                    <a:pt x="3853" y="4672"/>
                  </a:lnTo>
                  <a:lnTo>
                    <a:pt x="3859" y="4549"/>
                  </a:lnTo>
                  <a:lnTo>
                    <a:pt x="3859" y="4425"/>
                  </a:lnTo>
                  <a:lnTo>
                    <a:pt x="3865" y="4307"/>
                  </a:lnTo>
                  <a:lnTo>
                    <a:pt x="3859" y="4189"/>
                  </a:lnTo>
                  <a:lnTo>
                    <a:pt x="3853" y="4082"/>
                  </a:lnTo>
                  <a:lnTo>
                    <a:pt x="3830" y="4088"/>
                  </a:lnTo>
                  <a:lnTo>
                    <a:pt x="3795" y="4098"/>
                  </a:lnTo>
                  <a:lnTo>
                    <a:pt x="3754" y="4110"/>
                  </a:lnTo>
                  <a:lnTo>
                    <a:pt x="3743" y="4127"/>
                  </a:lnTo>
                  <a:lnTo>
                    <a:pt x="3725" y="4166"/>
                  </a:lnTo>
                  <a:lnTo>
                    <a:pt x="3731" y="4211"/>
                  </a:lnTo>
                  <a:lnTo>
                    <a:pt x="3737" y="4257"/>
                  </a:lnTo>
                  <a:lnTo>
                    <a:pt x="3743" y="4301"/>
                  </a:lnTo>
                  <a:lnTo>
                    <a:pt x="3708" y="4363"/>
                  </a:lnTo>
                  <a:lnTo>
                    <a:pt x="3655" y="4431"/>
                  </a:lnTo>
                  <a:lnTo>
                    <a:pt x="3586" y="4498"/>
                  </a:lnTo>
                  <a:lnTo>
                    <a:pt x="3510" y="4566"/>
                  </a:lnTo>
                  <a:lnTo>
                    <a:pt x="3429" y="4633"/>
                  </a:lnTo>
                  <a:lnTo>
                    <a:pt x="3365" y="4701"/>
                  </a:lnTo>
                  <a:lnTo>
                    <a:pt x="3313" y="4757"/>
                  </a:lnTo>
                  <a:lnTo>
                    <a:pt x="3289" y="4819"/>
                  </a:lnTo>
                  <a:lnTo>
                    <a:pt x="3277" y="4875"/>
                  </a:lnTo>
                  <a:lnTo>
                    <a:pt x="3272" y="4920"/>
                  </a:lnTo>
                  <a:lnTo>
                    <a:pt x="3272" y="4954"/>
                  </a:lnTo>
                  <a:lnTo>
                    <a:pt x="3272" y="4993"/>
                  </a:lnTo>
                  <a:lnTo>
                    <a:pt x="3266" y="5021"/>
                  </a:lnTo>
                  <a:lnTo>
                    <a:pt x="3261" y="5055"/>
                  </a:lnTo>
                  <a:lnTo>
                    <a:pt x="3237" y="5088"/>
                  </a:lnTo>
                  <a:lnTo>
                    <a:pt x="3214" y="5145"/>
                  </a:lnTo>
                  <a:lnTo>
                    <a:pt x="3150" y="5128"/>
                  </a:lnTo>
                  <a:lnTo>
                    <a:pt x="3097" y="5116"/>
                  </a:lnTo>
                  <a:lnTo>
                    <a:pt x="3046" y="5094"/>
                  </a:lnTo>
                  <a:lnTo>
                    <a:pt x="3011" y="5077"/>
                  </a:lnTo>
                  <a:lnTo>
                    <a:pt x="2981" y="5049"/>
                  </a:lnTo>
                  <a:lnTo>
                    <a:pt x="2958" y="5021"/>
                  </a:lnTo>
                  <a:lnTo>
                    <a:pt x="2940" y="4981"/>
                  </a:lnTo>
                  <a:lnTo>
                    <a:pt x="2924" y="4948"/>
                  </a:lnTo>
                  <a:lnTo>
                    <a:pt x="2906" y="4903"/>
                  </a:lnTo>
                  <a:lnTo>
                    <a:pt x="2894" y="4870"/>
                  </a:lnTo>
                  <a:lnTo>
                    <a:pt x="2883" y="4829"/>
                  </a:lnTo>
                  <a:lnTo>
                    <a:pt x="2877" y="4796"/>
                  </a:lnTo>
                  <a:lnTo>
                    <a:pt x="2801" y="4813"/>
                  </a:lnTo>
                  <a:lnTo>
                    <a:pt x="2726" y="4829"/>
                  </a:lnTo>
                  <a:lnTo>
                    <a:pt x="2650" y="4829"/>
                  </a:lnTo>
                  <a:lnTo>
                    <a:pt x="2587" y="4824"/>
                  </a:lnTo>
                  <a:lnTo>
                    <a:pt x="2522" y="4790"/>
                  </a:lnTo>
                  <a:lnTo>
                    <a:pt x="2476" y="4745"/>
                  </a:lnTo>
                  <a:lnTo>
                    <a:pt x="2447" y="4667"/>
                  </a:lnTo>
                  <a:lnTo>
                    <a:pt x="2453" y="4559"/>
                  </a:lnTo>
                  <a:lnTo>
                    <a:pt x="2418" y="4554"/>
                  </a:lnTo>
                  <a:lnTo>
                    <a:pt x="2395" y="4554"/>
                  </a:lnTo>
                  <a:lnTo>
                    <a:pt x="2365" y="4549"/>
                  </a:lnTo>
                  <a:lnTo>
                    <a:pt x="2331" y="4549"/>
                  </a:lnTo>
                  <a:lnTo>
                    <a:pt x="2331" y="4487"/>
                  </a:lnTo>
                  <a:lnTo>
                    <a:pt x="2331" y="4442"/>
                  </a:lnTo>
                  <a:lnTo>
                    <a:pt x="2324" y="4409"/>
                  </a:lnTo>
                  <a:lnTo>
                    <a:pt x="2319" y="4397"/>
                  </a:lnTo>
                  <a:lnTo>
                    <a:pt x="2296" y="4380"/>
                  </a:lnTo>
                  <a:lnTo>
                    <a:pt x="2266" y="4380"/>
                  </a:lnTo>
                  <a:lnTo>
                    <a:pt x="2232" y="4385"/>
                  </a:lnTo>
                  <a:lnTo>
                    <a:pt x="2185" y="4397"/>
                  </a:lnTo>
                  <a:lnTo>
                    <a:pt x="1976" y="4402"/>
                  </a:lnTo>
                  <a:lnTo>
                    <a:pt x="1831" y="4375"/>
                  </a:lnTo>
                  <a:lnTo>
                    <a:pt x="1733" y="4313"/>
                  </a:lnTo>
                  <a:lnTo>
                    <a:pt x="1674" y="4223"/>
                  </a:lnTo>
                  <a:lnTo>
                    <a:pt x="1639" y="4098"/>
                  </a:lnTo>
                  <a:lnTo>
                    <a:pt x="1634" y="3958"/>
                  </a:lnTo>
                  <a:lnTo>
                    <a:pt x="1634" y="3789"/>
                  </a:lnTo>
                  <a:lnTo>
                    <a:pt x="1639" y="3610"/>
                  </a:lnTo>
                  <a:lnTo>
                    <a:pt x="1593" y="3598"/>
                  </a:lnTo>
                  <a:lnTo>
                    <a:pt x="1551" y="3593"/>
                  </a:lnTo>
                  <a:lnTo>
                    <a:pt x="1517" y="3581"/>
                  </a:lnTo>
                  <a:lnTo>
                    <a:pt x="1488" y="3581"/>
                  </a:lnTo>
                  <a:lnTo>
                    <a:pt x="1453" y="3570"/>
                  </a:lnTo>
                  <a:lnTo>
                    <a:pt x="1418" y="3565"/>
                  </a:lnTo>
                  <a:lnTo>
                    <a:pt x="1378" y="3559"/>
                  </a:lnTo>
                  <a:lnTo>
                    <a:pt x="1337" y="3559"/>
                  </a:lnTo>
                  <a:lnTo>
                    <a:pt x="1320" y="3470"/>
                  </a:lnTo>
                  <a:lnTo>
                    <a:pt x="1308" y="3368"/>
                  </a:lnTo>
                  <a:lnTo>
                    <a:pt x="1290" y="3261"/>
                  </a:lnTo>
                  <a:lnTo>
                    <a:pt x="1285" y="3154"/>
                  </a:lnTo>
                  <a:lnTo>
                    <a:pt x="1267" y="3041"/>
                  </a:lnTo>
                  <a:lnTo>
                    <a:pt x="1249" y="2940"/>
                  </a:lnTo>
                  <a:lnTo>
                    <a:pt x="1226" y="2840"/>
                  </a:lnTo>
                  <a:lnTo>
                    <a:pt x="1203" y="2761"/>
                  </a:lnTo>
                  <a:lnTo>
                    <a:pt x="1145" y="2783"/>
                  </a:lnTo>
                  <a:lnTo>
                    <a:pt x="1092" y="2823"/>
                  </a:lnTo>
                  <a:lnTo>
                    <a:pt x="1041" y="2857"/>
                  </a:lnTo>
                  <a:lnTo>
                    <a:pt x="1000" y="2884"/>
                  </a:lnTo>
                  <a:lnTo>
                    <a:pt x="942" y="2890"/>
                  </a:lnTo>
                  <a:lnTo>
                    <a:pt x="884" y="2896"/>
                  </a:lnTo>
                  <a:lnTo>
                    <a:pt x="831" y="2884"/>
                  </a:lnTo>
                  <a:lnTo>
                    <a:pt x="790" y="2874"/>
                  </a:lnTo>
                  <a:lnTo>
                    <a:pt x="750" y="2857"/>
                  </a:lnTo>
                  <a:lnTo>
                    <a:pt x="721" y="2857"/>
                  </a:lnTo>
                  <a:lnTo>
                    <a:pt x="692" y="2850"/>
                  </a:lnTo>
                  <a:lnTo>
                    <a:pt x="674" y="2845"/>
                  </a:lnTo>
                  <a:lnTo>
                    <a:pt x="656" y="2828"/>
                  </a:lnTo>
                  <a:lnTo>
                    <a:pt x="645" y="2817"/>
                  </a:lnTo>
                  <a:lnTo>
                    <a:pt x="628" y="2794"/>
                  </a:lnTo>
                  <a:lnTo>
                    <a:pt x="616" y="2772"/>
                  </a:lnTo>
                  <a:lnTo>
                    <a:pt x="547" y="2772"/>
                  </a:lnTo>
                  <a:lnTo>
                    <a:pt x="476" y="2772"/>
                  </a:lnTo>
                  <a:lnTo>
                    <a:pt x="407" y="2766"/>
                  </a:lnTo>
                  <a:lnTo>
                    <a:pt x="337" y="2766"/>
                  </a:lnTo>
                  <a:lnTo>
                    <a:pt x="268" y="2755"/>
                  </a:lnTo>
                  <a:lnTo>
                    <a:pt x="198" y="2755"/>
                  </a:lnTo>
                  <a:lnTo>
                    <a:pt x="128" y="2744"/>
                  </a:lnTo>
                  <a:lnTo>
                    <a:pt x="70" y="2744"/>
                  </a:lnTo>
                  <a:lnTo>
                    <a:pt x="65" y="2732"/>
                  </a:lnTo>
                  <a:lnTo>
                    <a:pt x="58" y="2715"/>
                  </a:lnTo>
                  <a:lnTo>
                    <a:pt x="53" y="2693"/>
                  </a:lnTo>
                  <a:lnTo>
                    <a:pt x="53" y="2682"/>
                  </a:lnTo>
                  <a:lnTo>
                    <a:pt x="53" y="2570"/>
                  </a:lnTo>
                  <a:lnTo>
                    <a:pt x="47" y="2457"/>
                  </a:lnTo>
                  <a:lnTo>
                    <a:pt x="35" y="2339"/>
                  </a:lnTo>
                  <a:lnTo>
                    <a:pt x="23" y="2221"/>
                  </a:lnTo>
                  <a:lnTo>
                    <a:pt x="6" y="2097"/>
                  </a:lnTo>
                  <a:lnTo>
                    <a:pt x="0" y="1979"/>
                  </a:lnTo>
                  <a:lnTo>
                    <a:pt x="6" y="1866"/>
                  </a:lnTo>
                  <a:lnTo>
                    <a:pt x="30" y="1766"/>
                  </a:lnTo>
                  <a:lnTo>
                    <a:pt x="35" y="1743"/>
                  </a:lnTo>
                  <a:lnTo>
                    <a:pt x="65" y="1721"/>
                  </a:lnTo>
                  <a:lnTo>
                    <a:pt x="88" y="1692"/>
                  </a:lnTo>
                  <a:lnTo>
                    <a:pt x="111" y="1675"/>
                  </a:lnTo>
                  <a:lnTo>
                    <a:pt x="116" y="1641"/>
                  </a:lnTo>
                  <a:lnTo>
                    <a:pt x="122" y="1614"/>
                  </a:lnTo>
                  <a:lnTo>
                    <a:pt x="99" y="1586"/>
                  </a:lnTo>
                  <a:lnTo>
                    <a:pt x="81" y="1563"/>
                  </a:lnTo>
                  <a:lnTo>
                    <a:pt x="53" y="1501"/>
                  </a:lnTo>
                  <a:lnTo>
                    <a:pt x="53" y="1451"/>
                  </a:lnTo>
                  <a:lnTo>
                    <a:pt x="58" y="1395"/>
                  </a:lnTo>
                  <a:lnTo>
                    <a:pt x="93" y="1344"/>
                  </a:lnTo>
                  <a:lnTo>
                    <a:pt x="146" y="1282"/>
                  </a:lnTo>
                  <a:lnTo>
                    <a:pt x="192" y="1265"/>
                  </a:lnTo>
                  <a:lnTo>
                    <a:pt x="227" y="1282"/>
                  </a:lnTo>
                  <a:lnTo>
                    <a:pt x="261" y="1327"/>
                  </a:lnTo>
                  <a:lnTo>
                    <a:pt x="279" y="1378"/>
                  </a:lnTo>
                  <a:lnTo>
                    <a:pt x="296" y="1439"/>
                  </a:lnTo>
                  <a:lnTo>
                    <a:pt x="308" y="1496"/>
                  </a:lnTo>
                  <a:lnTo>
                    <a:pt x="319" y="1546"/>
                  </a:lnTo>
                  <a:lnTo>
                    <a:pt x="360" y="1563"/>
                  </a:lnTo>
                  <a:lnTo>
                    <a:pt x="390" y="1580"/>
                  </a:lnTo>
                  <a:lnTo>
                    <a:pt x="402" y="1580"/>
                  </a:lnTo>
                  <a:lnTo>
                    <a:pt x="418" y="1591"/>
                  </a:lnTo>
                  <a:lnTo>
                    <a:pt x="436" y="1597"/>
                  </a:lnTo>
                  <a:lnTo>
                    <a:pt x="471" y="1608"/>
                  </a:lnTo>
                  <a:lnTo>
                    <a:pt x="506" y="1586"/>
                  </a:lnTo>
                  <a:lnTo>
                    <a:pt x="494" y="1546"/>
                  </a:lnTo>
                  <a:lnTo>
                    <a:pt x="494" y="1501"/>
                  </a:lnTo>
                  <a:lnTo>
                    <a:pt x="494" y="1456"/>
                  </a:lnTo>
                  <a:lnTo>
                    <a:pt x="512" y="1417"/>
                  </a:lnTo>
                  <a:lnTo>
                    <a:pt x="517" y="1371"/>
                  </a:lnTo>
                  <a:lnTo>
                    <a:pt x="535" y="1344"/>
                  </a:lnTo>
                  <a:lnTo>
                    <a:pt x="552" y="1316"/>
                  </a:lnTo>
                  <a:lnTo>
                    <a:pt x="575" y="1305"/>
                  </a:lnTo>
                  <a:lnTo>
                    <a:pt x="633" y="1276"/>
                  </a:lnTo>
                  <a:lnTo>
                    <a:pt x="681" y="1288"/>
                  </a:lnTo>
                  <a:lnTo>
                    <a:pt x="709" y="1310"/>
                  </a:lnTo>
                  <a:lnTo>
                    <a:pt x="732" y="1349"/>
                  </a:lnTo>
                  <a:lnTo>
                    <a:pt x="750" y="1371"/>
                  </a:lnTo>
                  <a:lnTo>
                    <a:pt x="773" y="1383"/>
                  </a:lnTo>
                  <a:lnTo>
                    <a:pt x="796" y="1366"/>
                  </a:lnTo>
                  <a:lnTo>
                    <a:pt x="843" y="1316"/>
                  </a:lnTo>
                  <a:lnTo>
                    <a:pt x="861" y="1282"/>
                  </a:lnTo>
                  <a:lnTo>
                    <a:pt x="889" y="1271"/>
                  </a:lnTo>
                  <a:lnTo>
                    <a:pt x="924" y="1265"/>
                  </a:lnTo>
                  <a:lnTo>
                    <a:pt x="960" y="1276"/>
                  </a:lnTo>
                  <a:lnTo>
                    <a:pt x="988" y="1288"/>
                  </a:lnTo>
                  <a:lnTo>
                    <a:pt x="1018" y="1310"/>
                  </a:lnTo>
                  <a:lnTo>
                    <a:pt x="1034" y="1339"/>
                  </a:lnTo>
                  <a:lnTo>
                    <a:pt x="1052" y="1378"/>
                  </a:lnTo>
                  <a:lnTo>
                    <a:pt x="1052" y="1411"/>
                  </a:lnTo>
                  <a:lnTo>
                    <a:pt x="1041" y="1462"/>
                  </a:lnTo>
                  <a:lnTo>
                    <a:pt x="1029" y="1513"/>
                  </a:lnTo>
                  <a:lnTo>
                    <a:pt x="1029" y="1574"/>
                  </a:lnTo>
                  <a:lnTo>
                    <a:pt x="1023" y="1574"/>
                  </a:lnTo>
                  <a:lnTo>
                    <a:pt x="1018" y="1591"/>
                  </a:lnTo>
                  <a:lnTo>
                    <a:pt x="1011" y="1608"/>
                  </a:lnTo>
                  <a:lnTo>
                    <a:pt x="1011" y="1625"/>
                  </a:lnTo>
                  <a:lnTo>
                    <a:pt x="1052" y="1641"/>
                  </a:lnTo>
                  <a:lnTo>
                    <a:pt x="1075" y="1648"/>
                  </a:lnTo>
                  <a:lnTo>
                    <a:pt x="1099" y="1648"/>
                  </a:lnTo>
                  <a:lnTo>
                    <a:pt x="1133" y="1648"/>
                  </a:lnTo>
                  <a:lnTo>
                    <a:pt x="1099" y="1597"/>
                  </a:lnTo>
                  <a:lnTo>
                    <a:pt x="1081" y="1546"/>
                  </a:lnTo>
                  <a:lnTo>
                    <a:pt x="1069" y="1496"/>
                  </a:lnTo>
                  <a:lnTo>
                    <a:pt x="1069" y="1451"/>
                  </a:lnTo>
                  <a:lnTo>
                    <a:pt x="1069" y="1400"/>
                  </a:lnTo>
                  <a:lnTo>
                    <a:pt x="1081" y="1356"/>
                  </a:lnTo>
                  <a:lnTo>
                    <a:pt x="1099" y="1310"/>
                  </a:lnTo>
                  <a:lnTo>
                    <a:pt x="1133" y="1265"/>
                  </a:lnTo>
                  <a:lnTo>
                    <a:pt x="1145" y="1260"/>
                  </a:lnTo>
                  <a:lnTo>
                    <a:pt x="1180" y="1254"/>
                  </a:lnTo>
                  <a:lnTo>
                    <a:pt x="1221" y="1243"/>
                  </a:lnTo>
                  <a:lnTo>
                    <a:pt x="1267" y="1248"/>
                  </a:lnTo>
                  <a:lnTo>
                    <a:pt x="1290" y="1260"/>
                  </a:lnTo>
                  <a:lnTo>
                    <a:pt x="1320" y="1293"/>
                  </a:lnTo>
                  <a:lnTo>
                    <a:pt x="1348" y="1316"/>
                  </a:lnTo>
                  <a:lnTo>
                    <a:pt x="1389" y="1327"/>
                  </a:lnTo>
                  <a:lnTo>
                    <a:pt x="1401" y="1316"/>
                  </a:lnTo>
                  <a:lnTo>
                    <a:pt x="1429" y="1305"/>
                  </a:lnTo>
                  <a:lnTo>
                    <a:pt x="1523" y="1271"/>
                  </a:lnTo>
                  <a:lnTo>
                    <a:pt x="1599" y="1282"/>
                  </a:lnTo>
                  <a:lnTo>
                    <a:pt x="1650" y="1316"/>
                  </a:lnTo>
                  <a:lnTo>
                    <a:pt x="1685" y="1383"/>
                  </a:lnTo>
                  <a:lnTo>
                    <a:pt x="1703" y="1456"/>
                  </a:lnTo>
                  <a:lnTo>
                    <a:pt x="1703" y="1546"/>
                  </a:lnTo>
                  <a:lnTo>
                    <a:pt x="1691" y="1636"/>
                  </a:lnTo>
                  <a:lnTo>
                    <a:pt x="1680" y="1726"/>
                  </a:lnTo>
                  <a:lnTo>
                    <a:pt x="1715" y="1760"/>
                  </a:lnTo>
                  <a:lnTo>
                    <a:pt x="1756" y="1800"/>
                  </a:lnTo>
                  <a:lnTo>
                    <a:pt x="1790" y="1839"/>
                  </a:lnTo>
                  <a:lnTo>
                    <a:pt x="1825" y="1883"/>
                  </a:lnTo>
                  <a:lnTo>
                    <a:pt x="1819" y="1822"/>
                  </a:lnTo>
                  <a:lnTo>
                    <a:pt x="1814" y="1732"/>
                  </a:lnTo>
                  <a:lnTo>
                    <a:pt x="1796" y="1625"/>
                  </a:lnTo>
                  <a:lnTo>
                    <a:pt x="1802" y="1518"/>
                  </a:lnTo>
                  <a:lnTo>
                    <a:pt x="1814" y="1417"/>
                  </a:lnTo>
                  <a:lnTo>
                    <a:pt x="1860" y="1344"/>
                  </a:lnTo>
                  <a:lnTo>
                    <a:pt x="1929" y="1316"/>
                  </a:lnTo>
                  <a:lnTo>
                    <a:pt x="2040" y="1344"/>
                  </a:lnTo>
                  <a:lnTo>
                    <a:pt x="2070" y="1366"/>
                  </a:lnTo>
                  <a:lnTo>
                    <a:pt x="2110" y="1405"/>
                  </a:lnTo>
                  <a:lnTo>
                    <a:pt x="2139" y="1451"/>
                  </a:lnTo>
                  <a:lnTo>
                    <a:pt x="2162" y="1496"/>
                  </a:lnTo>
                  <a:lnTo>
                    <a:pt x="2167" y="1546"/>
                  </a:lnTo>
                  <a:lnTo>
                    <a:pt x="2167" y="1602"/>
                  </a:lnTo>
                  <a:lnTo>
                    <a:pt x="2156" y="1641"/>
                  </a:lnTo>
                  <a:lnTo>
                    <a:pt x="2144" y="1687"/>
                  </a:lnTo>
                  <a:lnTo>
                    <a:pt x="2127" y="1726"/>
                  </a:lnTo>
                  <a:lnTo>
                    <a:pt x="2127" y="1766"/>
                  </a:lnTo>
                  <a:lnTo>
                    <a:pt x="2133" y="1800"/>
                  </a:lnTo>
                  <a:lnTo>
                    <a:pt x="2162" y="1844"/>
                  </a:lnTo>
                  <a:lnTo>
                    <a:pt x="2179" y="1856"/>
                  </a:lnTo>
                  <a:lnTo>
                    <a:pt x="2215" y="1889"/>
                  </a:lnTo>
                  <a:lnTo>
                    <a:pt x="2261" y="1912"/>
                  </a:lnTo>
                  <a:lnTo>
                    <a:pt x="2319" y="1940"/>
                  </a:lnTo>
                  <a:lnTo>
                    <a:pt x="2359" y="1951"/>
                  </a:lnTo>
                  <a:lnTo>
                    <a:pt x="2400" y="1945"/>
                  </a:lnTo>
                  <a:lnTo>
                    <a:pt x="2418" y="1912"/>
                  </a:lnTo>
                  <a:lnTo>
                    <a:pt x="2423" y="1856"/>
                  </a:lnTo>
                  <a:lnTo>
                    <a:pt x="2400" y="1810"/>
                  </a:lnTo>
                  <a:lnTo>
                    <a:pt x="2365" y="1783"/>
                  </a:lnTo>
                  <a:lnTo>
                    <a:pt x="2319" y="1749"/>
                  </a:lnTo>
                  <a:lnTo>
                    <a:pt x="2290" y="1715"/>
                  </a:lnTo>
                  <a:lnTo>
                    <a:pt x="2261" y="1608"/>
                  </a:lnTo>
                  <a:lnTo>
                    <a:pt x="2261" y="1506"/>
                  </a:lnTo>
                  <a:lnTo>
                    <a:pt x="2284" y="1400"/>
                  </a:lnTo>
                  <a:lnTo>
                    <a:pt x="2331" y="1310"/>
                  </a:lnTo>
                  <a:lnTo>
                    <a:pt x="2389" y="1231"/>
                  </a:lnTo>
                  <a:lnTo>
                    <a:pt x="2470" y="1187"/>
                  </a:lnTo>
                  <a:lnTo>
                    <a:pt x="2557" y="1170"/>
                  </a:lnTo>
                  <a:lnTo>
                    <a:pt x="2668" y="1197"/>
                  </a:lnTo>
                  <a:lnTo>
                    <a:pt x="2749" y="1248"/>
                  </a:lnTo>
                  <a:lnTo>
                    <a:pt x="2790" y="1316"/>
                  </a:lnTo>
                  <a:lnTo>
                    <a:pt x="2795" y="1383"/>
                  </a:lnTo>
                  <a:lnTo>
                    <a:pt x="2790" y="1467"/>
                  </a:lnTo>
                  <a:lnTo>
                    <a:pt x="2755" y="1540"/>
                  </a:lnTo>
                  <a:lnTo>
                    <a:pt x="2726" y="1619"/>
                  </a:lnTo>
                  <a:lnTo>
                    <a:pt x="2691" y="1687"/>
                  </a:lnTo>
                  <a:lnTo>
                    <a:pt x="2679" y="1754"/>
                  </a:lnTo>
                  <a:lnTo>
                    <a:pt x="2679" y="1777"/>
                  </a:lnTo>
                  <a:lnTo>
                    <a:pt x="2697" y="1827"/>
                  </a:lnTo>
                  <a:lnTo>
                    <a:pt x="2720" y="1883"/>
                  </a:lnTo>
                  <a:lnTo>
                    <a:pt x="2749" y="1934"/>
                  </a:lnTo>
                  <a:lnTo>
                    <a:pt x="2778" y="1991"/>
                  </a:lnTo>
                  <a:lnTo>
                    <a:pt x="2807" y="2041"/>
                  </a:lnTo>
                  <a:lnTo>
                    <a:pt x="2836" y="2097"/>
                  </a:lnTo>
                  <a:lnTo>
                    <a:pt x="2866" y="2153"/>
                  </a:lnTo>
                  <a:lnTo>
                    <a:pt x="2894" y="2215"/>
                  </a:lnTo>
                  <a:lnTo>
                    <a:pt x="2900" y="2249"/>
                  </a:lnTo>
                  <a:lnTo>
                    <a:pt x="2912" y="2300"/>
                  </a:lnTo>
                  <a:lnTo>
                    <a:pt x="2917" y="2345"/>
                  </a:lnTo>
                  <a:lnTo>
                    <a:pt x="2929" y="2396"/>
                  </a:lnTo>
                  <a:lnTo>
                    <a:pt x="2935" y="2440"/>
                  </a:lnTo>
                  <a:lnTo>
                    <a:pt x="2947" y="2485"/>
                  </a:lnTo>
                  <a:lnTo>
                    <a:pt x="2964" y="2524"/>
                  </a:lnTo>
                  <a:lnTo>
                    <a:pt x="2988" y="2563"/>
                  </a:lnTo>
                  <a:lnTo>
                    <a:pt x="2993" y="2570"/>
                  </a:lnTo>
                  <a:lnTo>
                    <a:pt x="3016" y="2575"/>
                  </a:lnTo>
                  <a:lnTo>
                    <a:pt x="3034" y="2580"/>
                  </a:lnTo>
                  <a:lnTo>
                    <a:pt x="3051" y="2592"/>
                  </a:lnTo>
                  <a:lnTo>
                    <a:pt x="3051" y="2558"/>
                  </a:lnTo>
                  <a:lnTo>
                    <a:pt x="3051" y="2530"/>
                  </a:lnTo>
                  <a:lnTo>
                    <a:pt x="3051" y="2496"/>
                  </a:lnTo>
                  <a:lnTo>
                    <a:pt x="3057" y="2469"/>
                  </a:lnTo>
                  <a:lnTo>
                    <a:pt x="3057" y="2428"/>
                  </a:lnTo>
                  <a:lnTo>
                    <a:pt x="3057" y="2396"/>
                  </a:lnTo>
                  <a:lnTo>
                    <a:pt x="3057" y="2362"/>
                  </a:lnTo>
                  <a:lnTo>
                    <a:pt x="3063" y="2334"/>
                  </a:lnTo>
                  <a:lnTo>
                    <a:pt x="3069" y="2249"/>
                  </a:lnTo>
                  <a:lnTo>
                    <a:pt x="3086" y="2187"/>
                  </a:lnTo>
                  <a:lnTo>
                    <a:pt x="3109" y="2131"/>
                  </a:lnTo>
                  <a:lnTo>
                    <a:pt x="3145" y="2086"/>
                  </a:lnTo>
                  <a:lnTo>
                    <a:pt x="3168" y="2035"/>
                  </a:lnTo>
                  <a:lnTo>
                    <a:pt x="3191" y="1996"/>
                  </a:lnTo>
                  <a:lnTo>
                    <a:pt x="3208" y="1957"/>
                  </a:lnTo>
                  <a:lnTo>
                    <a:pt x="3226" y="1923"/>
                  </a:lnTo>
                  <a:lnTo>
                    <a:pt x="3219" y="1866"/>
                  </a:lnTo>
                  <a:lnTo>
                    <a:pt x="3208" y="1817"/>
                  </a:lnTo>
                  <a:lnTo>
                    <a:pt x="3185" y="1766"/>
                  </a:lnTo>
                  <a:lnTo>
                    <a:pt x="3173" y="1715"/>
                  </a:lnTo>
                  <a:lnTo>
                    <a:pt x="3162" y="1619"/>
                  </a:lnTo>
                  <a:lnTo>
                    <a:pt x="3168" y="1523"/>
                  </a:lnTo>
                  <a:lnTo>
                    <a:pt x="3191" y="1428"/>
                  </a:lnTo>
                  <a:lnTo>
                    <a:pt x="3231" y="1344"/>
                  </a:lnTo>
                  <a:lnTo>
                    <a:pt x="3284" y="1276"/>
                  </a:lnTo>
                  <a:lnTo>
                    <a:pt x="3353" y="1237"/>
                  </a:lnTo>
                  <a:lnTo>
                    <a:pt x="3434" y="1231"/>
                  </a:lnTo>
                  <a:lnTo>
                    <a:pt x="3533" y="1276"/>
                  </a:lnTo>
                  <a:lnTo>
                    <a:pt x="3568" y="1310"/>
                  </a:lnTo>
                  <a:lnTo>
                    <a:pt x="3609" y="1366"/>
                  </a:lnTo>
                  <a:lnTo>
                    <a:pt x="3639" y="1439"/>
                  </a:lnTo>
                  <a:lnTo>
                    <a:pt x="3662" y="1523"/>
                  </a:lnTo>
                  <a:lnTo>
                    <a:pt x="3673" y="1602"/>
                  </a:lnTo>
                  <a:lnTo>
                    <a:pt x="3673" y="1687"/>
                  </a:lnTo>
                  <a:lnTo>
                    <a:pt x="3662" y="1766"/>
                  </a:lnTo>
                  <a:lnTo>
                    <a:pt x="3639" y="1832"/>
                  </a:lnTo>
                  <a:lnTo>
                    <a:pt x="3604" y="1861"/>
                  </a:lnTo>
                  <a:lnTo>
                    <a:pt x="3563" y="1889"/>
                  </a:lnTo>
                  <a:lnTo>
                    <a:pt x="3516" y="1917"/>
                  </a:lnTo>
                  <a:lnTo>
                    <a:pt x="3475" y="1945"/>
                  </a:lnTo>
                  <a:lnTo>
                    <a:pt x="3499" y="1991"/>
                  </a:lnTo>
                  <a:lnTo>
                    <a:pt x="3528" y="2041"/>
                  </a:lnTo>
                  <a:lnTo>
                    <a:pt x="3551" y="2097"/>
                  </a:lnTo>
                  <a:lnTo>
                    <a:pt x="3586" y="2153"/>
                  </a:lnTo>
                  <a:lnTo>
                    <a:pt x="3614" y="2204"/>
                  </a:lnTo>
                  <a:lnTo>
                    <a:pt x="3650" y="2261"/>
                  </a:lnTo>
                  <a:lnTo>
                    <a:pt x="3685" y="2317"/>
                  </a:lnTo>
                  <a:lnTo>
                    <a:pt x="3720" y="2373"/>
                  </a:lnTo>
                  <a:lnTo>
                    <a:pt x="3748" y="2350"/>
                  </a:lnTo>
                  <a:lnTo>
                    <a:pt x="3784" y="2334"/>
                  </a:lnTo>
                  <a:lnTo>
                    <a:pt x="3819" y="2311"/>
                  </a:lnTo>
                  <a:lnTo>
                    <a:pt x="3853" y="2294"/>
                  </a:lnTo>
                  <a:lnTo>
                    <a:pt x="3882" y="2271"/>
                  </a:lnTo>
                  <a:lnTo>
                    <a:pt x="3918" y="2254"/>
                  </a:lnTo>
                  <a:lnTo>
                    <a:pt x="3952" y="2232"/>
                  </a:lnTo>
                  <a:lnTo>
                    <a:pt x="3987" y="2215"/>
                  </a:lnTo>
                  <a:lnTo>
                    <a:pt x="3958" y="2143"/>
                  </a:lnTo>
                  <a:lnTo>
                    <a:pt x="3935" y="2075"/>
                  </a:lnTo>
                  <a:lnTo>
                    <a:pt x="3905" y="1996"/>
                  </a:lnTo>
                  <a:lnTo>
                    <a:pt x="3882" y="1923"/>
                  </a:lnTo>
                  <a:lnTo>
                    <a:pt x="3859" y="1832"/>
                  </a:lnTo>
                  <a:lnTo>
                    <a:pt x="3847" y="1749"/>
                  </a:lnTo>
                  <a:lnTo>
                    <a:pt x="3847" y="1653"/>
                  </a:lnTo>
                  <a:lnTo>
                    <a:pt x="3865" y="1563"/>
                  </a:lnTo>
                  <a:lnTo>
                    <a:pt x="3865" y="1518"/>
                  </a:lnTo>
                  <a:lnTo>
                    <a:pt x="3877" y="1479"/>
                  </a:lnTo>
                  <a:lnTo>
                    <a:pt x="3882" y="1439"/>
                  </a:lnTo>
                  <a:lnTo>
                    <a:pt x="3900" y="1405"/>
                  </a:lnTo>
                  <a:lnTo>
                    <a:pt x="3905" y="1366"/>
                  </a:lnTo>
                  <a:lnTo>
                    <a:pt x="3923" y="1339"/>
                  </a:lnTo>
                  <a:lnTo>
                    <a:pt x="3941" y="1310"/>
                  </a:lnTo>
                  <a:lnTo>
                    <a:pt x="3969" y="1293"/>
                  </a:lnTo>
                  <a:lnTo>
                    <a:pt x="4010" y="1265"/>
                  </a:lnTo>
                  <a:lnTo>
                    <a:pt x="4062" y="1260"/>
                  </a:lnTo>
                  <a:lnTo>
                    <a:pt x="4115" y="1260"/>
                  </a:lnTo>
                  <a:lnTo>
                    <a:pt x="4172" y="1276"/>
                  </a:lnTo>
                  <a:lnTo>
                    <a:pt x="4260" y="1322"/>
                  </a:lnTo>
                  <a:lnTo>
                    <a:pt x="4329" y="1411"/>
                  </a:lnTo>
                  <a:lnTo>
                    <a:pt x="4370" y="1518"/>
                  </a:lnTo>
                  <a:lnTo>
                    <a:pt x="4400" y="1648"/>
                  </a:lnTo>
                  <a:lnTo>
                    <a:pt x="4400" y="1783"/>
                  </a:lnTo>
                  <a:lnTo>
                    <a:pt x="4387" y="1917"/>
                  </a:lnTo>
                  <a:lnTo>
                    <a:pt x="4364" y="2041"/>
                  </a:lnTo>
                  <a:lnTo>
                    <a:pt x="4329" y="2153"/>
                  </a:lnTo>
                  <a:lnTo>
                    <a:pt x="4376" y="2187"/>
                  </a:lnTo>
                  <a:lnTo>
                    <a:pt x="4423" y="2232"/>
                  </a:lnTo>
                  <a:lnTo>
                    <a:pt x="4435" y="2249"/>
                  </a:lnTo>
                  <a:lnTo>
                    <a:pt x="4452" y="2266"/>
                  </a:lnTo>
                  <a:lnTo>
                    <a:pt x="4469" y="2283"/>
                  </a:lnTo>
                  <a:lnTo>
                    <a:pt x="4504" y="2311"/>
                  </a:lnTo>
                  <a:lnTo>
                    <a:pt x="4534" y="2328"/>
                  </a:lnTo>
                  <a:lnTo>
                    <a:pt x="4557" y="2345"/>
                  </a:lnTo>
                  <a:lnTo>
                    <a:pt x="4562" y="2345"/>
                  </a:lnTo>
                  <a:lnTo>
                    <a:pt x="4568" y="2345"/>
                  </a:lnTo>
                  <a:lnTo>
                    <a:pt x="4620" y="2396"/>
                  </a:lnTo>
                  <a:lnTo>
                    <a:pt x="4673" y="2440"/>
                  </a:lnTo>
                  <a:lnTo>
                    <a:pt x="4702" y="2452"/>
                  </a:lnTo>
                  <a:lnTo>
                    <a:pt x="4737" y="2469"/>
                  </a:lnTo>
                  <a:lnTo>
                    <a:pt x="4772" y="2485"/>
                  </a:lnTo>
                  <a:lnTo>
                    <a:pt x="4823" y="2502"/>
                  </a:lnTo>
                  <a:lnTo>
                    <a:pt x="4853" y="2435"/>
                  </a:lnTo>
                  <a:lnTo>
                    <a:pt x="4888" y="2384"/>
                  </a:lnTo>
                  <a:lnTo>
                    <a:pt x="4929" y="2334"/>
                  </a:lnTo>
                  <a:lnTo>
                    <a:pt x="4975" y="2283"/>
                  </a:lnTo>
                  <a:lnTo>
                    <a:pt x="5021" y="2232"/>
                  </a:lnTo>
                  <a:lnTo>
                    <a:pt x="5068" y="2187"/>
                  </a:lnTo>
                  <a:lnTo>
                    <a:pt x="5114" y="2143"/>
                  </a:lnTo>
                  <a:lnTo>
                    <a:pt x="5167" y="2102"/>
                  </a:lnTo>
                  <a:lnTo>
                    <a:pt x="5143" y="2052"/>
                  </a:lnTo>
                  <a:lnTo>
                    <a:pt x="5120" y="2013"/>
                  </a:lnTo>
                  <a:lnTo>
                    <a:pt x="5091" y="1974"/>
                  </a:lnTo>
                  <a:lnTo>
                    <a:pt x="5062" y="1940"/>
                  </a:lnTo>
                  <a:lnTo>
                    <a:pt x="5028" y="1900"/>
                  </a:lnTo>
                  <a:lnTo>
                    <a:pt x="5003" y="1861"/>
                  </a:lnTo>
                  <a:lnTo>
                    <a:pt x="4980" y="1822"/>
                  </a:lnTo>
                  <a:lnTo>
                    <a:pt x="4969" y="1777"/>
                  </a:lnTo>
                  <a:lnTo>
                    <a:pt x="4952" y="1675"/>
                  </a:lnTo>
                  <a:lnTo>
                    <a:pt x="4969" y="1580"/>
                  </a:lnTo>
                  <a:lnTo>
                    <a:pt x="4992" y="1496"/>
                  </a:lnTo>
                  <a:lnTo>
                    <a:pt x="5039" y="1422"/>
                  </a:lnTo>
                  <a:lnTo>
                    <a:pt x="5085" y="1356"/>
                  </a:lnTo>
                  <a:lnTo>
                    <a:pt x="5155" y="1305"/>
                  </a:lnTo>
                  <a:lnTo>
                    <a:pt x="5224" y="1265"/>
                  </a:lnTo>
                  <a:lnTo>
                    <a:pt x="5307" y="1248"/>
                  </a:lnTo>
                  <a:lnTo>
                    <a:pt x="5353" y="1231"/>
                  </a:lnTo>
                  <a:lnTo>
                    <a:pt x="5405" y="1226"/>
                  </a:lnTo>
                  <a:lnTo>
                    <a:pt x="5446" y="1226"/>
                  </a:lnTo>
                  <a:lnTo>
                    <a:pt x="5487" y="1231"/>
                  </a:lnTo>
                  <a:lnTo>
                    <a:pt x="5521" y="1237"/>
                  </a:lnTo>
                  <a:lnTo>
                    <a:pt x="5556" y="1254"/>
                  </a:lnTo>
                  <a:lnTo>
                    <a:pt x="5579" y="1282"/>
                  </a:lnTo>
                  <a:lnTo>
                    <a:pt x="5608" y="1327"/>
                  </a:lnTo>
                  <a:lnTo>
                    <a:pt x="5626" y="1378"/>
                  </a:lnTo>
                  <a:lnTo>
                    <a:pt x="5649" y="1445"/>
                  </a:lnTo>
                  <a:lnTo>
                    <a:pt x="5667" y="1523"/>
                  </a:lnTo>
                  <a:lnTo>
                    <a:pt x="5690" y="1614"/>
                  </a:lnTo>
                  <a:lnTo>
                    <a:pt x="5690" y="1692"/>
                  </a:lnTo>
                  <a:lnTo>
                    <a:pt x="5690" y="1777"/>
                  </a:lnTo>
                  <a:lnTo>
                    <a:pt x="5672" y="1856"/>
                  </a:lnTo>
                  <a:lnTo>
                    <a:pt x="5649" y="1923"/>
                  </a:lnTo>
                  <a:lnTo>
                    <a:pt x="5619" y="1940"/>
                  </a:lnTo>
                  <a:lnTo>
                    <a:pt x="5596" y="1962"/>
                  </a:lnTo>
                  <a:lnTo>
                    <a:pt x="5561" y="1979"/>
                  </a:lnTo>
                  <a:lnTo>
                    <a:pt x="5533" y="2001"/>
                  </a:lnTo>
                  <a:lnTo>
                    <a:pt x="5498" y="2018"/>
                  </a:lnTo>
                  <a:lnTo>
                    <a:pt x="5480" y="2047"/>
                  </a:lnTo>
                  <a:lnTo>
                    <a:pt x="5462" y="2075"/>
                  </a:lnTo>
                  <a:lnTo>
                    <a:pt x="5462" y="2126"/>
                  </a:lnTo>
                  <a:lnTo>
                    <a:pt x="5469" y="2159"/>
                  </a:lnTo>
                  <a:lnTo>
                    <a:pt x="5492" y="2198"/>
                  </a:lnTo>
                  <a:lnTo>
                    <a:pt x="5521" y="2227"/>
                  </a:lnTo>
                  <a:lnTo>
                    <a:pt x="5561" y="2254"/>
                  </a:lnTo>
                  <a:lnTo>
                    <a:pt x="5596" y="2278"/>
                  </a:lnTo>
                  <a:lnTo>
                    <a:pt x="5637" y="2305"/>
                  </a:lnTo>
                  <a:lnTo>
                    <a:pt x="5667" y="2334"/>
                  </a:lnTo>
                  <a:lnTo>
                    <a:pt x="5690" y="2373"/>
                  </a:lnTo>
                  <a:lnTo>
                    <a:pt x="5701" y="2440"/>
                  </a:lnTo>
                  <a:lnTo>
                    <a:pt x="5707" y="2530"/>
                  </a:lnTo>
                  <a:lnTo>
                    <a:pt x="5695" y="2626"/>
                  </a:lnTo>
                  <a:lnTo>
                    <a:pt x="5690" y="2744"/>
                  </a:lnTo>
                  <a:lnTo>
                    <a:pt x="5672" y="2857"/>
                  </a:lnTo>
                  <a:lnTo>
                    <a:pt x="5667" y="2969"/>
                  </a:lnTo>
                  <a:lnTo>
                    <a:pt x="5660" y="3081"/>
                  </a:lnTo>
                  <a:lnTo>
                    <a:pt x="5667" y="3183"/>
                  </a:lnTo>
                  <a:lnTo>
                    <a:pt x="5667" y="3216"/>
                  </a:lnTo>
                  <a:lnTo>
                    <a:pt x="5672" y="3255"/>
                  </a:lnTo>
                  <a:lnTo>
                    <a:pt x="5684" y="3272"/>
                  </a:lnTo>
                  <a:lnTo>
                    <a:pt x="5695" y="3295"/>
                  </a:lnTo>
                  <a:lnTo>
                    <a:pt x="5718" y="3306"/>
                  </a:lnTo>
                  <a:lnTo>
                    <a:pt x="5730" y="3311"/>
                  </a:lnTo>
                  <a:lnTo>
                    <a:pt x="5759" y="3295"/>
                  </a:lnTo>
                  <a:lnTo>
                    <a:pt x="5800" y="3278"/>
                  </a:lnTo>
                  <a:lnTo>
                    <a:pt x="5835" y="3261"/>
                  </a:lnTo>
                  <a:lnTo>
                    <a:pt x="5882" y="3250"/>
                  </a:lnTo>
                  <a:lnTo>
                    <a:pt x="5922" y="3233"/>
                  </a:lnTo>
                  <a:lnTo>
                    <a:pt x="5963" y="3227"/>
                  </a:lnTo>
                  <a:lnTo>
                    <a:pt x="5997" y="3216"/>
                  </a:lnTo>
                  <a:lnTo>
                    <a:pt x="6038" y="3222"/>
                  </a:lnTo>
                  <a:lnTo>
                    <a:pt x="6067" y="3227"/>
                  </a:lnTo>
                  <a:lnTo>
                    <a:pt x="6096" y="3239"/>
                  </a:lnTo>
                  <a:lnTo>
                    <a:pt x="6131" y="3239"/>
                  </a:lnTo>
                  <a:lnTo>
                    <a:pt x="6184" y="3233"/>
                  </a:lnTo>
                  <a:lnTo>
                    <a:pt x="6184" y="3183"/>
                  </a:lnTo>
                  <a:lnTo>
                    <a:pt x="6189" y="3132"/>
                  </a:lnTo>
                  <a:lnTo>
                    <a:pt x="6189" y="3070"/>
                  </a:lnTo>
                  <a:lnTo>
                    <a:pt x="6195" y="3014"/>
                  </a:lnTo>
                  <a:lnTo>
                    <a:pt x="6195" y="2952"/>
                  </a:lnTo>
                  <a:lnTo>
                    <a:pt x="6195" y="2896"/>
                  </a:lnTo>
                  <a:lnTo>
                    <a:pt x="6195" y="2840"/>
                  </a:lnTo>
                  <a:lnTo>
                    <a:pt x="6195" y="2794"/>
                  </a:lnTo>
                  <a:lnTo>
                    <a:pt x="6184" y="2755"/>
                  </a:lnTo>
                  <a:lnTo>
                    <a:pt x="6172" y="2715"/>
                  </a:lnTo>
                  <a:lnTo>
                    <a:pt x="6154" y="2676"/>
                  </a:lnTo>
                  <a:lnTo>
                    <a:pt x="6143" y="2637"/>
                  </a:lnTo>
                  <a:lnTo>
                    <a:pt x="6126" y="2592"/>
                  </a:lnTo>
                  <a:lnTo>
                    <a:pt x="6120" y="2547"/>
                  </a:lnTo>
                  <a:lnTo>
                    <a:pt x="6114" y="2502"/>
                  </a:lnTo>
                  <a:lnTo>
                    <a:pt x="6131" y="2462"/>
                  </a:lnTo>
                  <a:lnTo>
                    <a:pt x="6154" y="2423"/>
                  </a:lnTo>
                  <a:lnTo>
                    <a:pt x="6195" y="2389"/>
                  </a:lnTo>
                  <a:lnTo>
                    <a:pt x="6235" y="2356"/>
                  </a:lnTo>
                  <a:lnTo>
                    <a:pt x="6276" y="2322"/>
                  </a:lnTo>
                  <a:lnTo>
                    <a:pt x="6288" y="2271"/>
                  </a:lnTo>
                  <a:lnTo>
                    <a:pt x="6294" y="2232"/>
                  </a:lnTo>
                  <a:lnTo>
                    <a:pt x="6300" y="2187"/>
                  </a:lnTo>
                  <a:lnTo>
                    <a:pt x="6318" y="2143"/>
                  </a:lnTo>
                  <a:lnTo>
                    <a:pt x="6126" y="2018"/>
                  </a:lnTo>
                  <a:lnTo>
                    <a:pt x="6062" y="1817"/>
                  </a:lnTo>
                  <a:lnTo>
                    <a:pt x="6096" y="1569"/>
                  </a:lnTo>
                  <a:lnTo>
                    <a:pt x="6207" y="1332"/>
                  </a:lnTo>
                  <a:lnTo>
                    <a:pt x="6364" y="1147"/>
                  </a:lnTo>
                  <a:lnTo>
                    <a:pt x="6544" y="1079"/>
                  </a:lnTo>
                  <a:lnTo>
                    <a:pt x="6719" y="1158"/>
                  </a:lnTo>
                  <a:lnTo>
                    <a:pt x="6876" y="1445"/>
                  </a:lnTo>
                  <a:lnTo>
                    <a:pt x="6876" y="1451"/>
                  </a:lnTo>
                  <a:lnTo>
                    <a:pt x="6876" y="1479"/>
                  </a:lnTo>
                  <a:lnTo>
                    <a:pt x="6876" y="1506"/>
                  </a:lnTo>
                  <a:lnTo>
                    <a:pt x="6876" y="1535"/>
                  </a:lnTo>
                  <a:lnTo>
                    <a:pt x="6869" y="1597"/>
                  </a:lnTo>
                  <a:lnTo>
                    <a:pt x="6869" y="1658"/>
                  </a:lnTo>
                  <a:lnTo>
                    <a:pt x="6863" y="1721"/>
                  </a:lnTo>
                  <a:lnTo>
                    <a:pt x="6863" y="1783"/>
                  </a:lnTo>
                  <a:lnTo>
                    <a:pt x="6851" y="1839"/>
                  </a:lnTo>
                  <a:lnTo>
                    <a:pt x="6840" y="1895"/>
                  </a:lnTo>
                  <a:lnTo>
                    <a:pt x="6823" y="1945"/>
                  </a:lnTo>
                  <a:lnTo>
                    <a:pt x="6805" y="1996"/>
                  </a:lnTo>
                  <a:lnTo>
                    <a:pt x="6765" y="2035"/>
                  </a:lnTo>
                  <a:lnTo>
                    <a:pt x="6719" y="2080"/>
                  </a:lnTo>
                  <a:lnTo>
                    <a:pt x="6671" y="2126"/>
                  </a:lnTo>
                  <a:lnTo>
                    <a:pt x="6648" y="2182"/>
                  </a:lnTo>
                  <a:lnTo>
                    <a:pt x="6648" y="2204"/>
                  </a:lnTo>
                  <a:lnTo>
                    <a:pt x="6671" y="2254"/>
                  </a:lnTo>
                  <a:lnTo>
                    <a:pt x="6706" y="2311"/>
                  </a:lnTo>
                  <a:lnTo>
                    <a:pt x="6742" y="2362"/>
                  </a:lnTo>
                  <a:lnTo>
                    <a:pt x="6782" y="2413"/>
                  </a:lnTo>
                  <a:lnTo>
                    <a:pt x="6823" y="2462"/>
                  </a:lnTo>
                  <a:lnTo>
                    <a:pt x="6863" y="2513"/>
                  </a:lnTo>
                  <a:lnTo>
                    <a:pt x="6893" y="2563"/>
                  </a:lnTo>
                  <a:lnTo>
                    <a:pt x="6927" y="2631"/>
                  </a:lnTo>
                  <a:lnTo>
                    <a:pt x="6950" y="2705"/>
                  </a:lnTo>
                  <a:lnTo>
                    <a:pt x="6974" y="2789"/>
                  </a:lnTo>
                  <a:lnTo>
                    <a:pt x="6991" y="2879"/>
                  </a:lnTo>
                  <a:lnTo>
                    <a:pt x="7015" y="2969"/>
                  </a:lnTo>
                  <a:lnTo>
                    <a:pt x="7033" y="3053"/>
                  </a:lnTo>
                  <a:lnTo>
                    <a:pt x="7049" y="3137"/>
                  </a:lnTo>
                  <a:lnTo>
                    <a:pt x="7067" y="3210"/>
                  </a:lnTo>
                  <a:lnTo>
                    <a:pt x="7102" y="3284"/>
                  </a:lnTo>
                  <a:lnTo>
                    <a:pt x="7148" y="3284"/>
                  </a:lnTo>
                  <a:lnTo>
                    <a:pt x="7201" y="3289"/>
                  </a:lnTo>
                  <a:lnTo>
                    <a:pt x="7224" y="3284"/>
                  </a:lnTo>
                  <a:lnTo>
                    <a:pt x="7253" y="3284"/>
                  </a:lnTo>
                  <a:lnTo>
                    <a:pt x="7282" y="3284"/>
                  </a:lnTo>
                  <a:lnTo>
                    <a:pt x="7317" y="3284"/>
                  </a:lnTo>
                  <a:lnTo>
                    <a:pt x="7335" y="3250"/>
                  </a:lnTo>
                  <a:lnTo>
                    <a:pt x="7352" y="3222"/>
                  </a:lnTo>
                  <a:lnTo>
                    <a:pt x="7410" y="3075"/>
                  </a:lnTo>
                  <a:lnTo>
                    <a:pt x="7474" y="2940"/>
                  </a:lnTo>
                  <a:lnTo>
                    <a:pt x="7532" y="2806"/>
                  </a:lnTo>
                  <a:lnTo>
                    <a:pt x="7596" y="2688"/>
                  </a:lnTo>
                  <a:lnTo>
                    <a:pt x="7654" y="2563"/>
                  </a:lnTo>
                  <a:lnTo>
                    <a:pt x="7730" y="2452"/>
                  </a:lnTo>
                  <a:lnTo>
                    <a:pt x="7804" y="2350"/>
                  </a:lnTo>
                  <a:lnTo>
                    <a:pt x="7903" y="2254"/>
                  </a:lnTo>
                  <a:lnTo>
                    <a:pt x="7898" y="2215"/>
                  </a:lnTo>
                  <a:lnTo>
                    <a:pt x="7875" y="2176"/>
                  </a:lnTo>
                  <a:lnTo>
                    <a:pt x="7840" y="2136"/>
                  </a:lnTo>
                  <a:lnTo>
                    <a:pt x="7822" y="2114"/>
                  </a:lnTo>
                  <a:lnTo>
                    <a:pt x="7747" y="1991"/>
                  </a:lnTo>
                  <a:lnTo>
                    <a:pt x="7695" y="1849"/>
                  </a:lnTo>
                  <a:lnTo>
                    <a:pt x="7665" y="1692"/>
                  </a:lnTo>
                  <a:lnTo>
                    <a:pt x="7660" y="1540"/>
                  </a:lnTo>
                  <a:lnTo>
                    <a:pt x="7677" y="1388"/>
                  </a:lnTo>
                  <a:lnTo>
                    <a:pt x="7730" y="1254"/>
                  </a:lnTo>
                  <a:lnTo>
                    <a:pt x="7817" y="1147"/>
                  </a:lnTo>
                  <a:lnTo>
                    <a:pt x="7938" y="1074"/>
                  </a:lnTo>
                  <a:lnTo>
                    <a:pt x="7968" y="1057"/>
                  </a:lnTo>
                  <a:lnTo>
                    <a:pt x="8002" y="1040"/>
                  </a:lnTo>
                  <a:lnTo>
                    <a:pt x="8037" y="1029"/>
                  </a:lnTo>
                  <a:lnTo>
                    <a:pt x="8072" y="1029"/>
                  </a:lnTo>
                  <a:lnTo>
                    <a:pt x="8107" y="1023"/>
                  </a:lnTo>
                  <a:lnTo>
                    <a:pt x="8142" y="1029"/>
                  </a:lnTo>
                  <a:lnTo>
                    <a:pt x="8177" y="1029"/>
                  </a:lnTo>
                  <a:lnTo>
                    <a:pt x="8217" y="1045"/>
                  </a:lnTo>
                  <a:lnTo>
                    <a:pt x="8247" y="1057"/>
                  </a:lnTo>
                  <a:lnTo>
                    <a:pt x="8275" y="1074"/>
                  </a:lnTo>
                  <a:lnTo>
                    <a:pt x="8299" y="1096"/>
                  </a:lnTo>
                  <a:lnTo>
                    <a:pt x="8328" y="1125"/>
                  </a:lnTo>
                  <a:lnTo>
                    <a:pt x="8346" y="1147"/>
                  </a:lnTo>
                  <a:lnTo>
                    <a:pt x="8363" y="1180"/>
                  </a:lnTo>
                  <a:lnTo>
                    <a:pt x="8374" y="1214"/>
                  </a:lnTo>
                  <a:lnTo>
                    <a:pt x="8392" y="1248"/>
                  </a:lnTo>
                  <a:lnTo>
                    <a:pt x="8409" y="1344"/>
                  </a:lnTo>
                  <a:lnTo>
                    <a:pt x="8427" y="1445"/>
                  </a:lnTo>
                  <a:lnTo>
                    <a:pt x="8433" y="1552"/>
                  </a:lnTo>
                  <a:lnTo>
                    <a:pt x="8433" y="1665"/>
                  </a:lnTo>
                  <a:lnTo>
                    <a:pt x="8415" y="1766"/>
                  </a:lnTo>
                  <a:lnTo>
                    <a:pt x="8404" y="1872"/>
                  </a:lnTo>
                  <a:lnTo>
                    <a:pt x="8369" y="1962"/>
                  </a:lnTo>
                  <a:lnTo>
                    <a:pt x="8339" y="2047"/>
                  </a:lnTo>
                  <a:lnTo>
                    <a:pt x="8311" y="2075"/>
                  </a:lnTo>
                  <a:lnTo>
                    <a:pt x="8270" y="2114"/>
                  </a:lnTo>
                  <a:lnTo>
                    <a:pt x="8235" y="2148"/>
                  </a:lnTo>
                  <a:lnTo>
                    <a:pt x="8217" y="2182"/>
                  </a:lnTo>
                  <a:lnTo>
                    <a:pt x="8217" y="2221"/>
                  </a:lnTo>
                  <a:lnTo>
                    <a:pt x="8235" y="2278"/>
                  </a:lnTo>
                  <a:lnTo>
                    <a:pt x="8252" y="2322"/>
                  </a:lnTo>
                  <a:lnTo>
                    <a:pt x="8275" y="2362"/>
                  </a:lnTo>
                  <a:lnTo>
                    <a:pt x="8316" y="2350"/>
                  </a:lnTo>
                  <a:lnTo>
                    <a:pt x="8374" y="2356"/>
                  </a:lnTo>
                  <a:lnTo>
                    <a:pt x="8438" y="2362"/>
                  </a:lnTo>
                  <a:lnTo>
                    <a:pt x="8508" y="2384"/>
                  </a:lnTo>
                  <a:lnTo>
                    <a:pt x="8572" y="2401"/>
                  </a:lnTo>
                  <a:lnTo>
                    <a:pt x="8630" y="2428"/>
                  </a:lnTo>
                  <a:lnTo>
                    <a:pt x="8676" y="2457"/>
                  </a:lnTo>
                  <a:lnTo>
                    <a:pt x="8711" y="2491"/>
                  </a:lnTo>
                  <a:lnTo>
                    <a:pt x="8734" y="2536"/>
                  </a:lnTo>
                  <a:lnTo>
                    <a:pt x="8764" y="2592"/>
                  </a:lnTo>
                  <a:lnTo>
                    <a:pt x="8787" y="2659"/>
                  </a:lnTo>
                  <a:lnTo>
                    <a:pt x="8816" y="2727"/>
                  </a:lnTo>
                  <a:lnTo>
                    <a:pt x="8833" y="2794"/>
                  </a:lnTo>
                  <a:lnTo>
                    <a:pt x="8856" y="2862"/>
                  </a:lnTo>
                  <a:lnTo>
                    <a:pt x="8874" y="2918"/>
                  </a:lnTo>
                  <a:lnTo>
                    <a:pt x="8898" y="2980"/>
                  </a:lnTo>
                  <a:lnTo>
                    <a:pt x="8909" y="2867"/>
                  </a:lnTo>
                  <a:lnTo>
                    <a:pt x="8921" y="2755"/>
                  </a:lnTo>
                  <a:lnTo>
                    <a:pt x="8932" y="2637"/>
                  </a:lnTo>
                  <a:lnTo>
                    <a:pt x="8950" y="2519"/>
                  </a:lnTo>
                  <a:lnTo>
                    <a:pt x="8967" y="2401"/>
                  </a:lnTo>
                  <a:lnTo>
                    <a:pt x="8985" y="2288"/>
                  </a:lnTo>
                  <a:lnTo>
                    <a:pt x="9002" y="2187"/>
                  </a:lnTo>
                  <a:lnTo>
                    <a:pt x="9031" y="2102"/>
                  </a:lnTo>
                  <a:lnTo>
                    <a:pt x="9061" y="2047"/>
                  </a:lnTo>
                  <a:lnTo>
                    <a:pt x="9136" y="1979"/>
                  </a:lnTo>
                  <a:lnTo>
                    <a:pt x="9234" y="1895"/>
                  </a:lnTo>
                  <a:lnTo>
                    <a:pt x="9350" y="1817"/>
                  </a:lnTo>
                  <a:lnTo>
                    <a:pt x="9467" y="1732"/>
                  </a:lnTo>
                  <a:lnTo>
                    <a:pt x="9589" y="1665"/>
                  </a:lnTo>
                  <a:lnTo>
                    <a:pt x="9682" y="1614"/>
                  </a:lnTo>
                  <a:lnTo>
                    <a:pt x="9763" y="1586"/>
                  </a:lnTo>
                  <a:lnTo>
                    <a:pt x="9763" y="1552"/>
                  </a:lnTo>
                  <a:lnTo>
                    <a:pt x="9781" y="1535"/>
                  </a:lnTo>
                  <a:lnTo>
                    <a:pt x="9763" y="1496"/>
                  </a:lnTo>
                  <a:lnTo>
                    <a:pt x="9752" y="1462"/>
                  </a:lnTo>
                  <a:lnTo>
                    <a:pt x="9735" y="1428"/>
                  </a:lnTo>
                  <a:lnTo>
                    <a:pt x="9717" y="1400"/>
                  </a:lnTo>
                  <a:lnTo>
                    <a:pt x="9694" y="1366"/>
                  </a:lnTo>
                  <a:lnTo>
                    <a:pt x="9670" y="1339"/>
                  </a:lnTo>
                  <a:lnTo>
                    <a:pt x="9641" y="1305"/>
                  </a:lnTo>
                  <a:lnTo>
                    <a:pt x="9618" y="1271"/>
                  </a:lnTo>
                  <a:lnTo>
                    <a:pt x="9601" y="1243"/>
                  </a:lnTo>
                  <a:lnTo>
                    <a:pt x="9583" y="1204"/>
                  </a:lnTo>
                  <a:lnTo>
                    <a:pt x="9560" y="1147"/>
                  </a:lnTo>
                  <a:lnTo>
                    <a:pt x="9543" y="1091"/>
                  </a:lnTo>
                  <a:lnTo>
                    <a:pt x="9514" y="1029"/>
                  </a:lnTo>
                  <a:lnTo>
                    <a:pt x="9490" y="978"/>
                  </a:lnTo>
                  <a:lnTo>
                    <a:pt x="9472" y="934"/>
                  </a:lnTo>
                  <a:lnTo>
                    <a:pt x="9467" y="917"/>
                  </a:lnTo>
                  <a:lnTo>
                    <a:pt x="9444" y="860"/>
                  </a:lnTo>
                  <a:lnTo>
                    <a:pt x="9444" y="792"/>
                  </a:lnTo>
                  <a:lnTo>
                    <a:pt x="9449" y="714"/>
                  </a:lnTo>
                  <a:lnTo>
                    <a:pt x="9467" y="635"/>
                  </a:lnTo>
                  <a:lnTo>
                    <a:pt x="9484" y="551"/>
                  </a:lnTo>
                  <a:lnTo>
                    <a:pt x="9502" y="489"/>
                  </a:lnTo>
                  <a:lnTo>
                    <a:pt x="9514" y="444"/>
                  </a:lnTo>
                  <a:lnTo>
                    <a:pt x="9525" y="433"/>
                  </a:lnTo>
                  <a:lnTo>
                    <a:pt x="9525" y="416"/>
                  </a:lnTo>
                  <a:lnTo>
                    <a:pt x="9531" y="382"/>
                  </a:lnTo>
                  <a:lnTo>
                    <a:pt x="9537" y="338"/>
                  </a:lnTo>
                  <a:lnTo>
                    <a:pt x="9555" y="309"/>
                  </a:lnTo>
                  <a:lnTo>
                    <a:pt x="9566" y="282"/>
                  </a:lnTo>
                  <a:lnTo>
                    <a:pt x="9601" y="236"/>
                  </a:lnTo>
                  <a:lnTo>
                    <a:pt x="9641" y="186"/>
                  </a:lnTo>
                  <a:lnTo>
                    <a:pt x="9705" y="135"/>
                  </a:lnTo>
                  <a:lnTo>
                    <a:pt x="9769" y="79"/>
                  </a:lnTo>
                  <a:lnTo>
                    <a:pt x="9839" y="34"/>
                  </a:lnTo>
                  <a:lnTo>
                    <a:pt x="9903" y="5"/>
                  </a:lnTo>
                  <a:lnTo>
                    <a:pt x="9966" y="0"/>
                  </a:lnTo>
                  <a:lnTo>
                    <a:pt x="10065" y="12"/>
                  </a:lnTo>
                  <a:lnTo>
                    <a:pt x="10164" y="45"/>
                  </a:lnTo>
                  <a:lnTo>
                    <a:pt x="10245" y="90"/>
                  </a:lnTo>
                  <a:lnTo>
                    <a:pt x="10333" y="152"/>
                  </a:lnTo>
                  <a:lnTo>
                    <a:pt x="10402" y="219"/>
                  </a:lnTo>
                  <a:lnTo>
                    <a:pt x="10461" y="299"/>
                  </a:lnTo>
                  <a:lnTo>
                    <a:pt x="10501" y="382"/>
                  </a:lnTo>
                  <a:lnTo>
                    <a:pt x="10536" y="466"/>
                  </a:lnTo>
                  <a:lnTo>
                    <a:pt x="10536" y="517"/>
                  </a:lnTo>
                  <a:lnTo>
                    <a:pt x="10536" y="574"/>
                  </a:lnTo>
                  <a:lnTo>
                    <a:pt x="10536" y="624"/>
                  </a:lnTo>
                  <a:lnTo>
                    <a:pt x="10554" y="675"/>
                  </a:lnTo>
                  <a:lnTo>
                    <a:pt x="10566" y="680"/>
                  </a:lnTo>
                  <a:lnTo>
                    <a:pt x="10589" y="692"/>
                  </a:lnTo>
                  <a:lnTo>
                    <a:pt x="10607" y="697"/>
                  </a:lnTo>
                  <a:lnTo>
                    <a:pt x="10630" y="709"/>
                  </a:lnTo>
                  <a:lnTo>
                    <a:pt x="10630" y="736"/>
                  </a:lnTo>
                  <a:lnTo>
                    <a:pt x="10630" y="770"/>
                  </a:lnTo>
                  <a:lnTo>
                    <a:pt x="10630" y="809"/>
                  </a:lnTo>
                  <a:lnTo>
                    <a:pt x="10635" y="849"/>
                  </a:lnTo>
                  <a:lnTo>
                    <a:pt x="10635" y="888"/>
                  </a:lnTo>
                  <a:lnTo>
                    <a:pt x="10635" y="927"/>
                  </a:lnTo>
                  <a:lnTo>
                    <a:pt x="10630" y="961"/>
                  </a:lnTo>
                  <a:lnTo>
                    <a:pt x="10630" y="995"/>
                  </a:lnTo>
                  <a:lnTo>
                    <a:pt x="10607" y="1012"/>
                  </a:lnTo>
                  <a:lnTo>
                    <a:pt x="10577" y="1035"/>
                  </a:lnTo>
                  <a:lnTo>
                    <a:pt x="10548" y="1052"/>
                  </a:lnTo>
                  <a:lnTo>
                    <a:pt x="10524" y="1074"/>
                  </a:lnTo>
                  <a:lnTo>
                    <a:pt x="10496" y="1108"/>
                  </a:lnTo>
                  <a:lnTo>
                    <a:pt x="10484" y="1153"/>
                  </a:lnTo>
                  <a:lnTo>
                    <a:pt x="10461" y="1192"/>
                  </a:lnTo>
                  <a:lnTo>
                    <a:pt x="10443" y="1237"/>
                  </a:lnTo>
                  <a:lnTo>
                    <a:pt x="10409" y="1265"/>
                  </a:lnTo>
                  <a:lnTo>
                    <a:pt x="10374" y="1299"/>
                  </a:lnTo>
                  <a:lnTo>
                    <a:pt x="10339" y="1327"/>
                  </a:lnTo>
                  <a:lnTo>
                    <a:pt x="10303" y="1361"/>
                  </a:lnTo>
                  <a:lnTo>
                    <a:pt x="10269" y="1388"/>
                  </a:lnTo>
                  <a:lnTo>
                    <a:pt x="10245" y="1422"/>
                  </a:lnTo>
                  <a:lnTo>
                    <a:pt x="10222" y="1456"/>
                  </a:lnTo>
                  <a:lnTo>
                    <a:pt x="10217" y="1513"/>
                  </a:lnTo>
                  <a:lnTo>
                    <a:pt x="10275" y="1546"/>
                  </a:lnTo>
                  <a:lnTo>
                    <a:pt x="10362" y="1608"/>
                  </a:lnTo>
                  <a:lnTo>
                    <a:pt x="10461" y="1675"/>
                  </a:lnTo>
                  <a:lnTo>
                    <a:pt x="10571" y="1760"/>
                  </a:lnTo>
                  <a:lnTo>
                    <a:pt x="10670" y="1832"/>
                  </a:lnTo>
                  <a:lnTo>
                    <a:pt x="10762" y="1912"/>
                  </a:lnTo>
                  <a:lnTo>
                    <a:pt x="10827" y="1979"/>
                  </a:lnTo>
                  <a:lnTo>
                    <a:pt x="10868" y="2035"/>
                  </a:lnTo>
                  <a:lnTo>
                    <a:pt x="10896" y="2119"/>
                  </a:lnTo>
                  <a:lnTo>
                    <a:pt x="10919" y="2210"/>
                  </a:lnTo>
                  <a:lnTo>
                    <a:pt x="10932" y="2305"/>
                  </a:lnTo>
                  <a:lnTo>
                    <a:pt x="10944" y="2406"/>
                  </a:lnTo>
                  <a:lnTo>
                    <a:pt x="10944" y="2502"/>
                  </a:lnTo>
                  <a:lnTo>
                    <a:pt x="10944" y="2604"/>
                  </a:lnTo>
                  <a:lnTo>
                    <a:pt x="10949" y="2699"/>
                  </a:lnTo>
                  <a:lnTo>
                    <a:pt x="10967" y="2794"/>
                  </a:lnTo>
                  <a:lnTo>
                    <a:pt x="10967" y="2850"/>
                  </a:lnTo>
                  <a:lnTo>
                    <a:pt x="10984" y="2918"/>
                  </a:lnTo>
                  <a:lnTo>
                    <a:pt x="11001" y="2991"/>
                  </a:lnTo>
                  <a:lnTo>
                    <a:pt x="11018" y="3070"/>
                  </a:lnTo>
                  <a:lnTo>
                    <a:pt x="11030" y="3143"/>
                  </a:lnTo>
                  <a:lnTo>
                    <a:pt x="11048" y="3216"/>
                  </a:lnTo>
                  <a:lnTo>
                    <a:pt x="11059" y="3278"/>
                  </a:lnTo>
                  <a:lnTo>
                    <a:pt x="11071" y="3340"/>
                  </a:lnTo>
                  <a:lnTo>
                    <a:pt x="11066" y="3362"/>
                  </a:lnTo>
                  <a:lnTo>
                    <a:pt x="11059" y="3396"/>
                  </a:lnTo>
                  <a:lnTo>
                    <a:pt x="11048" y="3430"/>
                  </a:lnTo>
                  <a:lnTo>
                    <a:pt x="11036" y="3470"/>
                  </a:lnTo>
                  <a:lnTo>
                    <a:pt x="11018" y="3502"/>
                  </a:lnTo>
                  <a:lnTo>
                    <a:pt x="11001" y="3542"/>
                  </a:lnTo>
                  <a:lnTo>
                    <a:pt x="10990" y="3576"/>
                  </a:lnTo>
                  <a:lnTo>
                    <a:pt x="10990" y="3610"/>
                  </a:lnTo>
                  <a:lnTo>
                    <a:pt x="10978" y="3654"/>
                  </a:lnTo>
                  <a:lnTo>
                    <a:pt x="10972" y="3705"/>
                  </a:lnTo>
                  <a:lnTo>
                    <a:pt x="10972" y="3756"/>
                  </a:lnTo>
                  <a:lnTo>
                    <a:pt x="10972" y="3812"/>
                  </a:lnTo>
                  <a:lnTo>
                    <a:pt x="10967" y="3857"/>
                  </a:lnTo>
                  <a:lnTo>
                    <a:pt x="10967" y="3907"/>
                  </a:lnTo>
                  <a:lnTo>
                    <a:pt x="10967" y="3958"/>
                  </a:lnTo>
                  <a:lnTo>
                    <a:pt x="10967" y="4009"/>
                  </a:lnTo>
                  <a:lnTo>
                    <a:pt x="10955" y="4161"/>
                  </a:lnTo>
                  <a:lnTo>
                    <a:pt x="10955" y="4313"/>
                  </a:lnTo>
                  <a:lnTo>
                    <a:pt x="10960" y="4459"/>
                  </a:lnTo>
                  <a:lnTo>
                    <a:pt x="10972" y="4605"/>
                  </a:lnTo>
                  <a:lnTo>
                    <a:pt x="10978" y="4740"/>
                  </a:lnTo>
                  <a:lnTo>
                    <a:pt x="10984" y="4880"/>
                  </a:lnTo>
                  <a:lnTo>
                    <a:pt x="10978" y="5015"/>
                  </a:lnTo>
                  <a:lnTo>
                    <a:pt x="10978" y="5155"/>
                  </a:lnTo>
                  <a:lnTo>
                    <a:pt x="10937" y="5426"/>
                  </a:lnTo>
                  <a:lnTo>
                    <a:pt x="10903" y="5712"/>
                  </a:lnTo>
                  <a:lnTo>
                    <a:pt x="10856" y="6005"/>
                  </a:lnTo>
                  <a:lnTo>
                    <a:pt x="10827" y="6303"/>
                  </a:lnTo>
                  <a:lnTo>
                    <a:pt x="10804" y="6595"/>
                  </a:lnTo>
                  <a:lnTo>
                    <a:pt x="10810" y="6888"/>
                  </a:lnTo>
                  <a:lnTo>
                    <a:pt x="10838" y="7175"/>
                  </a:lnTo>
                  <a:lnTo>
                    <a:pt x="10908" y="7461"/>
                  </a:lnTo>
                  <a:lnTo>
                    <a:pt x="10861" y="7461"/>
                  </a:lnTo>
                  <a:lnTo>
                    <a:pt x="10821" y="7467"/>
                  </a:lnTo>
                  <a:lnTo>
                    <a:pt x="10780" y="7467"/>
                  </a:lnTo>
                  <a:lnTo>
                    <a:pt x="10739" y="7472"/>
                  </a:lnTo>
                  <a:lnTo>
                    <a:pt x="10693" y="7467"/>
                  </a:lnTo>
                  <a:lnTo>
                    <a:pt x="10653" y="7461"/>
                  </a:lnTo>
                  <a:lnTo>
                    <a:pt x="10607" y="7455"/>
                  </a:lnTo>
                  <a:lnTo>
                    <a:pt x="10566" y="7450"/>
                  </a:lnTo>
                  <a:lnTo>
                    <a:pt x="10566" y="7461"/>
                  </a:lnTo>
                  <a:lnTo>
                    <a:pt x="10566" y="7484"/>
                  </a:lnTo>
                  <a:lnTo>
                    <a:pt x="10566" y="7506"/>
                  </a:lnTo>
                  <a:lnTo>
                    <a:pt x="10566" y="7523"/>
                  </a:lnTo>
                  <a:lnTo>
                    <a:pt x="10612" y="7523"/>
                  </a:lnTo>
                  <a:lnTo>
                    <a:pt x="10658" y="7534"/>
                  </a:lnTo>
                  <a:lnTo>
                    <a:pt x="10705" y="7540"/>
                  </a:lnTo>
                  <a:lnTo>
                    <a:pt x="10751" y="7551"/>
                  </a:lnTo>
                  <a:lnTo>
                    <a:pt x="10792" y="7556"/>
                  </a:lnTo>
                  <a:lnTo>
                    <a:pt x="10838" y="7568"/>
                  </a:lnTo>
                  <a:lnTo>
                    <a:pt x="10879" y="7573"/>
                  </a:lnTo>
                  <a:lnTo>
                    <a:pt x="10926" y="7590"/>
                  </a:lnTo>
                  <a:lnTo>
                    <a:pt x="10926" y="7619"/>
                  </a:lnTo>
                  <a:lnTo>
                    <a:pt x="10926" y="7647"/>
                  </a:lnTo>
                  <a:lnTo>
                    <a:pt x="10926" y="7669"/>
                  </a:lnTo>
                  <a:lnTo>
                    <a:pt x="10932" y="7698"/>
                  </a:lnTo>
                  <a:lnTo>
                    <a:pt x="10932" y="7742"/>
                  </a:lnTo>
                  <a:lnTo>
                    <a:pt x="10949" y="7798"/>
                  </a:lnTo>
                  <a:lnTo>
                    <a:pt x="10850" y="7798"/>
                  </a:lnTo>
                  <a:lnTo>
                    <a:pt x="10705" y="7810"/>
                  </a:lnTo>
                  <a:lnTo>
                    <a:pt x="10536" y="7821"/>
                  </a:lnTo>
                  <a:lnTo>
                    <a:pt x="10356" y="7838"/>
                  </a:lnTo>
                  <a:lnTo>
                    <a:pt x="10176" y="7838"/>
                  </a:lnTo>
                  <a:lnTo>
                    <a:pt x="10031" y="7832"/>
                  </a:lnTo>
                  <a:lnTo>
                    <a:pt x="9915" y="7815"/>
                  </a:lnTo>
                  <a:lnTo>
                    <a:pt x="9868" y="7781"/>
                  </a:lnTo>
                  <a:lnTo>
                    <a:pt x="9851" y="7747"/>
                  </a:lnTo>
                  <a:lnTo>
                    <a:pt x="9845" y="7715"/>
                  </a:lnTo>
                  <a:lnTo>
                    <a:pt x="9845" y="7681"/>
                  </a:lnTo>
                  <a:lnTo>
                    <a:pt x="9845" y="7647"/>
                  </a:lnTo>
                  <a:lnTo>
                    <a:pt x="9839" y="7613"/>
                  </a:lnTo>
                  <a:lnTo>
                    <a:pt x="9839" y="7580"/>
                  </a:lnTo>
                  <a:lnTo>
                    <a:pt x="9834" y="7551"/>
                  </a:lnTo>
                  <a:lnTo>
                    <a:pt x="9834" y="7534"/>
                  </a:lnTo>
                  <a:lnTo>
                    <a:pt x="9816" y="7580"/>
                  </a:lnTo>
                  <a:lnTo>
                    <a:pt x="9804" y="7630"/>
                  </a:lnTo>
                  <a:lnTo>
                    <a:pt x="9786" y="7686"/>
                  </a:lnTo>
                  <a:lnTo>
                    <a:pt x="9775" y="7742"/>
                  </a:lnTo>
                  <a:lnTo>
                    <a:pt x="9758" y="7793"/>
                  </a:lnTo>
                  <a:lnTo>
                    <a:pt x="9746" y="7849"/>
                  </a:lnTo>
                  <a:lnTo>
                    <a:pt x="9735" y="7899"/>
                  </a:lnTo>
                  <a:lnTo>
                    <a:pt x="9728" y="7950"/>
                  </a:lnTo>
                  <a:lnTo>
                    <a:pt x="9682" y="7945"/>
                  </a:lnTo>
                  <a:lnTo>
                    <a:pt x="9636" y="7939"/>
                  </a:lnTo>
                  <a:lnTo>
                    <a:pt x="9595" y="7933"/>
                  </a:lnTo>
                  <a:lnTo>
                    <a:pt x="9566" y="7933"/>
                  </a:lnTo>
                  <a:lnTo>
                    <a:pt x="9555" y="7933"/>
                  </a:lnTo>
                  <a:lnTo>
                    <a:pt x="9531" y="7939"/>
                  </a:lnTo>
                  <a:lnTo>
                    <a:pt x="9502" y="7933"/>
                  </a:lnTo>
                  <a:lnTo>
                    <a:pt x="9472" y="7933"/>
                  </a:lnTo>
                  <a:lnTo>
                    <a:pt x="9438" y="7911"/>
                  </a:lnTo>
                  <a:lnTo>
                    <a:pt x="9415" y="7882"/>
                  </a:lnTo>
                  <a:lnTo>
                    <a:pt x="9391" y="7843"/>
                  </a:lnTo>
                  <a:lnTo>
                    <a:pt x="9368" y="7821"/>
                  </a:lnTo>
                  <a:lnTo>
                    <a:pt x="9304" y="7781"/>
                  </a:lnTo>
                  <a:lnTo>
                    <a:pt x="9246" y="7754"/>
                  </a:lnTo>
                  <a:lnTo>
                    <a:pt x="9188" y="7720"/>
                  </a:lnTo>
                  <a:lnTo>
                    <a:pt x="9142" y="7681"/>
                  </a:lnTo>
                  <a:lnTo>
                    <a:pt x="9142" y="7658"/>
                  </a:lnTo>
                  <a:lnTo>
                    <a:pt x="9147" y="7619"/>
                  </a:lnTo>
                  <a:lnTo>
                    <a:pt x="9159" y="7563"/>
                  </a:lnTo>
                  <a:lnTo>
                    <a:pt x="9170" y="7501"/>
                  </a:lnTo>
                  <a:lnTo>
                    <a:pt x="9170" y="7433"/>
                  </a:lnTo>
                  <a:lnTo>
                    <a:pt x="9177" y="7366"/>
                  </a:lnTo>
                  <a:lnTo>
                    <a:pt x="9170" y="7298"/>
                  </a:lnTo>
                  <a:lnTo>
                    <a:pt x="9165" y="7254"/>
                  </a:lnTo>
                  <a:lnTo>
                    <a:pt x="9142" y="7225"/>
                  </a:lnTo>
                  <a:lnTo>
                    <a:pt x="9112" y="7208"/>
                  </a:lnTo>
                  <a:lnTo>
                    <a:pt x="9095" y="7191"/>
                  </a:lnTo>
                  <a:lnTo>
                    <a:pt x="9089" y="7180"/>
                  </a:lnTo>
                  <a:lnTo>
                    <a:pt x="9084" y="7158"/>
                  </a:lnTo>
                  <a:lnTo>
                    <a:pt x="9084" y="7135"/>
                  </a:lnTo>
                  <a:lnTo>
                    <a:pt x="9084" y="7068"/>
                  </a:lnTo>
                  <a:lnTo>
                    <a:pt x="9095" y="7006"/>
                  </a:lnTo>
                  <a:lnTo>
                    <a:pt x="9101" y="6933"/>
                  </a:lnTo>
                  <a:lnTo>
                    <a:pt x="9119" y="6859"/>
                  </a:lnTo>
                  <a:lnTo>
                    <a:pt x="9130" y="6781"/>
                  </a:lnTo>
                  <a:lnTo>
                    <a:pt x="9147" y="6707"/>
                  </a:lnTo>
                  <a:lnTo>
                    <a:pt x="9159" y="6634"/>
                  </a:lnTo>
                  <a:lnTo>
                    <a:pt x="9177" y="6573"/>
                  </a:lnTo>
                  <a:lnTo>
                    <a:pt x="9205" y="6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980880" y="3281760"/>
              <a:ext cx="131040" cy="301320"/>
            </a:xfrm>
            <a:custGeom>
              <a:avLst/>
              <a:gdLst/>
              <a:ahLst/>
              <a:rect l="l" t="t" r="r" b="b"/>
              <a:pathLst>
                <a:path w="575" h="1197">
                  <a:moveTo>
                    <a:pt x="291" y="106"/>
                  </a:moveTo>
                  <a:lnTo>
                    <a:pt x="314" y="140"/>
                  </a:lnTo>
                  <a:lnTo>
                    <a:pt x="349" y="157"/>
                  </a:lnTo>
                  <a:lnTo>
                    <a:pt x="390" y="157"/>
                  </a:lnTo>
                  <a:lnTo>
                    <a:pt x="431" y="147"/>
                  </a:lnTo>
                  <a:lnTo>
                    <a:pt x="466" y="118"/>
                  </a:lnTo>
                  <a:lnTo>
                    <a:pt x="506" y="84"/>
                  </a:lnTo>
                  <a:lnTo>
                    <a:pt x="535" y="39"/>
                  </a:lnTo>
                  <a:lnTo>
                    <a:pt x="565" y="0"/>
                  </a:lnTo>
                  <a:lnTo>
                    <a:pt x="565" y="34"/>
                  </a:lnTo>
                  <a:lnTo>
                    <a:pt x="570" y="79"/>
                  </a:lnTo>
                  <a:lnTo>
                    <a:pt x="570" y="118"/>
                  </a:lnTo>
                  <a:lnTo>
                    <a:pt x="575" y="140"/>
                  </a:lnTo>
                  <a:lnTo>
                    <a:pt x="541" y="157"/>
                  </a:lnTo>
                  <a:lnTo>
                    <a:pt x="517" y="186"/>
                  </a:lnTo>
                  <a:lnTo>
                    <a:pt x="494" y="214"/>
                  </a:lnTo>
                  <a:lnTo>
                    <a:pt x="471" y="242"/>
                  </a:lnTo>
                  <a:lnTo>
                    <a:pt x="425" y="275"/>
                  </a:lnTo>
                  <a:lnTo>
                    <a:pt x="384" y="321"/>
                  </a:lnTo>
                  <a:lnTo>
                    <a:pt x="349" y="371"/>
                  </a:lnTo>
                  <a:lnTo>
                    <a:pt x="337" y="427"/>
                  </a:lnTo>
                  <a:lnTo>
                    <a:pt x="332" y="461"/>
                  </a:lnTo>
                  <a:lnTo>
                    <a:pt x="332" y="506"/>
                  </a:lnTo>
                  <a:lnTo>
                    <a:pt x="332" y="545"/>
                  </a:lnTo>
                  <a:lnTo>
                    <a:pt x="337" y="596"/>
                  </a:lnTo>
                  <a:lnTo>
                    <a:pt x="337" y="641"/>
                  </a:lnTo>
                  <a:lnTo>
                    <a:pt x="344" y="686"/>
                  </a:lnTo>
                  <a:lnTo>
                    <a:pt x="344" y="731"/>
                  </a:lnTo>
                  <a:lnTo>
                    <a:pt x="349" y="776"/>
                  </a:lnTo>
                  <a:lnTo>
                    <a:pt x="355" y="776"/>
                  </a:lnTo>
                  <a:lnTo>
                    <a:pt x="378" y="776"/>
                  </a:lnTo>
                  <a:lnTo>
                    <a:pt x="395" y="782"/>
                  </a:lnTo>
                  <a:lnTo>
                    <a:pt x="413" y="787"/>
                  </a:lnTo>
                  <a:lnTo>
                    <a:pt x="413" y="793"/>
                  </a:lnTo>
                  <a:lnTo>
                    <a:pt x="418" y="815"/>
                  </a:lnTo>
                  <a:lnTo>
                    <a:pt x="418" y="832"/>
                  </a:lnTo>
                  <a:lnTo>
                    <a:pt x="413" y="838"/>
                  </a:lnTo>
                  <a:lnTo>
                    <a:pt x="395" y="961"/>
                  </a:lnTo>
                  <a:lnTo>
                    <a:pt x="384" y="1062"/>
                  </a:lnTo>
                  <a:lnTo>
                    <a:pt x="367" y="1124"/>
                  </a:lnTo>
                  <a:lnTo>
                    <a:pt x="344" y="1170"/>
                  </a:lnTo>
                  <a:lnTo>
                    <a:pt x="291" y="1192"/>
                  </a:lnTo>
                  <a:lnTo>
                    <a:pt x="221" y="1197"/>
                  </a:lnTo>
                  <a:lnTo>
                    <a:pt x="129" y="1187"/>
                  </a:lnTo>
                  <a:lnTo>
                    <a:pt x="0" y="1175"/>
                  </a:lnTo>
                  <a:lnTo>
                    <a:pt x="0" y="1119"/>
                  </a:lnTo>
                  <a:lnTo>
                    <a:pt x="7" y="1062"/>
                  </a:lnTo>
                  <a:lnTo>
                    <a:pt x="7" y="1006"/>
                  </a:lnTo>
                  <a:lnTo>
                    <a:pt x="12" y="950"/>
                  </a:lnTo>
                  <a:lnTo>
                    <a:pt x="12" y="888"/>
                  </a:lnTo>
                  <a:lnTo>
                    <a:pt x="12" y="832"/>
                  </a:lnTo>
                  <a:lnTo>
                    <a:pt x="18" y="770"/>
                  </a:lnTo>
                  <a:lnTo>
                    <a:pt x="30" y="719"/>
                  </a:lnTo>
                  <a:lnTo>
                    <a:pt x="65" y="714"/>
                  </a:lnTo>
                  <a:lnTo>
                    <a:pt x="99" y="709"/>
                  </a:lnTo>
                  <a:lnTo>
                    <a:pt x="81" y="608"/>
                  </a:lnTo>
                  <a:lnTo>
                    <a:pt x="76" y="523"/>
                  </a:lnTo>
                  <a:lnTo>
                    <a:pt x="76" y="439"/>
                  </a:lnTo>
                  <a:lnTo>
                    <a:pt x="88" y="371"/>
                  </a:lnTo>
                  <a:lnTo>
                    <a:pt x="99" y="297"/>
                  </a:lnTo>
                  <a:lnTo>
                    <a:pt x="122" y="236"/>
                  </a:lnTo>
                  <a:lnTo>
                    <a:pt x="157" y="174"/>
                  </a:lnTo>
                  <a:lnTo>
                    <a:pt x="198" y="118"/>
                  </a:lnTo>
                  <a:lnTo>
                    <a:pt x="291" y="106"/>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124320" y="2912400"/>
              <a:ext cx="218520" cy="330840"/>
            </a:xfrm>
            <a:custGeom>
              <a:avLst/>
              <a:gdLst/>
              <a:ahLst/>
              <a:rect l="l" t="t" r="r" b="b"/>
              <a:pathLst>
                <a:path w="947" h="1310">
                  <a:moveTo>
                    <a:pt x="412" y="0"/>
                  </a:moveTo>
                  <a:lnTo>
                    <a:pt x="243" y="79"/>
                  </a:lnTo>
                  <a:lnTo>
                    <a:pt x="116" y="253"/>
                  </a:lnTo>
                  <a:lnTo>
                    <a:pt x="28" y="477"/>
                  </a:lnTo>
                  <a:lnTo>
                    <a:pt x="0" y="731"/>
                  </a:lnTo>
                  <a:lnTo>
                    <a:pt x="17" y="967"/>
                  </a:lnTo>
                  <a:lnTo>
                    <a:pt x="110" y="1163"/>
                  </a:lnTo>
                  <a:lnTo>
                    <a:pt x="266" y="1288"/>
                  </a:lnTo>
                  <a:lnTo>
                    <a:pt x="517" y="1310"/>
                  </a:lnTo>
                  <a:lnTo>
                    <a:pt x="732" y="1214"/>
                  </a:lnTo>
                  <a:lnTo>
                    <a:pt x="877" y="1040"/>
                  </a:lnTo>
                  <a:lnTo>
                    <a:pt x="941" y="809"/>
                  </a:lnTo>
                  <a:lnTo>
                    <a:pt x="947" y="567"/>
                  </a:lnTo>
                  <a:lnTo>
                    <a:pt x="883" y="331"/>
                  </a:lnTo>
                  <a:lnTo>
                    <a:pt x="773" y="140"/>
                  </a:lnTo>
                  <a:lnTo>
                    <a:pt x="610" y="16"/>
                  </a:lnTo>
                  <a:lnTo>
                    <a:pt x="41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705280" y="3168720"/>
              <a:ext cx="150480" cy="271800"/>
            </a:xfrm>
            <a:custGeom>
              <a:avLst/>
              <a:gdLst/>
              <a:ahLst/>
              <a:rect l="l" t="t" r="r" b="b"/>
              <a:pathLst>
                <a:path w="651" h="1080">
                  <a:moveTo>
                    <a:pt x="390" y="0"/>
                  </a:moveTo>
                  <a:lnTo>
                    <a:pt x="215" y="45"/>
                  </a:lnTo>
                  <a:lnTo>
                    <a:pt x="99" y="158"/>
                  </a:lnTo>
                  <a:lnTo>
                    <a:pt x="24" y="310"/>
                  </a:lnTo>
                  <a:lnTo>
                    <a:pt x="0" y="495"/>
                  </a:lnTo>
                  <a:lnTo>
                    <a:pt x="0" y="675"/>
                  </a:lnTo>
                  <a:lnTo>
                    <a:pt x="53" y="849"/>
                  </a:lnTo>
                  <a:lnTo>
                    <a:pt x="129" y="990"/>
                  </a:lnTo>
                  <a:lnTo>
                    <a:pt x="245" y="1080"/>
                  </a:lnTo>
                  <a:lnTo>
                    <a:pt x="256" y="1080"/>
                  </a:lnTo>
                  <a:lnTo>
                    <a:pt x="274" y="1080"/>
                  </a:lnTo>
                  <a:lnTo>
                    <a:pt x="286" y="1080"/>
                  </a:lnTo>
                  <a:lnTo>
                    <a:pt x="297" y="1080"/>
                  </a:lnTo>
                  <a:lnTo>
                    <a:pt x="448" y="1029"/>
                  </a:lnTo>
                  <a:lnTo>
                    <a:pt x="558" y="906"/>
                  </a:lnTo>
                  <a:lnTo>
                    <a:pt x="623" y="725"/>
                  </a:lnTo>
                  <a:lnTo>
                    <a:pt x="651" y="529"/>
                  </a:lnTo>
                  <a:lnTo>
                    <a:pt x="634" y="326"/>
                  </a:lnTo>
                  <a:lnTo>
                    <a:pt x="588" y="158"/>
                  </a:lnTo>
                  <a:lnTo>
                    <a:pt x="501" y="34"/>
                  </a:lnTo>
                  <a:lnTo>
                    <a:pt x="390"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351400" y="3188880"/>
              <a:ext cx="143640" cy="235800"/>
            </a:xfrm>
            <a:custGeom>
              <a:avLst/>
              <a:gdLst/>
              <a:ahLst/>
              <a:rect l="l" t="t" r="r" b="b"/>
              <a:pathLst>
                <a:path w="622" h="938">
                  <a:moveTo>
                    <a:pt x="325" y="0"/>
                  </a:moveTo>
                  <a:lnTo>
                    <a:pt x="221" y="50"/>
                  </a:lnTo>
                  <a:lnTo>
                    <a:pt x="129" y="175"/>
                  </a:lnTo>
                  <a:lnTo>
                    <a:pt x="46" y="332"/>
                  </a:lnTo>
                  <a:lnTo>
                    <a:pt x="6" y="511"/>
                  </a:lnTo>
                  <a:lnTo>
                    <a:pt x="0" y="680"/>
                  </a:lnTo>
                  <a:lnTo>
                    <a:pt x="46" y="827"/>
                  </a:lnTo>
                  <a:lnTo>
                    <a:pt x="152" y="916"/>
                  </a:lnTo>
                  <a:lnTo>
                    <a:pt x="337" y="938"/>
                  </a:lnTo>
                  <a:lnTo>
                    <a:pt x="466" y="877"/>
                  </a:lnTo>
                  <a:lnTo>
                    <a:pt x="558" y="753"/>
                  </a:lnTo>
                  <a:lnTo>
                    <a:pt x="605" y="590"/>
                  </a:lnTo>
                  <a:lnTo>
                    <a:pt x="622" y="416"/>
                  </a:lnTo>
                  <a:lnTo>
                    <a:pt x="593" y="241"/>
                  </a:lnTo>
                  <a:lnTo>
                    <a:pt x="541" y="101"/>
                  </a:lnTo>
                  <a:lnTo>
                    <a:pt x="448" y="11"/>
                  </a:lnTo>
                  <a:lnTo>
                    <a:pt x="32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466520" y="3203280"/>
              <a:ext cx="88200" cy="146520"/>
            </a:xfrm>
            <a:custGeom>
              <a:avLst/>
              <a:gdLst/>
              <a:ahLst/>
              <a:rect l="l" t="t" r="r" b="b"/>
              <a:pathLst>
                <a:path w="384" h="579">
                  <a:moveTo>
                    <a:pt x="209" y="0"/>
                  </a:moveTo>
                  <a:lnTo>
                    <a:pt x="133" y="22"/>
                  </a:lnTo>
                  <a:lnTo>
                    <a:pt x="70" y="90"/>
                  </a:lnTo>
                  <a:lnTo>
                    <a:pt x="24" y="174"/>
                  </a:lnTo>
                  <a:lnTo>
                    <a:pt x="6" y="280"/>
                  </a:lnTo>
                  <a:lnTo>
                    <a:pt x="0" y="382"/>
                  </a:lnTo>
                  <a:lnTo>
                    <a:pt x="24" y="478"/>
                  </a:lnTo>
                  <a:lnTo>
                    <a:pt x="75" y="545"/>
                  </a:lnTo>
                  <a:lnTo>
                    <a:pt x="168" y="579"/>
                  </a:lnTo>
                  <a:lnTo>
                    <a:pt x="239" y="551"/>
                  </a:lnTo>
                  <a:lnTo>
                    <a:pt x="302" y="489"/>
                  </a:lnTo>
                  <a:lnTo>
                    <a:pt x="349" y="393"/>
                  </a:lnTo>
                  <a:lnTo>
                    <a:pt x="384" y="287"/>
                  </a:lnTo>
                  <a:lnTo>
                    <a:pt x="384" y="174"/>
                  </a:lnTo>
                  <a:lnTo>
                    <a:pt x="361" y="84"/>
                  </a:lnTo>
                  <a:lnTo>
                    <a:pt x="302" y="17"/>
                  </a:lnTo>
                  <a:lnTo>
                    <a:pt x="209" y="0"/>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440520" y="3218040"/>
              <a:ext cx="331560" cy="365400"/>
            </a:xfrm>
            <a:custGeom>
              <a:avLst/>
              <a:gdLst/>
              <a:ahLst/>
              <a:rect l="l" t="t" r="r" b="b"/>
              <a:pathLst>
                <a:path w="1442" h="1450">
                  <a:moveTo>
                    <a:pt x="541" y="0"/>
                  </a:moveTo>
                  <a:lnTo>
                    <a:pt x="564" y="17"/>
                  </a:lnTo>
                  <a:lnTo>
                    <a:pt x="588" y="45"/>
                  </a:lnTo>
                  <a:lnTo>
                    <a:pt x="599" y="79"/>
                  </a:lnTo>
                  <a:lnTo>
                    <a:pt x="611" y="118"/>
                  </a:lnTo>
                  <a:lnTo>
                    <a:pt x="616" y="157"/>
                  </a:lnTo>
                  <a:lnTo>
                    <a:pt x="623" y="202"/>
                  </a:lnTo>
                  <a:lnTo>
                    <a:pt x="623" y="248"/>
                  </a:lnTo>
                  <a:lnTo>
                    <a:pt x="640" y="292"/>
                  </a:lnTo>
                  <a:lnTo>
                    <a:pt x="669" y="219"/>
                  </a:lnTo>
                  <a:lnTo>
                    <a:pt x="704" y="163"/>
                  </a:lnTo>
                  <a:lnTo>
                    <a:pt x="750" y="123"/>
                  </a:lnTo>
                  <a:lnTo>
                    <a:pt x="803" y="96"/>
                  </a:lnTo>
                  <a:lnTo>
                    <a:pt x="854" y="67"/>
                  </a:lnTo>
                  <a:lnTo>
                    <a:pt x="907" y="50"/>
                  </a:lnTo>
                  <a:lnTo>
                    <a:pt x="960" y="28"/>
                  </a:lnTo>
                  <a:lnTo>
                    <a:pt x="1011" y="11"/>
                  </a:lnTo>
                  <a:lnTo>
                    <a:pt x="1034" y="34"/>
                  </a:lnTo>
                  <a:lnTo>
                    <a:pt x="1064" y="62"/>
                  </a:lnTo>
                  <a:lnTo>
                    <a:pt x="1082" y="96"/>
                  </a:lnTo>
                  <a:lnTo>
                    <a:pt x="1105" y="135"/>
                  </a:lnTo>
                  <a:lnTo>
                    <a:pt x="1174" y="62"/>
                  </a:lnTo>
                  <a:lnTo>
                    <a:pt x="1232" y="50"/>
                  </a:lnTo>
                  <a:lnTo>
                    <a:pt x="1267" y="84"/>
                  </a:lnTo>
                  <a:lnTo>
                    <a:pt x="1297" y="157"/>
                  </a:lnTo>
                  <a:lnTo>
                    <a:pt x="1308" y="236"/>
                  </a:lnTo>
                  <a:lnTo>
                    <a:pt x="1313" y="320"/>
                  </a:lnTo>
                  <a:lnTo>
                    <a:pt x="1320" y="388"/>
                  </a:lnTo>
                  <a:lnTo>
                    <a:pt x="1331" y="433"/>
                  </a:lnTo>
                  <a:lnTo>
                    <a:pt x="1343" y="461"/>
                  </a:lnTo>
                  <a:lnTo>
                    <a:pt x="1378" y="506"/>
                  </a:lnTo>
                  <a:lnTo>
                    <a:pt x="1407" y="550"/>
                  </a:lnTo>
                  <a:lnTo>
                    <a:pt x="1430" y="601"/>
                  </a:lnTo>
                  <a:lnTo>
                    <a:pt x="1419" y="641"/>
                  </a:lnTo>
                  <a:lnTo>
                    <a:pt x="1407" y="675"/>
                  </a:lnTo>
                  <a:lnTo>
                    <a:pt x="1384" y="702"/>
                  </a:lnTo>
                  <a:lnTo>
                    <a:pt x="1372" y="731"/>
                  </a:lnTo>
                  <a:lnTo>
                    <a:pt x="1366" y="753"/>
                  </a:lnTo>
                  <a:lnTo>
                    <a:pt x="1372" y="787"/>
                  </a:lnTo>
                  <a:lnTo>
                    <a:pt x="1378" y="827"/>
                  </a:lnTo>
                  <a:lnTo>
                    <a:pt x="1389" y="866"/>
                  </a:lnTo>
                  <a:lnTo>
                    <a:pt x="1401" y="900"/>
                  </a:lnTo>
                  <a:lnTo>
                    <a:pt x="1412" y="939"/>
                  </a:lnTo>
                  <a:lnTo>
                    <a:pt x="1419" y="967"/>
                  </a:lnTo>
                  <a:lnTo>
                    <a:pt x="1430" y="1001"/>
                  </a:lnTo>
                  <a:lnTo>
                    <a:pt x="1436" y="1063"/>
                  </a:lnTo>
                  <a:lnTo>
                    <a:pt x="1442" y="1124"/>
                  </a:lnTo>
                  <a:lnTo>
                    <a:pt x="1436" y="1187"/>
                  </a:lnTo>
                  <a:lnTo>
                    <a:pt x="1436" y="1254"/>
                  </a:lnTo>
                  <a:lnTo>
                    <a:pt x="1419" y="1310"/>
                  </a:lnTo>
                  <a:lnTo>
                    <a:pt x="1396" y="1361"/>
                  </a:lnTo>
                  <a:lnTo>
                    <a:pt x="1361" y="1394"/>
                  </a:lnTo>
                  <a:lnTo>
                    <a:pt x="1320" y="1428"/>
                  </a:lnTo>
                  <a:lnTo>
                    <a:pt x="1267" y="1433"/>
                  </a:lnTo>
                  <a:lnTo>
                    <a:pt x="1204" y="1445"/>
                  </a:lnTo>
                  <a:lnTo>
                    <a:pt x="1133" y="1445"/>
                  </a:lnTo>
                  <a:lnTo>
                    <a:pt x="1059" y="1450"/>
                  </a:lnTo>
                  <a:lnTo>
                    <a:pt x="977" y="1445"/>
                  </a:lnTo>
                  <a:lnTo>
                    <a:pt x="907" y="1440"/>
                  </a:lnTo>
                  <a:lnTo>
                    <a:pt x="837" y="1423"/>
                  </a:lnTo>
                  <a:lnTo>
                    <a:pt x="791" y="1411"/>
                  </a:lnTo>
                  <a:lnTo>
                    <a:pt x="762" y="1400"/>
                  </a:lnTo>
                  <a:lnTo>
                    <a:pt x="732" y="1389"/>
                  </a:lnTo>
                  <a:lnTo>
                    <a:pt x="704" y="1372"/>
                  </a:lnTo>
                  <a:lnTo>
                    <a:pt x="692" y="1361"/>
                  </a:lnTo>
                  <a:lnTo>
                    <a:pt x="681" y="1310"/>
                  </a:lnTo>
                  <a:lnTo>
                    <a:pt x="686" y="1271"/>
                  </a:lnTo>
                  <a:lnTo>
                    <a:pt x="692" y="1226"/>
                  </a:lnTo>
                  <a:lnTo>
                    <a:pt x="709" y="1192"/>
                  </a:lnTo>
                  <a:lnTo>
                    <a:pt x="721" y="1146"/>
                  </a:lnTo>
                  <a:lnTo>
                    <a:pt x="732" y="1107"/>
                  </a:lnTo>
                  <a:lnTo>
                    <a:pt x="739" y="1068"/>
                  </a:lnTo>
                  <a:lnTo>
                    <a:pt x="745" y="1029"/>
                  </a:lnTo>
                  <a:lnTo>
                    <a:pt x="732" y="989"/>
                  </a:lnTo>
                  <a:lnTo>
                    <a:pt x="721" y="956"/>
                  </a:lnTo>
                  <a:lnTo>
                    <a:pt x="704" y="922"/>
                  </a:lnTo>
                  <a:lnTo>
                    <a:pt x="692" y="888"/>
                  </a:lnTo>
                  <a:lnTo>
                    <a:pt x="674" y="849"/>
                  </a:lnTo>
                  <a:lnTo>
                    <a:pt x="657" y="815"/>
                  </a:lnTo>
                  <a:lnTo>
                    <a:pt x="640" y="776"/>
                  </a:lnTo>
                  <a:lnTo>
                    <a:pt x="628" y="742"/>
                  </a:lnTo>
                  <a:lnTo>
                    <a:pt x="535" y="736"/>
                  </a:lnTo>
                  <a:lnTo>
                    <a:pt x="459" y="736"/>
                  </a:lnTo>
                  <a:lnTo>
                    <a:pt x="384" y="726"/>
                  </a:lnTo>
                  <a:lnTo>
                    <a:pt x="314" y="714"/>
                  </a:lnTo>
                  <a:lnTo>
                    <a:pt x="245" y="692"/>
                  </a:lnTo>
                  <a:lnTo>
                    <a:pt x="175" y="675"/>
                  </a:lnTo>
                  <a:lnTo>
                    <a:pt x="99" y="658"/>
                  </a:lnTo>
                  <a:lnTo>
                    <a:pt x="30" y="641"/>
                  </a:lnTo>
                  <a:lnTo>
                    <a:pt x="18" y="579"/>
                  </a:lnTo>
                  <a:lnTo>
                    <a:pt x="12" y="523"/>
                  </a:lnTo>
                  <a:lnTo>
                    <a:pt x="0" y="467"/>
                  </a:lnTo>
                  <a:lnTo>
                    <a:pt x="0" y="410"/>
                  </a:lnTo>
                  <a:lnTo>
                    <a:pt x="7" y="388"/>
                  </a:lnTo>
                  <a:lnTo>
                    <a:pt x="23" y="343"/>
                  </a:lnTo>
                  <a:lnTo>
                    <a:pt x="41" y="287"/>
                  </a:lnTo>
                  <a:lnTo>
                    <a:pt x="58" y="258"/>
                  </a:lnTo>
                  <a:lnTo>
                    <a:pt x="58" y="208"/>
                  </a:lnTo>
                  <a:lnTo>
                    <a:pt x="58" y="174"/>
                  </a:lnTo>
                  <a:lnTo>
                    <a:pt x="58" y="140"/>
                  </a:lnTo>
                  <a:lnTo>
                    <a:pt x="58" y="123"/>
                  </a:lnTo>
                  <a:lnTo>
                    <a:pt x="58" y="101"/>
                  </a:lnTo>
                  <a:lnTo>
                    <a:pt x="81" y="84"/>
                  </a:lnTo>
                  <a:lnTo>
                    <a:pt x="116" y="74"/>
                  </a:lnTo>
                  <a:lnTo>
                    <a:pt x="175" y="62"/>
                  </a:lnTo>
                  <a:lnTo>
                    <a:pt x="198" y="101"/>
                  </a:lnTo>
                  <a:lnTo>
                    <a:pt x="221" y="169"/>
                  </a:lnTo>
                  <a:lnTo>
                    <a:pt x="238" y="241"/>
                  </a:lnTo>
                  <a:lnTo>
                    <a:pt x="256" y="332"/>
                  </a:lnTo>
                  <a:lnTo>
                    <a:pt x="261" y="416"/>
                  </a:lnTo>
                  <a:lnTo>
                    <a:pt x="274" y="511"/>
                  </a:lnTo>
                  <a:lnTo>
                    <a:pt x="279" y="596"/>
                  </a:lnTo>
                  <a:lnTo>
                    <a:pt x="291" y="675"/>
                  </a:lnTo>
                  <a:lnTo>
                    <a:pt x="291" y="646"/>
                  </a:lnTo>
                  <a:lnTo>
                    <a:pt x="309" y="601"/>
                  </a:lnTo>
                  <a:lnTo>
                    <a:pt x="326" y="540"/>
                  </a:lnTo>
                  <a:lnTo>
                    <a:pt x="344" y="478"/>
                  </a:lnTo>
                  <a:lnTo>
                    <a:pt x="355" y="410"/>
                  </a:lnTo>
                  <a:lnTo>
                    <a:pt x="372" y="349"/>
                  </a:lnTo>
                  <a:lnTo>
                    <a:pt x="384" y="304"/>
                  </a:lnTo>
                  <a:lnTo>
                    <a:pt x="402" y="287"/>
                  </a:lnTo>
                  <a:lnTo>
                    <a:pt x="425" y="236"/>
                  </a:lnTo>
                  <a:lnTo>
                    <a:pt x="431" y="197"/>
                  </a:lnTo>
                  <a:lnTo>
                    <a:pt x="431" y="169"/>
                  </a:lnTo>
                  <a:lnTo>
                    <a:pt x="431" y="146"/>
                  </a:lnTo>
                  <a:lnTo>
                    <a:pt x="431" y="106"/>
                  </a:lnTo>
                  <a:lnTo>
                    <a:pt x="443" y="74"/>
                  </a:lnTo>
                  <a:lnTo>
                    <a:pt x="448" y="40"/>
                  </a:lnTo>
                  <a:lnTo>
                    <a:pt x="477" y="28"/>
                  </a:lnTo>
                  <a:lnTo>
                    <a:pt x="506" y="11"/>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776400" y="3214080"/>
              <a:ext cx="121680" cy="378720"/>
            </a:xfrm>
            <a:custGeom>
              <a:avLst/>
              <a:gdLst/>
              <a:ahLst/>
              <a:rect l="l" t="t" r="r" b="b"/>
              <a:pathLst>
                <a:path w="528" h="1501">
                  <a:moveTo>
                    <a:pt x="87" y="410"/>
                  </a:moveTo>
                  <a:lnTo>
                    <a:pt x="70" y="383"/>
                  </a:lnTo>
                  <a:lnTo>
                    <a:pt x="41" y="332"/>
                  </a:lnTo>
                  <a:lnTo>
                    <a:pt x="23" y="298"/>
                  </a:lnTo>
                  <a:lnTo>
                    <a:pt x="11" y="265"/>
                  </a:lnTo>
                  <a:lnTo>
                    <a:pt x="0" y="236"/>
                  </a:lnTo>
                  <a:lnTo>
                    <a:pt x="6" y="219"/>
                  </a:lnTo>
                  <a:lnTo>
                    <a:pt x="6" y="186"/>
                  </a:lnTo>
                  <a:lnTo>
                    <a:pt x="23" y="152"/>
                  </a:lnTo>
                  <a:lnTo>
                    <a:pt x="41" y="118"/>
                  </a:lnTo>
                  <a:lnTo>
                    <a:pt x="70" y="84"/>
                  </a:lnTo>
                  <a:lnTo>
                    <a:pt x="93" y="51"/>
                  </a:lnTo>
                  <a:lnTo>
                    <a:pt x="122" y="23"/>
                  </a:lnTo>
                  <a:lnTo>
                    <a:pt x="151" y="6"/>
                  </a:lnTo>
                  <a:lnTo>
                    <a:pt x="180" y="0"/>
                  </a:lnTo>
                  <a:lnTo>
                    <a:pt x="244" y="0"/>
                  </a:lnTo>
                  <a:lnTo>
                    <a:pt x="302" y="40"/>
                  </a:lnTo>
                  <a:lnTo>
                    <a:pt x="343" y="96"/>
                  </a:lnTo>
                  <a:lnTo>
                    <a:pt x="378" y="174"/>
                  </a:lnTo>
                  <a:lnTo>
                    <a:pt x="389" y="248"/>
                  </a:lnTo>
                  <a:lnTo>
                    <a:pt x="384" y="326"/>
                  </a:lnTo>
                  <a:lnTo>
                    <a:pt x="360" y="376"/>
                  </a:lnTo>
                  <a:lnTo>
                    <a:pt x="325" y="410"/>
                  </a:lnTo>
                  <a:lnTo>
                    <a:pt x="279" y="410"/>
                  </a:lnTo>
                  <a:lnTo>
                    <a:pt x="256" y="400"/>
                  </a:lnTo>
                  <a:lnTo>
                    <a:pt x="221" y="383"/>
                  </a:lnTo>
                  <a:lnTo>
                    <a:pt x="175" y="376"/>
                  </a:lnTo>
                  <a:lnTo>
                    <a:pt x="256" y="478"/>
                  </a:lnTo>
                  <a:lnTo>
                    <a:pt x="262" y="495"/>
                  </a:lnTo>
                  <a:lnTo>
                    <a:pt x="274" y="523"/>
                  </a:lnTo>
                  <a:lnTo>
                    <a:pt x="285" y="557"/>
                  </a:lnTo>
                  <a:lnTo>
                    <a:pt x="302" y="601"/>
                  </a:lnTo>
                  <a:lnTo>
                    <a:pt x="320" y="652"/>
                  </a:lnTo>
                  <a:lnTo>
                    <a:pt x="348" y="702"/>
                  </a:lnTo>
                  <a:lnTo>
                    <a:pt x="373" y="743"/>
                  </a:lnTo>
                  <a:lnTo>
                    <a:pt x="384" y="759"/>
                  </a:lnTo>
                  <a:lnTo>
                    <a:pt x="413" y="753"/>
                  </a:lnTo>
                  <a:lnTo>
                    <a:pt x="436" y="759"/>
                  </a:lnTo>
                  <a:lnTo>
                    <a:pt x="454" y="759"/>
                  </a:lnTo>
                  <a:lnTo>
                    <a:pt x="471" y="776"/>
                  </a:lnTo>
                  <a:lnTo>
                    <a:pt x="494" y="804"/>
                  </a:lnTo>
                  <a:lnTo>
                    <a:pt x="528" y="849"/>
                  </a:lnTo>
                  <a:lnTo>
                    <a:pt x="512" y="878"/>
                  </a:lnTo>
                  <a:lnTo>
                    <a:pt x="500" y="905"/>
                  </a:lnTo>
                  <a:lnTo>
                    <a:pt x="482" y="922"/>
                  </a:lnTo>
                  <a:lnTo>
                    <a:pt x="477" y="945"/>
                  </a:lnTo>
                  <a:lnTo>
                    <a:pt x="454" y="956"/>
                  </a:lnTo>
                  <a:lnTo>
                    <a:pt x="430" y="967"/>
                  </a:lnTo>
                  <a:lnTo>
                    <a:pt x="396" y="973"/>
                  </a:lnTo>
                  <a:lnTo>
                    <a:pt x="355" y="979"/>
                  </a:lnTo>
                  <a:lnTo>
                    <a:pt x="360" y="1046"/>
                  </a:lnTo>
                  <a:lnTo>
                    <a:pt x="366" y="1114"/>
                  </a:lnTo>
                  <a:lnTo>
                    <a:pt x="366" y="1180"/>
                  </a:lnTo>
                  <a:lnTo>
                    <a:pt x="378" y="1248"/>
                  </a:lnTo>
                  <a:lnTo>
                    <a:pt x="389" y="1305"/>
                  </a:lnTo>
                  <a:lnTo>
                    <a:pt x="407" y="1366"/>
                  </a:lnTo>
                  <a:lnTo>
                    <a:pt x="424" y="1417"/>
                  </a:lnTo>
                  <a:lnTo>
                    <a:pt x="459" y="1467"/>
                  </a:lnTo>
                  <a:lnTo>
                    <a:pt x="401" y="1479"/>
                  </a:lnTo>
                  <a:lnTo>
                    <a:pt x="343" y="1490"/>
                  </a:lnTo>
                  <a:lnTo>
                    <a:pt x="285" y="1496"/>
                  </a:lnTo>
                  <a:lnTo>
                    <a:pt x="233" y="1501"/>
                  </a:lnTo>
                  <a:lnTo>
                    <a:pt x="175" y="1496"/>
                  </a:lnTo>
                  <a:lnTo>
                    <a:pt x="122" y="1496"/>
                  </a:lnTo>
                  <a:lnTo>
                    <a:pt x="70" y="1479"/>
                  </a:lnTo>
                  <a:lnTo>
                    <a:pt x="23" y="1467"/>
                  </a:lnTo>
                  <a:lnTo>
                    <a:pt x="18" y="1400"/>
                  </a:lnTo>
                  <a:lnTo>
                    <a:pt x="23" y="1332"/>
                  </a:lnTo>
                  <a:lnTo>
                    <a:pt x="29" y="1265"/>
                  </a:lnTo>
                  <a:lnTo>
                    <a:pt x="46" y="1204"/>
                  </a:lnTo>
                  <a:lnTo>
                    <a:pt x="59" y="1136"/>
                  </a:lnTo>
                  <a:lnTo>
                    <a:pt x="70" y="1069"/>
                  </a:lnTo>
                  <a:lnTo>
                    <a:pt x="70" y="1001"/>
                  </a:lnTo>
                  <a:lnTo>
                    <a:pt x="76" y="939"/>
                  </a:lnTo>
                  <a:lnTo>
                    <a:pt x="64" y="883"/>
                  </a:lnTo>
                  <a:lnTo>
                    <a:pt x="52" y="832"/>
                  </a:lnTo>
                  <a:lnTo>
                    <a:pt x="41" y="782"/>
                  </a:lnTo>
                  <a:lnTo>
                    <a:pt x="35" y="731"/>
                  </a:lnTo>
                  <a:lnTo>
                    <a:pt x="23" y="680"/>
                  </a:lnTo>
                  <a:lnTo>
                    <a:pt x="23" y="630"/>
                  </a:lnTo>
                  <a:lnTo>
                    <a:pt x="23" y="579"/>
                  </a:lnTo>
                  <a:lnTo>
                    <a:pt x="46" y="528"/>
                  </a:lnTo>
                  <a:lnTo>
                    <a:pt x="52" y="501"/>
                  </a:lnTo>
                  <a:lnTo>
                    <a:pt x="70" y="456"/>
                  </a:lnTo>
                  <a:lnTo>
                    <a:pt x="87"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790440" y="3324960"/>
              <a:ext cx="86760" cy="258480"/>
            </a:xfrm>
            <a:custGeom>
              <a:avLst/>
              <a:gdLst/>
              <a:ahLst/>
              <a:rect l="l" t="t" r="r" b="b"/>
              <a:pathLst>
                <a:path w="377" h="1028">
                  <a:moveTo>
                    <a:pt x="58" y="5"/>
                  </a:moveTo>
                  <a:lnTo>
                    <a:pt x="40" y="62"/>
                  </a:lnTo>
                  <a:lnTo>
                    <a:pt x="28" y="118"/>
                  </a:lnTo>
                  <a:lnTo>
                    <a:pt x="17" y="168"/>
                  </a:lnTo>
                  <a:lnTo>
                    <a:pt x="17" y="224"/>
                  </a:lnTo>
                  <a:lnTo>
                    <a:pt x="17" y="275"/>
                  </a:lnTo>
                  <a:lnTo>
                    <a:pt x="23" y="331"/>
                  </a:lnTo>
                  <a:lnTo>
                    <a:pt x="34" y="382"/>
                  </a:lnTo>
                  <a:lnTo>
                    <a:pt x="51" y="449"/>
                  </a:lnTo>
                  <a:lnTo>
                    <a:pt x="51" y="466"/>
                  </a:lnTo>
                  <a:lnTo>
                    <a:pt x="58" y="500"/>
                  </a:lnTo>
                  <a:lnTo>
                    <a:pt x="63" y="523"/>
                  </a:lnTo>
                  <a:lnTo>
                    <a:pt x="69" y="540"/>
                  </a:lnTo>
                  <a:lnTo>
                    <a:pt x="58" y="550"/>
                  </a:lnTo>
                  <a:lnTo>
                    <a:pt x="46" y="596"/>
                  </a:lnTo>
                  <a:lnTo>
                    <a:pt x="34" y="658"/>
                  </a:lnTo>
                  <a:lnTo>
                    <a:pt x="28" y="731"/>
                  </a:lnTo>
                  <a:lnTo>
                    <a:pt x="11" y="804"/>
                  </a:lnTo>
                  <a:lnTo>
                    <a:pt x="5" y="876"/>
                  </a:lnTo>
                  <a:lnTo>
                    <a:pt x="0" y="933"/>
                  </a:lnTo>
                  <a:lnTo>
                    <a:pt x="0" y="978"/>
                  </a:lnTo>
                  <a:lnTo>
                    <a:pt x="17" y="989"/>
                  </a:lnTo>
                  <a:lnTo>
                    <a:pt x="46" y="1001"/>
                  </a:lnTo>
                  <a:lnTo>
                    <a:pt x="75" y="1011"/>
                  </a:lnTo>
                  <a:lnTo>
                    <a:pt x="98" y="1028"/>
                  </a:lnTo>
                  <a:lnTo>
                    <a:pt x="150" y="1028"/>
                  </a:lnTo>
                  <a:lnTo>
                    <a:pt x="208" y="1023"/>
                  </a:lnTo>
                  <a:lnTo>
                    <a:pt x="255" y="1011"/>
                  </a:lnTo>
                  <a:lnTo>
                    <a:pt x="307" y="1006"/>
                  </a:lnTo>
                  <a:lnTo>
                    <a:pt x="289" y="933"/>
                  </a:lnTo>
                  <a:lnTo>
                    <a:pt x="284" y="859"/>
                  </a:lnTo>
                  <a:lnTo>
                    <a:pt x="278" y="781"/>
                  </a:lnTo>
                  <a:lnTo>
                    <a:pt x="272" y="714"/>
                  </a:lnTo>
                  <a:lnTo>
                    <a:pt x="255" y="641"/>
                  </a:lnTo>
                  <a:lnTo>
                    <a:pt x="238" y="584"/>
                  </a:lnTo>
                  <a:lnTo>
                    <a:pt x="197" y="534"/>
                  </a:lnTo>
                  <a:lnTo>
                    <a:pt x="150" y="511"/>
                  </a:lnTo>
                  <a:lnTo>
                    <a:pt x="162" y="461"/>
                  </a:lnTo>
                  <a:lnTo>
                    <a:pt x="203" y="461"/>
                  </a:lnTo>
                  <a:lnTo>
                    <a:pt x="249" y="466"/>
                  </a:lnTo>
                  <a:lnTo>
                    <a:pt x="284" y="472"/>
                  </a:lnTo>
                  <a:lnTo>
                    <a:pt x="307" y="478"/>
                  </a:lnTo>
                  <a:lnTo>
                    <a:pt x="342" y="461"/>
                  </a:lnTo>
                  <a:lnTo>
                    <a:pt x="360" y="455"/>
                  </a:lnTo>
                  <a:lnTo>
                    <a:pt x="360" y="444"/>
                  </a:lnTo>
                  <a:lnTo>
                    <a:pt x="365" y="427"/>
                  </a:lnTo>
                  <a:lnTo>
                    <a:pt x="365" y="405"/>
                  </a:lnTo>
                  <a:lnTo>
                    <a:pt x="377" y="371"/>
                  </a:lnTo>
                  <a:lnTo>
                    <a:pt x="337" y="371"/>
                  </a:lnTo>
                  <a:lnTo>
                    <a:pt x="296" y="376"/>
                  </a:lnTo>
                  <a:lnTo>
                    <a:pt x="255" y="382"/>
                  </a:lnTo>
                  <a:lnTo>
                    <a:pt x="215" y="388"/>
                  </a:lnTo>
                  <a:lnTo>
                    <a:pt x="203" y="382"/>
                  </a:lnTo>
                  <a:lnTo>
                    <a:pt x="191" y="382"/>
                  </a:lnTo>
                  <a:lnTo>
                    <a:pt x="162" y="376"/>
                  </a:lnTo>
                  <a:lnTo>
                    <a:pt x="132" y="371"/>
                  </a:lnTo>
                  <a:lnTo>
                    <a:pt x="121" y="314"/>
                  </a:lnTo>
                  <a:lnTo>
                    <a:pt x="116" y="263"/>
                  </a:lnTo>
                  <a:lnTo>
                    <a:pt x="116" y="219"/>
                  </a:lnTo>
                  <a:lnTo>
                    <a:pt x="121" y="196"/>
                  </a:lnTo>
                  <a:lnTo>
                    <a:pt x="121" y="179"/>
                  </a:lnTo>
                  <a:lnTo>
                    <a:pt x="127" y="191"/>
                  </a:lnTo>
                  <a:lnTo>
                    <a:pt x="139" y="230"/>
                  </a:lnTo>
                  <a:lnTo>
                    <a:pt x="162" y="309"/>
                  </a:lnTo>
                  <a:lnTo>
                    <a:pt x="180" y="320"/>
                  </a:lnTo>
                  <a:lnTo>
                    <a:pt x="215" y="331"/>
                  </a:lnTo>
                  <a:lnTo>
                    <a:pt x="215" y="314"/>
                  </a:lnTo>
                  <a:lnTo>
                    <a:pt x="215" y="297"/>
                  </a:lnTo>
                  <a:lnTo>
                    <a:pt x="208" y="280"/>
                  </a:lnTo>
                  <a:lnTo>
                    <a:pt x="203" y="280"/>
                  </a:lnTo>
                  <a:lnTo>
                    <a:pt x="203" y="258"/>
                  </a:lnTo>
                  <a:lnTo>
                    <a:pt x="203" y="241"/>
                  </a:lnTo>
                  <a:lnTo>
                    <a:pt x="191" y="185"/>
                  </a:lnTo>
                  <a:lnTo>
                    <a:pt x="185" y="128"/>
                  </a:lnTo>
                  <a:lnTo>
                    <a:pt x="180" y="79"/>
                  </a:lnTo>
                  <a:lnTo>
                    <a:pt x="180" y="39"/>
                  </a:lnTo>
                  <a:lnTo>
                    <a:pt x="157" y="28"/>
                  </a:lnTo>
                  <a:lnTo>
                    <a:pt x="116" y="11"/>
                  </a:lnTo>
                  <a:lnTo>
                    <a:pt x="75" y="0"/>
                  </a:lnTo>
                  <a:lnTo>
                    <a:pt x="58" y="5"/>
                  </a:lnTo>
                  <a:close/>
                </a:path>
              </a:pathLst>
            </a:custGeom>
            <a:solidFill>
              <a:srgbClr val="be62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354840" y="3230280"/>
              <a:ext cx="74520" cy="159840"/>
            </a:xfrm>
            <a:custGeom>
              <a:avLst/>
              <a:gdLst/>
              <a:ahLst/>
              <a:rect l="l" t="t" r="r" b="b"/>
              <a:pathLst>
                <a:path w="319" h="635">
                  <a:moveTo>
                    <a:pt x="133" y="0"/>
                  </a:moveTo>
                  <a:lnTo>
                    <a:pt x="162" y="24"/>
                  </a:lnTo>
                  <a:lnTo>
                    <a:pt x="198" y="73"/>
                  </a:lnTo>
                  <a:lnTo>
                    <a:pt x="221" y="119"/>
                  </a:lnTo>
                  <a:lnTo>
                    <a:pt x="249" y="164"/>
                  </a:lnTo>
                  <a:lnTo>
                    <a:pt x="249" y="198"/>
                  </a:lnTo>
                  <a:lnTo>
                    <a:pt x="244" y="237"/>
                  </a:lnTo>
                  <a:lnTo>
                    <a:pt x="232" y="265"/>
                  </a:lnTo>
                  <a:lnTo>
                    <a:pt x="221" y="287"/>
                  </a:lnTo>
                  <a:lnTo>
                    <a:pt x="232" y="338"/>
                  </a:lnTo>
                  <a:lnTo>
                    <a:pt x="261" y="400"/>
                  </a:lnTo>
                  <a:lnTo>
                    <a:pt x="284" y="461"/>
                  </a:lnTo>
                  <a:lnTo>
                    <a:pt x="313" y="524"/>
                  </a:lnTo>
                  <a:lnTo>
                    <a:pt x="319" y="568"/>
                  </a:lnTo>
                  <a:lnTo>
                    <a:pt x="307" y="608"/>
                  </a:lnTo>
                  <a:lnTo>
                    <a:pt x="261" y="630"/>
                  </a:lnTo>
                  <a:lnTo>
                    <a:pt x="186" y="635"/>
                  </a:lnTo>
                  <a:lnTo>
                    <a:pt x="133" y="630"/>
                  </a:lnTo>
                  <a:lnTo>
                    <a:pt x="81" y="635"/>
                  </a:lnTo>
                  <a:lnTo>
                    <a:pt x="34" y="630"/>
                  </a:lnTo>
                  <a:lnTo>
                    <a:pt x="0" y="625"/>
                  </a:lnTo>
                  <a:lnTo>
                    <a:pt x="5" y="585"/>
                  </a:lnTo>
                  <a:lnTo>
                    <a:pt x="23" y="546"/>
                  </a:lnTo>
                  <a:lnTo>
                    <a:pt x="41" y="495"/>
                  </a:lnTo>
                  <a:lnTo>
                    <a:pt x="58" y="445"/>
                  </a:lnTo>
                  <a:lnTo>
                    <a:pt x="69" y="394"/>
                  </a:lnTo>
                  <a:lnTo>
                    <a:pt x="87" y="343"/>
                  </a:lnTo>
                  <a:lnTo>
                    <a:pt x="92" y="299"/>
                  </a:lnTo>
                  <a:lnTo>
                    <a:pt x="99" y="265"/>
                  </a:lnTo>
                  <a:lnTo>
                    <a:pt x="87" y="208"/>
                  </a:lnTo>
                  <a:lnTo>
                    <a:pt x="75" y="174"/>
                  </a:lnTo>
                  <a:lnTo>
                    <a:pt x="58" y="141"/>
                  </a:lnTo>
                  <a:lnTo>
                    <a:pt x="52" y="113"/>
                  </a:lnTo>
                  <a:lnTo>
                    <a:pt x="46" y="85"/>
                  </a:lnTo>
                  <a:lnTo>
                    <a:pt x="58" y="63"/>
                  </a:lnTo>
                  <a:lnTo>
                    <a:pt x="81" y="29"/>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090040" y="3224880"/>
              <a:ext cx="133560" cy="167760"/>
            </a:xfrm>
            <a:custGeom>
              <a:avLst/>
              <a:gdLst/>
              <a:ahLst/>
              <a:rect l="l" t="t" r="r" b="b"/>
              <a:pathLst>
                <a:path w="586" h="669">
                  <a:moveTo>
                    <a:pt x="342" y="0"/>
                  </a:moveTo>
                  <a:lnTo>
                    <a:pt x="208" y="27"/>
                  </a:lnTo>
                  <a:lnTo>
                    <a:pt x="109" y="106"/>
                  </a:lnTo>
                  <a:lnTo>
                    <a:pt x="40" y="201"/>
                  </a:lnTo>
                  <a:lnTo>
                    <a:pt x="5" y="314"/>
                  </a:lnTo>
                  <a:lnTo>
                    <a:pt x="0" y="421"/>
                  </a:lnTo>
                  <a:lnTo>
                    <a:pt x="40" y="527"/>
                  </a:lnTo>
                  <a:lnTo>
                    <a:pt x="122" y="612"/>
                  </a:lnTo>
                  <a:lnTo>
                    <a:pt x="256" y="669"/>
                  </a:lnTo>
                  <a:lnTo>
                    <a:pt x="400" y="662"/>
                  </a:lnTo>
                  <a:lnTo>
                    <a:pt x="505" y="595"/>
                  </a:lnTo>
                  <a:lnTo>
                    <a:pt x="563" y="488"/>
                  </a:lnTo>
                  <a:lnTo>
                    <a:pt x="586" y="360"/>
                  </a:lnTo>
                  <a:lnTo>
                    <a:pt x="568" y="218"/>
                  </a:lnTo>
                  <a:lnTo>
                    <a:pt x="517" y="100"/>
                  </a:lnTo>
                  <a:lnTo>
                    <a:pt x="441" y="17"/>
                  </a:lnTo>
                  <a:lnTo>
                    <a:pt x="342"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551040" y="3227400"/>
              <a:ext cx="25920" cy="48960"/>
            </a:xfrm>
            <a:custGeom>
              <a:avLst/>
              <a:gdLst/>
              <a:ahLst/>
              <a:rect l="l" t="t" r="r" b="b"/>
              <a:pathLst>
                <a:path w="116" h="197">
                  <a:moveTo>
                    <a:pt x="58" y="0"/>
                  </a:moveTo>
                  <a:lnTo>
                    <a:pt x="29" y="28"/>
                  </a:lnTo>
                  <a:lnTo>
                    <a:pt x="12" y="55"/>
                  </a:lnTo>
                  <a:lnTo>
                    <a:pt x="0" y="79"/>
                  </a:lnTo>
                  <a:lnTo>
                    <a:pt x="0" y="101"/>
                  </a:lnTo>
                  <a:lnTo>
                    <a:pt x="0" y="118"/>
                  </a:lnTo>
                  <a:lnTo>
                    <a:pt x="17" y="140"/>
                  </a:lnTo>
                  <a:lnTo>
                    <a:pt x="40" y="163"/>
                  </a:lnTo>
                  <a:lnTo>
                    <a:pt x="81" y="197"/>
                  </a:lnTo>
                  <a:lnTo>
                    <a:pt x="98" y="157"/>
                  </a:lnTo>
                  <a:lnTo>
                    <a:pt x="111" y="135"/>
                  </a:lnTo>
                  <a:lnTo>
                    <a:pt x="111" y="106"/>
                  </a:lnTo>
                  <a:lnTo>
                    <a:pt x="116" y="89"/>
                  </a:lnTo>
                  <a:lnTo>
                    <a:pt x="105" y="67"/>
                  </a:lnTo>
                  <a:lnTo>
                    <a:pt x="93" y="50"/>
                  </a:lnTo>
                  <a:lnTo>
                    <a:pt x="75" y="28"/>
                  </a:lnTo>
                  <a:lnTo>
                    <a:pt x="58" y="0"/>
                  </a:lnTo>
                  <a:close/>
                </a:path>
              </a:pathLst>
            </a:custGeom>
            <a:solidFill>
              <a:srgbClr val="e6c99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68" name=""/>
            <p:cNvSpPr/>
            <p:nvPr/>
          </p:nvSpPr>
          <p:spPr>
            <a:xfrm>
              <a:off x="4185720" y="3227400"/>
              <a:ext cx="45360" cy="70200"/>
            </a:xfrm>
            <a:custGeom>
              <a:avLst/>
              <a:gdLst/>
              <a:ahLst/>
              <a:rect l="l" t="t" r="r" b="b"/>
              <a:pathLst>
                <a:path w="197" h="286">
                  <a:moveTo>
                    <a:pt x="46" y="0"/>
                  </a:moveTo>
                  <a:lnTo>
                    <a:pt x="23" y="28"/>
                  </a:lnTo>
                  <a:lnTo>
                    <a:pt x="12" y="79"/>
                  </a:lnTo>
                  <a:lnTo>
                    <a:pt x="0" y="135"/>
                  </a:lnTo>
                  <a:lnTo>
                    <a:pt x="5" y="197"/>
                  </a:lnTo>
                  <a:lnTo>
                    <a:pt x="12" y="241"/>
                  </a:lnTo>
                  <a:lnTo>
                    <a:pt x="35" y="275"/>
                  </a:lnTo>
                  <a:lnTo>
                    <a:pt x="70" y="286"/>
                  </a:lnTo>
                  <a:lnTo>
                    <a:pt x="128" y="270"/>
                  </a:lnTo>
                  <a:lnTo>
                    <a:pt x="169" y="224"/>
                  </a:lnTo>
                  <a:lnTo>
                    <a:pt x="197" y="190"/>
                  </a:lnTo>
                  <a:lnTo>
                    <a:pt x="197" y="146"/>
                  </a:lnTo>
                  <a:lnTo>
                    <a:pt x="197" y="112"/>
                  </a:lnTo>
                  <a:lnTo>
                    <a:pt x="169" y="72"/>
                  </a:lnTo>
                  <a:lnTo>
                    <a:pt x="139" y="45"/>
                  </a:lnTo>
                  <a:lnTo>
                    <a:pt x="93" y="16"/>
                  </a:lnTo>
                  <a:lnTo>
                    <a:pt x="46" y="0"/>
                  </a:lnTo>
                  <a:close/>
                </a:path>
              </a:pathLst>
            </a:custGeom>
            <a:solidFill>
              <a:srgbClr val="e6b3a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69" name=""/>
            <p:cNvSpPr/>
            <p:nvPr/>
          </p:nvSpPr>
          <p:spPr>
            <a:xfrm>
              <a:off x="4248000" y="3225960"/>
              <a:ext cx="60480" cy="98640"/>
            </a:xfrm>
            <a:custGeom>
              <a:avLst/>
              <a:gdLst/>
              <a:ahLst/>
              <a:rect l="l" t="t" r="r" b="b"/>
              <a:pathLst>
                <a:path w="261" h="394">
                  <a:moveTo>
                    <a:pt x="122" y="6"/>
                  </a:moveTo>
                  <a:lnTo>
                    <a:pt x="46" y="22"/>
                  </a:lnTo>
                  <a:lnTo>
                    <a:pt x="11" y="61"/>
                  </a:lnTo>
                  <a:lnTo>
                    <a:pt x="0" y="118"/>
                  </a:lnTo>
                  <a:lnTo>
                    <a:pt x="11" y="186"/>
                  </a:lnTo>
                  <a:lnTo>
                    <a:pt x="28" y="247"/>
                  </a:lnTo>
                  <a:lnTo>
                    <a:pt x="69" y="309"/>
                  </a:lnTo>
                  <a:lnTo>
                    <a:pt x="104" y="360"/>
                  </a:lnTo>
                  <a:lnTo>
                    <a:pt x="145" y="394"/>
                  </a:lnTo>
                  <a:lnTo>
                    <a:pt x="168" y="360"/>
                  </a:lnTo>
                  <a:lnTo>
                    <a:pt x="203" y="338"/>
                  </a:lnTo>
                  <a:lnTo>
                    <a:pt x="226" y="304"/>
                  </a:lnTo>
                  <a:lnTo>
                    <a:pt x="249" y="276"/>
                  </a:lnTo>
                  <a:lnTo>
                    <a:pt x="256" y="220"/>
                  </a:lnTo>
                  <a:lnTo>
                    <a:pt x="261" y="169"/>
                  </a:lnTo>
                  <a:lnTo>
                    <a:pt x="256" y="124"/>
                  </a:lnTo>
                  <a:lnTo>
                    <a:pt x="244" y="85"/>
                  </a:lnTo>
                  <a:lnTo>
                    <a:pt x="221" y="46"/>
                  </a:lnTo>
                  <a:lnTo>
                    <a:pt x="198" y="17"/>
                  </a:lnTo>
                  <a:lnTo>
                    <a:pt x="162" y="0"/>
                  </a:lnTo>
                  <a:lnTo>
                    <a:pt x="122" y="6"/>
                  </a:lnTo>
                  <a:close/>
                </a:path>
              </a:pathLst>
            </a:custGeom>
            <a:solidFill>
              <a:srgbClr val="e3b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827240" y="3228480"/>
              <a:ext cx="96840" cy="200160"/>
            </a:xfrm>
            <a:custGeom>
              <a:avLst/>
              <a:gdLst/>
              <a:ahLst/>
              <a:rect l="l" t="t" r="r" b="b"/>
              <a:pathLst>
                <a:path w="425" h="787">
                  <a:moveTo>
                    <a:pt x="151" y="0"/>
                  </a:moveTo>
                  <a:lnTo>
                    <a:pt x="105" y="73"/>
                  </a:lnTo>
                  <a:lnTo>
                    <a:pt x="58" y="191"/>
                  </a:lnTo>
                  <a:lnTo>
                    <a:pt x="18" y="326"/>
                  </a:lnTo>
                  <a:lnTo>
                    <a:pt x="0" y="473"/>
                  </a:lnTo>
                  <a:lnTo>
                    <a:pt x="0" y="601"/>
                  </a:lnTo>
                  <a:lnTo>
                    <a:pt x="41" y="708"/>
                  </a:lnTo>
                  <a:lnTo>
                    <a:pt x="122" y="775"/>
                  </a:lnTo>
                  <a:lnTo>
                    <a:pt x="261" y="787"/>
                  </a:lnTo>
                  <a:lnTo>
                    <a:pt x="332" y="748"/>
                  </a:lnTo>
                  <a:lnTo>
                    <a:pt x="384" y="691"/>
                  </a:lnTo>
                  <a:lnTo>
                    <a:pt x="413" y="607"/>
                  </a:lnTo>
                  <a:lnTo>
                    <a:pt x="425" y="512"/>
                  </a:lnTo>
                  <a:lnTo>
                    <a:pt x="418" y="405"/>
                  </a:lnTo>
                  <a:lnTo>
                    <a:pt x="402" y="309"/>
                  </a:lnTo>
                  <a:lnTo>
                    <a:pt x="378" y="219"/>
                  </a:lnTo>
                  <a:lnTo>
                    <a:pt x="355" y="157"/>
                  </a:lnTo>
                  <a:lnTo>
                    <a:pt x="314" y="101"/>
                  </a:lnTo>
                  <a:lnTo>
                    <a:pt x="268" y="61"/>
                  </a:lnTo>
                  <a:lnTo>
                    <a:pt x="210" y="29"/>
                  </a:lnTo>
                  <a:lnTo>
                    <a:pt x="151" y="0"/>
                  </a:lnTo>
                  <a:close/>
                </a:path>
              </a:pathLst>
            </a:custGeom>
            <a:solidFill>
              <a:srgbClr val="e6b3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13840" y="3234240"/>
              <a:ext cx="41040" cy="73080"/>
            </a:xfrm>
            <a:custGeom>
              <a:avLst/>
              <a:gdLst/>
              <a:ahLst/>
              <a:rect l="l" t="t" r="r" b="b"/>
              <a:pathLst>
                <a:path w="180" h="292">
                  <a:moveTo>
                    <a:pt x="28" y="0"/>
                  </a:moveTo>
                  <a:lnTo>
                    <a:pt x="12" y="51"/>
                  </a:lnTo>
                  <a:lnTo>
                    <a:pt x="5" y="107"/>
                  </a:lnTo>
                  <a:lnTo>
                    <a:pt x="0" y="140"/>
                  </a:lnTo>
                  <a:lnTo>
                    <a:pt x="12" y="179"/>
                  </a:lnTo>
                  <a:lnTo>
                    <a:pt x="23" y="208"/>
                  </a:lnTo>
                  <a:lnTo>
                    <a:pt x="53" y="236"/>
                  </a:lnTo>
                  <a:lnTo>
                    <a:pt x="93" y="258"/>
                  </a:lnTo>
                  <a:lnTo>
                    <a:pt x="151" y="292"/>
                  </a:lnTo>
                  <a:lnTo>
                    <a:pt x="162" y="242"/>
                  </a:lnTo>
                  <a:lnTo>
                    <a:pt x="180" y="196"/>
                  </a:lnTo>
                  <a:lnTo>
                    <a:pt x="174" y="146"/>
                  </a:lnTo>
                  <a:lnTo>
                    <a:pt x="174" y="107"/>
                  </a:lnTo>
                  <a:lnTo>
                    <a:pt x="151" y="67"/>
                  </a:lnTo>
                  <a:lnTo>
                    <a:pt x="122" y="34"/>
                  </a:lnTo>
                  <a:lnTo>
                    <a:pt x="81" y="12"/>
                  </a:lnTo>
                  <a:lnTo>
                    <a:pt x="28" y="0"/>
                  </a:lnTo>
                  <a:close/>
                </a:path>
              </a:pathLst>
            </a:custGeom>
            <a:solidFill>
              <a:srgbClr val="e6c999"/>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2" name=""/>
            <p:cNvSpPr/>
            <p:nvPr/>
          </p:nvSpPr>
          <p:spPr>
            <a:xfrm>
              <a:off x="3954600" y="3234240"/>
              <a:ext cx="33120" cy="58680"/>
            </a:xfrm>
            <a:custGeom>
              <a:avLst/>
              <a:gdLst/>
              <a:ahLst/>
              <a:rect l="l" t="t" r="r" b="b"/>
              <a:pathLst>
                <a:path w="145" h="230">
                  <a:moveTo>
                    <a:pt x="34" y="0"/>
                  </a:moveTo>
                  <a:lnTo>
                    <a:pt x="6" y="73"/>
                  </a:lnTo>
                  <a:lnTo>
                    <a:pt x="0" y="129"/>
                  </a:lnTo>
                  <a:lnTo>
                    <a:pt x="6" y="169"/>
                  </a:lnTo>
                  <a:lnTo>
                    <a:pt x="29" y="202"/>
                  </a:lnTo>
                  <a:lnTo>
                    <a:pt x="70" y="230"/>
                  </a:lnTo>
                  <a:lnTo>
                    <a:pt x="87" y="230"/>
                  </a:lnTo>
                  <a:lnTo>
                    <a:pt x="117" y="196"/>
                  </a:lnTo>
                  <a:lnTo>
                    <a:pt x="140" y="169"/>
                  </a:lnTo>
                  <a:lnTo>
                    <a:pt x="145" y="135"/>
                  </a:lnTo>
                  <a:lnTo>
                    <a:pt x="145" y="107"/>
                  </a:lnTo>
                  <a:lnTo>
                    <a:pt x="128" y="73"/>
                  </a:lnTo>
                  <a:lnTo>
                    <a:pt x="105" y="39"/>
                  </a:lnTo>
                  <a:lnTo>
                    <a:pt x="70" y="12"/>
                  </a:lnTo>
                  <a:lnTo>
                    <a:pt x="34" y="0"/>
                  </a:lnTo>
                  <a:close/>
                </a:path>
              </a:pathLst>
            </a:custGeom>
            <a:solidFill>
              <a:srgbClr val="f2ccb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3" name=""/>
            <p:cNvSpPr/>
            <p:nvPr/>
          </p:nvSpPr>
          <p:spPr>
            <a:xfrm>
              <a:off x="4672440" y="3234240"/>
              <a:ext cx="82800" cy="136080"/>
            </a:xfrm>
            <a:custGeom>
              <a:avLst/>
              <a:gdLst/>
              <a:ahLst/>
              <a:rect l="l" t="t" r="r" b="b"/>
              <a:pathLst>
                <a:path w="355" h="539">
                  <a:moveTo>
                    <a:pt x="157" y="0"/>
                  </a:moveTo>
                  <a:lnTo>
                    <a:pt x="87" y="27"/>
                  </a:lnTo>
                  <a:lnTo>
                    <a:pt x="41" y="101"/>
                  </a:lnTo>
                  <a:lnTo>
                    <a:pt x="6" y="191"/>
                  </a:lnTo>
                  <a:lnTo>
                    <a:pt x="0" y="297"/>
                  </a:lnTo>
                  <a:lnTo>
                    <a:pt x="11" y="393"/>
                  </a:lnTo>
                  <a:lnTo>
                    <a:pt x="46" y="478"/>
                  </a:lnTo>
                  <a:lnTo>
                    <a:pt x="99" y="528"/>
                  </a:lnTo>
                  <a:lnTo>
                    <a:pt x="180" y="539"/>
                  </a:lnTo>
                  <a:lnTo>
                    <a:pt x="256" y="495"/>
                  </a:lnTo>
                  <a:lnTo>
                    <a:pt x="313" y="422"/>
                  </a:lnTo>
                  <a:lnTo>
                    <a:pt x="343" y="326"/>
                  </a:lnTo>
                  <a:lnTo>
                    <a:pt x="355" y="230"/>
                  </a:lnTo>
                  <a:lnTo>
                    <a:pt x="331" y="129"/>
                  </a:lnTo>
                  <a:lnTo>
                    <a:pt x="297" y="51"/>
                  </a:lnTo>
                  <a:lnTo>
                    <a:pt x="232" y="0"/>
                  </a:lnTo>
                  <a:lnTo>
                    <a:pt x="157" y="0"/>
                  </a:lnTo>
                  <a:close/>
                </a:path>
              </a:pathLst>
            </a:custGeom>
            <a:solidFill>
              <a:srgbClr val="f2cc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650400" y="3236760"/>
              <a:ext cx="31680" cy="55800"/>
            </a:xfrm>
            <a:custGeom>
              <a:avLst/>
              <a:gdLst/>
              <a:ahLst/>
              <a:rect l="l" t="t" r="r" b="b"/>
              <a:pathLst>
                <a:path w="139" h="218">
                  <a:moveTo>
                    <a:pt x="64" y="0"/>
                  </a:moveTo>
                  <a:lnTo>
                    <a:pt x="23" y="39"/>
                  </a:lnTo>
                  <a:lnTo>
                    <a:pt x="6" y="89"/>
                  </a:lnTo>
                  <a:lnTo>
                    <a:pt x="0" y="111"/>
                  </a:lnTo>
                  <a:lnTo>
                    <a:pt x="0" y="145"/>
                  </a:lnTo>
                  <a:lnTo>
                    <a:pt x="0" y="174"/>
                  </a:lnTo>
                  <a:lnTo>
                    <a:pt x="6" y="218"/>
                  </a:lnTo>
                  <a:lnTo>
                    <a:pt x="17" y="213"/>
                  </a:lnTo>
                  <a:lnTo>
                    <a:pt x="47" y="213"/>
                  </a:lnTo>
                  <a:lnTo>
                    <a:pt x="70" y="207"/>
                  </a:lnTo>
                  <a:lnTo>
                    <a:pt x="75" y="207"/>
                  </a:lnTo>
                  <a:lnTo>
                    <a:pt x="93" y="174"/>
                  </a:lnTo>
                  <a:lnTo>
                    <a:pt x="116" y="145"/>
                  </a:lnTo>
                  <a:lnTo>
                    <a:pt x="128" y="117"/>
                  </a:lnTo>
                  <a:lnTo>
                    <a:pt x="139" y="95"/>
                  </a:lnTo>
                  <a:lnTo>
                    <a:pt x="133" y="66"/>
                  </a:lnTo>
                  <a:lnTo>
                    <a:pt x="121" y="44"/>
                  </a:lnTo>
                  <a:lnTo>
                    <a:pt x="98" y="22"/>
                  </a:lnTo>
                  <a:lnTo>
                    <a:pt x="64" y="0"/>
                  </a:lnTo>
                  <a:close/>
                </a:path>
              </a:pathLst>
            </a:custGeom>
            <a:solidFill>
              <a:srgbClr val="e6c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5" name=""/>
            <p:cNvSpPr/>
            <p:nvPr/>
          </p:nvSpPr>
          <p:spPr>
            <a:xfrm>
              <a:off x="4059720" y="3236760"/>
              <a:ext cx="36000" cy="63720"/>
            </a:xfrm>
            <a:custGeom>
              <a:avLst/>
              <a:gdLst/>
              <a:ahLst/>
              <a:rect l="l" t="t" r="r" b="b"/>
              <a:pathLst>
                <a:path w="156" h="252">
                  <a:moveTo>
                    <a:pt x="34" y="0"/>
                  </a:moveTo>
                  <a:lnTo>
                    <a:pt x="16" y="32"/>
                  </a:lnTo>
                  <a:lnTo>
                    <a:pt x="11" y="83"/>
                  </a:lnTo>
                  <a:lnTo>
                    <a:pt x="0" y="134"/>
                  </a:lnTo>
                  <a:lnTo>
                    <a:pt x="5" y="184"/>
                  </a:lnTo>
                  <a:lnTo>
                    <a:pt x="5" y="218"/>
                  </a:lnTo>
                  <a:lnTo>
                    <a:pt x="28" y="246"/>
                  </a:lnTo>
                  <a:lnTo>
                    <a:pt x="51" y="252"/>
                  </a:lnTo>
                  <a:lnTo>
                    <a:pt x="99" y="241"/>
                  </a:lnTo>
                  <a:lnTo>
                    <a:pt x="133" y="207"/>
                  </a:lnTo>
                  <a:lnTo>
                    <a:pt x="156" y="174"/>
                  </a:lnTo>
                  <a:lnTo>
                    <a:pt x="156" y="140"/>
                  </a:lnTo>
                  <a:lnTo>
                    <a:pt x="156" y="106"/>
                  </a:lnTo>
                  <a:lnTo>
                    <a:pt x="133" y="72"/>
                  </a:lnTo>
                  <a:lnTo>
                    <a:pt x="110" y="44"/>
                  </a:lnTo>
                  <a:lnTo>
                    <a:pt x="69" y="15"/>
                  </a:lnTo>
                  <a:lnTo>
                    <a:pt x="34" y="0"/>
                  </a:lnTo>
                  <a:close/>
                </a:path>
              </a:pathLst>
            </a:custGeom>
            <a:solidFill>
              <a:srgbClr val="e3bfb8"/>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6" name=""/>
            <p:cNvSpPr/>
            <p:nvPr/>
          </p:nvSpPr>
          <p:spPr>
            <a:xfrm>
              <a:off x="3376800" y="3239280"/>
              <a:ext cx="27360" cy="45360"/>
            </a:xfrm>
            <a:custGeom>
              <a:avLst/>
              <a:gdLst/>
              <a:ahLst/>
              <a:rect l="l" t="t" r="r" b="b"/>
              <a:pathLst>
                <a:path w="122" h="180">
                  <a:moveTo>
                    <a:pt x="53" y="0"/>
                  </a:moveTo>
                  <a:lnTo>
                    <a:pt x="23" y="29"/>
                  </a:lnTo>
                  <a:lnTo>
                    <a:pt x="12" y="51"/>
                  </a:lnTo>
                  <a:lnTo>
                    <a:pt x="0" y="68"/>
                  </a:lnTo>
                  <a:lnTo>
                    <a:pt x="7" y="90"/>
                  </a:lnTo>
                  <a:lnTo>
                    <a:pt x="7" y="101"/>
                  </a:lnTo>
                  <a:lnTo>
                    <a:pt x="12" y="124"/>
                  </a:lnTo>
                  <a:lnTo>
                    <a:pt x="23" y="140"/>
                  </a:lnTo>
                  <a:lnTo>
                    <a:pt x="41" y="180"/>
                  </a:lnTo>
                  <a:lnTo>
                    <a:pt x="88" y="180"/>
                  </a:lnTo>
                  <a:lnTo>
                    <a:pt x="117" y="174"/>
                  </a:lnTo>
                  <a:lnTo>
                    <a:pt x="122" y="152"/>
                  </a:lnTo>
                  <a:lnTo>
                    <a:pt x="117" y="130"/>
                  </a:lnTo>
                  <a:lnTo>
                    <a:pt x="94" y="96"/>
                  </a:lnTo>
                  <a:lnTo>
                    <a:pt x="76" y="62"/>
                  </a:lnTo>
                  <a:lnTo>
                    <a:pt x="58" y="29"/>
                  </a:lnTo>
                  <a:lnTo>
                    <a:pt x="53" y="0"/>
                  </a:lnTo>
                  <a:close/>
                </a:path>
              </a:pathLst>
            </a:custGeom>
            <a:solidFill>
              <a:srgbClr val="faecc6"/>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77" name=""/>
            <p:cNvSpPr/>
            <p:nvPr/>
          </p:nvSpPr>
          <p:spPr>
            <a:xfrm>
              <a:off x="4126320" y="3239280"/>
              <a:ext cx="26280" cy="72000"/>
            </a:xfrm>
            <a:custGeom>
              <a:avLst/>
              <a:gdLst/>
              <a:ahLst/>
              <a:rect l="l" t="t" r="r" b="b"/>
              <a:pathLst>
                <a:path w="111" h="282">
                  <a:moveTo>
                    <a:pt x="35" y="0"/>
                  </a:moveTo>
                  <a:lnTo>
                    <a:pt x="17" y="39"/>
                  </a:lnTo>
                  <a:lnTo>
                    <a:pt x="6" y="79"/>
                  </a:lnTo>
                  <a:lnTo>
                    <a:pt x="0" y="113"/>
                  </a:lnTo>
                  <a:lnTo>
                    <a:pt x="0" y="152"/>
                  </a:lnTo>
                  <a:lnTo>
                    <a:pt x="0" y="186"/>
                  </a:lnTo>
                  <a:lnTo>
                    <a:pt x="12" y="220"/>
                  </a:lnTo>
                  <a:lnTo>
                    <a:pt x="29" y="248"/>
                  </a:lnTo>
                  <a:lnTo>
                    <a:pt x="63" y="282"/>
                  </a:lnTo>
                  <a:lnTo>
                    <a:pt x="75" y="242"/>
                  </a:lnTo>
                  <a:lnTo>
                    <a:pt x="88" y="203"/>
                  </a:lnTo>
                  <a:lnTo>
                    <a:pt x="98" y="164"/>
                  </a:lnTo>
                  <a:lnTo>
                    <a:pt x="111" y="130"/>
                  </a:lnTo>
                  <a:lnTo>
                    <a:pt x="104" y="90"/>
                  </a:lnTo>
                  <a:lnTo>
                    <a:pt x="98" y="56"/>
                  </a:lnTo>
                  <a:lnTo>
                    <a:pt x="70" y="22"/>
                  </a:lnTo>
                  <a:lnTo>
                    <a:pt x="35" y="0"/>
                  </a:lnTo>
                  <a:close/>
                </a:path>
              </a:pathLst>
            </a:custGeom>
            <a:solidFill>
              <a:srgbClr val="f2ccb3"/>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78" name=""/>
            <p:cNvSpPr/>
            <p:nvPr/>
          </p:nvSpPr>
          <p:spPr>
            <a:xfrm>
              <a:off x="3261960" y="3243600"/>
              <a:ext cx="77400" cy="171720"/>
            </a:xfrm>
            <a:custGeom>
              <a:avLst/>
              <a:gdLst/>
              <a:ahLst/>
              <a:rect l="l" t="t" r="r" b="b"/>
              <a:pathLst>
                <a:path w="332" h="685">
                  <a:moveTo>
                    <a:pt x="152" y="0"/>
                  </a:moveTo>
                  <a:lnTo>
                    <a:pt x="180" y="5"/>
                  </a:lnTo>
                  <a:lnTo>
                    <a:pt x="215" y="17"/>
                  </a:lnTo>
                  <a:lnTo>
                    <a:pt x="238" y="27"/>
                  </a:lnTo>
                  <a:lnTo>
                    <a:pt x="268" y="50"/>
                  </a:lnTo>
                  <a:lnTo>
                    <a:pt x="286" y="95"/>
                  </a:lnTo>
                  <a:lnTo>
                    <a:pt x="286" y="152"/>
                  </a:lnTo>
                  <a:lnTo>
                    <a:pt x="286" y="174"/>
                  </a:lnTo>
                  <a:lnTo>
                    <a:pt x="286" y="208"/>
                  </a:lnTo>
                  <a:lnTo>
                    <a:pt x="286" y="236"/>
                  </a:lnTo>
                  <a:lnTo>
                    <a:pt x="291" y="270"/>
                  </a:lnTo>
                  <a:lnTo>
                    <a:pt x="297" y="314"/>
                  </a:lnTo>
                  <a:lnTo>
                    <a:pt x="314" y="382"/>
                  </a:lnTo>
                  <a:lnTo>
                    <a:pt x="320" y="449"/>
                  </a:lnTo>
                  <a:lnTo>
                    <a:pt x="332" y="522"/>
                  </a:lnTo>
                  <a:lnTo>
                    <a:pt x="326" y="579"/>
                  </a:lnTo>
                  <a:lnTo>
                    <a:pt x="303" y="630"/>
                  </a:lnTo>
                  <a:lnTo>
                    <a:pt x="256" y="663"/>
                  </a:lnTo>
                  <a:lnTo>
                    <a:pt x="187" y="685"/>
                  </a:lnTo>
                  <a:lnTo>
                    <a:pt x="81" y="669"/>
                  </a:lnTo>
                  <a:lnTo>
                    <a:pt x="30" y="640"/>
                  </a:lnTo>
                  <a:lnTo>
                    <a:pt x="0" y="589"/>
                  </a:lnTo>
                  <a:lnTo>
                    <a:pt x="7" y="528"/>
                  </a:lnTo>
                  <a:lnTo>
                    <a:pt x="18" y="461"/>
                  </a:lnTo>
                  <a:lnTo>
                    <a:pt x="41" y="393"/>
                  </a:lnTo>
                  <a:lnTo>
                    <a:pt x="65" y="331"/>
                  </a:lnTo>
                  <a:lnTo>
                    <a:pt x="81" y="287"/>
                  </a:lnTo>
                  <a:lnTo>
                    <a:pt x="81" y="230"/>
                  </a:lnTo>
                  <a:lnTo>
                    <a:pt x="88" y="191"/>
                  </a:lnTo>
                  <a:lnTo>
                    <a:pt x="88" y="157"/>
                  </a:lnTo>
                  <a:lnTo>
                    <a:pt x="93" y="123"/>
                  </a:lnTo>
                  <a:lnTo>
                    <a:pt x="93" y="89"/>
                  </a:lnTo>
                  <a:lnTo>
                    <a:pt x="111" y="61"/>
                  </a:lnTo>
                  <a:lnTo>
                    <a:pt x="123" y="27"/>
                  </a:lnTo>
                  <a:lnTo>
                    <a:pt x="15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462480" y="3243600"/>
              <a:ext cx="15120" cy="35640"/>
            </a:xfrm>
            <a:custGeom>
              <a:avLst/>
              <a:gdLst/>
              <a:ahLst/>
              <a:rect l="l" t="t" r="r" b="b"/>
              <a:pathLst>
                <a:path w="71" h="145">
                  <a:moveTo>
                    <a:pt x="29" y="0"/>
                  </a:moveTo>
                  <a:lnTo>
                    <a:pt x="6" y="44"/>
                  </a:lnTo>
                  <a:lnTo>
                    <a:pt x="0" y="73"/>
                  </a:lnTo>
                  <a:lnTo>
                    <a:pt x="13" y="101"/>
                  </a:lnTo>
                  <a:lnTo>
                    <a:pt x="29" y="145"/>
                  </a:lnTo>
                  <a:lnTo>
                    <a:pt x="41" y="112"/>
                  </a:lnTo>
                  <a:lnTo>
                    <a:pt x="47" y="89"/>
                  </a:lnTo>
                  <a:lnTo>
                    <a:pt x="53" y="56"/>
                  </a:lnTo>
                  <a:lnTo>
                    <a:pt x="71" y="17"/>
                  </a:lnTo>
                  <a:lnTo>
                    <a:pt x="29" y="0"/>
                  </a:lnTo>
                  <a:close/>
                </a:path>
              </a:pathLst>
            </a:custGeom>
            <a:solidFill>
              <a:srgbClr val="faecc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0" name=""/>
            <p:cNvSpPr/>
            <p:nvPr/>
          </p:nvSpPr>
          <p:spPr>
            <a:xfrm>
              <a:off x="4351680" y="3243600"/>
              <a:ext cx="60480" cy="86400"/>
            </a:xfrm>
            <a:custGeom>
              <a:avLst/>
              <a:gdLst/>
              <a:ahLst/>
              <a:rect l="l" t="t" r="r" b="b"/>
              <a:pathLst>
                <a:path w="262" h="348">
                  <a:moveTo>
                    <a:pt x="70" y="0"/>
                  </a:moveTo>
                  <a:lnTo>
                    <a:pt x="40" y="50"/>
                  </a:lnTo>
                  <a:lnTo>
                    <a:pt x="24" y="118"/>
                  </a:lnTo>
                  <a:lnTo>
                    <a:pt x="0" y="185"/>
                  </a:lnTo>
                  <a:lnTo>
                    <a:pt x="0" y="253"/>
                  </a:lnTo>
                  <a:lnTo>
                    <a:pt x="6" y="304"/>
                  </a:lnTo>
                  <a:lnTo>
                    <a:pt x="29" y="337"/>
                  </a:lnTo>
                  <a:lnTo>
                    <a:pt x="81" y="348"/>
                  </a:lnTo>
                  <a:lnTo>
                    <a:pt x="163" y="326"/>
                  </a:lnTo>
                  <a:lnTo>
                    <a:pt x="215" y="287"/>
                  </a:lnTo>
                  <a:lnTo>
                    <a:pt x="250" y="241"/>
                  </a:lnTo>
                  <a:lnTo>
                    <a:pt x="262" y="196"/>
                  </a:lnTo>
                  <a:lnTo>
                    <a:pt x="256" y="152"/>
                  </a:lnTo>
                  <a:lnTo>
                    <a:pt x="227" y="101"/>
                  </a:lnTo>
                  <a:lnTo>
                    <a:pt x="192" y="56"/>
                  </a:lnTo>
                  <a:lnTo>
                    <a:pt x="134" y="22"/>
                  </a:lnTo>
                  <a:lnTo>
                    <a:pt x="70" y="0"/>
                  </a:lnTo>
                  <a:close/>
                </a:path>
              </a:pathLst>
            </a:custGeom>
            <a:solidFill>
              <a:srgbClr val="f2cc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81" name=""/>
            <p:cNvSpPr/>
            <p:nvPr/>
          </p:nvSpPr>
          <p:spPr>
            <a:xfrm>
              <a:off x="3788640" y="3247560"/>
              <a:ext cx="13680" cy="47880"/>
            </a:xfrm>
            <a:custGeom>
              <a:avLst/>
              <a:gdLst/>
              <a:ahLst/>
              <a:rect l="l" t="t" r="r" b="b"/>
              <a:pathLst>
                <a:path w="58" h="191">
                  <a:moveTo>
                    <a:pt x="47" y="0"/>
                  </a:moveTo>
                  <a:lnTo>
                    <a:pt x="18" y="16"/>
                  </a:lnTo>
                  <a:lnTo>
                    <a:pt x="7" y="39"/>
                  </a:lnTo>
                  <a:lnTo>
                    <a:pt x="0" y="67"/>
                  </a:lnTo>
                  <a:lnTo>
                    <a:pt x="12" y="101"/>
                  </a:lnTo>
                  <a:lnTo>
                    <a:pt x="35" y="151"/>
                  </a:lnTo>
                  <a:lnTo>
                    <a:pt x="58" y="191"/>
                  </a:lnTo>
                  <a:lnTo>
                    <a:pt x="53" y="168"/>
                  </a:lnTo>
                  <a:lnTo>
                    <a:pt x="53" y="140"/>
                  </a:lnTo>
                  <a:lnTo>
                    <a:pt x="53" y="106"/>
                  </a:lnTo>
                  <a:lnTo>
                    <a:pt x="53" y="78"/>
                  </a:lnTo>
                  <a:lnTo>
                    <a:pt x="47" y="44"/>
                  </a:lnTo>
                  <a:lnTo>
                    <a:pt x="47" y="16"/>
                  </a:lnTo>
                  <a:lnTo>
                    <a:pt x="47" y="0"/>
                  </a:lnTo>
                  <a:close/>
                </a:path>
              </a:pathLst>
            </a:custGeom>
            <a:solidFill>
              <a:srgbClr val="f8f6e3"/>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2" name=""/>
            <p:cNvSpPr/>
            <p:nvPr/>
          </p:nvSpPr>
          <p:spPr>
            <a:xfrm>
              <a:off x="3602160" y="3250080"/>
              <a:ext cx="34200" cy="70200"/>
            </a:xfrm>
            <a:custGeom>
              <a:avLst/>
              <a:gdLst/>
              <a:ahLst/>
              <a:rect l="l" t="t" r="r" b="b"/>
              <a:pathLst>
                <a:path w="145" h="287">
                  <a:moveTo>
                    <a:pt x="87" y="0"/>
                  </a:moveTo>
                  <a:lnTo>
                    <a:pt x="35" y="46"/>
                  </a:lnTo>
                  <a:lnTo>
                    <a:pt x="11" y="91"/>
                  </a:lnTo>
                  <a:lnTo>
                    <a:pt x="0" y="135"/>
                  </a:lnTo>
                  <a:lnTo>
                    <a:pt x="11" y="186"/>
                  </a:lnTo>
                  <a:lnTo>
                    <a:pt x="23" y="220"/>
                  </a:lnTo>
                  <a:lnTo>
                    <a:pt x="35" y="253"/>
                  </a:lnTo>
                  <a:lnTo>
                    <a:pt x="46" y="277"/>
                  </a:lnTo>
                  <a:lnTo>
                    <a:pt x="58" y="287"/>
                  </a:lnTo>
                  <a:lnTo>
                    <a:pt x="87" y="253"/>
                  </a:lnTo>
                  <a:lnTo>
                    <a:pt x="116" y="226"/>
                  </a:lnTo>
                  <a:lnTo>
                    <a:pt x="127" y="197"/>
                  </a:lnTo>
                  <a:lnTo>
                    <a:pt x="139" y="175"/>
                  </a:lnTo>
                  <a:lnTo>
                    <a:pt x="139" y="135"/>
                  </a:lnTo>
                  <a:lnTo>
                    <a:pt x="145" y="101"/>
                  </a:lnTo>
                  <a:lnTo>
                    <a:pt x="139" y="57"/>
                  </a:lnTo>
                  <a:lnTo>
                    <a:pt x="139" y="12"/>
                  </a:lnTo>
                  <a:lnTo>
                    <a:pt x="87" y="0"/>
                  </a:lnTo>
                  <a:close/>
                </a:path>
              </a:pathLst>
            </a:custGeom>
            <a:solidFill>
              <a:srgbClr val="e6c999"/>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3" name=""/>
            <p:cNvSpPr/>
            <p:nvPr/>
          </p:nvSpPr>
          <p:spPr>
            <a:xfrm>
              <a:off x="3701520" y="3251520"/>
              <a:ext cx="37080" cy="64080"/>
            </a:xfrm>
            <a:custGeom>
              <a:avLst/>
              <a:gdLst/>
              <a:ahLst/>
              <a:rect l="l" t="t" r="r" b="b"/>
              <a:pathLst>
                <a:path w="164" h="248">
                  <a:moveTo>
                    <a:pt x="41" y="0"/>
                  </a:moveTo>
                  <a:lnTo>
                    <a:pt x="24" y="28"/>
                  </a:lnTo>
                  <a:lnTo>
                    <a:pt x="12" y="79"/>
                  </a:lnTo>
                  <a:lnTo>
                    <a:pt x="0" y="123"/>
                  </a:lnTo>
                  <a:lnTo>
                    <a:pt x="0" y="174"/>
                  </a:lnTo>
                  <a:lnTo>
                    <a:pt x="0" y="208"/>
                  </a:lnTo>
                  <a:lnTo>
                    <a:pt x="18" y="236"/>
                  </a:lnTo>
                  <a:lnTo>
                    <a:pt x="47" y="248"/>
                  </a:lnTo>
                  <a:lnTo>
                    <a:pt x="94" y="248"/>
                  </a:lnTo>
                  <a:lnTo>
                    <a:pt x="134" y="219"/>
                  </a:lnTo>
                  <a:lnTo>
                    <a:pt x="157" y="191"/>
                  </a:lnTo>
                  <a:lnTo>
                    <a:pt x="164" y="152"/>
                  </a:lnTo>
                  <a:lnTo>
                    <a:pt x="164" y="118"/>
                  </a:lnTo>
                  <a:lnTo>
                    <a:pt x="140" y="79"/>
                  </a:lnTo>
                  <a:lnTo>
                    <a:pt x="111" y="50"/>
                  </a:lnTo>
                  <a:lnTo>
                    <a:pt x="76" y="17"/>
                  </a:lnTo>
                  <a:lnTo>
                    <a:pt x="41" y="0"/>
                  </a:lnTo>
                  <a:close/>
                </a:path>
              </a:pathLst>
            </a:custGeom>
            <a:solidFill>
              <a:srgbClr val="e6c999"/>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184" name=""/>
            <p:cNvSpPr/>
            <p:nvPr/>
          </p:nvSpPr>
          <p:spPr>
            <a:xfrm>
              <a:off x="3291120" y="3259440"/>
              <a:ext cx="23400" cy="37080"/>
            </a:xfrm>
            <a:custGeom>
              <a:avLst/>
              <a:gdLst/>
              <a:ahLst/>
              <a:rect l="l" t="t" r="r" b="b"/>
              <a:pathLst>
                <a:path w="104" h="152">
                  <a:moveTo>
                    <a:pt x="29" y="0"/>
                  </a:moveTo>
                  <a:lnTo>
                    <a:pt x="11" y="28"/>
                  </a:lnTo>
                  <a:lnTo>
                    <a:pt x="6" y="61"/>
                  </a:lnTo>
                  <a:lnTo>
                    <a:pt x="0" y="85"/>
                  </a:lnTo>
                  <a:lnTo>
                    <a:pt x="6" y="107"/>
                  </a:lnTo>
                  <a:lnTo>
                    <a:pt x="6" y="118"/>
                  </a:lnTo>
                  <a:lnTo>
                    <a:pt x="23" y="129"/>
                  </a:lnTo>
                  <a:lnTo>
                    <a:pt x="46" y="141"/>
                  </a:lnTo>
                  <a:lnTo>
                    <a:pt x="81" y="152"/>
                  </a:lnTo>
                  <a:lnTo>
                    <a:pt x="87" y="118"/>
                  </a:lnTo>
                  <a:lnTo>
                    <a:pt x="99" y="95"/>
                  </a:lnTo>
                  <a:lnTo>
                    <a:pt x="99" y="78"/>
                  </a:lnTo>
                  <a:lnTo>
                    <a:pt x="104" y="61"/>
                  </a:lnTo>
                  <a:lnTo>
                    <a:pt x="99" y="45"/>
                  </a:lnTo>
                  <a:lnTo>
                    <a:pt x="87" y="28"/>
                  </a:lnTo>
                  <a:lnTo>
                    <a:pt x="64" y="11"/>
                  </a:lnTo>
                  <a:lnTo>
                    <a:pt x="29" y="0"/>
                  </a:lnTo>
                  <a:close/>
                </a:path>
              </a:pathLst>
            </a:custGeom>
            <a:solidFill>
              <a:srgbClr val="faecc6"/>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6186600" y="3259440"/>
              <a:ext cx="84240" cy="126360"/>
            </a:xfrm>
            <a:custGeom>
              <a:avLst/>
              <a:gdLst/>
              <a:ahLst/>
              <a:rect l="l" t="t" r="r" b="b"/>
              <a:pathLst>
                <a:path w="367" h="500">
                  <a:moveTo>
                    <a:pt x="222" y="0"/>
                  </a:moveTo>
                  <a:lnTo>
                    <a:pt x="99" y="22"/>
                  </a:lnTo>
                  <a:lnTo>
                    <a:pt x="36" y="73"/>
                  </a:lnTo>
                  <a:lnTo>
                    <a:pt x="0" y="135"/>
                  </a:lnTo>
                  <a:lnTo>
                    <a:pt x="7" y="213"/>
                  </a:lnTo>
                  <a:lnTo>
                    <a:pt x="30" y="287"/>
                  </a:lnTo>
                  <a:lnTo>
                    <a:pt x="65" y="365"/>
                  </a:lnTo>
                  <a:lnTo>
                    <a:pt x="106" y="438"/>
                  </a:lnTo>
                  <a:lnTo>
                    <a:pt x="146" y="500"/>
                  </a:lnTo>
                  <a:lnTo>
                    <a:pt x="164" y="478"/>
                  </a:lnTo>
                  <a:lnTo>
                    <a:pt x="193" y="461"/>
                  </a:lnTo>
                  <a:lnTo>
                    <a:pt x="228" y="433"/>
                  </a:lnTo>
                  <a:lnTo>
                    <a:pt x="263" y="404"/>
                  </a:lnTo>
                  <a:lnTo>
                    <a:pt x="314" y="343"/>
                  </a:lnTo>
                  <a:lnTo>
                    <a:pt x="355" y="298"/>
                  </a:lnTo>
                  <a:lnTo>
                    <a:pt x="362" y="242"/>
                  </a:lnTo>
                  <a:lnTo>
                    <a:pt x="367" y="191"/>
                  </a:lnTo>
                  <a:lnTo>
                    <a:pt x="362" y="135"/>
                  </a:lnTo>
                  <a:lnTo>
                    <a:pt x="350" y="90"/>
                  </a:lnTo>
                  <a:lnTo>
                    <a:pt x="327" y="45"/>
                  </a:lnTo>
                  <a:lnTo>
                    <a:pt x="297" y="17"/>
                  </a:lnTo>
                  <a:lnTo>
                    <a:pt x="263" y="0"/>
                  </a:lnTo>
                  <a:lnTo>
                    <a:pt x="222"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204000" y="3261960"/>
              <a:ext cx="53640" cy="146520"/>
            </a:xfrm>
            <a:custGeom>
              <a:avLst/>
              <a:gdLst/>
              <a:ahLst/>
              <a:rect l="l" t="t" r="r" b="b"/>
              <a:pathLst>
                <a:path w="232" h="579">
                  <a:moveTo>
                    <a:pt x="122" y="0"/>
                  </a:moveTo>
                  <a:lnTo>
                    <a:pt x="140" y="34"/>
                  </a:lnTo>
                  <a:lnTo>
                    <a:pt x="168" y="113"/>
                  </a:lnTo>
                  <a:lnTo>
                    <a:pt x="197" y="209"/>
                  </a:lnTo>
                  <a:lnTo>
                    <a:pt x="227" y="321"/>
                  </a:lnTo>
                  <a:lnTo>
                    <a:pt x="232" y="422"/>
                  </a:lnTo>
                  <a:lnTo>
                    <a:pt x="227" y="511"/>
                  </a:lnTo>
                  <a:lnTo>
                    <a:pt x="186" y="568"/>
                  </a:lnTo>
                  <a:lnTo>
                    <a:pt x="110" y="579"/>
                  </a:lnTo>
                  <a:lnTo>
                    <a:pt x="52" y="557"/>
                  </a:lnTo>
                  <a:lnTo>
                    <a:pt x="17" y="523"/>
                  </a:lnTo>
                  <a:lnTo>
                    <a:pt x="0" y="484"/>
                  </a:lnTo>
                  <a:lnTo>
                    <a:pt x="0" y="439"/>
                  </a:lnTo>
                  <a:lnTo>
                    <a:pt x="6" y="388"/>
                  </a:lnTo>
                  <a:lnTo>
                    <a:pt x="23" y="337"/>
                  </a:lnTo>
                  <a:lnTo>
                    <a:pt x="34" y="287"/>
                  </a:lnTo>
                  <a:lnTo>
                    <a:pt x="46" y="248"/>
                  </a:lnTo>
                  <a:lnTo>
                    <a:pt x="34" y="197"/>
                  </a:lnTo>
                  <a:lnTo>
                    <a:pt x="23" y="146"/>
                  </a:lnTo>
                  <a:lnTo>
                    <a:pt x="17" y="90"/>
                  </a:lnTo>
                  <a:lnTo>
                    <a:pt x="46" y="40"/>
                  </a:lnTo>
                  <a:lnTo>
                    <a:pt x="52" y="28"/>
                  </a:lnTo>
                  <a:lnTo>
                    <a:pt x="82" y="17"/>
                  </a:lnTo>
                  <a:lnTo>
                    <a:pt x="105" y="6"/>
                  </a:lnTo>
                  <a:lnTo>
                    <a:pt x="122"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996280" y="3268440"/>
              <a:ext cx="205920" cy="129240"/>
            </a:xfrm>
            <a:custGeom>
              <a:avLst/>
              <a:gdLst/>
              <a:ahLst/>
              <a:rect l="l" t="t" r="r" b="b"/>
              <a:pathLst>
                <a:path w="895" h="517">
                  <a:moveTo>
                    <a:pt x="773" y="5"/>
                  </a:moveTo>
                  <a:lnTo>
                    <a:pt x="826" y="0"/>
                  </a:lnTo>
                  <a:lnTo>
                    <a:pt x="866" y="22"/>
                  </a:lnTo>
                  <a:lnTo>
                    <a:pt x="889" y="56"/>
                  </a:lnTo>
                  <a:lnTo>
                    <a:pt x="895" y="101"/>
                  </a:lnTo>
                  <a:lnTo>
                    <a:pt x="889" y="140"/>
                  </a:lnTo>
                  <a:lnTo>
                    <a:pt x="884" y="179"/>
                  </a:lnTo>
                  <a:lnTo>
                    <a:pt x="872" y="203"/>
                  </a:lnTo>
                  <a:lnTo>
                    <a:pt x="877" y="213"/>
                  </a:lnTo>
                  <a:lnTo>
                    <a:pt x="877" y="242"/>
                  </a:lnTo>
                  <a:lnTo>
                    <a:pt x="884" y="275"/>
                  </a:lnTo>
                  <a:lnTo>
                    <a:pt x="884" y="314"/>
                  </a:lnTo>
                  <a:lnTo>
                    <a:pt x="884" y="360"/>
                  </a:lnTo>
                  <a:lnTo>
                    <a:pt x="877" y="399"/>
                  </a:lnTo>
                  <a:lnTo>
                    <a:pt x="877" y="438"/>
                  </a:lnTo>
                  <a:lnTo>
                    <a:pt x="872" y="478"/>
                  </a:lnTo>
                  <a:lnTo>
                    <a:pt x="866" y="517"/>
                  </a:lnTo>
                  <a:lnTo>
                    <a:pt x="819" y="512"/>
                  </a:lnTo>
                  <a:lnTo>
                    <a:pt x="778" y="512"/>
                  </a:lnTo>
                  <a:lnTo>
                    <a:pt x="732" y="505"/>
                  </a:lnTo>
                  <a:lnTo>
                    <a:pt x="692" y="505"/>
                  </a:lnTo>
                  <a:lnTo>
                    <a:pt x="680" y="455"/>
                  </a:lnTo>
                  <a:lnTo>
                    <a:pt x="646" y="455"/>
                  </a:lnTo>
                  <a:lnTo>
                    <a:pt x="610" y="478"/>
                  </a:lnTo>
                  <a:lnTo>
                    <a:pt x="575" y="500"/>
                  </a:lnTo>
                  <a:lnTo>
                    <a:pt x="547" y="517"/>
                  </a:lnTo>
                  <a:lnTo>
                    <a:pt x="489" y="512"/>
                  </a:lnTo>
                  <a:lnTo>
                    <a:pt x="453" y="495"/>
                  </a:lnTo>
                  <a:lnTo>
                    <a:pt x="418" y="472"/>
                  </a:lnTo>
                  <a:lnTo>
                    <a:pt x="395" y="466"/>
                  </a:lnTo>
                  <a:lnTo>
                    <a:pt x="349" y="455"/>
                  </a:lnTo>
                  <a:lnTo>
                    <a:pt x="302" y="455"/>
                  </a:lnTo>
                  <a:lnTo>
                    <a:pt x="256" y="455"/>
                  </a:lnTo>
                  <a:lnTo>
                    <a:pt x="210" y="461"/>
                  </a:lnTo>
                  <a:lnTo>
                    <a:pt x="157" y="455"/>
                  </a:lnTo>
                  <a:lnTo>
                    <a:pt x="111" y="455"/>
                  </a:lnTo>
                  <a:lnTo>
                    <a:pt x="64" y="455"/>
                  </a:lnTo>
                  <a:lnTo>
                    <a:pt x="23" y="455"/>
                  </a:lnTo>
                  <a:lnTo>
                    <a:pt x="5" y="387"/>
                  </a:lnTo>
                  <a:lnTo>
                    <a:pt x="0" y="321"/>
                  </a:lnTo>
                  <a:lnTo>
                    <a:pt x="0" y="247"/>
                  </a:lnTo>
                  <a:lnTo>
                    <a:pt x="17" y="191"/>
                  </a:lnTo>
                  <a:lnTo>
                    <a:pt x="35" y="140"/>
                  </a:lnTo>
                  <a:lnTo>
                    <a:pt x="70" y="118"/>
                  </a:lnTo>
                  <a:lnTo>
                    <a:pt x="116" y="118"/>
                  </a:lnTo>
                  <a:lnTo>
                    <a:pt x="185" y="157"/>
                  </a:lnTo>
                  <a:lnTo>
                    <a:pt x="210" y="112"/>
                  </a:lnTo>
                  <a:lnTo>
                    <a:pt x="238" y="84"/>
                  </a:lnTo>
                  <a:lnTo>
                    <a:pt x="268" y="61"/>
                  </a:lnTo>
                  <a:lnTo>
                    <a:pt x="296" y="56"/>
                  </a:lnTo>
                  <a:lnTo>
                    <a:pt x="319" y="56"/>
                  </a:lnTo>
                  <a:lnTo>
                    <a:pt x="342" y="73"/>
                  </a:lnTo>
                  <a:lnTo>
                    <a:pt x="367" y="107"/>
                  </a:lnTo>
                  <a:lnTo>
                    <a:pt x="395" y="157"/>
                  </a:lnTo>
                  <a:lnTo>
                    <a:pt x="441" y="112"/>
                  </a:lnTo>
                  <a:lnTo>
                    <a:pt x="489" y="84"/>
                  </a:lnTo>
                  <a:lnTo>
                    <a:pt x="523" y="61"/>
                  </a:lnTo>
                  <a:lnTo>
                    <a:pt x="564" y="61"/>
                  </a:lnTo>
                  <a:lnTo>
                    <a:pt x="593" y="67"/>
                  </a:lnTo>
                  <a:lnTo>
                    <a:pt x="628" y="95"/>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140280" y="3270240"/>
              <a:ext cx="33120" cy="54720"/>
            </a:xfrm>
            <a:custGeom>
              <a:avLst/>
              <a:gdLst/>
              <a:ahLst/>
              <a:rect l="l" t="t" r="r" b="b"/>
              <a:pathLst>
                <a:path w="145" h="220">
                  <a:moveTo>
                    <a:pt x="0" y="90"/>
                  </a:moveTo>
                  <a:lnTo>
                    <a:pt x="23" y="141"/>
                  </a:lnTo>
                  <a:lnTo>
                    <a:pt x="52" y="220"/>
                  </a:lnTo>
                  <a:lnTo>
                    <a:pt x="52" y="169"/>
                  </a:lnTo>
                  <a:lnTo>
                    <a:pt x="64" y="124"/>
                  </a:lnTo>
                  <a:lnTo>
                    <a:pt x="76" y="79"/>
                  </a:lnTo>
                  <a:lnTo>
                    <a:pt x="92" y="51"/>
                  </a:lnTo>
                  <a:lnTo>
                    <a:pt x="110" y="17"/>
                  </a:lnTo>
                  <a:lnTo>
                    <a:pt x="145" y="0"/>
                  </a:lnTo>
                </a:path>
              </a:pathLst>
            </a:custGeom>
            <a:noFill/>
            <a:ln w="15840">
              <a:solidFill>
                <a:srgbClr val="000000"/>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189" name=""/>
            <p:cNvSpPr/>
            <p:nvPr/>
          </p:nvSpPr>
          <p:spPr>
            <a:xfrm>
              <a:off x="3224520" y="3281760"/>
              <a:ext cx="13680" cy="24120"/>
            </a:xfrm>
            <a:custGeom>
              <a:avLst/>
              <a:gdLst/>
              <a:ahLst/>
              <a:rect l="l" t="t" r="r" b="b"/>
              <a:pathLst>
                <a:path w="58" h="96">
                  <a:moveTo>
                    <a:pt x="5" y="0"/>
                  </a:moveTo>
                  <a:lnTo>
                    <a:pt x="0" y="39"/>
                  </a:lnTo>
                  <a:lnTo>
                    <a:pt x="0" y="67"/>
                  </a:lnTo>
                  <a:lnTo>
                    <a:pt x="5" y="84"/>
                  </a:lnTo>
                  <a:lnTo>
                    <a:pt x="12" y="96"/>
                  </a:lnTo>
                  <a:lnTo>
                    <a:pt x="17" y="90"/>
                  </a:lnTo>
                  <a:lnTo>
                    <a:pt x="29" y="90"/>
                  </a:lnTo>
                  <a:lnTo>
                    <a:pt x="58" y="84"/>
                  </a:lnTo>
                  <a:lnTo>
                    <a:pt x="47" y="51"/>
                  </a:lnTo>
                  <a:lnTo>
                    <a:pt x="17" y="17"/>
                  </a:lnTo>
                  <a:lnTo>
                    <a:pt x="5" y="0"/>
                  </a:lnTo>
                  <a:close/>
                </a:path>
              </a:pathLst>
            </a:custGeom>
            <a:solidFill>
              <a:srgbClr val="faecc6"/>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90" name=""/>
            <p:cNvSpPr/>
            <p:nvPr/>
          </p:nvSpPr>
          <p:spPr>
            <a:xfrm>
              <a:off x="3450240" y="3281760"/>
              <a:ext cx="37080" cy="33480"/>
            </a:xfrm>
            <a:custGeom>
              <a:avLst/>
              <a:gdLst/>
              <a:ahLst/>
              <a:rect l="l" t="t" r="r" b="b"/>
              <a:pathLst>
                <a:path w="163" h="130">
                  <a:moveTo>
                    <a:pt x="146" y="0"/>
                  </a:moveTo>
                  <a:lnTo>
                    <a:pt x="128" y="5"/>
                  </a:lnTo>
                  <a:lnTo>
                    <a:pt x="99" y="22"/>
                  </a:lnTo>
                  <a:lnTo>
                    <a:pt x="65" y="39"/>
                  </a:lnTo>
                  <a:lnTo>
                    <a:pt x="35" y="62"/>
                  </a:lnTo>
                  <a:lnTo>
                    <a:pt x="6" y="79"/>
                  </a:lnTo>
                  <a:lnTo>
                    <a:pt x="0" y="101"/>
                  </a:lnTo>
                  <a:lnTo>
                    <a:pt x="12" y="118"/>
                  </a:lnTo>
                  <a:lnTo>
                    <a:pt x="52" y="130"/>
                  </a:lnTo>
                  <a:lnTo>
                    <a:pt x="99" y="123"/>
                  </a:lnTo>
                  <a:lnTo>
                    <a:pt x="134" y="118"/>
                  </a:lnTo>
                  <a:lnTo>
                    <a:pt x="151" y="101"/>
                  </a:lnTo>
                  <a:lnTo>
                    <a:pt x="163" y="84"/>
                  </a:lnTo>
                  <a:lnTo>
                    <a:pt x="157" y="39"/>
                  </a:lnTo>
                  <a:lnTo>
                    <a:pt x="146" y="0"/>
                  </a:lnTo>
                  <a:close/>
                </a:path>
              </a:pathLst>
            </a:custGeom>
            <a:solidFill>
              <a:srgbClr val="7fff7c"/>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 name=""/>
            <p:cNvSpPr/>
            <p:nvPr/>
          </p:nvSpPr>
          <p:spPr>
            <a:xfrm>
              <a:off x="4158000" y="3281760"/>
              <a:ext cx="101880" cy="169560"/>
            </a:xfrm>
            <a:custGeom>
              <a:avLst/>
              <a:gdLst/>
              <a:ahLst/>
              <a:rect l="l" t="t" r="r" b="b"/>
              <a:pathLst>
                <a:path w="442" h="669">
                  <a:moveTo>
                    <a:pt x="349" y="0"/>
                  </a:moveTo>
                  <a:lnTo>
                    <a:pt x="332" y="22"/>
                  </a:lnTo>
                  <a:lnTo>
                    <a:pt x="326" y="51"/>
                  </a:lnTo>
                  <a:lnTo>
                    <a:pt x="302" y="73"/>
                  </a:lnTo>
                  <a:lnTo>
                    <a:pt x="279" y="90"/>
                  </a:lnTo>
                  <a:lnTo>
                    <a:pt x="238" y="106"/>
                  </a:lnTo>
                  <a:lnTo>
                    <a:pt x="198" y="123"/>
                  </a:lnTo>
                  <a:lnTo>
                    <a:pt x="152" y="140"/>
                  </a:lnTo>
                  <a:lnTo>
                    <a:pt x="122" y="169"/>
                  </a:lnTo>
                  <a:lnTo>
                    <a:pt x="88" y="202"/>
                  </a:lnTo>
                  <a:lnTo>
                    <a:pt x="70" y="258"/>
                  </a:lnTo>
                  <a:lnTo>
                    <a:pt x="47" y="314"/>
                  </a:lnTo>
                  <a:lnTo>
                    <a:pt x="35" y="382"/>
                  </a:lnTo>
                  <a:lnTo>
                    <a:pt x="18" y="444"/>
                  </a:lnTo>
                  <a:lnTo>
                    <a:pt x="12" y="512"/>
                  </a:lnTo>
                  <a:lnTo>
                    <a:pt x="0" y="579"/>
                  </a:lnTo>
                  <a:lnTo>
                    <a:pt x="0" y="647"/>
                  </a:lnTo>
                  <a:lnTo>
                    <a:pt x="23" y="647"/>
                  </a:lnTo>
                  <a:lnTo>
                    <a:pt x="53" y="658"/>
                  </a:lnTo>
                  <a:lnTo>
                    <a:pt x="81" y="663"/>
                  </a:lnTo>
                  <a:lnTo>
                    <a:pt x="111" y="669"/>
                  </a:lnTo>
                  <a:lnTo>
                    <a:pt x="117" y="624"/>
                  </a:lnTo>
                  <a:lnTo>
                    <a:pt x="134" y="579"/>
                  </a:lnTo>
                  <a:lnTo>
                    <a:pt x="146" y="528"/>
                  </a:lnTo>
                  <a:lnTo>
                    <a:pt x="175" y="489"/>
                  </a:lnTo>
                  <a:lnTo>
                    <a:pt x="198" y="456"/>
                  </a:lnTo>
                  <a:lnTo>
                    <a:pt x="245" y="422"/>
                  </a:lnTo>
                  <a:lnTo>
                    <a:pt x="291" y="388"/>
                  </a:lnTo>
                  <a:lnTo>
                    <a:pt x="337" y="360"/>
                  </a:lnTo>
                  <a:lnTo>
                    <a:pt x="378" y="314"/>
                  </a:lnTo>
                  <a:lnTo>
                    <a:pt x="413" y="275"/>
                  </a:lnTo>
                  <a:lnTo>
                    <a:pt x="436" y="225"/>
                  </a:lnTo>
                  <a:lnTo>
                    <a:pt x="442" y="180"/>
                  </a:lnTo>
                  <a:lnTo>
                    <a:pt x="425" y="147"/>
                  </a:lnTo>
                  <a:lnTo>
                    <a:pt x="395" y="101"/>
                  </a:lnTo>
                  <a:lnTo>
                    <a:pt x="360" y="51"/>
                  </a:lnTo>
                  <a:lnTo>
                    <a:pt x="349" y="0"/>
                  </a:lnTo>
                  <a:close/>
                </a:path>
              </a:pathLst>
            </a:custGeom>
            <a:solidFill>
              <a:srgbClr val="fd9c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168000" y="3283560"/>
              <a:ext cx="20520" cy="18720"/>
            </a:xfrm>
            <a:custGeom>
              <a:avLst/>
              <a:gdLst/>
              <a:ahLst/>
              <a:rect l="l" t="t" r="r" b="b"/>
              <a:pathLst>
                <a:path w="93" h="74">
                  <a:moveTo>
                    <a:pt x="41" y="6"/>
                  </a:moveTo>
                  <a:lnTo>
                    <a:pt x="11" y="12"/>
                  </a:lnTo>
                  <a:lnTo>
                    <a:pt x="0" y="23"/>
                  </a:lnTo>
                  <a:lnTo>
                    <a:pt x="0" y="34"/>
                  </a:lnTo>
                  <a:lnTo>
                    <a:pt x="17" y="46"/>
                  </a:lnTo>
                  <a:lnTo>
                    <a:pt x="46" y="62"/>
                  </a:lnTo>
                  <a:lnTo>
                    <a:pt x="64" y="74"/>
                  </a:lnTo>
                  <a:lnTo>
                    <a:pt x="82" y="46"/>
                  </a:lnTo>
                  <a:lnTo>
                    <a:pt x="93" y="23"/>
                  </a:lnTo>
                  <a:lnTo>
                    <a:pt x="87" y="6"/>
                  </a:lnTo>
                  <a:lnTo>
                    <a:pt x="82" y="0"/>
                  </a:lnTo>
                  <a:lnTo>
                    <a:pt x="64" y="0"/>
                  </a:lnTo>
                  <a:lnTo>
                    <a:pt x="41" y="6"/>
                  </a:lnTo>
                  <a:close/>
                </a:path>
              </a:pathLst>
            </a:custGeom>
            <a:solidFill>
              <a:srgbClr val="faecc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93" name=""/>
            <p:cNvSpPr/>
            <p:nvPr/>
          </p:nvSpPr>
          <p:spPr>
            <a:xfrm>
              <a:off x="3653280" y="3284640"/>
              <a:ext cx="37080" cy="45360"/>
            </a:xfrm>
            <a:custGeom>
              <a:avLst/>
              <a:gdLst/>
              <a:ahLst/>
              <a:rect l="l" t="t" r="r" b="b"/>
              <a:pathLst>
                <a:path w="162" h="180">
                  <a:moveTo>
                    <a:pt x="145" y="0"/>
                  </a:moveTo>
                  <a:lnTo>
                    <a:pt x="104" y="17"/>
                  </a:lnTo>
                  <a:lnTo>
                    <a:pt x="69" y="34"/>
                  </a:lnTo>
                  <a:lnTo>
                    <a:pt x="40" y="51"/>
                  </a:lnTo>
                  <a:lnTo>
                    <a:pt x="17" y="68"/>
                  </a:lnTo>
                  <a:lnTo>
                    <a:pt x="0" y="85"/>
                  </a:lnTo>
                  <a:lnTo>
                    <a:pt x="5" y="107"/>
                  </a:lnTo>
                  <a:lnTo>
                    <a:pt x="23" y="124"/>
                  </a:lnTo>
                  <a:lnTo>
                    <a:pt x="63" y="158"/>
                  </a:lnTo>
                  <a:lnTo>
                    <a:pt x="104" y="175"/>
                  </a:lnTo>
                  <a:lnTo>
                    <a:pt x="134" y="180"/>
                  </a:lnTo>
                  <a:lnTo>
                    <a:pt x="150" y="169"/>
                  </a:lnTo>
                  <a:lnTo>
                    <a:pt x="162" y="152"/>
                  </a:lnTo>
                  <a:lnTo>
                    <a:pt x="157" y="119"/>
                  </a:lnTo>
                  <a:lnTo>
                    <a:pt x="157" y="85"/>
                  </a:lnTo>
                  <a:lnTo>
                    <a:pt x="150" y="40"/>
                  </a:lnTo>
                  <a:lnTo>
                    <a:pt x="145" y="0"/>
                  </a:lnTo>
                  <a:close/>
                </a:path>
              </a:pathLst>
            </a:custGeom>
            <a:solidFill>
              <a:srgbClr val="e6c9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94" name=""/>
            <p:cNvSpPr/>
            <p:nvPr/>
          </p:nvSpPr>
          <p:spPr>
            <a:xfrm>
              <a:off x="3525840" y="3290040"/>
              <a:ext cx="48600" cy="34560"/>
            </a:xfrm>
            <a:custGeom>
              <a:avLst/>
              <a:gdLst/>
              <a:ahLst/>
              <a:rect l="l" t="t" r="r" b="b"/>
              <a:pathLst>
                <a:path w="210" h="141">
                  <a:moveTo>
                    <a:pt x="111" y="0"/>
                  </a:moveTo>
                  <a:lnTo>
                    <a:pt x="82" y="17"/>
                  </a:lnTo>
                  <a:lnTo>
                    <a:pt x="53" y="45"/>
                  </a:lnTo>
                  <a:lnTo>
                    <a:pt x="23" y="73"/>
                  </a:lnTo>
                  <a:lnTo>
                    <a:pt x="12" y="107"/>
                  </a:lnTo>
                  <a:lnTo>
                    <a:pt x="0" y="124"/>
                  </a:lnTo>
                  <a:lnTo>
                    <a:pt x="12" y="141"/>
                  </a:lnTo>
                  <a:lnTo>
                    <a:pt x="35" y="141"/>
                  </a:lnTo>
                  <a:lnTo>
                    <a:pt x="94" y="129"/>
                  </a:lnTo>
                  <a:lnTo>
                    <a:pt x="140" y="102"/>
                  </a:lnTo>
                  <a:lnTo>
                    <a:pt x="175" y="85"/>
                  </a:lnTo>
                  <a:lnTo>
                    <a:pt x="198" y="68"/>
                  </a:lnTo>
                  <a:lnTo>
                    <a:pt x="210" y="56"/>
                  </a:lnTo>
                  <a:lnTo>
                    <a:pt x="203" y="39"/>
                  </a:lnTo>
                  <a:lnTo>
                    <a:pt x="186" y="28"/>
                  </a:lnTo>
                  <a:lnTo>
                    <a:pt x="152" y="11"/>
                  </a:lnTo>
                  <a:lnTo>
                    <a:pt x="111" y="0"/>
                  </a:lnTo>
                  <a:close/>
                </a:path>
              </a:pathLst>
            </a:custGeom>
            <a:solidFill>
              <a:srgbClr val="eba0ff"/>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95" name=""/>
            <p:cNvSpPr/>
            <p:nvPr/>
          </p:nvSpPr>
          <p:spPr>
            <a:xfrm>
              <a:off x="3942360" y="3295440"/>
              <a:ext cx="78480" cy="155880"/>
            </a:xfrm>
            <a:custGeom>
              <a:avLst/>
              <a:gdLst/>
              <a:ahLst/>
              <a:rect l="l" t="t" r="r" b="b"/>
              <a:pathLst>
                <a:path w="337" h="613">
                  <a:moveTo>
                    <a:pt x="203" y="6"/>
                  </a:moveTo>
                  <a:lnTo>
                    <a:pt x="134" y="34"/>
                  </a:lnTo>
                  <a:lnTo>
                    <a:pt x="86" y="91"/>
                  </a:lnTo>
                  <a:lnTo>
                    <a:pt x="46" y="158"/>
                  </a:lnTo>
                  <a:lnTo>
                    <a:pt x="29" y="241"/>
                  </a:lnTo>
                  <a:lnTo>
                    <a:pt x="5" y="326"/>
                  </a:lnTo>
                  <a:lnTo>
                    <a:pt x="5" y="427"/>
                  </a:lnTo>
                  <a:lnTo>
                    <a:pt x="0" y="518"/>
                  </a:lnTo>
                  <a:lnTo>
                    <a:pt x="17" y="613"/>
                  </a:lnTo>
                  <a:lnTo>
                    <a:pt x="52" y="613"/>
                  </a:lnTo>
                  <a:lnTo>
                    <a:pt x="93" y="607"/>
                  </a:lnTo>
                  <a:lnTo>
                    <a:pt x="122" y="602"/>
                  </a:lnTo>
                  <a:lnTo>
                    <a:pt x="151" y="602"/>
                  </a:lnTo>
                  <a:lnTo>
                    <a:pt x="192" y="591"/>
                  </a:lnTo>
                  <a:lnTo>
                    <a:pt x="192" y="506"/>
                  </a:lnTo>
                  <a:lnTo>
                    <a:pt x="203" y="439"/>
                  </a:lnTo>
                  <a:lnTo>
                    <a:pt x="220" y="371"/>
                  </a:lnTo>
                  <a:lnTo>
                    <a:pt x="238" y="304"/>
                  </a:lnTo>
                  <a:lnTo>
                    <a:pt x="255" y="236"/>
                  </a:lnTo>
                  <a:lnTo>
                    <a:pt x="279" y="180"/>
                  </a:lnTo>
                  <a:lnTo>
                    <a:pt x="302" y="113"/>
                  </a:lnTo>
                  <a:lnTo>
                    <a:pt x="337" y="57"/>
                  </a:lnTo>
                  <a:lnTo>
                    <a:pt x="308" y="34"/>
                  </a:lnTo>
                  <a:lnTo>
                    <a:pt x="279" y="11"/>
                  </a:lnTo>
                  <a:lnTo>
                    <a:pt x="238" y="0"/>
                  </a:lnTo>
                  <a:lnTo>
                    <a:pt x="203" y="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046320" y="3302280"/>
              <a:ext cx="29160" cy="70200"/>
            </a:xfrm>
            <a:custGeom>
              <a:avLst/>
              <a:gdLst/>
              <a:ahLst/>
              <a:rect l="l" t="t" r="r" b="b"/>
              <a:pathLst>
                <a:path w="121" h="281">
                  <a:moveTo>
                    <a:pt x="58" y="0"/>
                  </a:moveTo>
                  <a:lnTo>
                    <a:pt x="29" y="39"/>
                  </a:lnTo>
                  <a:lnTo>
                    <a:pt x="12" y="78"/>
                  </a:lnTo>
                  <a:lnTo>
                    <a:pt x="0" y="112"/>
                  </a:lnTo>
                  <a:lnTo>
                    <a:pt x="0" y="146"/>
                  </a:lnTo>
                  <a:lnTo>
                    <a:pt x="0" y="179"/>
                  </a:lnTo>
                  <a:lnTo>
                    <a:pt x="12" y="213"/>
                  </a:lnTo>
                  <a:lnTo>
                    <a:pt x="23" y="247"/>
                  </a:lnTo>
                  <a:lnTo>
                    <a:pt x="47" y="281"/>
                  </a:lnTo>
                  <a:lnTo>
                    <a:pt x="40" y="281"/>
                  </a:lnTo>
                  <a:lnTo>
                    <a:pt x="58" y="281"/>
                  </a:lnTo>
                  <a:lnTo>
                    <a:pt x="75" y="281"/>
                  </a:lnTo>
                  <a:lnTo>
                    <a:pt x="98" y="281"/>
                  </a:lnTo>
                  <a:lnTo>
                    <a:pt x="98" y="247"/>
                  </a:lnTo>
                  <a:lnTo>
                    <a:pt x="111" y="218"/>
                  </a:lnTo>
                  <a:lnTo>
                    <a:pt x="111" y="186"/>
                  </a:lnTo>
                  <a:lnTo>
                    <a:pt x="121" y="157"/>
                  </a:lnTo>
                  <a:lnTo>
                    <a:pt x="121" y="118"/>
                  </a:lnTo>
                  <a:lnTo>
                    <a:pt x="121" y="84"/>
                  </a:lnTo>
                  <a:lnTo>
                    <a:pt x="116" y="51"/>
                  </a:lnTo>
                  <a:lnTo>
                    <a:pt x="111" y="22"/>
                  </a:lnTo>
                  <a:lnTo>
                    <a:pt x="81" y="11"/>
                  </a:lnTo>
                  <a:lnTo>
                    <a:pt x="58" y="0"/>
                  </a:lnTo>
                  <a:close/>
                </a:path>
              </a:pathLst>
            </a:custGeom>
            <a:solidFill>
              <a:srgbClr val="ebfe9e"/>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97" name=""/>
            <p:cNvSpPr/>
            <p:nvPr/>
          </p:nvSpPr>
          <p:spPr>
            <a:xfrm>
              <a:off x="3097440" y="3302280"/>
              <a:ext cx="37080" cy="81360"/>
            </a:xfrm>
            <a:custGeom>
              <a:avLst/>
              <a:gdLst/>
              <a:ahLst/>
              <a:rect l="l" t="t" r="r" b="b"/>
              <a:pathLst>
                <a:path w="164" h="320">
                  <a:moveTo>
                    <a:pt x="106" y="0"/>
                  </a:moveTo>
                  <a:lnTo>
                    <a:pt x="59" y="34"/>
                  </a:lnTo>
                  <a:lnTo>
                    <a:pt x="30" y="68"/>
                  </a:lnTo>
                  <a:lnTo>
                    <a:pt x="12" y="101"/>
                  </a:lnTo>
                  <a:lnTo>
                    <a:pt x="7" y="140"/>
                  </a:lnTo>
                  <a:lnTo>
                    <a:pt x="0" y="174"/>
                  </a:lnTo>
                  <a:lnTo>
                    <a:pt x="12" y="218"/>
                  </a:lnTo>
                  <a:lnTo>
                    <a:pt x="24" y="264"/>
                  </a:lnTo>
                  <a:lnTo>
                    <a:pt x="53" y="320"/>
                  </a:lnTo>
                  <a:lnTo>
                    <a:pt x="106" y="292"/>
                  </a:lnTo>
                  <a:lnTo>
                    <a:pt x="146" y="258"/>
                  </a:lnTo>
                  <a:lnTo>
                    <a:pt x="157" y="218"/>
                  </a:lnTo>
                  <a:lnTo>
                    <a:pt x="164" y="179"/>
                  </a:lnTo>
                  <a:lnTo>
                    <a:pt x="146" y="129"/>
                  </a:lnTo>
                  <a:lnTo>
                    <a:pt x="134" y="84"/>
                  </a:lnTo>
                  <a:lnTo>
                    <a:pt x="117" y="34"/>
                  </a:lnTo>
                  <a:lnTo>
                    <a:pt x="106" y="0"/>
                  </a:lnTo>
                  <a:close/>
                </a:path>
              </a:pathLst>
            </a:custGeom>
            <a:solidFill>
              <a:srgbClr val="c4fcf8"/>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91480" y="3307320"/>
              <a:ext cx="465840" cy="829440"/>
            </a:xfrm>
            <a:custGeom>
              <a:avLst/>
              <a:gdLst/>
              <a:ahLst/>
              <a:rect l="l" t="t" r="r" b="b"/>
              <a:pathLst>
                <a:path w="2023" h="3289">
                  <a:moveTo>
                    <a:pt x="1262" y="0"/>
                  </a:moveTo>
                  <a:lnTo>
                    <a:pt x="1262" y="17"/>
                  </a:lnTo>
                  <a:lnTo>
                    <a:pt x="1267" y="56"/>
                  </a:lnTo>
                  <a:lnTo>
                    <a:pt x="1273" y="96"/>
                  </a:lnTo>
                  <a:lnTo>
                    <a:pt x="1278" y="118"/>
                  </a:lnTo>
                  <a:lnTo>
                    <a:pt x="1227" y="164"/>
                  </a:lnTo>
                  <a:lnTo>
                    <a:pt x="1179" y="225"/>
                  </a:lnTo>
                  <a:lnTo>
                    <a:pt x="1133" y="281"/>
                  </a:lnTo>
                  <a:lnTo>
                    <a:pt x="1093" y="331"/>
                  </a:lnTo>
                  <a:lnTo>
                    <a:pt x="1047" y="360"/>
                  </a:lnTo>
                  <a:lnTo>
                    <a:pt x="999" y="372"/>
                  </a:lnTo>
                  <a:lnTo>
                    <a:pt x="941" y="348"/>
                  </a:lnTo>
                  <a:lnTo>
                    <a:pt x="890" y="287"/>
                  </a:lnTo>
                  <a:lnTo>
                    <a:pt x="849" y="230"/>
                  </a:lnTo>
                  <a:lnTo>
                    <a:pt x="814" y="181"/>
                  </a:lnTo>
                  <a:lnTo>
                    <a:pt x="796" y="147"/>
                  </a:lnTo>
                  <a:lnTo>
                    <a:pt x="779" y="118"/>
                  </a:lnTo>
                  <a:lnTo>
                    <a:pt x="768" y="85"/>
                  </a:lnTo>
                  <a:lnTo>
                    <a:pt x="761" y="56"/>
                  </a:lnTo>
                  <a:lnTo>
                    <a:pt x="686" y="90"/>
                  </a:lnTo>
                  <a:lnTo>
                    <a:pt x="599" y="141"/>
                  </a:lnTo>
                  <a:lnTo>
                    <a:pt x="505" y="191"/>
                  </a:lnTo>
                  <a:lnTo>
                    <a:pt x="419" y="253"/>
                  </a:lnTo>
                  <a:lnTo>
                    <a:pt x="325" y="315"/>
                  </a:lnTo>
                  <a:lnTo>
                    <a:pt x="251" y="377"/>
                  </a:lnTo>
                  <a:lnTo>
                    <a:pt x="186" y="439"/>
                  </a:lnTo>
                  <a:lnTo>
                    <a:pt x="145" y="507"/>
                  </a:lnTo>
                  <a:lnTo>
                    <a:pt x="111" y="574"/>
                  </a:lnTo>
                  <a:lnTo>
                    <a:pt x="87" y="675"/>
                  </a:lnTo>
                  <a:lnTo>
                    <a:pt x="71" y="799"/>
                  </a:lnTo>
                  <a:lnTo>
                    <a:pt x="53" y="939"/>
                  </a:lnTo>
                  <a:lnTo>
                    <a:pt x="35" y="1074"/>
                  </a:lnTo>
                  <a:lnTo>
                    <a:pt x="23" y="1209"/>
                  </a:lnTo>
                  <a:lnTo>
                    <a:pt x="12" y="1327"/>
                  </a:lnTo>
                  <a:lnTo>
                    <a:pt x="12" y="1429"/>
                  </a:lnTo>
                  <a:lnTo>
                    <a:pt x="0" y="1564"/>
                  </a:lnTo>
                  <a:lnTo>
                    <a:pt x="0" y="1682"/>
                  </a:lnTo>
                  <a:lnTo>
                    <a:pt x="6" y="1783"/>
                  </a:lnTo>
                  <a:lnTo>
                    <a:pt x="29" y="1890"/>
                  </a:lnTo>
                  <a:lnTo>
                    <a:pt x="53" y="1979"/>
                  </a:lnTo>
                  <a:lnTo>
                    <a:pt x="94" y="2075"/>
                  </a:lnTo>
                  <a:lnTo>
                    <a:pt x="140" y="2170"/>
                  </a:lnTo>
                  <a:lnTo>
                    <a:pt x="198" y="2283"/>
                  </a:lnTo>
                  <a:lnTo>
                    <a:pt x="226" y="2339"/>
                  </a:lnTo>
                  <a:lnTo>
                    <a:pt x="256" y="2401"/>
                  </a:lnTo>
                  <a:lnTo>
                    <a:pt x="285" y="2457"/>
                  </a:lnTo>
                  <a:lnTo>
                    <a:pt x="320" y="2513"/>
                  </a:lnTo>
                  <a:lnTo>
                    <a:pt x="343" y="2457"/>
                  </a:lnTo>
                  <a:lnTo>
                    <a:pt x="372" y="2406"/>
                  </a:lnTo>
                  <a:lnTo>
                    <a:pt x="408" y="2356"/>
                  </a:lnTo>
                  <a:lnTo>
                    <a:pt x="442" y="2305"/>
                  </a:lnTo>
                  <a:lnTo>
                    <a:pt x="477" y="2255"/>
                  </a:lnTo>
                  <a:lnTo>
                    <a:pt x="512" y="2204"/>
                  </a:lnTo>
                  <a:lnTo>
                    <a:pt x="553" y="2160"/>
                  </a:lnTo>
                  <a:lnTo>
                    <a:pt x="599" y="2126"/>
                  </a:lnTo>
                  <a:lnTo>
                    <a:pt x="564" y="2047"/>
                  </a:lnTo>
                  <a:lnTo>
                    <a:pt x="523" y="1968"/>
                  </a:lnTo>
                  <a:lnTo>
                    <a:pt x="471" y="1883"/>
                  </a:lnTo>
                  <a:lnTo>
                    <a:pt x="424" y="1800"/>
                  </a:lnTo>
                  <a:lnTo>
                    <a:pt x="372" y="1715"/>
                  </a:lnTo>
                  <a:lnTo>
                    <a:pt x="337" y="1631"/>
                  </a:lnTo>
                  <a:lnTo>
                    <a:pt x="314" y="1552"/>
                  </a:lnTo>
                  <a:lnTo>
                    <a:pt x="320" y="1484"/>
                  </a:lnTo>
                  <a:lnTo>
                    <a:pt x="320" y="1451"/>
                  </a:lnTo>
                  <a:lnTo>
                    <a:pt x="325" y="1405"/>
                  </a:lnTo>
                  <a:lnTo>
                    <a:pt x="332" y="1361"/>
                  </a:lnTo>
                  <a:lnTo>
                    <a:pt x="349" y="1327"/>
                  </a:lnTo>
                  <a:lnTo>
                    <a:pt x="366" y="1277"/>
                  </a:lnTo>
                  <a:lnTo>
                    <a:pt x="383" y="1287"/>
                  </a:lnTo>
                  <a:lnTo>
                    <a:pt x="401" y="1333"/>
                  </a:lnTo>
                  <a:lnTo>
                    <a:pt x="419" y="1412"/>
                  </a:lnTo>
                  <a:lnTo>
                    <a:pt x="431" y="1496"/>
                  </a:lnTo>
                  <a:lnTo>
                    <a:pt x="442" y="1586"/>
                  </a:lnTo>
                  <a:lnTo>
                    <a:pt x="459" y="1659"/>
                  </a:lnTo>
                  <a:lnTo>
                    <a:pt x="477" y="1715"/>
                  </a:lnTo>
                  <a:lnTo>
                    <a:pt x="500" y="1755"/>
                  </a:lnTo>
                  <a:lnTo>
                    <a:pt x="535" y="1800"/>
                  </a:lnTo>
                  <a:lnTo>
                    <a:pt x="570" y="1844"/>
                  </a:lnTo>
                  <a:lnTo>
                    <a:pt x="604" y="1895"/>
                  </a:lnTo>
                  <a:lnTo>
                    <a:pt x="634" y="1934"/>
                  </a:lnTo>
                  <a:lnTo>
                    <a:pt x="662" y="1979"/>
                  </a:lnTo>
                  <a:lnTo>
                    <a:pt x="692" y="2025"/>
                  </a:lnTo>
                  <a:lnTo>
                    <a:pt x="715" y="2075"/>
                  </a:lnTo>
                  <a:lnTo>
                    <a:pt x="715" y="2097"/>
                  </a:lnTo>
                  <a:lnTo>
                    <a:pt x="721" y="2120"/>
                  </a:lnTo>
                  <a:lnTo>
                    <a:pt x="715" y="2143"/>
                  </a:lnTo>
                  <a:lnTo>
                    <a:pt x="715" y="2153"/>
                  </a:lnTo>
                  <a:lnTo>
                    <a:pt x="715" y="2170"/>
                  </a:lnTo>
                  <a:lnTo>
                    <a:pt x="715" y="2193"/>
                  </a:lnTo>
                  <a:lnTo>
                    <a:pt x="727" y="2199"/>
                  </a:lnTo>
                  <a:lnTo>
                    <a:pt x="733" y="2216"/>
                  </a:lnTo>
                  <a:lnTo>
                    <a:pt x="750" y="2249"/>
                  </a:lnTo>
                  <a:lnTo>
                    <a:pt x="779" y="2283"/>
                  </a:lnTo>
                  <a:lnTo>
                    <a:pt x="796" y="2322"/>
                  </a:lnTo>
                  <a:lnTo>
                    <a:pt x="826" y="2361"/>
                  </a:lnTo>
                  <a:lnTo>
                    <a:pt x="842" y="2395"/>
                  </a:lnTo>
                  <a:lnTo>
                    <a:pt x="860" y="2440"/>
                  </a:lnTo>
                  <a:lnTo>
                    <a:pt x="872" y="2491"/>
                  </a:lnTo>
                  <a:lnTo>
                    <a:pt x="890" y="2541"/>
                  </a:lnTo>
                  <a:lnTo>
                    <a:pt x="890" y="2643"/>
                  </a:lnTo>
                  <a:lnTo>
                    <a:pt x="872" y="2722"/>
                  </a:lnTo>
                  <a:lnTo>
                    <a:pt x="837" y="2778"/>
                  </a:lnTo>
                  <a:lnTo>
                    <a:pt x="785" y="2817"/>
                  </a:lnTo>
                  <a:lnTo>
                    <a:pt x="715" y="2828"/>
                  </a:lnTo>
                  <a:lnTo>
                    <a:pt x="639" y="2828"/>
                  </a:lnTo>
                  <a:lnTo>
                    <a:pt x="553" y="2817"/>
                  </a:lnTo>
                  <a:lnTo>
                    <a:pt x="465" y="2795"/>
                  </a:lnTo>
                  <a:lnTo>
                    <a:pt x="448" y="2834"/>
                  </a:lnTo>
                  <a:lnTo>
                    <a:pt x="442" y="2891"/>
                  </a:lnTo>
                  <a:lnTo>
                    <a:pt x="431" y="2947"/>
                  </a:lnTo>
                  <a:lnTo>
                    <a:pt x="431" y="3014"/>
                  </a:lnTo>
                  <a:lnTo>
                    <a:pt x="431" y="3070"/>
                  </a:lnTo>
                  <a:lnTo>
                    <a:pt x="431" y="3132"/>
                  </a:lnTo>
                  <a:lnTo>
                    <a:pt x="431" y="3183"/>
                  </a:lnTo>
                  <a:lnTo>
                    <a:pt x="436" y="3234"/>
                  </a:lnTo>
                  <a:lnTo>
                    <a:pt x="505" y="3234"/>
                  </a:lnTo>
                  <a:lnTo>
                    <a:pt x="593" y="3244"/>
                  </a:lnTo>
                  <a:lnTo>
                    <a:pt x="674" y="3256"/>
                  </a:lnTo>
                  <a:lnTo>
                    <a:pt x="761" y="3267"/>
                  </a:lnTo>
                  <a:lnTo>
                    <a:pt x="842" y="3273"/>
                  </a:lnTo>
                  <a:lnTo>
                    <a:pt x="930" y="3278"/>
                  </a:lnTo>
                  <a:lnTo>
                    <a:pt x="1017" y="3284"/>
                  </a:lnTo>
                  <a:lnTo>
                    <a:pt x="1105" y="3289"/>
                  </a:lnTo>
                  <a:lnTo>
                    <a:pt x="1156" y="3284"/>
                  </a:lnTo>
                  <a:lnTo>
                    <a:pt x="1220" y="3289"/>
                  </a:lnTo>
                  <a:lnTo>
                    <a:pt x="1273" y="3289"/>
                  </a:lnTo>
                  <a:lnTo>
                    <a:pt x="1331" y="3289"/>
                  </a:lnTo>
                  <a:lnTo>
                    <a:pt x="1366" y="3273"/>
                  </a:lnTo>
                  <a:lnTo>
                    <a:pt x="1442" y="3239"/>
                  </a:lnTo>
                  <a:lnTo>
                    <a:pt x="1541" y="3188"/>
                  </a:lnTo>
                  <a:lnTo>
                    <a:pt x="1656" y="3143"/>
                  </a:lnTo>
                  <a:lnTo>
                    <a:pt x="1767" y="3087"/>
                  </a:lnTo>
                  <a:lnTo>
                    <a:pt x="1860" y="3048"/>
                  </a:lnTo>
                  <a:lnTo>
                    <a:pt x="1929" y="3014"/>
                  </a:lnTo>
                  <a:lnTo>
                    <a:pt x="1959" y="3003"/>
                  </a:lnTo>
                  <a:lnTo>
                    <a:pt x="1970" y="2935"/>
                  </a:lnTo>
                  <a:lnTo>
                    <a:pt x="1977" y="2862"/>
                  </a:lnTo>
                  <a:lnTo>
                    <a:pt x="1965" y="2783"/>
                  </a:lnTo>
                  <a:lnTo>
                    <a:pt x="1959" y="2710"/>
                  </a:lnTo>
                  <a:lnTo>
                    <a:pt x="1941" y="2637"/>
                  </a:lnTo>
                  <a:lnTo>
                    <a:pt x="1924" y="2570"/>
                  </a:lnTo>
                  <a:lnTo>
                    <a:pt x="1906" y="2513"/>
                  </a:lnTo>
                  <a:lnTo>
                    <a:pt x="1901" y="2474"/>
                  </a:lnTo>
                  <a:lnTo>
                    <a:pt x="1894" y="2502"/>
                  </a:lnTo>
                  <a:lnTo>
                    <a:pt x="1894" y="2536"/>
                  </a:lnTo>
                  <a:lnTo>
                    <a:pt x="1889" y="2564"/>
                  </a:lnTo>
                  <a:lnTo>
                    <a:pt x="1889" y="2597"/>
                  </a:lnTo>
                  <a:lnTo>
                    <a:pt x="1883" y="2626"/>
                  </a:lnTo>
                  <a:lnTo>
                    <a:pt x="1883" y="2654"/>
                  </a:lnTo>
                  <a:lnTo>
                    <a:pt x="1871" y="2688"/>
                  </a:lnTo>
                  <a:lnTo>
                    <a:pt x="1866" y="2722"/>
                  </a:lnTo>
                  <a:lnTo>
                    <a:pt x="1843" y="2749"/>
                  </a:lnTo>
                  <a:lnTo>
                    <a:pt x="1825" y="2773"/>
                  </a:lnTo>
                  <a:lnTo>
                    <a:pt x="1808" y="2778"/>
                  </a:lnTo>
                  <a:lnTo>
                    <a:pt x="1790" y="2783"/>
                  </a:lnTo>
                  <a:lnTo>
                    <a:pt x="1761" y="2778"/>
                  </a:lnTo>
                  <a:lnTo>
                    <a:pt x="1738" y="2778"/>
                  </a:lnTo>
                  <a:lnTo>
                    <a:pt x="1709" y="2778"/>
                  </a:lnTo>
                  <a:lnTo>
                    <a:pt x="1680" y="2783"/>
                  </a:lnTo>
                  <a:lnTo>
                    <a:pt x="1622" y="2795"/>
                  </a:lnTo>
                  <a:lnTo>
                    <a:pt x="1569" y="2817"/>
                  </a:lnTo>
                  <a:lnTo>
                    <a:pt x="1506" y="2840"/>
                  </a:lnTo>
                  <a:lnTo>
                    <a:pt x="1453" y="2857"/>
                  </a:lnTo>
                  <a:lnTo>
                    <a:pt x="1395" y="2857"/>
                  </a:lnTo>
                  <a:lnTo>
                    <a:pt x="1349" y="2840"/>
                  </a:lnTo>
                  <a:lnTo>
                    <a:pt x="1302" y="2795"/>
                  </a:lnTo>
                  <a:lnTo>
                    <a:pt x="1278" y="2722"/>
                  </a:lnTo>
                  <a:lnTo>
                    <a:pt x="1267" y="2665"/>
                  </a:lnTo>
                  <a:lnTo>
                    <a:pt x="1267" y="2614"/>
                  </a:lnTo>
                  <a:lnTo>
                    <a:pt x="1267" y="2564"/>
                  </a:lnTo>
                  <a:lnTo>
                    <a:pt x="1278" y="2513"/>
                  </a:lnTo>
                  <a:lnTo>
                    <a:pt x="1285" y="2462"/>
                  </a:lnTo>
                  <a:lnTo>
                    <a:pt x="1302" y="2418"/>
                  </a:lnTo>
                  <a:lnTo>
                    <a:pt x="1313" y="2378"/>
                  </a:lnTo>
                  <a:lnTo>
                    <a:pt x="1331" y="2345"/>
                  </a:lnTo>
                  <a:lnTo>
                    <a:pt x="1366" y="2210"/>
                  </a:lnTo>
                  <a:lnTo>
                    <a:pt x="1412" y="2092"/>
                  </a:lnTo>
                  <a:lnTo>
                    <a:pt x="1459" y="1968"/>
                  </a:lnTo>
                  <a:lnTo>
                    <a:pt x="1500" y="1844"/>
                  </a:lnTo>
                  <a:lnTo>
                    <a:pt x="1529" y="1709"/>
                  </a:lnTo>
                  <a:lnTo>
                    <a:pt x="1546" y="1574"/>
                  </a:lnTo>
                  <a:lnTo>
                    <a:pt x="1552" y="1422"/>
                  </a:lnTo>
                  <a:lnTo>
                    <a:pt x="1541" y="1265"/>
                  </a:lnTo>
                  <a:lnTo>
                    <a:pt x="1534" y="1254"/>
                  </a:lnTo>
                  <a:lnTo>
                    <a:pt x="1534" y="1231"/>
                  </a:lnTo>
                  <a:lnTo>
                    <a:pt x="1529" y="1204"/>
                  </a:lnTo>
                  <a:lnTo>
                    <a:pt x="1529" y="1187"/>
                  </a:lnTo>
                  <a:lnTo>
                    <a:pt x="1534" y="1175"/>
                  </a:lnTo>
                  <a:lnTo>
                    <a:pt x="1552" y="1170"/>
                  </a:lnTo>
                  <a:lnTo>
                    <a:pt x="1564" y="1164"/>
                  </a:lnTo>
                  <a:lnTo>
                    <a:pt x="1569" y="1175"/>
                  </a:lnTo>
                  <a:lnTo>
                    <a:pt x="1599" y="1175"/>
                  </a:lnTo>
                  <a:lnTo>
                    <a:pt x="1599" y="1226"/>
                  </a:lnTo>
                  <a:lnTo>
                    <a:pt x="1610" y="1282"/>
                  </a:lnTo>
                  <a:lnTo>
                    <a:pt x="1622" y="1344"/>
                  </a:lnTo>
                  <a:lnTo>
                    <a:pt x="1640" y="1412"/>
                  </a:lnTo>
                  <a:lnTo>
                    <a:pt x="1645" y="1473"/>
                  </a:lnTo>
                  <a:lnTo>
                    <a:pt x="1651" y="1540"/>
                  </a:lnTo>
                  <a:lnTo>
                    <a:pt x="1651" y="1608"/>
                  </a:lnTo>
                  <a:lnTo>
                    <a:pt x="1651" y="1675"/>
                  </a:lnTo>
                  <a:lnTo>
                    <a:pt x="1633" y="1721"/>
                  </a:lnTo>
                  <a:lnTo>
                    <a:pt x="1610" y="1783"/>
                  </a:lnTo>
                  <a:lnTo>
                    <a:pt x="1581" y="1861"/>
                  </a:lnTo>
                  <a:lnTo>
                    <a:pt x="1552" y="1945"/>
                  </a:lnTo>
                  <a:lnTo>
                    <a:pt x="1517" y="2025"/>
                  </a:lnTo>
                  <a:lnTo>
                    <a:pt x="1483" y="2109"/>
                  </a:lnTo>
                  <a:lnTo>
                    <a:pt x="1453" y="2182"/>
                  </a:lnTo>
                  <a:lnTo>
                    <a:pt x="1435" y="2244"/>
                  </a:lnTo>
                  <a:lnTo>
                    <a:pt x="1483" y="2271"/>
                  </a:lnTo>
                  <a:lnTo>
                    <a:pt x="1534" y="2305"/>
                  </a:lnTo>
                  <a:lnTo>
                    <a:pt x="1581" y="2345"/>
                  </a:lnTo>
                  <a:lnTo>
                    <a:pt x="1622" y="2384"/>
                  </a:lnTo>
                  <a:lnTo>
                    <a:pt x="1640" y="2412"/>
                  </a:lnTo>
                  <a:lnTo>
                    <a:pt x="1663" y="2446"/>
                  </a:lnTo>
                  <a:lnTo>
                    <a:pt x="1680" y="2479"/>
                  </a:lnTo>
                  <a:lnTo>
                    <a:pt x="1697" y="2513"/>
                  </a:lnTo>
                  <a:lnTo>
                    <a:pt x="1709" y="2541"/>
                  </a:lnTo>
                  <a:lnTo>
                    <a:pt x="1732" y="2570"/>
                  </a:lnTo>
                  <a:lnTo>
                    <a:pt x="1755" y="2597"/>
                  </a:lnTo>
                  <a:lnTo>
                    <a:pt x="1795" y="2631"/>
                  </a:lnTo>
                  <a:lnTo>
                    <a:pt x="1820" y="2525"/>
                  </a:lnTo>
                  <a:lnTo>
                    <a:pt x="1854" y="2418"/>
                  </a:lnTo>
                  <a:lnTo>
                    <a:pt x="1889" y="2305"/>
                  </a:lnTo>
                  <a:lnTo>
                    <a:pt x="1929" y="2193"/>
                  </a:lnTo>
                  <a:lnTo>
                    <a:pt x="1959" y="2075"/>
                  </a:lnTo>
                  <a:lnTo>
                    <a:pt x="1988" y="1968"/>
                  </a:lnTo>
                  <a:lnTo>
                    <a:pt x="2005" y="1861"/>
                  </a:lnTo>
                  <a:lnTo>
                    <a:pt x="2023" y="1766"/>
                  </a:lnTo>
                  <a:lnTo>
                    <a:pt x="2017" y="1692"/>
                  </a:lnTo>
                  <a:lnTo>
                    <a:pt x="2011" y="1619"/>
                  </a:lnTo>
                  <a:lnTo>
                    <a:pt x="2000" y="1540"/>
                  </a:lnTo>
                  <a:lnTo>
                    <a:pt x="1988" y="1462"/>
                  </a:lnTo>
                  <a:lnTo>
                    <a:pt x="1970" y="1378"/>
                  </a:lnTo>
                  <a:lnTo>
                    <a:pt x="1952" y="1299"/>
                  </a:lnTo>
                  <a:lnTo>
                    <a:pt x="1936" y="1221"/>
                  </a:lnTo>
                  <a:lnTo>
                    <a:pt x="1929" y="1158"/>
                  </a:lnTo>
                  <a:lnTo>
                    <a:pt x="1912" y="1063"/>
                  </a:lnTo>
                  <a:lnTo>
                    <a:pt x="1912" y="973"/>
                  </a:lnTo>
                  <a:lnTo>
                    <a:pt x="1906" y="877"/>
                  </a:lnTo>
                  <a:lnTo>
                    <a:pt x="1906" y="787"/>
                  </a:lnTo>
                  <a:lnTo>
                    <a:pt x="1894" y="698"/>
                  </a:lnTo>
                  <a:lnTo>
                    <a:pt x="1889" y="613"/>
                  </a:lnTo>
                  <a:lnTo>
                    <a:pt x="1866" y="534"/>
                  </a:lnTo>
                  <a:lnTo>
                    <a:pt x="1837" y="466"/>
                  </a:lnTo>
                  <a:lnTo>
                    <a:pt x="1790" y="399"/>
                  </a:lnTo>
                  <a:lnTo>
                    <a:pt x="1732" y="338"/>
                  </a:lnTo>
                  <a:lnTo>
                    <a:pt x="1663" y="270"/>
                  </a:lnTo>
                  <a:lnTo>
                    <a:pt x="1581" y="208"/>
                  </a:lnTo>
                  <a:lnTo>
                    <a:pt x="1494" y="141"/>
                  </a:lnTo>
                  <a:lnTo>
                    <a:pt x="1412" y="85"/>
                  </a:lnTo>
                  <a:lnTo>
                    <a:pt x="1326" y="34"/>
                  </a:lnTo>
                  <a:lnTo>
                    <a:pt x="1262"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365640" y="3311640"/>
              <a:ext cx="50760" cy="74160"/>
            </a:xfrm>
            <a:custGeom>
              <a:avLst/>
              <a:gdLst/>
              <a:ahLst/>
              <a:rect l="l" t="t" r="r" b="b"/>
              <a:pathLst>
                <a:path w="221" h="297">
                  <a:moveTo>
                    <a:pt x="99" y="0"/>
                  </a:moveTo>
                  <a:lnTo>
                    <a:pt x="69" y="39"/>
                  </a:lnTo>
                  <a:lnTo>
                    <a:pt x="41" y="95"/>
                  </a:lnTo>
                  <a:lnTo>
                    <a:pt x="18" y="152"/>
                  </a:lnTo>
                  <a:lnTo>
                    <a:pt x="6" y="213"/>
                  </a:lnTo>
                  <a:lnTo>
                    <a:pt x="0" y="258"/>
                  </a:lnTo>
                  <a:lnTo>
                    <a:pt x="18" y="292"/>
                  </a:lnTo>
                  <a:lnTo>
                    <a:pt x="53" y="297"/>
                  </a:lnTo>
                  <a:lnTo>
                    <a:pt x="116" y="275"/>
                  </a:lnTo>
                  <a:lnTo>
                    <a:pt x="175" y="280"/>
                  </a:lnTo>
                  <a:lnTo>
                    <a:pt x="209" y="269"/>
                  </a:lnTo>
                  <a:lnTo>
                    <a:pt x="221" y="241"/>
                  </a:lnTo>
                  <a:lnTo>
                    <a:pt x="221" y="196"/>
                  </a:lnTo>
                  <a:lnTo>
                    <a:pt x="192" y="140"/>
                  </a:lnTo>
                  <a:lnTo>
                    <a:pt x="168" y="89"/>
                  </a:lnTo>
                  <a:lnTo>
                    <a:pt x="134" y="34"/>
                  </a:lnTo>
                  <a:lnTo>
                    <a:pt x="99" y="0"/>
                  </a:lnTo>
                  <a:close/>
                </a:path>
              </a:pathLst>
            </a:custGeom>
            <a:solidFill>
              <a:srgbClr val="c3fff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00" name=""/>
            <p:cNvSpPr/>
            <p:nvPr/>
          </p:nvSpPr>
          <p:spPr>
            <a:xfrm>
              <a:off x="3521880" y="3311640"/>
              <a:ext cx="81360" cy="86400"/>
            </a:xfrm>
            <a:custGeom>
              <a:avLst/>
              <a:gdLst/>
              <a:ahLst/>
              <a:rect l="l" t="t" r="r" b="b"/>
              <a:pathLst>
                <a:path w="354" h="348">
                  <a:moveTo>
                    <a:pt x="273" y="0"/>
                  </a:moveTo>
                  <a:lnTo>
                    <a:pt x="256" y="34"/>
                  </a:lnTo>
                  <a:lnTo>
                    <a:pt x="244" y="67"/>
                  </a:lnTo>
                  <a:lnTo>
                    <a:pt x="215" y="73"/>
                  </a:lnTo>
                  <a:lnTo>
                    <a:pt x="186" y="84"/>
                  </a:lnTo>
                  <a:lnTo>
                    <a:pt x="157" y="89"/>
                  </a:lnTo>
                  <a:lnTo>
                    <a:pt x="128" y="95"/>
                  </a:lnTo>
                  <a:lnTo>
                    <a:pt x="70" y="112"/>
                  </a:lnTo>
                  <a:lnTo>
                    <a:pt x="35" y="145"/>
                  </a:lnTo>
                  <a:lnTo>
                    <a:pt x="12" y="174"/>
                  </a:lnTo>
                  <a:lnTo>
                    <a:pt x="5" y="208"/>
                  </a:lnTo>
                  <a:lnTo>
                    <a:pt x="0" y="241"/>
                  </a:lnTo>
                  <a:lnTo>
                    <a:pt x="5" y="280"/>
                  </a:lnTo>
                  <a:lnTo>
                    <a:pt x="29" y="326"/>
                  </a:lnTo>
                  <a:lnTo>
                    <a:pt x="76" y="348"/>
                  </a:lnTo>
                  <a:lnTo>
                    <a:pt x="128" y="336"/>
                  </a:lnTo>
                  <a:lnTo>
                    <a:pt x="186" y="319"/>
                  </a:lnTo>
                  <a:lnTo>
                    <a:pt x="233" y="297"/>
                  </a:lnTo>
                  <a:lnTo>
                    <a:pt x="279" y="269"/>
                  </a:lnTo>
                  <a:lnTo>
                    <a:pt x="308" y="230"/>
                  </a:lnTo>
                  <a:lnTo>
                    <a:pt x="337" y="184"/>
                  </a:lnTo>
                  <a:lnTo>
                    <a:pt x="354" y="135"/>
                  </a:lnTo>
                  <a:lnTo>
                    <a:pt x="354" y="78"/>
                  </a:lnTo>
                  <a:lnTo>
                    <a:pt x="337" y="56"/>
                  </a:lnTo>
                  <a:lnTo>
                    <a:pt x="314" y="34"/>
                  </a:lnTo>
                  <a:lnTo>
                    <a:pt x="285" y="10"/>
                  </a:lnTo>
                  <a:lnTo>
                    <a:pt x="273"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201" name=""/>
            <p:cNvSpPr/>
            <p:nvPr/>
          </p:nvSpPr>
          <p:spPr>
            <a:xfrm>
              <a:off x="3010320" y="3315600"/>
              <a:ext cx="15120" cy="48960"/>
            </a:xfrm>
            <a:custGeom>
              <a:avLst/>
              <a:gdLst/>
              <a:ahLst/>
              <a:rect l="l" t="t" r="r" b="b"/>
              <a:pathLst>
                <a:path w="64" h="201">
                  <a:moveTo>
                    <a:pt x="17" y="0"/>
                  </a:moveTo>
                  <a:lnTo>
                    <a:pt x="6" y="17"/>
                  </a:lnTo>
                  <a:lnTo>
                    <a:pt x="6" y="56"/>
                  </a:lnTo>
                  <a:lnTo>
                    <a:pt x="0" y="89"/>
                  </a:lnTo>
                  <a:lnTo>
                    <a:pt x="0" y="135"/>
                  </a:lnTo>
                  <a:lnTo>
                    <a:pt x="0" y="162"/>
                  </a:lnTo>
                  <a:lnTo>
                    <a:pt x="6" y="191"/>
                  </a:lnTo>
                  <a:lnTo>
                    <a:pt x="24" y="201"/>
                  </a:lnTo>
                  <a:lnTo>
                    <a:pt x="52" y="201"/>
                  </a:lnTo>
                  <a:lnTo>
                    <a:pt x="58" y="184"/>
                  </a:lnTo>
                  <a:lnTo>
                    <a:pt x="64" y="157"/>
                  </a:lnTo>
                  <a:lnTo>
                    <a:pt x="58" y="123"/>
                  </a:lnTo>
                  <a:lnTo>
                    <a:pt x="58" y="95"/>
                  </a:lnTo>
                  <a:lnTo>
                    <a:pt x="47" y="61"/>
                  </a:lnTo>
                  <a:lnTo>
                    <a:pt x="47" y="27"/>
                  </a:lnTo>
                  <a:lnTo>
                    <a:pt x="47" y="5"/>
                  </a:lnTo>
                  <a:lnTo>
                    <a:pt x="52" y="0"/>
                  </a:lnTo>
                  <a:lnTo>
                    <a:pt x="35" y="0"/>
                  </a:lnTo>
                  <a:lnTo>
                    <a:pt x="17" y="0"/>
                  </a:lnTo>
                  <a:close/>
                </a:path>
              </a:pathLst>
            </a:custGeom>
            <a:solidFill>
              <a:srgbClr val="f4bff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02" name=""/>
            <p:cNvSpPr/>
            <p:nvPr/>
          </p:nvSpPr>
          <p:spPr>
            <a:xfrm>
              <a:off x="3277440" y="3315600"/>
              <a:ext cx="46800" cy="82440"/>
            </a:xfrm>
            <a:custGeom>
              <a:avLst/>
              <a:gdLst/>
              <a:ahLst/>
              <a:rect l="l" t="t" r="r" b="b"/>
              <a:pathLst>
                <a:path w="203" h="331">
                  <a:moveTo>
                    <a:pt x="69" y="0"/>
                  </a:moveTo>
                  <a:lnTo>
                    <a:pt x="46" y="33"/>
                  </a:lnTo>
                  <a:lnTo>
                    <a:pt x="28" y="84"/>
                  </a:lnTo>
                  <a:lnTo>
                    <a:pt x="11" y="140"/>
                  </a:lnTo>
                  <a:lnTo>
                    <a:pt x="0" y="201"/>
                  </a:lnTo>
                  <a:lnTo>
                    <a:pt x="0" y="252"/>
                  </a:lnTo>
                  <a:lnTo>
                    <a:pt x="16" y="297"/>
                  </a:lnTo>
                  <a:lnTo>
                    <a:pt x="51" y="326"/>
                  </a:lnTo>
                  <a:lnTo>
                    <a:pt x="122" y="331"/>
                  </a:lnTo>
                  <a:lnTo>
                    <a:pt x="162" y="309"/>
                  </a:lnTo>
                  <a:lnTo>
                    <a:pt x="185" y="280"/>
                  </a:lnTo>
                  <a:lnTo>
                    <a:pt x="198" y="230"/>
                  </a:lnTo>
                  <a:lnTo>
                    <a:pt x="203" y="184"/>
                  </a:lnTo>
                  <a:lnTo>
                    <a:pt x="191" y="128"/>
                  </a:lnTo>
                  <a:lnTo>
                    <a:pt x="180" y="78"/>
                  </a:lnTo>
                  <a:lnTo>
                    <a:pt x="168" y="27"/>
                  </a:lnTo>
                  <a:lnTo>
                    <a:pt x="162" y="0"/>
                  </a:lnTo>
                  <a:lnTo>
                    <a:pt x="115" y="0"/>
                  </a:lnTo>
                  <a:lnTo>
                    <a:pt x="69" y="0"/>
                  </a:lnTo>
                  <a:close/>
                </a:path>
              </a:pathLst>
            </a:custGeom>
            <a:solidFill>
              <a:srgbClr val="fba1c2"/>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3" name=""/>
            <p:cNvSpPr/>
            <p:nvPr/>
          </p:nvSpPr>
          <p:spPr>
            <a:xfrm>
              <a:off x="4072320" y="3316680"/>
              <a:ext cx="121320" cy="293400"/>
            </a:xfrm>
            <a:custGeom>
              <a:avLst/>
              <a:gdLst/>
              <a:ahLst/>
              <a:rect l="l" t="t" r="r" b="b"/>
              <a:pathLst>
                <a:path w="524" h="1164">
                  <a:moveTo>
                    <a:pt x="321" y="5"/>
                  </a:moveTo>
                  <a:lnTo>
                    <a:pt x="245" y="17"/>
                  </a:lnTo>
                  <a:lnTo>
                    <a:pt x="181" y="51"/>
                  </a:lnTo>
                  <a:lnTo>
                    <a:pt x="123" y="96"/>
                  </a:lnTo>
                  <a:lnTo>
                    <a:pt x="82" y="162"/>
                  </a:lnTo>
                  <a:lnTo>
                    <a:pt x="42" y="236"/>
                  </a:lnTo>
                  <a:lnTo>
                    <a:pt x="17" y="321"/>
                  </a:lnTo>
                  <a:lnTo>
                    <a:pt x="0" y="405"/>
                  </a:lnTo>
                  <a:lnTo>
                    <a:pt x="0" y="495"/>
                  </a:lnTo>
                  <a:lnTo>
                    <a:pt x="0" y="528"/>
                  </a:lnTo>
                  <a:lnTo>
                    <a:pt x="17" y="551"/>
                  </a:lnTo>
                  <a:lnTo>
                    <a:pt x="42" y="557"/>
                  </a:lnTo>
                  <a:lnTo>
                    <a:pt x="82" y="574"/>
                  </a:lnTo>
                  <a:lnTo>
                    <a:pt x="76" y="534"/>
                  </a:lnTo>
                  <a:lnTo>
                    <a:pt x="70" y="500"/>
                  </a:lnTo>
                  <a:lnTo>
                    <a:pt x="70" y="461"/>
                  </a:lnTo>
                  <a:lnTo>
                    <a:pt x="70" y="427"/>
                  </a:lnTo>
                  <a:lnTo>
                    <a:pt x="70" y="388"/>
                  </a:lnTo>
                  <a:lnTo>
                    <a:pt x="70" y="354"/>
                  </a:lnTo>
                  <a:lnTo>
                    <a:pt x="70" y="314"/>
                  </a:lnTo>
                  <a:lnTo>
                    <a:pt x="70" y="275"/>
                  </a:lnTo>
                  <a:lnTo>
                    <a:pt x="123" y="264"/>
                  </a:lnTo>
                  <a:lnTo>
                    <a:pt x="123" y="292"/>
                  </a:lnTo>
                  <a:lnTo>
                    <a:pt x="128" y="338"/>
                  </a:lnTo>
                  <a:lnTo>
                    <a:pt x="134" y="388"/>
                  </a:lnTo>
                  <a:lnTo>
                    <a:pt x="146" y="444"/>
                  </a:lnTo>
                  <a:lnTo>
                    <a:pt x="151" y="489"/>
                  </a:lnTo>
                  <a:lnTo>
                    <a:pt x="164" y="534"/>
                  </a:lnTo>
                  <a:lnTo>
                    <a:pt x="169" y="562"/>
                  </a:lnTo>
                  <a:lnTo>
                    <a:pt x="174" y="574"/>
                  </a:lnTo>
                  <a:lnTo>
                    <a:pt x="164" y="584"/>
                  </a:lnTo>
                  <a:lnTo>
                    <a:pt x="151" y="613"/>
                  </a:lnTo>
                  <a:lnTo>
                    <a:pt x="140" y="641"/>
                  </a:lnTo>
                  <a:lnTo>
                    <a:pt x="134" y="664"/>
                  </a:lnTo>
                  <a:lnTo>
                    <a:pt x="111" y="675"/>
                  </a:lnTo>
                  <a:lnTo>
                    <a:pt x="82" y="675"/>
                  </a:lnTo>
                  <a:lnTo>
                    <a:pt x="76" y="714"/>
                  </a:lnTo>
                  <a:lnTo>
                    <a:pt x="76" y="765"/>
                  </a:lnTo>
                  <a:lnTo>
                    <a:pt x="76" y="815"/>
                  </a:lnTo>
                  <a:lnTo>
                    <a:pt x="76" y="866"/>
                  </a:lnTo>
                  <a:lnTo>
                    <a:pt x="76" y="905"/>
                  </a:lnTo>
                  <a:lnTo>
                    <a:pt x="76" y="950"/>
                  </a:lnTo>
                  <a:lnTo>
                    <a:pt x="76" y="989"/>
                  </a:lnTo>
                  <a:lnTo>
                    <a:pt x="82" y="1023"/>
                  </a:lnTo>
                  <a:lnTo>
                    <a:pt x="76" y="1074"/>
                  </a:lnTo>
                  <a:lnTo>
                    <a:pt x="88" y="1119"/>
                  </a:lnTo>
                  <a:lnTo>
                    <a:pt x="93" y="1130"/>
                  </a:lnTo>
                  <a:lnTo>
                    <a:pt x="116" y="1141"/>
                  </a:lnTo>
                  <a:lnTo>
                    <a:pt x="146" y="1153"/>
                  </a:lnTo>
                  <a:lnTo>
                    <a:pt x="187" y="1164"/>
                  </a:lnTo>
                  <a:lnTo>
                    <a:pt x="233" y="1164"/>
                  </a:lnTo>
                  <a:lnTo>
                    <a:pt x="285" y="1153"/>
                  </a:lnTo>
                  <a:lnTo>
                    <a:pt x="326" y="1130"/>
                  </a:lnTo>
                  <a:lnTo>
                    <a:pt x="372" y="1113"/>
                  </a:lnTo>
                  <a:lnTo>
                    <a:pt x="407" y="1085"/>
                  </a:lnTo>
                  <a:lnTo>
                    <a:pt x="448" y="1057"/>
                  </a:lnTo>
                  <a:lnTo>
                    <a:pt x="483" y="1029"/>
                  </a:lnTo>
                  <a:lnTo>
                    <a:pt x="524" y="1012"/>
                  </a:lnTo>
                  <a:lnTo>
                    <a:pt x="501" y="956"/>
                  </a:lnTo>
                  <a:lnTo>
                    <a:pt x="494" y="910"/>
                  </a:lnTo>
                  <a:lnTo>
                    <a:pt x="494" y="860"/>
                  </a:lnTo>
                  <a:lnTo>
                    <a:pt x="501" y="821"/>
                  </a:lnTo>
                  <a:lnTo>
                    <a:pt x="501" y="770"/>
                  </a:lnTo>
                  <a:lnTo>
                    <a:pt x="506" y="726"/>
                  </a:lnTo>
                  <a:lnTo>
                    <a:pt x="506" y="675"/>
                  </a:lnTo>
                  <a:lnTo>
                    <a:pt x="512" y="624"/>
                  </a:lnTo>
                  <a:lnTo>
                    <a:pt x="471" y="635"/>
                  </a:lnTo>
                  <a:lnTo>
                    <a:pt x="448" y="641"/>
                  </a:lnTo>
                  <a:lnTo>
                    <a:pt x="419" y="641"/>
                  </a:lnTo>
                  <a:lnTo>
                    <a:pt x="402" y="641"/>
                  </a:lnTo>
                  <a:lnTo>
                    <a:pt x="355" y="618"/>
                  </a:lnTo>
                  <a:lnTo>
                    <a:pt x="308" y="584"/>
                  </a:lnTo>
                  <a:lnTo>
                    <a:pt x="314" y="523"/>
                  </a:lnTo>
                  <a:lnTo>
                    <a:pt x="331" y="461"/>
                  </a:lnTo>
                  <a:lnTo>
                    <a:pt x="337" y="393"/>
                  </a:lnTo>
                  <a:lnTo>
                    <a:pt x="355" y="338"/>
                  </a:lnTo>
                  <a:lnTo>
                    <a:pt x="361" y="270"/>
                  </a:lnTo>
                  <a:lnTo>
                    <a:pt x="372" y="213"/>
                  </a:lnTo>
                  <a:lnTo>
                    <a:pt x="384" y="157"/>
                  </a:lnTo>
                  <a:lnTo>
                    <a:pt x="402" y="107"/>
                  </a:lnTo>
                  <a:lnTo>
                    <a:pt x="384" y="79"/>
                  </a:lnTo>
                  <a:lnTo>
                    <a:pt x="390" y="45"/>
                  </a:lnTo>
                  <a:lnTo>
                    <a:pt x="379" y="28"/>
                  </a:lnTo>
                  <a:lnTo>
                    <a:pt x="372" y="12"/>
                  </a:lnTo>
                  <a:lnTo>
                    <a:pt x="349" y="0"/>
                  </a:lnTo>
                  <a:lnTo>
                    <a:pt x="321" y="5"/>
                  </a:lnTo>
                  <a:close/>
                </a:path>
              </a:pathLst>
            </a:custGeom>
            <a:solidFill>
              <a:srgbClr val="fdb1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162600" y="3324960"/>
              <a:ext cx="21600" cy="55800"/>
            </a:xfrm>
            <a:custGeom>
              <a:avLst/>
              <a:gdLst/>
              <a:ahLst/>
              <a:rect l="l" t="t" r="r" b="b"/>
              <a:pathLst>
                <a:path w="99" h="219">
                  <a:moveTo>
                    <a:pt x="35" y="0"/>
                  </a:moveTo>
                  <a:lnTo>
                    <a:pt x="12" y="45"/>
                  </a:lnTo>
                  <a:lnTo>
                    <a:pt x="7" y="96"/>
                  </a:lnTo>
                  <a:lnTo>
                    <a:pt x="0" y="118"/>
                  </a:lnTo>
                  <a:lnTo>
                    <a:pt x="0" y="145"/>
                  </a:lnTo>
                  <a:lnTo>
                    <a:pt x="0" y="179"/>
                  </a:lnTo>
                  <a:lnTo>
                    <a:pt x="12" y="219"/>
                  </a:lnTo>
                  <a:lnTo>
                    <a:pt x="41" y="213"/>
                  </a:lnTo>
                  <a:lnTo>
                    <a:pt x="76" y="219"/>
                  </a:lnTo>
                  <a:lnTo>
                    <a:pt x="83" y="174"/>
                  </a:lnTo>
                  <a:lnTo>
                    <a:pt x="88" y="140"/>
                  </a:lnTo>
                  <a:lnTo>
                    <a:pt x="94" y="106"/>
                  </a:lnTo>
                  <a:lnTo>
                    <a:pt x="99" y="89"/>
                  </a:lnTo>
                  <a:lnTo>
                    <a:pt x="76" y="45"/>
                  </a:lnTo>
                  <a:lnTo>
                    <a:pt x="35" y="0"/>
                  </a:lnTo>
                  <a:close/>
                </a:path>
              </a:pathLst>
            </a:custGeom>
            <a:solidFill>
              <a:srgbClr val="e4fde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05" name=""/>
            <p:cNvSpPr/>
            <p:nvPr/>
          </p:nvSpPr>
          <p:spPr>
            <a:xfrm>
              <a:off x="3216600" y="3324960"/>
              <a:ext cx="28800" cy="67680"/>
            </a:xfrm>
            <a:custGeom>
              <a:avLst/>
              <a:gdLst/>
              <a:ahLst/>
              <a:rect l="l" t="t" r="r" b="b"/>
              <a:pathLst>
                <a:path w="123" h="270">
                  <a:moveTo>
                    <a:pt x="41" y="0"/>
                  </a:moveTo>
                  <a:lnTo>
                    <a:pt x="25" y="45"/>
                  </a:lnTo>
                  <a:lnTo>
                    <a:pt x="13" y="84"/>
                  </a:lnTo>
                  <a:lnTo>
                    <a:pt x="0" y="118"/>
                  </a:lnTo>
                  <a:lnTo>
                    <a:pt x="0" y="152"/>
                  </a:lnTo>
                  <a:lnTo>
                    <a:pt x="0" y="179"/>
                  </a:lnTo>
                  <a:lnTo>
                    <a:pt x="13" y="208"/>
                  </a:lnTo>
                  <a:lnTo>
                    <a:pt x="36" y="236"/>
                  </a:lnTo>
                  <a:lnTo>
                    <a:pt x="76" y="270"/>
                  </a:lnTo>
                  <a:lnTo>
                    <a:pt x="88" y="219"/>
                  </a:lnTo>
                  <a:lnTo>
                    <a:pt x="106" y="185"/>
                  </a:lnTo>
                  <a:lnTo>
                    <a:pt x="117" y="152"/>
                  </a:lnTo>
                  <a:lnTo>
                    <a:pt x="123" y="118"/>
                  </a:lnTo>
                  <a:lnTo>
                    <a:pt x="117" y="84"/>
                  </a:lnTo>
                  <a:lnTo>
                    <a:pt x="106" y="56"/>
                  </a:lnTo>
                  <a:lnTo>
                    <a:pt x="76" y="28"/>
                  </a:lnTo>
                  <a:lnTo>
                    <a:pt x="41" y="0"/>
                  </a:lnTo>
                  <a:close/>
                </a:path>
              </a:pathLst>
            </a:custGeom>
            <a:solidFill>
              <a:srgbClr val="cacdf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06" name=""/>
            <p:cNvSpPr/>
            <p:nvPr/>
          </p:nvSpPr>
          <p:spPr>
            <a:xfrm>
              <a:off x="3457080" y="3324960"/>
              <a:ext cx="39960" cy="47520"/>
            </a:xfrm>
            <a:custGeom>
              <a:avLst/>
              <a:gdLst/>
              <a:ahLst/>
              <a:rect l="l" t="t" r="r" b="b"/>
              <a:pathLst>
                <a:path w="175" h="191">
                  <a:moveTo>
                    <a:pt x="134" y="0"/>
                  </a:moveTo>
                  <a:lnTo>
                    <a:pt x="94" y="0"/>
                  </a:lnTo>
                  <a:lnTo>
                    <a:pt x="64" y="5"/>
                  </a:lnTo>
                  <a:lnTo>
                    <a:pt x="41" y="11"/>
                  </a:lnTo>
                  <a:lnTo>
                    <a:pt x="23" y="28"/>
                  </a:lnTo>
                  <a:lnTo>
                    <a:pt x="6" y="45"/>
                  </a:lnTo>
                  <a:lnTo>
                    <a:pt x="0" y="73"/>
                  </a:lnTo>
                  <a:lnTo>
                    <a:pt x="0" y="106"/>
                  </a:lnTo>
                  <a:lnTo>
                    <a:pt x="0" y="162"/>
                  </a:lnTo>
                  <a:lnTo>
                    <a:pt x="52" y="179"/>
                  </a:lnTo>
                  <a:lnTo>
                    <a:pt x="70" y="185"/>
                  </a:lnTo>
                  <a:lnTo>
                    <a:pt x="87" y="185"/>
                  </a:lnTo>
                  <a:lnTo>
                    <a:pt x="105" y="191"/>
                  </a:lnTo>
                  <a:lnTo>
                    <a:pt x="128" y="179"/>
                  </a:lnTo>
                  <a:lnTo>
                    <a:pt x="151" y="162"/>
                  </a:lnTo>
                  <a:lnTo>
                    <a:pt x="163" y="140"/>
                  </a:lnTo>
                  <a:lnTo>
                    <a:pt x="175" y="118"/>
                  </a:lnTo>
                  <a:lnTo>
                    <a:pt x="175" y="84"/>
                  </a:lnTo>
                  <a:lnTo>
                    <a:pt x="175" y="56"/>
                  </a:lnTo>
                  <a:lnTo>
                    <a:pt x="168" y="22"/>
                  </a:lnTo>
                  <a:lnTo>
                    <a:pt x="168" y="0"/>
                  </a:lnTo>
                  <a:lnTo>
                    <a:pt x="151" y="0"/>
                  </a:lnTo>
                  <a:lnTo>
                    <a:pt x="134" y="0"/>
                  </a:lnTo>
                  <a:close/>
                </a:path>
              </a:pathLst>
            </a:custGeom>
            <a:solidFill>
              <a:srgbClr val="0cd2c9"/>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7" name=""/>
            <p:cNvSpPr/>
            <p:nvPr/>
          </p:nvSpPr>
          <p:spPr>
            <a:xfrm>
              <a:off x="3600720" y="3330000"/>
              <a:ext cx="98280" cy="240120"/>
            </a:xfrm>
            <a:custGeom>
              <a:avLst/>
              <a:gdLst/>
              <a:ahLst/>
              <a:rect l="l" t="t" r="r" b="b"/>
              <a:pathLst>
                <a:path w="425" h="956">
                  <a:moveTo>
                    <a:pt x="169" y="0"/>
                  </a:moveTo>
                  <a:lnTo>
                    <a:pt x="123" y="6"/>
                  </a:lnTo>
                  <a:lnTo>
                    <a:pt x="99" y="34"/>
                  </a:lnTo>
                  <a:lnTo>
                    <a:pt x="83" y="62"/>
                  </a:lnTo>
                  <a:lnTo>
                    <a:pt x="65" y="106"/>
                  </a:lnTo>
                  <a:lnTo>
                    <a:pt x="35" y="152"/>
                  </a:lnTo>
                  <a:lnTo>
                    <a:pt x="18" y="202"/>
                  </a:lnTo>
                  <a:lnTo>
                    <a:pt x="0" y="248"/>
                  </a:lnTo>
                  <a:lnTo>
                    <a:pt x="0" y="298"/>
                  </a:lnTo>
                  <a:lnTo>
                    <a:pt x="0" y="343"/>
                  </a:lnTo>
                  <a:lnTo>
                    <a:pt x="12" y="388"/>
                  </a:lnTo>
                  <a:lnTo>
                    <a:pt x="30" y="439"/>
                  </a:lnTo>
                  <a:lnTo>
                    <a:pt x="65" y="489"/>
                  </a:lnTo>
                  <a:lnTo>
                    <a:pt x="71" y="501"/>
                  </a:lnTo>
                  <a:lnTo>
                    <a:pt x="88" y="518"/>
                  </a:lnTo>
                  <a:lnTo>
                    <a:pt x="106" y="528"/>
                  </a:lnTo>
                  <a:lnTo>
                    <a:pt x="117" y="540"/>
                  </a:lnTo>
                  <a:lnTo>
                    <a:pt x="117" y="579"/>
                  </a:lnTo>
                  <a:lnTo>
                    <a:pt x="111" y="624"/>
                  </a:lnTo>
                  <a:lnTo>
                    <a:pt x="99" y="663"/>
                  </a:lnTo>
                  <a:lnTo>
                    <a:pt x="94" y="714"/>
                  </a:lnTo>
                  <a:lnTo>
                    <a:pt x="76" y="753"/>
                  </a:lnTo>
                  <a:lnTo>
                    <a:pt x="65" y="798"/>
                  </a:lnTo>
                  <a:lnTo>
                    <a:pt x="48" y="844"/>
                  </a:lnTo>
                  <a:lnTo>
                    <a:pt x="48" y="888"/>
                  </a:lnTo>
                  <a:lnTo>
                    <a:pt x="88" y="905"/>
                  </a:lnTo>
                  <a:lnTo>
                    <a:pt x="134" y="928"/>
                  </a:lnTo>
                  <a:lnTo>
                    <a:pt x="152" y="933"/>
                  </a:lnTo>
                  <a:lnTo>
                    <a:pt x="181" y="945"/>
                  </a:lnTo>
                  <a:lnTo>
                    <a:pt x="210" y="950"/>
                  </a:lnTo>
                  <a:lnTo>
                    <a:pt x="251" y="956"/>
                  </a:lnTo>
                  <a:lnTo>
                    <a:pt x="286" y="956"/>
                  </a:lnTo>
                  <a:lnTo>
                    <a:pt x="326" y="956"/>
                  </a:lnTo>
                  <a:lnTo>
                    <a:pt x="367" y="956"/>
                  </a:lnTo>
                  <a:lnTo>
                    <a:pt x="408" y="956"/>
                  </a:lnTo>
                  <a:lnTo>
                    <a:pt x="408" y="945"/>
                  </a:lnTo>
                  <a:lnTo>
                    <a:pt x="413" y="928"/>
                  </a:lnTo>
                  <a:lnTo>
                    <a:pt x="413" y="900"/>
                  </a:lnTo>
                  <a:lnTo>
                    <a:pt x="425" y="888"/>
                  </a:lnTo>
                  <a:lnTo>
                    <a:pt x="420" y="815"/>
                  </a:lnTo>
                  <a:lnTo>
                    <a:pt x="413" y="748"/>
                  </a:lnTo>
                  <a:lnTo>
                    <a:pt x="408" y="675"/>
                  </a:lnTo>
                  <a:lnTo>
                    <a:pt x="408" y="602"/>
                  </a:lnTo>
                  <a:lnTo>
                    <a:pt x="402" y="518"/>
                  </a:lnTo>
                  <a:lnTo>
                    <a:pt x="402" y="439"/>
                  </a:lnTo>
                  <a:lnTo>
                    <a:pt x="408" y="360"/>
                  </a:lnTo>
                  <a:lnTo>
                    <a:pt x="425" y="287"/>
                  </a:lnTo>
                  <a:lnTo>
                    <a:pt x="408" y="275"/>
                  </a:lnTo>
                  <a:lnTo>
                    <a:pt x="396" y="270"/>
                  </a:lnTo>
                  <a:lnTo>
                    <a:pt x="378" y="258"/>
                  </a:lnTo>
                  <a:lnTo>
                    <a:pt x="373" y="258"/>
                  </a:lnTo>
                  <a:lnTo>
                    <a:pt x="367" y="225"/>
                  </a:lnTo>
                  <a:lnTo>
                    <a:pt x="378" y="186"/>
                  </a:lnTo>
                  <a:lnTo>
                    <a:pt x="385" y="140"/>
                  </a:lnTo>
                  <a:lnTo>
                    <a:pt x="385" y="106"/>
                  </a:lnTo>
                  <a:lnTo>
                    <a:pt x="367" y="91"/>
                  </a:lnTo>
                  <a:lnTo>
                    <a:pt x="349" y="74"/>
                  </a:lnTo>
                  <a:lnTo>
                    <a:pt x="314" y="57"/>
                  </a:lnTo>
                  <a:lnTo>
                    <a:pt x="286" y="40"/>
                  </a:lnTo>
                  <a:lnTo>
                    <a:pt x="245" y="23"/>
                  </a:lnTo>
                  <a:lnTo>
                    <a:pt x="216" y="11"/>
                  </a:lnTo>
                  <a:lnTo>
                    <a:pt x="181" y="0"/>
                  </a:lnTo>
                  <a:lnTo>
                    <a:pt x="169" y="0"/>
                  </a:lnTo>
                  <a:close/>
                </a:path>
              </a:pathLst>
            </a:custGeom>
            <a:solidFill>
              <a:srgbClr val="faa69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00440" y="3330000"/>
              <a:ext cx="57960" cy="237240"/>
            </a:xfrm>
            <a:custGeom>
              <a:avLst/>
              <a:gdLst/>
              <a:ahLst/>
              <a:rect l="l" t="t" r="r" b="b"/>
              <a:pathLst>
                <a:path w="250" h="939">
                  <a:moveTo>
                    <a:pt x="162" y="0"/>
                  </a:moveTo>
                  <a:lnTo>
                    <a:pt x="122" y="0"/>
                  </a:lnTo>
                  <a:lnTo>
                    <a:pt x="88" y="11"/>
                  </a:lnTo>
                  <a:lnTo>
                    <a:pt x="52" y="23"/>
                  </a:lnTo>
                  <a:lnTo>
                    <a:pt x="17" y="28"/>
                  </a:lnTo>
                  <a:lnTo>
                    <a:pt x="17" y="51"/>
                  </a:lnTo>
                  <a:lnTo>
                    <a:pt x="17" y="79"/>
                  </a:lnTo>
                  <a:lnTo>
                    <a:pt x="0" y="96"/>
                  </a:lnTo>
                  <a:lnTo>
                    <a:pt x="5" y="135"/>
                  </a:lnTo>
                  <a:lnTo>
                    <a:pt x="12" y="174"/>
                  </a:lnTo>
                  <a:lnTo>
                    <a:pt x="17" y="197"/>
                  </a:lnTo>
                  <a:lnTo>
                    <a:pt x="58" y="208"/>
                  </a:lnTo>
                  <a:lnTo>
                    <a:pt x="46" y="265"/>
                  </a:lnTo>
                  <a:lnTo>
                    <a:pt x="35" y="360"/>
                  </a:lnTo>
                  <a:lnTo>
                    <a:pt x="17" y="478"/>
                  </a:lnTo>
                  <a:lnTo>
                    <a:pt x="12" y="608"/>
                  </a:lnTo>
                  <a:lnTo>
                    <a:pt x="5" y="726"/>
                  </a:lnTo>
                  <a:lnTo>
                    <a:pt x="23" y="832"/>
                  </a:lnTo>
                  <a:lnTo>
                    <a:pt x="52" y="905"/>
                  </a:lnTo>
                  <a:lnTo>
                    <a:pt x="111" y="939"/>
                  </a:lnTo>
                  <a:lnTo>
                    <a:pt x="180" y="917"/>
                  </a:lnTo>
                  <a:lnTo>
                    <a:pt x="227" y="854"/>
                  </a:lnTo>
                  <a:lnTo>
                    <a:pt x="244" y="759"/>
                  </a:lnTo>
                  <a:lnTo>
                    <a:pt x="250" y="647"/>
                  </a:lnTo>
                  <a:lnTo>
                    <a:pt x="233" y="528"/>
                  </a:lnTo>
                  <a:lnTo>
                    <a:pt x="209" y="427"/>
                  </a:lnTo>
                  <a:lnTo>
                    <a:pt x="180" y="349"/>
                  </a:lnTo>
                  <a:lnTo>
                    <a:pt x="162" y="309"/>
                  </a:lnTo>
                  <a:lnTo>
                    <a:pt x="197" y="258"/>
                  </a:lnTo>
                  <a:lnTo>
                    <a:pt x="233" y="219"/>
                  </a:lnTo>
                  <a:lnTo>
                    <a:pt x="233" y="202"/>
                  </a:lnTo>
                  <a:lnTo>
                    <a:pt x="233" y="174"/>
                  </a:lnTo>
                  <a:lnTo>
                    <a:pt x="233" y="140"/>
                  </a:lnTo>
                  <a:lnTo>
                    <a:pt x="233" y="130"/>
                  </a:lnTo>
                  <a:lnTo>
                    <a:pt x="215" y="96"/>
                  </a:lnTo>
                  <a:lnTo>
                    <a:pt x="203" y="51"/>
                  </a:lnTo>
                  <a:lnTo>
                    <a:pt x="180" y="23"/>
                  </a:lnTo>
                  <a:lnTo>
                    <a:pt x="162" y="0"/>
                  </a:lnTo>
                  <a:close/>
                </a:path>
              </a:pathLst>
            </a:custGeom>
            <a:solidFill>
              <a:srgbClr val="6273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199400" y="3340800"/>
              <a:ext cx="122760" cy="443880"/>
            </a:xfrm>
            <a:custGeom>
              <a:avLst/>
              <a:gdLst/>
              <a:ahLst/>
              <a:rect l="l" t="t" r="r" b="b"/>
              <a:pathLst>
                <a:path w="529" h="1765">
                  <a:moveTo>
                    <a:pt x="314" y="0"/>
                  </a:moveTo>
                  <a:lnTo>
                    <a:pt x="309" y="22"/>
                  </a:lnTo>
                  <a:lnTo>
                    <a:pt x="303" y="66"/>
                  </a:lnTo>
                  <a:lnTo>
                    <a:pt x="297" y="106"/>
                  </a:lnTo>
                  <a:lnTo>
                    <a:pt x="291" y="146"/>
                  </a:lnTo>
                  <a:lnTo>
                    <a:pt x="262" y="162"/>
                  </a:lnTo>
                  <a:lnTo>
                    <a:pt x="227" y="185"/>
                  </a:lnTo>
                  <a:lnTo>
                    <a:pt x="187" y="201"/>
                  </a:lnTo>
                  <a:lnTo>
                    <a:pt x="146" y="225"/>
                  </a:lnTo>
                  <a:lnTo>
                    <a:pt x="99" y="242"/>
                  </a:lnTo>
                  <a:lnTo>
                    <a:pt x="65" y="264"/>
                  </a:lnTo>
                  <a:lnTo>
                    <a:pt x="35" y="286"/>
                  </a:lnTo>
                  <a:lnTo>
                    <a:pt x="23" y="326"/>
                  </a:lnTo>
                  <a:lnTo>
                    <a:pt x="12" y="360"/>
                  </a:lnTo>
                  <a:lnTo>
                    <a:pt x="7" y="427"/>
                  </a:lnTo>
                  <a:lnTo>
                    <a:pt x="0" y="500"/>
                  </a:lnTo>
                  <a:lnTo>
                    <a:pt x="0" y="590"/>
                  </a:lnTo>
                  <a:lnTo>
                    <a:pt x="0" y="669"/>
                  </a:lnTo>
                  <a:lnTo>
                    <a:pt x="0" y="753"/>
                  </a:lnTo>
                  <a:lnTo>
                    <a:pt x="7" y="809"/>
                  </a:lnTo>
                  <a:lnTo>
                    <a:pt x="12" y="848"/>
                  </a:lnTo>
                  <a:lnTo>
                    <a:pt x="41" y="848"/>
                  </a:lnTo>
                  <a:lnTo>
                    <a:pt x="76" y="860"/>
                  </a:lnTo>
                  <a:lnTo>
                    <a:pt x="111" y="865"/>
                  </a:lnTo>
                  <a:lnTo>
                    <a:pt x="146" y="877"/>
                  </a:lnTo>
                  <a:lnTo>
                    <a:pt x="111" y="949"/>
                  </a:lnTo>
                  <a:lnTo>
                    <a:pt x="99" y="1045"/>
                  </a:lnTo>
                  <a:lnTo>
                    <a:pt x="94" y="1157"/>
                  </a:lnTo>
                  <a:lnTo>
                    <a:pt x="111" y="1282"/>
                  </a:lnTo>
                  <a:lnTo>
                    <a:pt x="129" y="1400"/>
                  </a:lnTo>
                  <a:lnTo>
                    <a:pt x="146" y="1518"/>
                  </a:lnTo>
                  <a:lnTo>
                    <a:pt x="164" y="1630"/>
                  </a:lnTo>
                  <a:lnTo>
                    <a:pt x="180" y="1726"/>
                  </a:lnTo>
                  <a:lnTo>
                    <a:pt x="221" y="1731"/>
                  </a:lnTo>
                  <a:lnTo>
                    <a:pt x="268" y="1743"/>
                  </a:lnTo>
                  <a:lnTo>
                    <a:pt x="309" y="1748"/>
                  </a:lnTo>
                  <a:lnTo>
                    <a:pt x="355" y="1765"/>
                  </a:lnTo>
                  <a:lnTo>
                    <a:pt x="360" y="1765"/>
                  </a:lnTo>
                  <a:lnTo>
                    <a:pt x="390" y="1765"/>
                  </a:lnTo>
                  <a:lnTo>
                    <a:pt x="419" y="1765"/>
                  </a:lnTo>
                  <a:lnTo>
                    <a:pt x="436" y="1765"/>
                  </a:lnTo>
                  <a:lnTo>
                    <a:pt x="436" y="1731"/>
                  </a:lnTo>
                  <a:lnTo>
                    <a:pt x="448" y="1692"/>
                  </a:lnTo>
                  <a:lnTo>
                    <a:pt x="459" y="1641"/>
                  </a:lnTo>
                  <a:lnTo>
                    <a:pt x="471" y="1596"/>
                  </a:lnTo>
                  <a:lnTo>
                    <a:pt x="477" y="1540"/>
                  </a:lnTo>
                  <a:lnTo>
                    <a:pt x="483" y="1489"/>
                  </a:lnTo>
                  <a:lnTo>
                    <a:pt x="477" y="1439"/>
                  </a:lnTo>
                  <a:lnTo>
                    <a:pt x="477" y="1394"/>
                  </a:lnTo>
                  <a:lnTo>
                    <a:pt x="459" y="1371"/>
                  </a:lnTo>
                  <a:lnTo>
                    <a:pt x="443" y="1354"/>
                  </a:lnTo>
                  <a:lnTo>
                    <a:pt x="413" y="1332"/>
                  </a:lnTo>
                  <a:lnTo>
                    <a:pt x="408" y="1315"/>
                  </a:lnTo>
                  <a:lnTo>
                    <a:pt x="390" y="1258"/>
                  </a:lnTo>
                  <a:lnTo>
                    <a:pt x="372" y="1208"/>
                  </a:lnTo>
                  <a:lnTo>
                    <a:pt x="355" y="1152"/>
                  </a:lnTo>
                  <a:lnTo>
                    <a:pt x="337" y="1101"/>
                  </a:lnTo>
                  <a:lnTo>
                    <a:pt x="320" y="1045"/>
                  </a:lnTo>
                  <a:lnTo>
                    <a:pt x="303" y="995"/>
                  </a:lnTo>
                  <a:lnTo>
                    <a:pt x="291" y="949"/>
                  </a:lnTo>
                  <a:lnTo>
                    <a:pt x="291" y="916"/>
                  </a:lnTo>
                  <a:lnTo>
                    <a:pt x="279" y="797"/>
                  </a:lnTo>
                  <a:lnTo>
                    <a:pt x="286" y="686"/>
                  </a:lnTo>
                  <a:lnTo>
                    <a:pt x="303" y="573"/>
                  </a:lnTo>
                  <a:lnTo>
                    <a:pt x="344" y="478"/>
                  </a:lnTo>
                  <a:lnTo>
                    <a:pt x="378" y="377"/>
                  </a:lnTo>
                  <a:lnTo>
                    <a:pt x="425" y="292"/>
                  </a:lnTo>
                  <a:lnTo>
                    <a:pt x="477" y="213"/>
                  </a:lnTo>
                  <a:lnTo>
                    <a:pt x="529" y="157"/>
                  </a:lnTo>
                  <a:lnTo>
                    <a:pt x="517" y="146"/>
                  </a:lnTo>
                  <a:lnTo>
                    <a:pt x="500" y="117"/>
                  </a:lnTo>
                  <a:lnTo>
                    <a:pt x="477" y="83"/>
                  </a:lnTo>
                  <a:lnTo>
                    <a:pt x="459" y="66"/>
                  </a:lnTo>
                  <a:lnTo>
                    <a:pt x="431" y="34"/>
                  </a:lnTo>
                  <a:lnTo>
                    <a:pt x="413" y="17"/>
                  </a:lnTo>
                  <a:lnTo>
                    <a:pt x="378" y="0"/>
                  </a:lnTo>
                  <a:lnTo>
                    <a:pt x="332" y="0"/>
                  </a:lnTo>
                  <a:lnTo>
                    <a:pt x="320" y="0"/>
                  </a:lnTo>
                  <a:lnTo>
                    <a:pt x="314" y="0"/>
                  </a:lnTo>
                  <a:close/>
                </a:path>
              </a:pathLst>
            </a:custGeom>
            <a:solidFill>
              <a:srgbClr val="82fff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69680" y="3347640"/>
              <a:ext cx="37080" cy="33120"/>
            </a:xfrm>
            <a:custGeom>
              <a:avLst/>
              <a:gdLst/>
              <a:ahLst/>
              <a:rect l="l" t="t" r="r" b="b"/>
              <a:pathLst>
                <a:path w="157" h="130">
                  <a:moveTo>
                    <a:pt x="58" y="0"/>
                  </a:moveTo>
                  <a:lnTo>
                    <a:pt x="12" y="34"/>
                  </a:lnTo>
                  <a:lnTo>
                    <a:pt x="0" y="79"/>
                  </a:lnTo>
                  <a:lnTo>
                    <a:pt x="0" y="90"/>
                  </a:lnTo>
                  <a:lnTo>
                    <a:pt x="24" y="107"/>
                  </a:lnTo>
                  <a:lnTo>
                    <a:pt x="53" y="119"/>
                  </a:lnTo>
                  <a:lnTo>
                    <a:pt x="99" y="130"/>
                  </a:lnTo>
                  <a:lnTo>
                    <a:pt x="134" y="119"/>
                  </a:lnTo>
                  <a:lnTo>
                    <a:pt x="157" y="107"/>
                  </a:lnTo>
                  <a:lnTo>
                    <a:pt x="157" y="90"/>
                  </a:lnTo>
                  <a:lnTo>
                    <a:pt x="146" y="73"/>
                  </a:lnTo>
                  <a:lnTo>
                    <a:pt x="123" y="46"/>
                  </a:lnTo>
                  <a:lnTo>
                    <a:pt x="99" y="29"/>
                  </a:lnTo>
                  <a:lnTo>
                    <a:pt x="70" y="7"/>
                  </a:lnTo>
                  <a:lnTo>
                    <a:pt x="58" y="0"/>
                  </a:lnTo>
                  <a:close/>
                </a:path>
              </a:pathLst>
            </a:custGeom>
            <a:solidFill>
              <a:srgbClr val="f2ccb3"/>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1" name=""/>
            <p:cNvSpPr/>
            <p:nvPr/>
          </p:nvSpPr>
          <p:spPr>
            <a:xfrm>
              <a:off x="4500720" y="3352680"/>
              <a:ext cx="29160" cy="39600"/>
            </a:xfrm>
            <a:custGeom>
              <a:avLst/>
              <a:gdLst/>
              <a:ahLst/>
              <a:rect l="l" t="t" r="r" b="b"/>
              <a:pathLst>
                <a:path w="122" h="157">
                  <a:moveTo>
                    <a:pt x="116" y="0"/>
                  </a:moveTo>
                  <a:lnTo>
                    <a:pt x="76" y="10"/>
                  </a:lnTo>
                  <a:lnTo>
                    <a:pt x="47" y="22"/>
                  </a:lnTo>
                  <a:lnTo>
                    <a:pt x="23" y="32"/>
                  </a:lnTo>
                  <a:lnTo>
                    <a:pt x="12" y="49"/>
                  </a:lnTo>
                  <a:lnTo>
                    <a:pt x="0" y="66"/>
                  </a:lnTo>
                  <a:lnTo>
                    <a:pt x="0" y="89"/>
                  </a:lnTo>
                  <a:lnTo>
                    <a:pt x="0" y="117"/>
                  </a:lnTo>
                  <a:lnTo>
                    <a:pt x="5" y="157"/>
                  </a:lnTo>
                  <a:lnTo>
                    <a:pt x="47" y="140"/>
                  </a:lnTo>
                  <a:lnTo>
                    <a:pt x="81" y="128"/>
                  </a:lnTo>
                  <a:lnTo>
                    <a:pt x="99" y="111"/>
                  </a:lnTo>
                  <a:lnTo>
                    <a:pt x="116" y="100"/>
                  </a:lnTo>
                  <a:lnTo>
                    <a:pt x="116" y="78"/>
                  </a:lnTo>
                  <a:lnTo>
                    <a:pt x="122" y="61"/>
                  </a:lnTo>
                  <a:lnTo>
                    <a:pt x="116" y="27"/>
                  </a:lnTo>
                  <a:lnTo>
                    <a:pt x="116" y="0"/>
                  </a:lnTo>
                  <a:close/>
                </a:path>
              </a:pathLst>
            </a:custGeom>
            <a:solidFill>
              <a:srgbClr val="e3bfb8"/>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12" name=""/>
            <p:cNvSpPr/>
            <p:nvPr/>
          </p:nvSpPr>
          <p:spPr>
            <a:xfrm>
              <a:off x="4281120" y="3383640"/>
              <a:ext cx="78480" cy="290520"/>
            </a:xfrm>
            <a:custGeom>
              <a:avLst/>
              <a:gdLst/>
              <a:ahLst/>
              <a:rect l="l" t="t" r="r" b="b"/>
              <a:pathLst>
                <a:path w="337" h="1158">
                  <a:moveTo>
                    <a:pt x="308" y="0"/>
                  </a:moveTo>
                  <a:lnTo>
                    <a:pt x="273" y="0"/>
                  </a:lnTo>
                  <a:lnTo>
                    <a:pt x="244" y="17"/>
                  </a:lnTo>
                  <a:lnTo>
                    <a:pt x="215" y="33"/>
                  </a:lnTo>
                  <a:lnTo>
                    <a:pt x="197" y="62"/>
                  </a:lnTo>
                  <a:lnTo>
                    <a:pt x="180" y="90"/>
                  </a:lnTo>
                  <a:lnTo>
                    <a:pt x="162" y="118"/>
                  </a:lnTo>
                  <a:lnTo>
                    <a:pt x="145" y="146"/>
                  </a:lnTo>
                  <a:lnTo>
                    <a:pt x="134" y="180"/>
                  </a:lnTo>
                  <a:lnTo>
                    <a:pt x="93" y="236"/>
                  </a:lnTo>
                  <a:lnTo>
                    <a:pt x="64" y="304"/>
                  </a:lnTo>
                  <a:lnTo>
                    <a:pt x="35" y="371"/>
                  </a:lnTo>
                  <a:lnTo>
                    <a:pt x="17" y="455"/>
                  </a:lnTo>
                  <a:lnTo>
                    <a:pt x="0" y="535"/>
                  </a:lnTo>
                  <a:lnTo>
                    <a:pt x="5" y="624"/>
                  </a:lnTo>
                  <a:lnTo>
                    <a:pt x="5" y="709"/>
                  </a:lnTo>
                  <a:lnTo>
                    <a:pt x="29" y="810"/>
                  </a:lnTo>
                  <a:lnTo>
                    <a:pt x="70" y="810"/>
                  </a:lnTo>
                  <a:lnTo>
                    <a:pt x="111" y="821"/>
                  </a:lnTo>
                  <a:lnTo>
                    <a:pt x="134" y="832"/>
                  </a:lnTo>
                  <a:lnTo>
                    <a:pt x="157" y="860"/>
                  </a:lnTo>
                  <a:lnTo>
                    <a:pt x="157" y="889"/>
                  </a:lnTo>
                  <a:lnTo>
                    <a:pt x="157" y="933"/>
                  </a:lnTo>
                  <a:lnTo>
                    <a:pt x="151" y="984"/>
                  </a:lnTo>
                  <a:lnTo>
                    <a:pt x="145" y="1057"/>
                  </a:lnTo>
                  <a:lnTo>
                    <a:pt x="139" y="1085"/>
                  </a:lnTo>
                  <a:lnTo>
                    <a:pt x="145" y="1119"/>
                  </a:lnTo>
                  <a:lnTo>
                    <a:pt x="162" y="1141"/>
                  </a:lnTo>
                  <a:lnTo>
                    <a:pt x="187" y="1158"/>
                  </a:lnTo>
                  <a:lnTo>
                    <a:pt x="203" y="1158"/>
                  </a:lnTo>
                  <a:lnTo>
                    <a:pt x="233" y="1153"/>
                  </a:lnTo>
                  <a:lnTo>
                    <a:pt x="256" y="1131"/>
                  </a:lnTo>
                  <a:lnTo>
                    <a:pt x="279" y="1097"/>
                  </a:lnTo>
                  <a:lnTo>
                    <a:pt x="302" y="972"/>
                  </a:lnTo>
                  <a:lnTo>
                    <a:pt x="314" y="844"/>
                  </a:lnTo>
                  <a:lnTo>
                    <a:pt x="308" y="703"/>
                  </a:lnTo>
                  <a:lnTo>
                    <a:pt x="302" y="568"/>
                  </a:lnTo>
                  <a:lnTo>
                    <a:pt x="285" y="422"/>
                  </a:lnTo>
                  <a:lnTo>
                    <a:pt x="285" y="287"/>
                  </a:lnTo>
                  <a:lnTo>
                    <a:pt x="296" y="163"/>
                  </a:lnTo>
                  <a:lnTo>
                    <a:pt x="331" y="62"/>
                  </a:lnTo>
                  <a:lnTo>
                    <a:pt x="326" y="45"/>
                  </a:lnTo>
                  <a:lnTo>
                    <a:pt x="337" y="23"/>
                  </a:lnTo>
                  <a:lnTo>
                    <a:pt x="337" y="0"/>
                  </a:lnTo>
                  <a:lnTo>
                    <a:pt x="308" y="0"/>
                  </a:lnTo>
                  <a:close/>
                </a:path>
              </a:pathLst>
            </a:custGeom>
            <a:solidFill>
              <a:srgbClr val="f3f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649040" y="3385800"/>
              <a:ext cx="114480" cy="344160"/>
            </a:xfrm>
            <a:custGeom>
              <a:avLst/>
              <a:gdLst/>
              <a:ahLst/>
              <a:rect l="l" t="t" r="r" b="b"/>
              <a:pathLst>
                <a:path w="501" h="1366">
                  <a:moveTo>
                    <a:pt x="151" y="0"/>
                  </a:moveTo>
                  <a:lnTo>
                    <a:pt x="81" y="135"/>
                  </a:lnTo>
                  <a:lnTo>
                    <a:pt x="30" y="309"/>
                  </a:lnTo>
                  <a:lnTo>
                    <a:pt x="0" y="500"/>
                  </a:lnTo>
                  <a:lnTo>
                    <a:pt x="0" y="703"/>
                  </a:lnTo>
                  <a:lnTo>
                    <a:pt x="18" y="889"/>
                  </a:lnTo>
                  <a:lnTo>
                    <a:pt x="76" y="1063"/>
                  </a:lnTo>
                  <a:lnTo>
                    <a:pt x="164" y="1198"/>
                  </a:lnTo>
                  <a:lnTo>
                    <a:pt x="285" y="1305"/>
                  </a:lnTo>
                  <a:lnTo>
                    <a:pt x="314" y="1316"/>
                  </a:lnTo>
                  <a:lnTo>
                    <a:pt x="349" y="1333"/>
                  </a:lnTo>
                  <a:lnTo>
                    <a:pt x="384" y="1350"/>
                  </a:lnTo>
                  <a:lnTo>
                    <a:pt x="418" y="1366"/>
                  </a:lnTo>
                  <a:lnTo>
                    <a:pt x="418" y="1350"/>
                  </a:lnTo>
                  <a:lnTo>
                    <a:pt x="418" y="1339"/>
                  </a:lnTo>
                  <a:lnTo>
                    <a:pt x="418" y="1322"/>
                  </a:lnTo>
                  <a:lnTo>
                    <a:pt x="418" y="1316"/>
                  </a:lnTo>
                  <a:lnTo>
                    <a:pt x="407" y="1231"/>
                  </a:lnTo>
                  <a:lnTo>
                    <a:pt x="395" y="1170"/>
                  </a:lnTo>
                  <a:lnTo>
                    <a:pt x="372" y="1113"/>
                  </a:lnTo>
                  <a:lnTo>
                    <a:pt x="355" y="1079"/>
                  </a:lnTo>
                  <a:lnTo>
                    <a:pt x="326" y="1040"/>
                  </a:lnTo>
                  <a:lnTo>
                    <a:pt x="296" y="1007"/>
                  </a:lnTo>
                  <a:lnTo>
                    <a:pt x="268" y="968"/>
                  </a:lnTo>
                  <a:lnTo>
                    <a:pt x="250" y="929"/>
                  </a:lnTo>
                  <a:lnTo>
                    <a:pt x="233" y="889"/>
                  </a:lnTo>
                  <a:lnTo>
                    <a:pt x="233" y="855"/>
                  </a:lnTo>
                  <a:lnTo>
                    <a:pt x="233" y="816"/>
                  </a:lnTo>
                  <a:lnTo>
                    <a:pt x="233" y="777"/>
                  </a:lnTo>
                  <a:lnTo>
                    <a:pt x="227" y="737"/>
                  </a:lnTo>
                  <a:lnTo>
                    <a:pt x="227" y="698"/>
                  </a:lnTo>
                  <a:lnTo>
                    <a:pt x="227" y="659"/>
                  </a:lnTo>
                  <a:lnTo>
                    <a:pt x="233" y="608"/>
                  </a:lnTo>
                  <a:lnTo>
                    <a:pt x="227" y="591"/>
                  </a:lnTo>
                  <a:lnTo>
                    <a:pt x="222" y="596"/>
                  </a:lnTo>
                  <a:lnTo>
                    <a:pt x="204" y="557"/>
                  </a:lnTo>
                  <a:lnTo>
                    <a:pt x="204" y="529"/>
                  </a:lnTo>
                  <a:lnTo>
                    <a:pt x="198" y="500"/>
                  </a:lnTo>
                  <a:lnTo>
                    <a:pt x="204" y="483"/>
                  </a:lnTo>
                  <a:lnTo>
                    <a:pt x="227" y="451"/>
                  </a:lnTo>
                  <a:lnTo>
                    <a:pt x="273" y="417"/>
                  </a:lnTo>
                  <a:lnTo>
                    <a:pt x="285" y="507"/>
                  </a:lnTo>
                  <a:lnTo>
                    <a:pt x="296" y="596"/>
                  </a:lnTo>
                  <a:lnTo>
                    <a:pt x="303" y="681"/>
                  </a:lnTo>
                  <a:lnTo>
                    <a:pt x="319" y="765"/>
                  </a:lnTo>
                  <a:lnTo>
                    <a:pt x="332" y="838"/>
                  </a:lnTo>
                  <a:lnTo>
                    <a:pt x="361" y="912"/>
                  </a:lnTo>
                  <a:lnTo>
                    <a:pt x="402" y="978"/>
                  </a:lnTo>
                  <a:lnTo>
                    <a:pt x="460" y="1046"/>
                  </a:lnTo>
                  <a:lnTo>
                    <a:pt x="453" y="985"/>
                  </a:lnTo>
                  <a:lnTo>
                    <a:pt x="448" y="922"/>
                  </a:lnTo>
                  <a:lnTo>
                    <a:pt x="436" y="855"/>
                  </a:lnTo>
                  <a:lnTo>
                    <a:pt x="436" y="794"/>
                  </a:lnTo>
                  <a:lnTo>
                    <a:pt x="430" y="726"/>
                  </a:lnTo>
                  <a:lnTo>
                    <a:pt x="430" y="664"/>
                  </a:lnTo>
                  <a:lnTo>
                    <a:pt x="430" y="596"/>
                  </a:lnTo>
                  <a:lnTo>
                    <a:pt x="448" y="546"/>
                  </a:lnTo>
                  <a:lnTo>
                    <a:pt x="471" y="512"/>
                  </a:lnTo>
                  <a:lnTo>
                    <a:pt x="501" y="478"/>
                  </a:lnTo>
                  <a:lnTo>
                    <a:pt x="489" y="444"/>
                  </a:lnTo>
                  <a:lnTo>
                    <a:pt x="460" y="389"/>
                  </a:lnTo>
                  <a:lnTo>
                    <a:pt x="425" y="309"/>
                  </a:lnTo>
                  <a:lnTo>
                    <a:pt x="384" y="237"/>
                  </a:lnTo>
                  <a:lnTo>
                    <a:pt x="332" y="152"/>
                  </a:lnTo>
                  <a:lnTo>
                    <a:pt x="291" y="85"/>
                  </a:lnTo>
                  <a:lnTo>
                    <a:pt x="262" y="34"/>
                  </a:lnTo>
                  <a:lnTo>
                    <a:pt x="250" y="17"/>
                  </a:lnTo>
                  <a:lnTo>
                    <a:pt x="222" y="6"/>
                  </a:lnTo>
                  <a:lnTo>
                    <a:pt x="198" y="0"/>
                  </a:lnTo>
                  <a:lnTo>
                    <a:pt x="169" y="0"/>
                  </a:lnTo>
                  <a:lnTo>
                    <a:pt x="151"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310280" y="3392640"/>
              <a:ext cx="177840" cy="593640"/>
            </a:xfrm>
            <a:custGeom>
              <a:avLst/>
              <a:gdLst/>
              <a:ahLst/>
              <a:rect l="l" t="t" r="r" b="b"/>
              <a:pathLst>
                <a:path w="773" h="2355">
                  <a:moveTo>
                    <a:pt x="494" y="0"/>
                  </a:moveTo>
                  <a:lnTo>
                    <a:pt x="448" y="0"/>
                  </a:lnTo>
                  <a:lnTo>
                    <a:pt x="407" y="0"/>
                  </a:lnTo>
                  <a:lnTo>
                    <a:pt x="372" y="5"/>
                  </a:lnTo>
                  <a:lnTo>
                    <a:pt x="343" y="22"/>
                  </a:lnTo>
                  <a:lnTo>
                    <a:pt x="308" y="34"/>
                  </a:lnTo>
                  <a:lnTo>
                    <a:pt x="291" y="56"/>
                  </a:lnTo>
                  <a:lnTo>
                    <a:pt x="268" y="78"/>
                  </a:lnTo>
                  <a:lnTo>
                    <a:pt x="261" y="112"/>
                  </a:lnTo>
                  <a:lnTo>
                    <a:pt x="238" y="202"/>
                  </a:lnTo>
                  <a:lnTo>
                    <a:pt x="227" y="314"/>
                  </a:lnTo>
                  <a:lnTo>
                    <a:pt x="227" y="432"/>
                  </a:lnTo>
                  <a:lnTo>
                    <a:pt x="233" y="562"/>
                  </a:lnTo>
                  <a:lnTo>
                    <a:pt x="233" y="685"/>
                  </a:lnTo>
                  <a:lnTo>
                    <a:pt x="238" y="809"/>
                  </a:lnTo>
                  <a:lnTo>
                    <a:pt x="233" y="927"/>
                  </a:lnTo>
                  <a:lnTo>
                    <a:pt x="227" y="1028"/>
                  </a:lnTo>
                  <a:lnTo>
                    <a:pt x="209" y="1062"/>
                  </a:lnTo>
                  <a:lnTo>
                    <a:pt x="192" y="1096"/>
                  </a:lnTo>
                  <a:lnTo>
                    <a:pt x="163" y="1124"/>
                  </a:lnTo>
                  <a:lnTo>
                    <a:pt x="139" y="1158"/>
                  </a:lnTo>
                  <a:lnTo>
                    <a:pt x="111" y="1180"/>
                  </a:lnTo>
                  <a:lnTo>
                    <a:pt x="88" y="1214"/>
                  </a:lnTo>
                  <a:lnTo>
                    <a:pt x="65" y="1242"/>
                  </a:lnTo>
                  <a:lnTo>
                    <a:pt x="52" y="1276"/>
                  </a:lnTo>
                  <a:lnTo>
                    <a:pt x="35" y="1337"/>
                  </a:lnTo>
                  <a:lnTo>
                    <a:pt x="17" y="1445"/>
                  </a:lnTo>
                  <a:lnTo>
                    <a:pt x="6" y="1574"/>
                  </a:lnTo>
                  <a:lnTo>
                    <a:pt x="6" y="1726"/>
                  </a:lnTo>
                  <a:lnTo>
                    <a:pt x="0" y="1872"/>
                  </a:lnTo>
                  <a:lnTo>
                    <a:pt x="0" y="2018"/>
                  </a:lnTo>
                  <a:lnTo>
                    <a:pt x="6" y="2136"/>
                  </a:lnTo>
                  <a:lnTo>
                    <a:pt x="23" y="2226"/>
                  </a:lnTo>
                  <a:lnTo>
                    <a:pt x="40" y="2271"/>
                  </a:lnTo>
                  <a:lnTo>
                    <a:pt x="75" y="2305"/>
                  </a:lnTo>
                  <a:lnTo>
                    <a:pt x="122" y="2322"/>
                  </a:lnTo>
                  <a:lnTo>
                    <a:pt x="186" y="2344"/>
                  </a:lnTo>
                  <a:lnTo>
                    <a:pt x="250" y="2344"/>
                  </a:lnTo>
                  <a:lnTo>
                    <a:pt x="319" y="2350"/>
                  </a:lnTo>
                  <a:lnTo>
                    <a:pt x="390" y="2350"/>
                  </a:lnTo>
                  <a:lnTo>
                    <a:pt x="465" y="2355"/>
                  </a:lnTo>
                  <a:lnTo>
                    <a:pt x="453" y="2305"/>
                  </a:lnTo>
                  <a:lnTo>
                    <a:pt x="453" y="2259"/>
                  </a:lnTo>
                  <a:lnTo>
                    <a:pt x="442" y="2215"/>
                  </a:lnTo>
                  <a:lnTo>
                    <a:pt x="442" y="2170"/>
                  </a:lnTo>
                  <a:lnTo>
                    <a:pt x="436" y="2114"/>
                  </a:lnTo>
                  <a:lnTo>
                    <a:pt x="430" y="2063"/>
                  </a:lnTo>
                  <a:lnTo>
                    <a:pt x="425" y="2007"/>
                  </a:lnTo>
                  <a:lnTo>
                    <a:pt x="425" y="1957"/>
                  </a:lnTo>
                  <a:lnTo>
                    <a:pt x="418" y="1894"/>
                  </a:lnTo>
                  <a:lnTo>
                    <a:pt x="418" y="1849"/>
                  </a:lnTo>
                  <a:lnTo>
                    <a:pt x="418" y="1815"/>
                  </a:lnTo>
                  <a:lnTo>
                    <a:pt x="430" y="1793"/>
                  </a:lnTo>
                  <a:lnTo>
                    <a:pt x="436" y="1771"/>
                  </a:lnTo>
                  <a:lnTo>
                    <a:pt x="459" y="1759"/>
                  </a:lnTo>
                  <a:lnTo>
                    <a:pt x="483" y="1754"/>
                  </a:lnTo>
                  <a:lnTo>
                    <a:pt x="517" y="1754"/>
                  </a:lnTo>
                  <a:lnTo>
                    <a:pt x="511" y="1822"/>
                  </a:lnTo>
                  <a:lnTo>
                    <a:pt x="511" y="1900"/>
                  </a:lnTo>
                  <a:lnTo>
                    <a:pt x="511" y="1979"/>
                  </a:lnTo>
                  <a:lnTo>
                    <a:pt x="523" y="2057"/>
                  </a:lnTo>
                  <a:lnTo>
                    <a:pt x="523" y="2124"/>
                  </a:lnTo>
                  <a:lnTo>
                    <a:pt x="534" y="2198"/>
                  </a:lnTo>
                  <a:lnTo>
                    <a:pt x="534" y="2266"/>
                  </a:lnTo>
                  <a:lnTo>
                    <a:pt x="547" y="2327"/>
                  </a:lnTo>
                  <a:lnTo>
                    <a:pt x="575" y="2327"/>
                  </a:lnTo>
                  <a:lnTo>
                    <a:pt x="610" y="2327"/>
                  </a:lnTo>
                  <a:lnTo>
                    <a:pt x="645" y="2327"/>
                  </a:lnTo>
                  <a:lnTo>
                    <a:pt x="680" y="2327"/>
                  </a:lnTo>
                  <a:lnTo>
                    <a:pt x="680" y="2259"/>
                  </a:lnTo>
                  <a:lnTo>
                    <a:pt x="691" y="2198"/>
                  </a:lnTo>
                  <a:lnTo>
                    <a:pt x="709" y="2131"/>
                  </a:lnTo>
                  <a:lnTo>
                    <a:pt x="727" y="2063"/>
                  </a:lnTo>
                  <a:lnTo>
                    <a:pt x="739" y="1996"/>
                  </a:lnTo>
                  <a:lnTo>
                    <a:pt x="750" y="1928"/>
                  </a:lnTo>
                  <a:lnTo>
                    <a:pt x="762" y="1866"/>
                  </a:lnTo>
                  <a:lnTo>
                    <a:pt x="773" y="1815"/>
                  </a:lnTo>
                  <a:lnTo>
                    <a:pt x="767" y="1765"/>
                  </a:lnTo>
                  <a:lnTo>
                    <a:pt x="762" y="1714"/>
                  </a:lnTo>
                  <a:lnTo>
                    <a:pt x="750" y="1663"/>
                  </a:lnTo>
                  <a:lnTo>
                    <a:pt x="739" y="1619"/>
                  </a:lnTo>
                  <a:lnTo>
                    <a:pt x="721" y="1568"/>
                  </a:lnTo>
                  <a:lnTo>
                    <a:pt x="709" y="1523"/>
                  </a:lnTo>
                  <a:lnTo>
                    <a:pt x="691" y="1479"/>
                  </a:lnTo>
                  <a:lnTo>
                    <a:pt x="691" y="1439"/>
                  </a:lnTo>
                  <a:lnTo>
                    <a:pt x="674" y="1344"/>
                  </a:lnTo>
                  <a:lnTo>
                    <a:pt x="663" y="1253"/>
                  </a:lnTo>
                  <a:lnTo>
                    <a:pt x="651" y="1158"/>
                  </a:lnTo>
                  <a:lnTo>
                    <a:pt x="651" y="1067"/>
                  </a:lnTo>
                  <a:lnTo>
                    <a:pt x="640" y="972"/>
                  </a:lnTo>
                  <a:lnTo>
                    <a:pt x="633" y="876"/>
                  </a:lnTo>
                  <a:lnTo>
                    <a:pt x="628" y="781"/>
                  </a:lnTo>
                  <a:lnTo>
                    <a:pt x="622" y="691"/>
                  </a:lnTo>
                  <a:lnTo>
                    <a:pt x="610" y="613"/>
                  </a:lnTo>
                  <a:lnTo>
                    <a:pt x="610" y="534"/>
                  </a:lnTo>
                  <a:lnTo>
                    <a:pt x="605" y="449"/>
                  </a:lnTo>
                  <a:lnTo>
                    <a:pt x="605" y="365"/>
                  </a:lnTo>
                  <a:lnTo>
                    <a:pt x="605" y="275"/>
                  </a:lnTo>
                  <a:lnTo>
                    <a:pt x="605" y="185"/>
                  </a:lnTo>
                  <a:lnTo>
                    <a:pt x="605" y="101"/>
                  </a:lnTo>
                  <a:lnTo>
                    <a:pt x="610" y="22"/>
                  </a:lnTo>
                  <a:lnTo>
                    <a:pt x="575" y="10"/>
                  </a:lnTo>
                  <a:lnTo>
                    <a:pt x="552" y="5"/>
                  </a:lnTo>
                  <a:lnTo>
                    <a:pt x="523" y="0"/>
                  </a:lnTo>
                  <a:lnTo>
                    <a:pt x="494" y="0"/>
                  </a:lnTo>
                  <a:close/>
                </a:path>
              </a:pathLst>
            </a:custGeom>
            <a:solidFill>
              <a:srgbClr val="8e6b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60760" y="3395160"/>
              <a:ext cx="204480" cy="692280"/>
            </a:xfrm>
            <a:custGeom>
              <a:avLst/>
              <a:gdLst/>
              <a:ahLst/>
              <a:rect l="l" t="t" r="r" b="b"/>
              <a:pathLst>
                <a:path w="890" h="2744">
                  <a:moveTo>
                    <a:pt x="367" y="0"/>
                  </a:moveTo>
                  <a:lnTo>
                    <a:pt x="326" y="7"/>
                  </a:lnTo>
                  <a:lnTo>
                    <a:pt x="286" y="12"/>
                  </a:lnTo>
                  <a:lnTo>
                    <a:pt x="245" y="17"/>
                  </a:lnTo>
                  <a:lnTo>
                    <a:pt x="205" y="24"/>
                  </a:lnTo>
                  <a:lnTo>
                    <a:pt x="157" y="24"/>
                  </a:lnTo>
                  <a:lnTo>
                    <a:pt x="117" y="29"/>
                  </a:lnTo>
                  <a:lnTo>
                    <a:pt x="71" y="34"/>
                  </a:lnTo>
                  <a:lnTo>
                    <a:pt x="35" y="40"/>
                  </a:lnTo>
                  <a:lnTo>
                    <a:pt x="12" y="220"/>
                  </a:lnTo>
                  <a:lnTo>
                    <a:pt x="7" y="412"/>
                  </a:lnTo>
                  <a:lnTo>
                    <a:pt x="0" y="613"/>
                  </a:lnTo>
                  <a:lnTo>
                    <a:pt x="12" y="816"/>
                  </a:lnTo>
                  <a:lnTo>
                    <a:pt x="24" y="1007"/>
                  </a:lnTo>
                  <a:lnTo>
                    <a:pt x="53" y="1204"/>
                  </a:lnTo>
                  <a:lnTo>
                    <a:pt x="83" y="1390"/>
                  </a:lnTo>
                  <a:lnTo>
                    <a:pt x="129" y="1564"/>
                  </a:lnTo>
                  <a:lnTo>
                    <a:pt x="157" y="1542"/>
                  </a:lnTo>
                  <a:lnTo>
                    <a:pt x="175" y="1535"/>
                  </a:lnTo>
                  <a:lnTo>
                    <a:pt x="192" y="1542"/>
                  </a:lnTo>
                  <a:lnTo>
                    <a:pt x="233" y="1564"/>
                  </a:lnTo>
                  <a:lnTo>
                    <a:pt x="210" y="1626"/>
                  </a:lnTo>
                  <a:lnTo>
                    <a:pt x="187" y="1738"/>
                  </a:lnTo>
                  <a:lnTo>
                    <a:pt x="152" y="1873"/>
                  </a:lnTo>
                  <a:lnTo>
                    <a:pt x="123" y="2030"/>
                  </a:lnTo>
                  <a:lnTo>
                    <a:pt x="88" y="2177"/>
                  </a:lnTo>
                  <a:lnTo>
                    <a:pt x="76" y="2317"/>
                  </a:lnTo>
                  <a:lnTo>
                    <a:pt x="71" y="2425"/>
                  </a:lnTo>
                  <a:lnTo>
                    <a:pt x="88" y="2497"/>
                  </a:lnTo>
                  <a:lnTo>
                    <a:pt x="111" y="2514"/>
                  </a:lnTo>
                  <a:lnTo>
                    <a:pt x="164" y="2548"/>
                  </a:lnTo>
                  <a:lnTo>
                    <a:pt x="228" y="2582"/>
                  </a:lnTo>
                  <a:lnTo>
                    <a:pt x="309" y="2615"/>
                  </a:lnTo>
                  <a:lnTo>
                    <a:pt x="385" y="2649"/>
                  </a:lnTo>
                  <a:lnTo>
                    <a:pt x="466" y="2683"/>
                  </a:lnTo>
                  <a:lnTo>
                    <a:pt x="524" y="2710"/>
                  </a:lnTo>
                  <a:lnTo>
                    <a:pt x="570" y="2744"/>
                  </a:lnTo>
                  <a:lnTo>
                    <a:pt x="588" y="2710"/>
                  </a:lnTo>
                  <a:lnTo>
                    <a:pt x="611" y="2677"/>
                  </a:lnTo>
                  <a:lnTo>
                    <a:pt x="634" y="2649"/>
                  </a:lnTo>
                  <a:lnTo>
                    <a:pt x="657" y="2621"/>
                  </a:lnTo>
                  <a:lnTo>
                    <a:pt x="681" y="2587"/>
                  </a:lnTo>
                  <a:lnTo>
                    <a:pt x="704" y="2553"/>
                  </a:lnTo>
                  <a:lnTo>
                    <a:pt x="727" y="2526"/>
                  </a:lnTo>
                  <a:lnTo>
                    <a:pt x="756" y="2497"/>
                  </a:lnTo>
                  <a:lnTo>
                    <a:pt x="785" y="2447"/>
                  </a:lnTo>
                  <a:lnTo>
                    <a:pt x="814" y="2401"/>
                  </a:lnTo>
                  <a:lnTo>
                    <a:pt x="838" y="2357"/>
                  </a:lnTo>
                  <a:lnTo>
                    <a:pt x="867" y="2312"/>
                  </a:lnTo>
                  <a:lnTo>
                    <a:pt x="879" y="2256"/>
                  </a:lnTo>
                  <a:lnTo>
                    <a:pt x="890" y="2205"/>
                  </a:lnTo>
                  <a:lnTo>
                    <a:pt x="890" y="2148"/>
                  </a:lnTo>
                  <a:lnTo>
                    <a:pt x="890" y="2098"/>
                  </a:lnTo>
                  <a:lnTo>
                    <a:pt x="867" y="2025"/>
                  </a:lnTo>
                  <a:lnTo>
                    <a:pt x="849" y="1974"/>
                  </a:lnTo>
                  <a:lnTo>
                    <a:pt x="821" y="1923"/>
                  </a:lnTo>
                  <a:lnTo>
                    <a:pt x="797" y="1879"/>
                  </a:lnTo>
                  <a:lnTo>
                    <a:pt x="762" y="1834"/>
                  </a:lnTo>
                  <a:lnTo>
                    <a:pt x="733" y="1788"/>
                  </a:lnTo>
                  <a:lnTo>
                    <a:pt x="704" y="1738"/>
                  </a:lnTo>
                  <a:lnTo>
                    <a:pt x="687" y="1687"/>
                  </a:lnTo>
                  <a:lnTo>
                    <a:pt x="657" y="1597"/>
                  </a:lnTo>
                  <a:lnTo>
                    <a:pt x="640" y="1513"/>
                  </a:lnTo>
                  <a:lnTo>
                    <a:pt x="628" y="1423"/>
                  </a:lnTo>
                  <a:lnTo>
                    <a:pt x="628" y="1334"/>
                  </a:lnTo>
                  <a:lnTo>
                    <a:pt x="628" y="1238"/>
                  </a:lnTo>
                  <a:lnTo>
                    <a:pt x="628" y="1142"/>
                  </a:lnTo>
                  <a:lnTo>
                    <a:pt x="628" y="1040"/>
                  </a:lnTo>
                  <a:lnTo>
                    <a:pt x="634" y="946"/>
                  </a:lnTo>
                  <a:lnTo>
                    <a:pt x="535" y="929"/>
                  </a:lnTo>
                  <a:lnTo>
                    <a:pt x="460" y="917"/>
                  </a:lnTo>
                  <a:lnTo>
                    <a:pt x="390" y="906"/>
                  </a:lnTo>
                  <a:lnTo>
                    <a:pt x="337" y="895"/>
                  </a:lnTo>
                  <a:lnTo>
                    <a:pt x="286" y="866"/>
                  </a:lnTo>
                  <a:lnTo>
                    <a:pt x="245" y="833"/>
                  </a:lnTo>
                  <a:lnTo>
                    <a:pt x="210" y="777"/>
                  </a:lnTo>
                  <a:lnTo>
                    <a:pt x="180" y="709"/>
                  </a:lnTo>
                  <a:lnTo>
                    <a:pt x="187" y="698"/>
                  </a:lnTo>
                  <a:lnTo>
                    <a:pt x="205" y="687"/>
                  </a:lnTo>
                  <a:lnTo>
                    <a:pt x="222" y="675"/>
                  </a:lnTo>
                  <a:lnTo>
                    <a:pt x="233" y="670"/>
                  </a:lnTo>
                  <a:lnTo>
                    <a:pt x="251" y="726"/>
                  </a:lnTo>
                  <a:lnTo>
                    <a:pt x="286" y="777"/>
                  </a:lnTo>
                  <a:lnTo>
                    <a:pt x="326" y="810"/>
                  </a:lnTo>
                  <a:lnTo>
                    <a:pt x="378" y="833"/>
                  </a:lnTo>
                  <a:lnTo>
                    <a:pt x="431" y="844"/>
                  </a:lnTo>
                  <a:lnTo>
                    <a:pt x="501" y="856"/>
                  </a:lnTo>
                  <a:lnTo>
                    <a:pt x="570" y="861"/>
                  </a:lnTo>
                  <a:lnTo>
                    <a:pt x="651" y="878"/>
                  </a:lnTo>
                  <a:lnTo>
                    <a:pt x="640" y="844"/>
                  </a:lnTo>
                  <a:lnTo>
                    <a:pt x="634" y="810"/>
                  </a:lnTo>
                  <a:lnTo>
                    <a:pt x="623" y="777"/>
                  </a:lnTo>
                  <a:lnTo>
                    <a:pt x="623" y="748"/>
                  </a:lnTo>
                  <a:lnTo>
                    <a:pt x="646" y="738"/>
                  </a:lnTo>
                  <a:lnTo>
                    <a:pt x="687" y="721"/>
                  </a:lnTo>
                  <a:lnTo>
                    <a:pt x="722" y="698"/>
                  </a:lnTo>
                  <a:lnTo>
                    <a:pt x="739" y="692"/>
                  </a:lnTo>
                  <a:lnTo>
                    <a:pt x="739" y="670"/>
                  </a:lnTo>
                  <a:lnTo>
                    <a:pt x="727" y="653"/>
                  </a:lnTo>
                  <a:lnTo>
                    <a:pt x="710" y="642"/>
                  </a:lnTo>
                  <a:lnTo>
                    <a:pt x="681" y="630"/>
                  </a:lnTo>
                  <a:lnTo>
                    <a:pt x="651" y="620"/>
                  </a:lnTo>
                  <a:lnTo>
                    <a:pt x="616" y="608"/>
                  </a:lnTo>
                  <a:lnTo>
                    <a:pt x="588" y="603"/>
                  </a:lnTo>
                  <a:lnTo>
                    <a:pt x="565" y="596"/>
                  </a:lnTo>
                  <a:lnTo>
                    <a:pt x="553" y="596"/>
                  </a:lnTo>
                  <a:lnTo>
                    <a:pt x="512" y="574"/>
                  </a:lnTo>
                  <a:lnTo>
                    <a:pt x="507" y="574"/>
                  </a:lnTo>
                  <a:lnTo>
                    <a:pt x="512" y="579"/>
                  </a:lnTo>
                  <a:lnTo>
                    <a:pt x="535" y="591"/>
                  </a:lnTo>
                  <a:lnTo>
                    <a:pt x="553" y="596"/>
                  </a:lnTo>
                  <a:lnTo>
                    <a:pt x="565" y="603"/>
                  </a:lnTo>
                  <a:lnTo>
                    <a:pt x="559" y="596"/>
                  </a:lnTo>
                  <a:lnTo>
                    <a:pt x="542" y="579"/>
                  </a:lnTo>
                  <a:lnTo>
                    <a:pt x="535" y="574"/>
                  </a:lnTo>
                  <a:lnTo>
                    <a:pt x="530" y="569"/>
                  </a:lnTo>
                  <a:lnTo>
                    <a:pt x="494" y="540"/>
                  </a:lnTo>
                  <a:lnTo>
                    <a:pt x="448" y="507"/>
                  </a:lnTo>
                  <a:lnTo>
                    <a:pt x="396" y="468"/>
                  </a:lnTo>
                  <a:lnTo>
                    <a:pt x="349" y="429"/>
                  </a:lnTo>
                  <a:lnTo>
                    <a:pt x="297" y="383"/>
                  </a:lnTo>
                  <a:lnTo>
                    <a:pt x="263" y="338"/>
                  </a:lnTo>
                  <a:lnTo>
                    <a:pt x="233" y="294"/>
                  </a:lnTo>
                  <a:lnTo>
                    <a:pt x="233" y="260"/>
                  </a:lnTo>
                  <a:lnTo>
                    <a:pt x="245" y="237"/>
                  </a:lnTo>
                  <a:lnTo>
                    <a:pt x="251" y="220"/>
                  </a:lnTo>
                  <a:lnTo>
                    <a:pt x="286" y="231"/>
                  </a:lnTo>
                  <a:lnTo>
                    <a:pt x="320" y="260"/>
                  </a:lnTo>
                  <a:lnTo>
                    <a:pt x="355" y="294"/>
                  </a:lnTo>
                  <a:lnTo>
                    <a:pt x="396" y="327"/>
                  </a:lnTo>
                  <a:lnTo>
                    <a:pt x="431" y="361"/>
                  </a:lnTo>
                  <a:lnTo>
                    <a:pt x="471" y="395"/>
                  </a:lnTo>
                  <a:lnTo>
                    <a:pt x="512" y="429"/>
                  </a:lnTo>
                  <a:lnTo>
                    <a:pt x="553" y="461"/>
                  </a:lnTo>
                  <a:lnTo>
                    <a:pt x="535" y="412"/>
                  </a:lnTo>
                  <a:lnTo>
                    <a:pt x="535" y="378"/>
                  </a:lnTo>
                  <a:lnTo>
                    <a:pt x="524" y="338"/>
                  </a:lnTo>
                  <a:lnTo>
                    <a:pt x="517" y="299"/>
                  </a:lnTo>
                  <a:lnTo>
                    <a:pt x="494" y="254"/>
                  </a:lnTo>
                  <a:lnTo>
                    <a:pt x="477" y="214"/>
                  </a:lnTo>
                  <a:lnTo>
                    <a:pt x="460" y="175"/>
                  </a:lnTo>
                  <a:lnTo>
                    <a:pt x="443" y="142"/>
                  </a:lnTo>
                  <a:lnTo>
                    <a:pt x="419" y="102"/>
                  </a:lnTo>
                  <a:lnTo>
                    <a:pt x="402" y="68"/>
                  </a:lnTo>
                  <a:lnTo>
                    <a:pt x="385" y="34"/>
                  </a:lnTo>
                  <a:lnTo>
                    <a:pt x="367" y="0"/>
                  </a:lnTo>
                  <a:close/>
                </a:path>
              </a:pathLst>
            </a:custGeom>
            <a:solidFill>
              <a:srgbClr val="66ff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040360" y="3406320"/>
              <a:ext cx="261000" cy="525240"/>
            </a:xfrm>
            <a:custGeom>
              <a:avLst/>
              <a:gdLst/>
              <a:ahLst/>
              <a:rect l="l" t="t" r="r" b="b"/>
              <a:pathLst>
                <a:path w="1134" h="2086">
                  <a:moveTo>
                    <a:pt x="401" y="0"/>
                  </a:moveTo>
                  <a:lnTo>
                    <a:pt x="378" y="85"/>
                  </a:lnTo>
                  <a:lnTo>
                    <a:pt x="343" y="158"/>
                  </a:lnTo>
                  <a:lnTo>
                    <a:pt x="302" y="225"/>
                  </a:lnTo>
                  <a:lnTo>
                    <a:pt x="256" y="293"/>
                  </a:lnTo>
                  <a:lnTo>
                    <a:pt x="204" y="349"/>
                  </a:lnTo>
                  <a:lnTo>
                    <a:pt x="157" y="411"/>
                  </a:lnTo>
                  <a:lnTo>
                    <a:pt x="110" y="478"/>
                  </a:lnTo>
                  <a:lnTo>
                    <a:pt x="82" y="556"/>
                  </a:lnTo>
                  <a:lnTo>
                    <a:pt x="53" y="647"/>
                  </a:lnTo>
                  <a:lnTo>
                    <a:pt x="36" y="776"/>
                  </a:lnTo>
                  <a:lnTo>
                    <a:pt x="18" y="939"/>
                  </a:lnTo>
                  <a:lnTo>
                    <a:pt x="11" y="1119"/>
                  </a:lnTo>
                  <a:lnTo>
                    <a:pt x="0" y="1299"/>
                  </a:lnTo>
                  <a:lnTo>
                    <a:pt x="0" y="1478"/>
                  </a:lnTo>
                  <a:lnTo>
                    <a:pt x="0" y="1642"/>
                  </a:lnTo>
                  <a:lnTo>
                    <a:pt x="0" y="1788"/>
                  </a:lnTo>
                  <a:lnTo>
                    <a:pt x="87" y="1811"/>
                  </a:lnTo>
                  <a:lnTo>
                    <a:pt x="181" y="1850"/>
                  </a:lnTo>
                  <a:lnTo>
                    <a:pt x="267" y="1883"/>
                  </a:lnTo>
                  <a:lnTo>
                    <a:pt x="355" y="1929"/>
                  </a:lnTo>
                  <a:lnTo>
                    <a:pt x="436" y="1968"/>
                  </a:lnTo>
                  <a:lnTo>
                    <a:pt x="523" y="2007"/>
                  </a:lnTo>
                  <a:lnTo>
                    <a:pt x="611" y="2047"/>
                  </a:lnTo>
                  <a:lnTo>
                    <a:pt x="710" y="2086"/>
                  </a:lnTo>
                  <a:lnTo>
                    <a:pt x="710" y="2052"/>
                  </a:lnTo>
                  <a:lnTo>
                    <a:pt x="715" y="2018"/>
                  </a:lnTo>
                  <a:lnTo>
                    <a:pt x="715" y="1979"/>
                  </a:lnTo>
                  <a:lnTo>
                    <a:pt x="721" y="1946"/>
                  </a:lnTo>
                  <a:lnTo>
                    <a:pt x="721" y="1907"/>
                  </a:lnTo>
                  <a:lnTo>
                    <a:pt x="726" y="1867"/>
                  </a:lnTo>
                  <a:lnTo>
                    <a:pt x="726" y="1828"/>
                  </a:lnTo>
                  <a:lnTo>
                    <a:pt x="733" y="1788"/>
                  </a:lnTo>
                  <a:lnTo>
                    <a:pt x="680" y="1760"/>
                  </a:lnTo>
                  <a:lnTo>
                    <a:pt x="645" y="1738"/>
                  </a:lnTo>
                  <a:lnTo>
                    <a:pt x="611" y="1709"/>
                  </a:lnTo>
                  <a:lnTo>
                    <a:pt x="581" y="1687"/>
                  </a:lnTo>
                  <a:lnTo>
                    <a:pt x="546" y="1659"/>
                  </a:lnTo>
                  <a:lnTo>
                    <a:pt x="518" y="1630"/>
                  </a:lnTo>
                  <a:lnTo>
                    <a:pt x="482" y="1603"/>
                  </a:lnTo>
                  <a:lnTo>
                    <a:pt x="454" y="1574"/>
                  </a:lnTo>
                  <a:lnTo>
                    <a:pt x="431" y="1557"/>
                  </a:lnTo>
                  <a:lnTo>
                    <a:pt x="407" y="1546"/>
                  </a:lnTo>
                  <a:lnTo>
                    <a:pt x="384" y="1535"/>
                  </a:lnTo>
                  <a:lnTo>
                    <a:pt x="373" y="1524"/>
                  </a:lnTo>
                  <a:lnTo>
                    <a:pt x="349" y="1429"/>
                  </a:lnTo>
                  <a:lnTo>
                    <a:pt x="332" y="1327"/>
                  </a:lnTo>
                  <a:lnTo>
                    <a:pt x="320" y="1220"/>
                  </a:lnTo>
                  <a:lnTo>
                    <a:pt x="320" y="1113"/>
                  </a:lnTo>
                  <a:lnTo>
                    <a:pt x="314" y="1000"/>
                  </a:lnTo>
                  <a:lnTo>
                    <a:pt x="314" y="899"/>
                  </a:lnTo>
                  <a:lnTo>
                    <a:pt x="308" y="799"/>
                  </a:lnTo>
                  <a:lnTo>
                    <a:pt x="308" y="720"/>
                  </a:lnTo>
                  <a:lnTo>
                    <a:pt x="308" y="708"/>
                  </a:lnTo>
                  <a:lnTo>
                    <a:pt x="308" y="681"/>
                  </a:lnTo>
                  <a:lnTo>
                    <a:pt x="308" y="647"/>
                  </a:lnTo>
                  <a:lnTo>
                    <a:pt x="308" y="619"/>
                  </a:lnTo>
                  <a:lnTo>
                    <a:pt x="361" y="590"/>
                  </a:lnTo>
                  <a:lnTo>
                    <a:pt x="366" y="691"/>
                  </a:lnTo>
                  <a:lnTo>
                    <a:pt x="378" y="793"/>
                  </a:lnTo>
                  <a:lnTo>
                    <a:pt x="389" y="899"/>
                  </a:lnTo>
                  <a:lnTo>
                    <a:pt x="401" y="1007"/>
                  </a:lnTo>
                  <a:lnTo>
                    <a:pt x="401" y="1102"/>
                  </a:lnTo>
                  <a:lnTo>
                    <a:pt x="413" y="1198"/>
                  </a:lnTo>
                  <a:lnTo>
                    <a:pt x="424" y="1287"/>
                  </a:lnTo>
                  <a:lnTo>
                    <a:pt x="442" y="1378"/>
                  </a:lnTo>
                  <a:lnTo>
                    <a:pt x="447" y="1422"/>
                  </a:lnTo>
                  <a:lnTo>
                    <a:pt x="459" y="1463"/>
                  </a:lnTo>
                  <a:lnTo>
                    <a:pt x="477" y="1495"/>
                  </a:lnTo>
                  <a:lnTo>
                    <a:pt x="495" y="1529"/>
                  </a:lnTo>
                  <a:lnTo>
                    <a:pt x="512" y="1552"/>
                  </a:lnTo>
                  <a:lnTo>
                    <a:pt x="541" y="1580"/>
                  </a:lnTo>
                  <a:lnTo>
                    <a:pt x="570" y="1603"/>
                  </a:lnTo>
                  <a:lnTo>
                    <a:pt x="604" y="1637"/>
                  </a:lnTo>
                  <a:lnTo>
                    <a:pt x="627" y="1653"/>
                  </a:lnTo>
                  <a:lnTo>
                    <a:pt x="657" y="1670"/>
                  </a:lnTo>
                  <a:lnTo>
                    <a:pt x="692" y="1676"/>
                  </a:lnTo>
                  <a:lnTo>
                    <a:pt x="726" y="1687"/>
                  </a:lnTo>
                  <a:lnTo>
                    <a:pt x="756" y="1687"/>
                  </a:lnTo>
                  <a:lnTo>
                    <a:pt x="797" y="1687"/>
                  </a:lnTo>
                  <a:lnTo>
                    <a:pt x="832" y="1681"/>
                  </a:lnTo>
                  <a:lnTo>
                    <a:pt x="883" y="1676"/>
                  </a:lnTo>
                  <a:lnTo>
                    <a:pt x="977" y="1647"/>
                  </a:lnTo>
                  <a:lnTo>
                    <a:pt x="1040" y="1625"/>
                  </a:lnTo>
                  <a:lnTo>
                    <a:pt x="1081" y="1597"/>
                  </a:lnTo>
                  <a:lnTo>
                    <a:pt x="1104" y="1569"/>
                  </a:lnTo>
                  <a:lnTo>
                    <a:pt x="1111" y="1524"/>
                  </a:lnTo>
                  <a:lnTo>
                    <a:pt x="1116" y="1468"/>
                  </a:lnTo>
                  <a:lnTo>
                    <a:pt x="1116" y="1395"/>
                  </a:lnTo>
                  <a:lnTo>
                    <a:pt x="1134" y="1304"/>
                  </a:lnTo>
                  <a:lnTo>
                    <a:pt x="1087" y="1311"/>
                  </a:lnTo>
                  <a:lnTo>
                    <a:pt x="1047" y="1321"/>
                  </a:lnTo>
                  <a:lnTo>
                    <a:pt x="1000" y="1327"/>
                  </a:lnTo>
                  <a:lnTo>
                    <a:pt x="959" y="1344"/>
                  </a:lnTo>
                  <a:lnTo>
                    <a:pt x="907" y="1350"/>
                  </a:lnTo>
                  <a:lnTo>
                    <a:pt x="866" y="1355"/>
                  </a:lnTo>
                  <a:lnTo>
                    <a:pt x="814" y="1361"/>
                  </a:lnTo>
                  <a:lnTo>
                    <a:pt x="773" y="1367"/>
                  </a:lnTo>
                  <a:lnTo>
                    <a:pt x="773" y="1260"/>
                  </a:lnTo>
                  <a:lnTo>
                    <a:pt x="779" y="1125"/>
                  </a:lnTo>
                  <a:lnTo>
                    <a:pt x="784" y="967"/>
                  </a:lnTo>
                  <a:lnTo>
                    <a:pt x="797" y="810"/>
                  </a:lnTo>
                  <a:lnTo>
                    <a:pt x="797" y="647"/>
                  </a:lnTo>
                  <a:lnTo>
                    <a:pt x="802" y="506"/>
                  </a:lnTo>
                  <a:lnTo>
                    <a:pt x="791" y="394"/>
                  </a:lnTo>
                  <a:lnTo>
                    <a:pt x="773" y="338"/>
                  </a:lnTo>
                  <a:lnTo>
                    <a:pt x="744" y="304"/>
                  </a:lnTo>
                  <a:lnTo>
                    <a:pt x="715" y="276"/>
                  </a:lnTo>
                  <a:lnTo>
                    <a:pt x="675" y="254"/>
                  </a:lnTo>
                  <a:lnTo>
                    <a:pt x="639" y="237"/>
                  </a:lnTo>
                  <a:lnTo>
                    <a:pt x="593" y="220"/>
                  </a:lnTo>
                  <a:lnTo>
                    <a:pt x="553" y="203"/>
                  </a:lnTo>
                  <a:lnTo>
                    <a:pt x="506" y="191"/>
                  </a:lnTo>
                  <a:lnTo>
                    <a:pt x="472" y="180"/>
                  </a:lnTo>
                  <a:lnTo>
                    <a:pt x="472" y="158"/>
                  </a:lnTo>
                  <a:lnTo>
                    <a:pt x="472" y="141"/>
                  </a:lnTo>
                  <a:lnTo>
                    <a:pt x="500" y="141"/>
                  </a:lnTo>
                  <a:lnTo>
                    <a:pt x="530" y="146"/>
                  </a:lnTo>
                  <a:lnTo>
                    <a:pt x="541" y="146"/>
                  </a:lnTo>
                  <a:lnTo>
                    <a:pt x="558" y="141"/>
                  </a:lnTo>
                  <a:lnTo>
                    <a:pt x="564" y="119"/>
                  </a:lnTo>
                  <a:lnTo>
                    <a:pt x="570" y="95"/>
                  </a:lnTo>
                  <a:lnTo>
                    <a:pt x="570" y="62"/>
                  </a:lnTo>
                  <a:lnTo>
                    <a:pt x="576" y="23"/>
                  </a:lnTo>
                  <a:lnTo>
                    <a:pt x="518" y="17"/>
                  </a:lnTo>
                  <a:lnTo>
                    <a:pt x="482" y="11"/>
                  </a:lnTo>
                  <a:lnTo>
                    <a:pt x="442" y="6"/>
                  </a:lnTo>
                  <a:lnTo>
                    <a:pt x="401"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764960" y="3439440"/>
              <a:ext cx="265320" cy="456120"/>
            </a:xfrm>
            <a:custGeom>
              <a:avLst/>
              <a:gdLst/>
              <a:ahLst/>
              <a:rect l="l" t="t" r="r" b="b"/>
              <a:pathLst>
                <a:path w="1151" h="1811">
                  <a:moveTo>
                    <a:pt x="540" y="6"/>
                  </a:moveTo>
                  <a:lnTo>
                    <a:pt x="500" y="6"/>
                  </a:lnTo>
                  <a:lnTo>
                    <a:pt x="465" y="23"/>
                  </a:lnTo>
                  <a:lnTo>
                    <a:pt x="436" y="39"/>
                  </a:lnTo>
                  <a:lnTo>
                    <a:pt x="406" y="68"/>
                  </a:lnTo>
                  <a:lnTo>
                    <a:pt x="348" y="119"/>
                  </a:lnTo>
                  <a:lnTo>
                    <a:pt x="302" y="163"/>
                  </a:lnTo>
                  <a:lnTo>
                    <a:pt x="261" y="180"/>
                  </a:lnTo>
                  <a:lnTo>
                    <a:pt x="226" y="197"/>
                  </a:lnTo>
                  <a:lnTo>
                    <a:pt x="180" y="220"/>
                  </a:lnTo>
                  <a:lnTo>
                    <a:pt x="145" y="242"/>
                  </a:lnTo>
                  <a:lnTo>
                    <a:pt x="99" y="264"/>
                  </a:lnTo>
                  <a:lnTo>
                    <a:pt x="64" y="293"/>
                  </a:lnTo>
                  <a:lnTo>
                    <a:pt x="35" y="320"/>
                  </a:lnTo>
                  <a:lnTo>
                    <a:pt x="23" y="354"/>
                  </a:lnTo>
                  <a:lnTo>
                    <a:pt x="6" y="394"/>
                  </a:lnTo>
                  <a:lnTo>
                    <a:pt x="6" y="472"/>
                  </a:lnTo>
                  <a:lnTo>
                    <a:pt x="0" y="568"/>
                  </a:lnTo>
                  <a:lnTo>
                    <a:pt x="6" y="681"/>
                  </a:lnTo>
                  <a:lnTo>
                    <a:pt x="6" y="787"/>
                  </a:lnTo>
                  <a:lnTo>
                    <a:pt x="18" y="899"/>
                  </a:lnTo>
                  <a:lnTo>
                    <a:pt x="29" y="995"/>
                  </a:lnTo>
                  <a:lnTo>
                    <a:pt x="46" y="1074"/>
                  </a:lnTo>
                  <a:lnTo>
                    <a:pt x="58" y="1113"/>
                  </a:lnTo>
                  <a:lnTo>
                    <a:pt x="76" y="1159"/>
                  </a:lnTo>
                  <a:lnTo>
                    <a:pt x="99" y="1203"/>
                  </a:lnTo>
                  <a:lnTo>
                    <a:pt x="122" y="1254"/>
                  </a:lnTo>
                  <a:lnTo>
                    <a:pt x="145" y="1299"/>
                  </a:lnTo>
                  <a:lnTo>
                    <a:pt x="168" y="1350"/>
                  </a:lnTo>
                  <a:lnTo>
                    <a:pt x="192" y="1394"/>
                  </a:lnTo>
                  <a:lnTo>
                    <a:pt x="221" y="1439"/>
                  </a:lnTo>
                  <a:lnTo>
                    <a:pt x="238" y="1485"/>
                  </a:lnTo>
                  <a:lnTo>
                    <a:pt x="256" y="1546"/>
                  </a:lnTo>
                  <a:lnTo>
                    <a:pt x="279" y="1613"/>
                  </a:lnTo>
                  <a:lnTo>
                    <a:pt x="314" y="1681"/>
                  </a:lnTo>
                  <a:lnTo>
                    <a:pt x="337" y="1726"/>
                  </a:lnTo>
                  <a:lnTo>
                    <a:pt x="372" y="1760"/>
                  </a:lnTo>
                  <a:lnTo>
                    <a:pt x="401" y="1760"/>
                  </a:lnTo>
                  <a:lnTo>
                    <a:pt x="436" y="1721"/>
                  </a:lnTo>
                  <a:lnTo>
                    <a:pt x="447" y="1681"/>
                  </a:lnTo>
                  <a:lnTo>
                    <a:pt x="477" y="1647"/>
                  </a:lnTo>
                  <a:lnTo>
                    <a:pt x="494" y="1613"/>
                  </a:lnTo>
                  <a:lnTo>
                    <a:pt x="512" y="1591"/>
                  </a:lnTo>
                  <a:lnTo>
                    <a:pt x="512" y="1518"/>
                  </a:lnTo>
                  <a:lnTo>
                    <a:pt x="500" y="1445"/>
                  </a:lnTo>
                  <a:lnTo>
                    <a:pt x="471" y="1367"/>
                  </a:lnTo>
                  <a:lnTo>
                    <a:pt x="442" y="1287"/>
                  </a:lnTo>
                  <a:lnTo>
                    <a:pt x="395" y="1209"/>
                  </a:lnTo>
                  <a:lnTo>
                    <a:pt x="360" y="1136"/>
                  </a:lnTo>
                  <a:lnTo>
                    <a:pt x="325" y="1068"/>
                  </a:lnTo>
                  <a:lnTo>
                    <a:pt x="314" y="1012"/>
                  </a:lnTo>
                  <a:lnTo>
                    <a:pt x="297" y="956"/>
                  </a:lnTo>
                  <a:lnTo>
                    <a:pt x="291" y="906"/>
                  </a:lnTo>
                  <a:lnTo>
                    <a:pt x="279" y="849"/>
                  </a:lnTo>
                  <a:lnTo>
                    <a:pt x="279" y="798"/>
                  </a:lnTo>
                  <a:lnTo>
                    <a:pt x="274" y="737"/>
                  </a:lnTo>
                  <a:lnTo>
                    <a:pt x="274" y="681"/>
                  </a:lnTo>
                  <a:lnTo>
                    <a:pt x="274" y="624"/>
                  </a:lnTo>
                  <a:lnTo>
                    <a:pt x="274" y="573"/>
                  </a:lnTo>
                  <a:lnTo>
                    <a:pt x="308" y="590"/>
                  </a:lnTo>
                  <a:lnTo>
                    <a:pt x="332" y="607"/>
                  </a:lnTo>
                  <a:lnTo>
                    <a:pt x="337" y="613"/>
                  </a:lnTo>
                  <a:lnTo>
                    <a:pt x="343" y="630"/>
                  </a:lnTo>
                  <a:lnTo>
                    <a:pt x="348" y="647"/>
                  </a:lnTo>
                  <a:lnTo>
                    <a:pt x="355" y="686"/>
                  </a:lnTo>
                  <a:lnTo>
                    <a:pt x="360" y="793"/>
                  </a:lnTo>
                  <a:lnTo>
                    <a:pt x="378" y="906"/>
                  </a:lnTo>
                  <a:lnTo>
                    <a:pt x="395" y="1024"/>
                  </a:lnTo>
                  <a:lnTo>
                    <a:pt x="431" y="1147"/>
                  </a:lnTo>
                  <a:lnTo>
                    <a:pt x="454" y="1260"/>
                  </a:lnTo>
                  <a:lnTo>
                    <a:pt x="494" y="1367"/>
                  </a:lnTo>
                  <a:lnTo>
                    <a:pt x="528" y="1456"/>
                  </a:lnTo>
                  <a:lnTo>
                    <a:pt x="581" y="1541"/>
                  </a:lnTo>
                  <a:lnTo>
                    <a:pt x="604" y="1557"/>
                  </a:lnTo>
                  <a:lnTo>
                    <a:pt x="639" y="1580"/>
                  </a:lnTo>
                  <a:lnTo>
                    <a:pt x="669" y="1597"/>
                  </a:lnTo>
                  <a:lnTo>
                    <a:pt x="697" y="1620"/>
                  </a:lnTo>
                  <a:lnTo>
                    <a:pt x="756" y="1811"/>
                  </a:lnTo>
                  <a:lnTo>
                    <a:pt x="768" y="1805"/>
                  </a:lnTo>
                  <a:lnTo>
                    <a:pt x="802" y="1805"/>
                  </a:lnTo>
                  <a:lnTo>
                    <a:pt x="854" y="1799"/>
                  </a:lnTo>
                  <a:lnTo>
                    <a:pt x="924" y="1794"/>
                  </a:lnTo>
                  <a:lnTo>
                    <a:pt x="982" y="1782"/>
                  </a:lnTo>
                  <a:lnTo>
                    <a:pt x="1034" y="1782"/>
                  </a:lnTo>
                  <a:lnTo>
                    <a:pt x="1075" y="1772"/>
                  </a:lnTo>
                  <a:lnTo>
                    <a:pt x="1098" y="1772"/>
                  </a:lnTo>
                  <a:lnTo>
                    <a:pt x="1104" y="1698"/>
                  </a:lnTo>
                  <a:lnTo>
                    <a:pt x="1116" y="1546"/>
                  </a:lnTo>
                  <a:lnTo>
                    <a:pt x="1121" y="1333"/>
                  </a:lnTo>
                  <a:lnTo>
                    <a:pt x="1133" y="1102"/>
                  </a:lnTo>
                  <a:lnTo>
                    <a:pt x="1139" y="860"/>
                  </a:lnTo>
                  <a:lnTo>
                    <a:pt x="1145" y="658"/>
                  </a:lnTo>
                  <a:lnTo>
                    <a:pt x="1145" y="506"/>
                  </a:lnTo>
                  <a:lnTo>
                    <a:pt x="1151" y="455"/>
                  </a:lnTo>
                  <a:lnTo>
                    <a:pt x="1139" y="445"/>
                  </a:lnTo>
                  <a:lnTo>
                    <a:pt x="1128" y="433"/>
                  </a:lnTo>
                  <a:lnTo>
                    <a:pt x="1104" y="404"/>
                  </a:lnTo>
                  <a:lnTo>
                    <a:pt x="1121" y="416"/>
                  </a:lnTo>
                  <a:lnTo>
                    <a:pt x="1133" y="433"/>
                  </a:lnTo>
                  <a:lnTo>
                    <a:pt x="1110" y="421"/>
                  </a:lnTo>
                  <a:lnTo>
                    <a:pt x="1081" y="399"/>
                  </a:lnTo>
                  <a:lnTo>
                    <a:pt x="1058" y="399"/>
                  </a:lnTo>
                  <a:lnTo>
                    <a:pt x="1034" y="399"/>
                  </a:lnTo>
                  <a:lnTo>
                    <a:pt x="1005" y="394"/>
                  </a:lnTo>
                  <a:lnTo>
                    <a:pt x="976" y="377"/>
                  </a:lnTo>
                  <a:lnTo>
                    <a:pt x="953" y="360"/>
                  </a:lnTo>
                  <a:lnTo>
                    <a:pt x="918" y="332"/>
                  </a:lnTo>
                  <a:lnTo>
                    <a:pt x="890" y="310"/>
                  </a:lnTo>
                  <a:lnTo>
                    <a:pt x="854" y="281"/>
                  </a:lnTo>
                  <a:lnTo>
                    <a:pt x="825" y="254"/>
                  </a:lnTo>
                  <a:lnTo>
                    <a:pt x="796" y="230"/>
                  </a:lnTo>
                  <a:lnTo>
                    <a:pt x="779" y="214"/>
                  </a:lnTo>
                  <a:lnTo>
                    <a:pt x="732" y="163"/>
                  </a:lnTo>
                  <a:lnTo>
                    <a:pt x="692" y="107"/>
                  </a:lnTo>
                  <a:lnTo>
                    <a:pt x="645" y="56"/>
                  </a:lnTo>
                  <a:lnTo>
                    <a:pt x="593" y="23"/>
                  </a:lnTo>
                  <a:lnTo>
                    <a:pt x="593" y="11"/>
                  </a:lnTo>
                  <a:lnTo>
                    <a:pt x="593" y="6"/>
                  </a:lnTo>
                  <a:lnTo>
                    <a:pt x="563" y="0"/>
                  </a:lnTo>
                  <a:lnTo>
                    <a:pt x="540" y="6"/>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359680" y="3438000"/>
              <a:ext cx="197280" cy="1028160"/>
            </a:xfrm>
            <a:custGeom>
              <a:avLst/>
              <a:gdLst/>
              <a:ahLst/>
              <a:rect l="l" t="t" r="r" b="b"/>
              <a:pathLst>
                <a:path w="855" h="4083">
                  <a:moveTo>
                    <a:pt x="209" y="12"/>
                  </a:moveTo>
                  <a:lnTo>
                    <a:pt x="168" y="40"/>
                  </a:lnTo>
                  <a:lnTo>
                    <a:pt x="157" y="91"/>
                  </a:lnTo>
                  <a:lnTo>
                    <a:pt x="151" y="135"/>
                  </a:lnTo>
                  <a:lnTo>
                    <a:pt x="157" y="158"/>
                  </a:lnTo>
                  <a:lnTo>
                    <a:pt x="110" y="186"/>
                  </a:lnTo>
                  <a:lnTo>
                    <a:pt x="70" y="236"/>
                  </a:lnTo>
                  <a:lnTo>
                    <a:pt x="29" y="287"/>
                  </a:lnTo>
                  <a:lnTo>
                    <a:pt x="11" y="338"/>
                  </a:lnTo>
                  <a:lnTo>
                    <a:pt x="0" y="383"/>
                  </a:lnTo>
                  <a:lnTo>
                    <a:pt x="6" y="451"/>
                  </a:lnTo>
                  <a:lnTo>
                    <a:pt x="11" y="523"/>
                  </a:lnTo>
                  <a:lnTo>
                    <a:pt x="29" y="602"/>
                  </a:lnTo>
                  <a:lnTo>
                    <a:pt x="41" y="670"/>
                  </a:lnTo>
                  <a:lnTo>
                    <a:pt x="59" y="731"/>
                  </a:lnTo>
                  <a:lnTo>
                    <a:pt x="70" y="770"/>
                  </a:lnTo>
                  <a:lnTo>
                    <a:pt x="76" y="787"/>
                  </a:lnTo>
                  <a:lnTo>
                    <a:pt x="41" y="979"/>
                  </a:lnTo>
                  <a:lnTo>
                    <a:pt x="47" y="996"/>
                  </a:lnTo>
                  <a:lnTo>
                    <a:pt x="76" y="1047"/>
                  </a:lnTo>
                  <a:lnTo>
                    <a:pt x="87" y="1074"/>
                  </a:lnTo>
                  <a:lnTo>
                    <a:pt x="99" y="1102"/>
                  </a:lnTo>
                  <a:lnTo>
                    <a:pt x="105" y="1131"/>
                  </a:lnTo>
                  <a:lnTo>
                    <a:pt x="117" y="1158"/>
                  </a:lnTo>
                  <a:lnTo>
                    <a:pt x="110" y="1187"/>
                  </a:lnTo>
                  <a:lnTo>
                    <a:pt x="105" y="1238"/>
                  </a:lnTo>
                  <a:lnTo>
                    <a:pt x="87" y="1288"/>
                  </a:lnTo>
                  <a:lnTo>
                    <a:pt x="76" y="1349"/>
                  </a:lnTo>
                  <a:lnTo>
                    <a:pt x="59" y="1400"/>
                  </a:lnTo>
                  <a:lnTo>
                    <a:pt x="47" y="1445"/>
                  </a:lnTo>
                  <a:lnTo>
                    <a:pt x="41" y="1479"/>
                  </a:lnTo>
                  <a:lnTo>
                    <a:pt x="52" y="1496"/>
                  </a:lnTo>
                  <a:lnTo>
                    <a:pt x="64" y="1552"/>
                  </a:lnTo>
                  <a:lnTo>
                    <a:pt x="82" y="1626"/>
                  </a:lnTo>
                  <a:lnTo>
                    <a:pt x="105" y="1699"/>
                  </a:lnTo>
                  <a:lnTo>
                    <a:pt x="134" y="1783"/>
                  </a:lnTo>
                  <a:lnTo>
                    <a:pt x="151" y="1861"/>
                  </a:lnTo>
                  <a:lnTo>
                    <a:pt x="168" y="1940"/>
                  </a:lnTo>
                  <a:lnTo>
                    <a:pt x="168" y="2013"/>
                  </a:lnTo>
                  <a:lnTo>
                    <a:pt x="168" y="2087"/>
                  </a:lnTo>
                  <a:lnTo>
                    <a:pt x="145" y="2131"/>
                  </a:lnTo>
                  <a:lnTo>
                    <a:pt x="105" y="2182"/>
                  </a:lnTo>
                  <a:lnTo>
                    <a:pt x="87" y="2210"/>
                  </a:lnTo>
                  <a:lnTo>
                    <a:pt x="70" y="2244"/>
                  </a:lnTo>
                  <a:lnTo>
                    <a:pt x="59" y="2289"/>
                  </a:lnTo>
                  <a:lnTo>
                    <a:pt x="64" y="2345"/>
                  </a:lnTo>
                  <a:lnTo>
                    <a:pt x="64" y="2384"/>
                  </a:lnTo>
                  <a:lnTo>
                    <a:pt x="82" y="2430"/>
                  </a:lnTo>
                  <a:lnTo>
                    <a:pt x="99" y="2469"/>
                  </a:lnTo>
                  <a:lnTo>
                    <a:pt x="122" y="2514"/>
                  </a:lnTo>
                  <a:lnTo>
                    <a:pt x="140" y="2553"/>
                  </a:lnTo>
                  <a:lnTo>
                    <a:pt x="157" y="2592"/>
                  </a:lnTo>
                  <a:lnTo>
                    <a:pt x="168" y="2626"/>
                  </a:lnTo>
                  <a:lnTo>
                    <a:pt x="186" y="2666"/>
                  </a:lnTo>
                  <a:lnTo>
                    <a:pt x="186" y="2710"/>
                  </a:lnTo>
                  <a:lnTo>
                    <a:pt x="186" y="2761"/>
                  </a:lnTo>
                  <a:lnTo>
                    <a:pt x="181" y="2818"/>
                  </a:lnTo>
                  <a:lnTo>
                    <a:pt x="175" y="2879"/>
                  </a:lnTo>
                  <a:lnTo>
                    <a:pt x="163" y="2930"/>
                  </a:lnTo>
                  <a:lnTo>
                    <a:pt x="151" y="2986"/>
                  </a:lnTo>
                  <a:lnTo>
                    <a:pt x="145" y="3036"/>
                  </a:lnTo>
                  <a:lnTo>
                    <a:pt x="145" y="3093"/>
                  </a:lnTo>
                  <a:lnTo>
                    <a:pt x="134" y="3200"/>
                  </a:lnTo>
                  <a:lnTo>
                    <a:pt x="128" y="3318"/>
                  </a:lnTo>
                  <a:lnTo>
                    <a:pt x="122" y="3436"/>
                  </a:lnTo>
                  <a:lnTo>
                    <a:pt x="122" y="3554"/>
                  </a:lnTo>
                  <a:lnTo>
                    <a:pt x="117" y="3672"/>
                  </a:lnTo>
                  <a:lnTo>
                    <a:pt x="117" y="3790"/>
                  </a:lnTo>
                  <a:lnTo>
                    <a:pt x="117" y="3909"/>
                  </a:lnTo>
                  <a:lnTo>
                    <a:pt x="117" y="4032"/>
                  </a:lnTo>
                  <a:lnTo>
                    <a:pt x="163" y="4049"/>
                  </a:lnTo>
                  <a:lnTo>
                    <a:pt x="216" y="4066"/>
                  </a:lnTo>
                  <a:lnTo>
                    <a:pt x="274" y="4071"/>
                  </a:lnTo>
                  <a:lnTo>
                    <a:pt x="343" y="4083"/>
                  </a:lnTo>
                  <a:lnTo>
                    <a:pt x="407" y="4083"/>
                  </a:lnTo>
                  <a:lnTo>
                    <a:pt x="471" y="4083"/>
                  </a:lnTo>
                  <a:lnTo>
                    <a:pt x="535" y="4076"/>
                  </a:lnTo>
                  <a:lnTo>
                    <a:pt x="599" y="4071"/>
                  </a:lnTo>
                  <a:lnTo>
                    <a:pt x="634" y="4043"/>
                  </a:lnTo>
                  <a:lnTo>
                    <a:pt x="657" y="4004"/>
                  </a:lnTo>
                  <a:lnTo>
                    <a:pt x="657" y="3948"/>
                  </a:lnTo>
                  <a:lnTo>
                    <a:pt x="657" y="3885"/>
                  </a:lnTo>
                  <a:lnTo>
                    <a:pt x="639" y="3813"/>
                  </a:lnTo>
                  <a:lnTo>
                    <a:pt x="627" y="3745"/>
                  </a:lnTo>
                  <a:lnTo>
                    <a:pt x="616" y="3678"/>
                  </a:lnTo>
                  <a:lnTo>
                    <a:pt x="622" y="3622"/>
                  </a:lnTo>
                  <a:lnTo>
                    <a:pt x="627" y="3543"/>
                  </a:lnTo>
                  <a:lnTo>
                    <a:pt x="652" y="3470"/>
                  </a:lnTo>
                  <a:lnTo>
                    <a:pt x="680" y="3391"/>
                  </a:lnTo>
                  <a:lnTo>
                    <a:pt x="715" y="3323"/>
                  </a:lnTo>
                  <a:lnTo>
                    <a:pt x="744" y="3250"/>
                  </a:lnTo>
                  <a:lnTo>
                    <a:pt x="773" y="3178"/>
                  </a:lnTo>
                  <a:lnTo>
                    <a:pt x="802" y="3110"/>
                  </a:lnTo>
                  <a:lnTo>
                    <a:pt x="825" y="3042"/>
                  </a:lnTo>
                  <a:lnTo>
                    <a:pt x="843" y="2891"/>
                  </a:lnTo>
                  <a:lnTo>
                    <a:pt x="855" y="2727"/>
                  </a:lnTo>
                  <a:lnTo>
                    <a:pt x="849" y="2548"/>
                  </a:lnTo>
                  <a:lnTo>
                    <a:pt x="849" y="2367"/>
                  </a:lnTo>
                  <a:lnTo>
                    <a:pt x="837" y="2176"/>
                  </a:lnTo>
                  <a:lnTo>
                    <a:pt x="832" y="1996"/>
                  </a:lnTo>
                  <a:lnTo>
                    <a:pt x="825" y="1817"/>
                  </a:lnTo>
                  <a:lnTo>
                    <a:pt x="825" y="1659"/>
                  </a:lnTo>
                  <a:lnTo>
                    <a:pt x="756" y="1636"/>
                  </a:lnTo>
                  <a:lnTo>
                    <a:pt x="686" y="1614"/>
                  </a:lnTo>
                  <a:lnTo>
                    <a:pt x="611" y="1592"/>
                  </a:lnTo>
                  <a:lnTo>
                    <a:pt x="535" y="1575"/>
                  </a:lnTo>
                  <a:lnTo>
                    <a:pt x="454" y="1552"/>
                  </a:lnTo>
                  <a:lnTo>
                    <a:pt x="384" y="1541"/>
                  </a:lnTo>
                  <a:lnTo>
                    <a:pt x="314" y="1530"/>
                  </a:lnTo>
                  <a:lnTo>
                    <a:pt x="250" y="1530"/>
                  </a:lnTo>
                  <a:lnTo>
                    <a:pt x="221" y="1366"/>
                  </a:lnTo>
                  <a:lnTo>
                    <a:pt x="209" y="1204"/>
                  </a:lnTo>
                  <a:lnTo>
                    <a:pt x="198" y="1040"/>
                  </a:lnTo>
                  <a:lnTo>
                    <a:pt x="198" y="883"/>
                  </a:lnTo>
                  <a:lnTo>
                    <a:pt x="198" y="721"/>
                  </a:lnTo>
                  <a:lnTo>
                    <a:pt x="204" y="557"/>
                  </a:lnTo>
                  <a:lnTo>
                    <a:pt x="216" y="394"/>
                  </a:lnTo>
                  <a:lnTo>
                    <a:pt x="239" y="243"/>
                  </a:lnTo>
                  <a:lnTo>
                    <a:pt x="262" y="236"/>
                  </a:lnTo>
                  <a:lnTo>
                    <a:pt x="308" y="231"/>
                  </a:lnTo>
                  <a:lnTo>
                    <a:pt x="355" y="220"/>
                  </a:lnTo>
                  <a:lnTo>
                    <a:pt x="384" y="220"/>
                  </a:lnTo>
                  <a:lnTo>
                    <a:pt x="401" y="220"/>
                  </a:lnTo>
                  <a:lnTo>
                    <a:pt x="424" y="231"/>
                  </a:lnTo>
                  <a:lnTo>
                    <a:pt x="407" y="192"/>
                  </a:lnTo>
                  <a:lnTo>
                    <a:pt x="396" y="158"/>
                  </a:lnTo>
                  <a:lnTo>
                    <a:pt x="378" y="113"/>
                  </a:lnTo>
                  <a:lnTo>
                    <a:pt x="366" y="79"/>
                  </a:lnTo>
                  <a:lnTo>
                    <a:pt x="338" y="40"/>
                  </a:lnTo>
                  <a:lnTo>
                    <a:pt x="302" y="17"/>
                  </a:lnTo>
                  <a:lnTo>
                    <a:pt x="262" y="0"/>
                  </a:lnTo>
                  <a:lnTo>
                    <a:pt x="209" y="12"/>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755320" y="3460680"/>
              <a:ext cx="59040" cy="50760"/>
            </a:xfrm>
            <a:custGeom>
              <a:avLst/>
              <a:gdLst/>
              <a:ahLst/>
              <a:rect l="l" t="t" r="r" b="b"/>
              <a:pathLst>
                <a:path w="256" h="201">
                  <a:moveTo>
                    <a:pt x="94" y="0"/>
                  </a:moveTo>
                  <a:lnTo>
                    <a:pt x="64" y="34"/>
                  </a:lnTo>
                  <a:lnTo>
                    <a:pt x="36" y="73"/>
                  </a:lnTo>
                  <a:lnTo>
                    <a:pt x="12" y="106"/>
                  </a:lnTo>
                  <a:lnTo>
                    <a:pt x="0" y="140"/>
                  </a:lnTo>
                  <a:lnTo>
                    <a:pt x="0" y="162"/>
                  </a:lnTo>
                  <a:lnTo>
                    <a:pt x="23" y="184"/>
                  </a:lnTo>
                  <a:lnTo>
                    <a:pt x="71" y="196"/>
                  </a:lnTo>
                  <a:lnTo>
                    <a:pt x="152" y="201"/>
                  </a:lnTo>
                  <a:lnTo>
                    <a:pt x="204" y="191"/>
                  </a:lnTo>
                  <a:lnTo>
                    <a:pt x="244" y="169"/>
                  </a:lnTo>
                  <a:lnTo>
                    <a:pt x="256" y="135"/>
                  </a:lnTo>
                  <a:lnTo>
                    <a:pt x="251" y="101"/>
                  </a:lnTo>
                  <a:lnTo>
                    <a:pt x="228" y="61"/>
                  </a:lnTo>
                  <a:lnTo>
                    <a:pt x="193" y="34"/>
                  </a:lnTo>
                  <a:lnTo>
                    <a:pt x="146" y="5"/>
                  </a:lnTo>
                  <a:lnTo>
                    <a:pt x="94" y="0"/>
                  </a:lnTo>
                  <a:close/>
                </a:path>
              </a:pathLst>
            </a:custGeom>
            <a:solidFill>
              <a:srgbClr val="e6b3a6"/>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0" name=""/>
            <p:cNvSpPr/>
            <p:nvPr/>
          </p:nvSpPr>
          <p:spPr>
            <a:xfrm>
              <a:off x="3954600" y="3471480"/>
              <a:ext cx="18000" cy="90720"/>
            </a:xfrm>
            <a:custGeom>
              <a:avLst/>
              <a:gdLst/>
              <a:ahLst/>
              <a:rect l="l" t="t" r="r" b="b"/>
              <a:pathLst>
                <a:path w="76" h="360">
                  <a:moveTo>
                    <a:pt x="6" y="0"/>
                  </a:moveTo>
                  <a:lnTo>
                    <a:pt x="0" y="34"/>
                  </a:lnTo>
                  <a:lnTo>
                    <a:pt x="0" y="73"/>
                  </a:lnTo>
                  <a:lnTo>
                    <a:pt x="0" y="113"/>
                  </a:lnTo>
                  <a:lnTo>
                    <a:pt x="0" y="157"/>
                  </a:lnTo>
                  <a:lnTo>
                    <a:pt x="0" y="191"/>
                  </a:lnTo>
                  <a:lnTo>
                    <a:pt x="0" y="241"/>
                  </a:lnTo>
                  <a:lnTo>
                    <a:pt x="0" y="287"/>
                  </a:lnTo>
                  <a:lnTo>
                    <a:pt x="6" y="348"/>
                  </a:lnTo>
                  <a:lnTo>
                    <a:pt x="46" y="360"/>
                  </a:lnTo>
                  <a:lnTo>
                    <a:pt x="46" y="321"/>
                  </a:lnTo>
                  <a:lnTo>
                    <a:pt x="52" y="280"/>
                  </a:lnTo>
                  <a:lnTo>
                    <a:pt x="59" y="236"/>
                  </a:lnTo>
                  <a:lnTo>
                    <a:pt x="64" y="196"/>
                  </a:lnTo>
                  <a:lnTo>
                    <a:pt x="64" y="145"/>
                  </a:lnTo>
                  <a:lnTo>
                    <a:pt x="70" y="101"/>
                  </a:lnTo>
                  <a:lnTo>
                    <a:pt x="70" y="56"/>
                  </a:lnTo>
                  <a:lnTo>
                    <a:pt x="76" y="11"/>
                  </a:lnTo>
                  <a:lnTo>
                    <a:pt x="59" y="5"/>
                  </a:lnTo>
                  <a:lnTo>
                    <a:pt x="41" y="5"/>
                  </a:lnTo>
                  <a:lnTo>
                    <a:pt x="11" y="0"/>
                  </a:lnTo>
                  <a:lnTo>
                    <a:pt x="6"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21" name=""/>
            <p:cNvSpPr/>
            <p:nvPr/>
          </p:nvSpPr>
          <p:spPr>
            <a:xfrm>
              <a:off x="5630760" y="3503520"/>
              <a:ext cx="392400" cy="450720"/>
            </a:xfrm>
            <a:custGeom>
              <a:avLst/>
              <a:gdLst/>
              <a:ahLst/>
              <a:rect l="l" t="t" r="r" b="b"/>
              <a:pathLst>
                <a:path w="1703" h="1787">
                  <a:moveTo>
                    <a:pt x="982" y="0"/>
                  </a:moveTo>
                  <a:lnTo>
                    <a:pt x="948" y="10"/>
                  </a:lnTo>
                  <a:lnTo>
                    <a:pt x="907" y="44"/>
                  </a:lnTo>
                  <a:lnTo>
                    <a:pt x="860" y="78"/>
                  </a:lnTo>
                  <a:lnTo>
                    <a:pt x="819" y="100"/>
                  </a:lnTo>
                  <a:lnTo>
                    <a:pt x="756" y="100"/>
                  </a:lnTo>
                  <a:lnTo>
                    <a:pt x="697" y="100"/>
                  </a:lnTo>
                  <a:lnTo>
                    <a:pt x="639" y="89"/>
                  </a:lnTo>
                  <a:lnTo>
                    <a:pt x="588" y="83"/>
                  </a:lnTo>
                  <a:lnTo>
                    <a:pt x="529" y="66"/>
                  </a:lnTo>
                  <a:lnTo>
                    <a:pt x="477" y="66"/>
                  </a:lnTo>
                  <a:lnTo>
                    <a:pt x="424" y="66"/>
                  </a:lnTo>
                  <a:lnTo>
                    <a:pt x="383" y="89"/>
                  </a:lnTo>
                  <a:lnTo>
                    <a:pt x="337" y="111"/>
                  </a:lnTo>
                  <a:lnTo>
                    <a:pt x="308" y="150"/>
                  </a:lnTo>
                  <a:lnTo>
                    <a:pt x="274" y="196"/>
                  </a:lnTo>
                  <a:lnTo>
                    <a:pt x="251" y="252"/>
                  </a:lnTo>
                  <a:lnTo>
                    <a:pt x="226" y="302"/>
                  </a:lnTo>
                  <a:lnTo>
                    <a:pt x="203" y="365"/>
                  </a:lnTo>
                  <a:lnTo>
                    <a:pt x="186" y="415"/>
                  </a:lnTo>
                  <a:lnTo>
                    <a:pt x="168" y="471"/>
                  </a:lnTo>
                  <a:lnTo>
                    <a:pt x="145" y="505"/>
                  </a:lnTo>
                  <a:lnTo>
                    <a:pt x="122" y="550"/>
                  </a:lnTo>
                  <a:lnTo>
                    <a:pt x="99" y="595"/>
                  </a:lnTo>
                  <a:lnTo>
                    <a:pt x="76" y="645"/>
                  </a:lnTo>
                  <a:lnTo>
                    <a:pt x="46" y="691"/>
                  </a:lnTo>
                  <a:lnTo>
                    <a:pt x="29" y="741"/>
                  </a:lnTo>
                  <a:lnTo>
                    <a:pt x="12" y="787"/>
                  </a:lnTo>
                  <a:lnTo>
                    <a:pt x="6" y="837"/>
                  </a:lnTo>
                  <a:lnTo>
                    <a:pt x="0" y="961"/>
                  </a:lnTo>
                  <a:lnTo>
                    <a:pt x="35" y="1089"/>
                  </a:lnTo>
                  <a:lnTo>
                    <a:pt x="87" y="1219"/>
                  </a:lnTo>
                  <a:lnTo>
                    <a:pt x="157" y="1354"/>
                  </a:lnTo>
                  <a:lnTo>
                    <a:pt x="226" y="1478"/>
                  </a:lnTo>
                  <a:lnTo>
                    <a:pt x="308" y="1596"/>
                  </a:lnTo>
                  <a:lnTo>
                    <a:pt x="378" y="1697"/>
                  </a:lnTo>
                  <a:lnTo>
                    <a:pt x="448" y="1787"/>
                  </a:lnTo>
                  <a:lnTo>
                    <a:pt x="512" y="1646"/>
                  </a:lnTo>
                  <a:lnTo>
                    <a:pt x="552" y="1551"/>
                  </a:lnTo>
                  <a:lnTo>
                    <a:pt x="558" y="1472"/>
                  </a:lnTo>
                  <a:lnTo>
                    <a:pt x="546" y="1416"/>
                  </a:lnTo>
                  <a:lnTo>
                    <a:pt x="512" y="1354"/>
                  </a:lnTo>
                  <a:lnTo>
                    <a:pt x="465" y="1287"/>
                  </a:lnTo>
                  <a:lnTo>
                    <a:pt x="401" y="1202"/>
                  </a:lnTo>
                  <a:lnTo>
                    <a:pt x="343" y="1096"/>
                  </a:lnTo>
                  <a:lnTo>
                    <a:pt x="343" y="1000"/>
                  </a:lnTo>
                  <a:lnTo>
                    <a:pt x="395" y="1045"/>
                  </a:lnTo>
                  <a:lnTo>
                    <a:pt x="448" y="1096"/>
                  </a:lnTo>
                  <a:lnTo>
                    <a:pt x="500" y="1157"/>
                  </a:lnTo>
                  <a:lnTo>
                    <a:pt x="552" y="1224"/>
                  </a:lnTo>
                  <a:lnTo>
                    <a:pt x="593" y="1292"/>
                  </a:lnTo>
                  <a:lnTo>
                    <a:pt x="639" y="1366"/>
                  </a:lnTo>
                  <a:lnTo>
                    <a:pt x="674" y="1433"/>
                  </a:lnTo>
                  <a:lnTo>
                    <a:pt x="715" y="1506"/>
                  </a:lnTo>
                  <a:lnTo>
                    <a:pt x="738" y="1501"/>
                  </a:lnTo>
                  <a:lnTo>
                    <a:pt x="768" y="1501"/>
                  </a:lnTo>
                  <a:lnTo>
                    <a:pt x="796" y="1501"/>
                  </a:lnTo>
                  <a:lnTo>
                    <a:pt x="808" y="1506"/>
                  </a:lnTo>
                  <a:lnTo>
                    <a:pt x="907" y="1528"/>
                  </a:lnTo>
                  <a:lnTo>
                    <a:pt x="1011" y="1557"/>
                  </a:lnTo>
                  <a:lnTo>
                    <a:pt x="1098" y="1568"/>
                  </a:lnTo>
                  <a:lnTo>
                    <a:pt x="1174" y="1568"/>
                  </a:lnTo>
                  <a:lnTo>
                    <a:pt x="1227" y="1535"/>
                  </a:lnTo>
                  <a:lnTo>
                    <a:pt x="1262" y="1478"/>
                  </a:lnTo>
                  <a:lnTo>
                    <a:pt x="1267" y="1383"/>
                  </a:lnTo>
                  <a:lnTo>
                    <a:pt x="1250" y="1248"/>
                  </a:lnTo>
                  <a:lnTo>
                    <a:pt x="1232" y="1185"/>
                  </a:lnTo>
                  <a:lnTo>
                    <a:pt x="1220" y="1123"/>
                  </a:lnTo>
                  <a:lnTo>
                    <a:pt x="1204" y="1057"/>
                  </a:lnTo>
                  <a:lnTo>
                    <a:pt x="1192" y="994"/>
                  </a:lnTo>
                  <a:lnTo>
                    <a:pt x="1174" y="922"/>
                  </a:lnTo>
                  <a:lnTo>
                    <a:pt x="1163" y="854"/>
                  </a:lnTo>
                  <a:lnTo>
                    <a:pt x="1156" y="787"/>
                  </a:lnTo>
                  <a:lnTo>
                    <a:pt x="1156" y="730"/>
                  </a:lnTo>
                  <a:lnTo>
                    <a:pt x="1156" y="713"/>
                  </a:lnTo>
                  <a:lnTo>
                    <a:pt x="1163" y="691"/>
                  </a:lnTo>
                  <a:lnTo>
                    <a:pt x="1163" y="674"/>
                  </a:lnTo>
                  <a:lnTo>
                    <a:pt x="1168" y="668"/>
                  </a:lnTo>
                  <a:lnTo>
                    <a:pt x="1174" y="668"/>
                  </a:lnTo>
                  <a:lnTo>
                    <a:pt x="1192" y="674"/>
                  </a:lnTo>
                  <a:lnTo>
                    <a:pt x="1209" y="674"/>
                  </a:lnTo>
                  <a:lnTo>
                    <a:pt x="1220" y="679"/>
                  </a:lnTo>
                  <a:lnTo>
                    <a:pt x="1232" y="787"/>
                  </a:lnTo>
                  <a:lnTo>
                    <a:pt x="1250" y="898"/>
                  </a:lnTo>
                  <a:lnTo>
                    <a:pt x="1273" y="1011"/>
                  </a:lnTo>
                  <a:lnTo>
                    <a:pt x="1302" y="1123"/>
                  </a:lnTo>
                  <a:lnTo>
                    <a:pt x="1325" y="1231"/>
                  </a:lnTo>
                  <a:lnTo>
                    <a:pt x="1354" y="1343"/>
                  </a:lnTo>
                  <a:lnTo>
                    <a:pt x="1377" y="1450"/>
                  </a:lnTo>
                  <a:lnTo>
                    <a:pt x="1407" y="1557"/>
                  </a:lnTo>
                  <a:lnTo>
                    <a:pt x="1442" y="1545"/>
                  </a:lnTo>
                  <a:lnTo>
                    <a:pt x="1482" y="1545"/>
                  </a:lnTo>
                  <a:lnTo>
                    <a:pt x="1517" y="1545"/>
                  </a:lnTo>
                  <a:lnTo>
                    <a:pt x="1557" y="1551"/>
                  </a:lnTo>
                  <a:lnTo>
                    <a:pt x="1592" y="1551"/>
                  </a:lnTo>
                  <a:lnTo>
                    <a:pt x="1627" y="1562"/>
                  </a:lnTo>
                  <a:lnTo>
                    <a:pt x="1663" y="1568"/>
                  </a:lnTo>
                  <a:lnTo>
                    <a:pt x="1703" y="1584"/>
                  </a:lnTo>
                  <a:lnTo>
                    <a:pt x="1680" y="1540"/>
                  </a:lnTo>
                  <a:lnTo>
                    <a:pt x="1663" y="1494"/>
                  </a:lnTo>
                  <a:lnTo>
                    <a:pt x="1627" y="1427"/>
                  </a:lnTo>
                  <a:lnTo>
                    <a:pt x="1598" y="1366"/>
                  </a:lnTo>
                  <a:lnTo>
                    <a:pt x="1557" y="1292"/>
                  </a:lnTo>
                  <a:lnTo>
                    <a:pt x="1523" y="1224"/>
                  </a:lnTo>
                  <a:lnTo>
                    <a:pt x="1488" y="1152"/>
                  </a:lnTo>
                  <a:lnTo>
                    <a:pt x="1458" y="1079"/>
                  </a:lnTo>
                  <a:lnTo>
                    <a:pt x="1435" y="1011"/>
                  </a:lnTo>
                  <a:lnTo>
                    <a:pt x="1435" y="949"/>
                  </a:lnTo>
                  <a:lnTo>
                    <a:pt x="1442" y="888"/>
                  </a:lnTo>
                  <a:lnTo>
                    <a:pt x="1470" y="831"/>
                  </a:lnTo>
                  <a:lnTo>
                    <a:pt x="1476" y="797"/>
                  </a:lnTo>
                  <a:lnTo>
                    <a:pt x="1488" y="770"/>
                  </a:lnTo>
                  <a:lnTo>
                    <a:pt x="1488" y="736"/>
                  </a:lnTo>
                  <a:lnTo>
                    <a:pt x="1488" y="707"/>
                  </a:lnTo>
                  <a:lnTo>
                    <a:pt x="1476" y="691"/>
                  </a:lnTo>
                  <a:lnTo>
                    <a:pt x="1447" y="662"/>
                  </a:lnTo>
                  <a:lnTo>
                    <a:pt x="1418" y="635"/>
                  </a:lnTo>
                  <a:lnTo>
                    <a:pt x="1407" y="618"/>
                  </a:lnTo>
                  <a:lnTo>
                    <a:pt x="1372" y="533"/>
                  </a:lnTo>
                  <a:lnTo>
                    <a:pt x="1354" y="454"/>
                  </a:lnTo>
                  <a:lnTo>
                    <a:pt x="1331" y="370"/>
                  </a:lnTo>
                  <a:lnTo>
                    <a:pt x="1313" y="297"/>
                  </a:lnTo>
                  <a:lnTo>
                    <a:pt x="1278" y="224"/>
                  </a:lnTo>
                  <a:lnTo>
                    <a:pt x="1250" y="162"/>
                  </a:lnTo>
                  <a:lnTo>
                    <a:pt x="1204" y="106"/>
                  </a:lnTo>
                  <a:lnTo>
                    <a:pt x="1145" y="61"/>
                  </a:lnTo>
                  <a:lnTo>
                    <a:pt x="1110" y="39"/>
                  </a:lnTo>
                  <a:lnTo>
                    <a:pt x="1070" y="15"/>
                  </a:lnTo>
                  <a:lnTo>
                    <a:pt x="1024" y="0"/>
                  </a:lnTo>
                  <a:lnTo>
                    <a:pt x="982"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421960" y="3511440"/>
              <a:ext cx="214200" cy="335880"/>
            </a:xfrm>
            <a:custGeom>
              <a:avLst/>
              <a:gdLst/>
              <a:ahLst/>
              <a:rect l="l" t="t" r="r" b="b"/>
              <a:pathLst>
                <a:path w="930" h="1334">
                  <a:moveTo>
                    <a:pt x="23" y="0"/>
                  </a:moveTo>
                  <a:lnTo>
                    <a:pt x="7" y="130"/>
                  </a:lnTo>
                  <a:lnTo>
                    <a:pt x="0" y="270"/>
                  </a:lnTo>
                  <a:lnTo>
                    <a:pt x="0" y="422"/>
                  </a:lnTo>
                  <a:lnTo>
                    <a:pt x="0" y="574"/>
                  </a:lnTo>
                  <a:lnTo>
                    <a:pt x="0" y="726"/>
                  </a:lnTo>
                  <a:lnTo>
                    <a:pt x="18" y="878"/>
                  </a:lnTo>
                  <a:lnTo>
                    <a:pt x="30" y="1018"/>
                  </a:lnTo>
                  <a:lnTo>
                    <a:pt x="53" y="1165"/>
                  </a:lnTo>
                  <a:lnTo>
                    <a:pt x="146" y="1192"/>
                  </a:lnTo>
                  <a:lnTo>
                    <a:pt x="251" y="1226"/>
                  </a:lnTo>
                  <a:lnTo>
                    <a:pt x="355" y="1249"/>
                  </a:lnTo>
                  <a:lnTo>
                    <a:pt x="471" y="1271"/>
                  </a:lnTo>
                  <a:lnTo>
                    <a:pt x="588" y="1288"/>
                  </a:lnTo>
                  <a:lnTo>
                    <a:pt x="704" y="1305"/>
                  </a:lnTo>
                  <a:lnTo>
                    <a:pt x="814" y="1317"/>
                  </a:lnTo>
                  <a:lnTo>
                    <a:pt x="930" y="1334"/>
                  </a:lnTo>
                  <a:lnTo>
                    <a:pt x="919" y="1317"/>
                  </a:lnTo>
                  <a:lnTo>
                    <a:pt x="919" y="1288"/>
                  </a:lnTo>
                  <a:lnTo>
                    <a:pt x="913" y="1266"/>
                  </a:lnTo>
                  <a:lnTo>
                    <a:pt x="907" y="1232"/>
                  </a:lnTo>
                  <a:lnTo>
                    <a:pt x="902" y="1216"/>
                  </a:lnTo>
                  <a:lnTo>
                    <a:pt x="884" y="1170"/>
                  </a:lnTo>
                  <a:lnTo>
                    <a:pt x="872" y="1131"/>
                  </a:lnTo>
                  <a:lnTo>
                    <a:pt x="861" y="1091"/>
                  </a:lnTo>
                  <a:lnTo>
                    <a:pt x="854" y="1057"/>
                  </a:lnTo>
                  <a:lnTo>
                    <a:pt x="844" y="1018"/>
                  </a:lnTo>
                  <a:lnTo>
                    <a:pt x="837" y="979"/>
                  </a:lnTo>
                  <a:lnTo>
                    <a:pt x="826" y="946"/>
                  </a:lnTo>
                  <a:lnTo>
                    <a:pt x="826" y="917"/>
                  </a:lnTo>
                  <a:lnTo>
                    <a:pt x="756" y="917"/>
                  </a:lnTo>
                  <a:lnTo>
                    <a:pt x="692" y="929"/>
                  </a:lnTo>
                  <a:lnTo>
                    <a:pt x="628" y="929"/>
                  </a:lnTo>
                  <a:lnTo>
                    <a:pt x="565" y="940"/>
                  </a:lnTo>
                  <a:lnTo>
                    <a:pt x="494" y="940"/>
                  </a:lnTo>
                  <a:lnTo>
                    <a:pt x="436" y="946"/>
                  </a:lnTo>
                  <a:lnTo>
                    <a:pt x="372" y="946"/>
                  </a:lnTo>
                  <a:lnTo>
                    <a:pt x="314" y="946"/>
                  </a:lnTo>
                  <a:lnTo>
                    <a:pt x="337" y="923"/>
                  </a:lnTo>
                  <a:lnTo>
                    <a:pt x="396" y="895"/>
                  </a:lnTo>
                  <a:lnTo>
                    <a:pt x="378" y="788"/>
                  </a:lnTo>
                  <a:lnTo>
                    <a:pt x="360" y="675"/>
                  </a:lnTo>
                  <a:lnTo>
                    <a:pt x="337" y="563"/>
                  </a:lnTo>
                  <a:lnTo>
                    <a:pt x="320" y="456"/>
                  </a:lnTo>
                  <a:lnTo>
                    <a:pt x="291" y="344"/>
                  </a:lnTo>
                  <a:lnTo>
                    <a:pt x="268" y="248"/>
                  </a:lnTo>
                  <a:lnTo>
                    <a:pt x="233" y="159"/>
                  </a:lnTo>
                  <a:lnTo>
                    <a:pt x="198" y="85"/>
                  </a:lnTo>
                  <a:lnTo>
                    <a:pt x="164" y="34"/>
                  </a:lnTo>
                  <a:lnTo>
                    <a:pt x="134" y="17"/>
                  </a:lnTo>
                  <a:lnTo>
                    <a:pt x="111" y="7"/>
                  </a:lnTo>
                  <a:lnTo>
                    <a:pt x="94" y="7"/>
                  </a:lnTo>
                  <a:lnTo>
                    <a:pt x="58" y="0"/>
                  </a:lnTo>
                  <a:lnTo>
                    <a:pt x="23"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5320" y="3528720"/>
              <a:ext cx="57960" cy="201240"/>
            </a:xfrm>
            <a:custGeom>
              <a:avLst/>
              <a:gdLst/>
              <a:ahLst/>
              <a:rect l="l" t="t" r="r" b="b"/>
              <a:pathLst>
                <a:path w="250" h="798">
                  <a:moveTo>
                    <a:pt x="0" y="0"/>
                  </a:moveTo>
                  <a:lnTo>
                    <a:pt x="24" y="91"/>
                  </a:lnTo>
                  <a:lnTo>
                    <a:pt x="47" y="192"/>
                  </a:lnTo>
                  <a:lnTo>
                    <a:pt x="65" y="293"/>
                  </a:lnTo>
                  <a:lnTo>
                    <a:pt x="88" y="400"/>
                  </a:lnTo>
                  <a:lnTo>
                    <a:pt x="106" y="501"/>
                  </a:lnTo>
                  <a:lnTo>
                    <a:pt x="129" y="602"/>
                  </a:lnTo>
                  <a:lnTo>
                    <a:pt x="152" y="697"/>
                  </a:lnTo>
                  <a:lnTo>
                    <a:pt x="187" y="798"/>
                  </a:lnTo>
                  <a:lnTo>
                    <a:pt x="215" y="793"/>
                  </a:lnTo>
                  <a:lnTo>
                    <a:pt x="250" y="798"/>
                  </a:lnTo>
                  <a:lnTo>
                    <a:pt x="227" y="687"/>
                  </a:lnTo>
                  <a:lnTo>
                    <a:pt x="210" y="574"/>
                  </a:lnTo>
                  <a:lnTo>
                    <a:pt x="187" y="461"/>
                  </a:lnTo>
                  <a:lnTo>
                    <a:pt x="164" y="361"/>
                  </a:lnTo>
                  <a:lnTo>
                    <a:pt x="129" y="253"/>
                  </a:lnTo>
                  <a:lnTo>
                    <a:pt x="93" y="158"/>
                  </a:lnTo>
                  <a:lnTo>
                    <a:pt x="47" y="67"/>
                  </a:lnTo>
                  <a:lnTo>
                    <a:pt x="0"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621320" y="3630240"/>
              <a:ext cx="28800" cy="210600"/>
            </a:xfrm>
            <a:custGeom>
              <a:avLst/>
              <a:gdLst/>
              <a:ahLst/>
              <a:rect l="l" t="t" r="r" b="b"/>
              <a:pathLst>
                <a:path w="129" h="837">
                  <a:moveTo>
                    <a:pt x="76" y="0"/>
                  </a:moveTo>
                  <a:lnTo>
                    <a:pt x="30" y="56"/>
                  </a:lnTo>
                  <a:lnTo>
                    <a:pt x="7" y="152"/>
                  </a:lnTo>
                  <a:lnTo>
                    <a:pt x="0" y="258"/>
                  </a:lnTo>
                  <a:lnTo>
                    <a:pt x="7" y="382"/>
                  </a:lnTo>
                  <a:lnTo>
                    <a:pt x="18" y="500"/>
                  </a:lnTo>
                  <a:lnTo>
                    <a:pt x="41" y="618"/>
                  </a:lnTo>
                  <a:lnTo>
                    <a:pt x="70" y="714"/>
                  </a:lnTo>
                  <a:lnTo>
                    <a:pt x="99" y="798"/>
                  </a:lnTo>
                  <a:lnTo>
                    <a:pt x="111" y="815"/>
                  </a:lnTo>
                  <a:lnTo>
                    <a:pt x="129" y="837"/>
                  </a:lnTo>
                  <a:lnTo>
                    <a:pt x="122" y="724"/>
                  </a:lnTo>
                  <a:lnTo>
                    <a:pt x="122" y="613"/>
                  </a:lnTo>
                  <a:lnTo>
                    <a:pt x="116" y="494"/>
                  </a:lnTo>
                  <a:lnTo>
                    <a:pt x="116" y="382"/>
                  </a:lnTo>
                  <a:lnTo>
                    <a:pt x="105" y="263"/>
                  </a:lnTo>
                  <a:lnTo>
                    <a:pt x="99" y="162"/>
                  </a:lnTo>
                  <a:lnTo>
                    <a:pt x="88" y="72"/>
                  </a:lnTo>
                  <a:lnTo>
                    <a:pt x="76"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611600" y="3694320"/>
              <a:ext cx="172440" cy="428040"/>
            </a:xfrm>
            <a:custGeom>
              <a:avLst/>
              <a:gdLst/>
              <a:ahLst/>
              <a:rect l="l" t="t" r="r" b="b"/>
              <a:pathLst>
                <a:path w="750" h="1699">
                  <a:moveTo>
                    <a:pt x="228" y="0"/>
                  </a:moveTo>
                  <a:lnTo>
                    <a:pt x="216" y="101"/>
                  </a:lnTo>
                  <a:lnTo>
                    <a:pt x="216" y="236"/>
                  </a:lnTo>
                  <a:lnTo>
                    <a:pt x="221" y="394"/>
                  </a:lnTo>
                  <a:lnTo>
                    <a:pt x="239" y="557"/>
                  </a:lnTo>
                  <a:lnTo>
                    <a:pt x="256" y="709"/>
                  </a:lnTo>
                  <a:lnTo>
                    <a:pt x="286" y="849"/>
                  </a:lnTo>
                  <a:lnTo>
                    <a:pt x="320" y="956"/>
                  </a:lnTo>
                  <a:lnTo>
                    <a:pt x="367" y="1018"/>
                  </a:lnTo>
                  <a:lnTo>
                    <a:pt x="327" y="1091"/>
                  </a:lnTo>
                  <a:lnTo>
                    <a:pt x="286" y="1164"/>
                  </a:lnTo>
                  <a:lnTo>
                    <a:pt x="239" y="1226"/>
                  </a:lnTo>
                  <a:lnTo>
                    <a:pt x="193" y="1293"/>
                  </a:lnTo>
                  <a:lnTo>
                    <a:pt x="140" y="1356"/>
                  </a:lnTo>
                  <a:lnTo>
                    <a:pt x="94" y="1417"/>
                  </a:lnTo>
                  <a:lnTo>
                    <a:pt x="41" y="1484"/>
                  </a:lnTo>
                  <a:lnTo>
                    <a:pt x="0" y="1557"/>
                  </a:lnTo>
                  <a:lnTo>
                    <a:pt x="13" y="1586"/>
                  </a:lnTo>
                  <a:lnTo>
                    <a:pt x="30" y="1619"/>
                  </a:lnTo>
                  <a:lnTo>
                    <a:pt x="48" y="1648"/>
                  </a:lnTo>
                  <a:lnTo>
                    <a:pt x="76" y="1675"/>
                  </a:lnTo>
                  <a:lnTo>
                    <a:pt x="129" y="1699"/>
                  </a:lnTo>
                  <a:lnTo>
                    <a:pt x="175" y="1682"/>
                  </a:lnTo>
                  <a:lnTo>
                    <a:pt x="216" y="1642"/>
                  </a:lnTo>
                  <a:lnTo>
                    <a:pt x="262" y="1597"/>
                  </a:lnTo>
                  <a:lnTo>
                    <a:pt x="297" y="1552"/>
                  </a:lnTo>
                  <a:lnTo>
                    <a:pt x="350" y="1501"/>
                  </a:lnTo>
                  <a:lnTo>
                    <a:pt x="413" y="1439"/>
                  </a:lnTo>
                  <a:lnTo>
                    <a:pt x="489" y="1378"/>
                  </a:lnTo>
                  <a:lnTo>
                    <a:pt x="553" y="1310"/>
                  </a:lnTo>
                  <a:lnTo>
                    <a:pt x="611" y="1248"/>
                  </a:lnTo>
                  <a:lnTo>
                    <a:pt x="652" y="1192"/>
                  </a:lnTo>
                  <a:lnTo>
                    <a:pt x="675" y="1158"/>
                  </a:lnTo>
                  <a:lnTo>
                    <a:pt x="675" y="1108"/>
                  </a:lnTo>
                  <a:lnTo>
                    <a:pt x="669" y="1057"/>
                  </a:lnTo>
                  <a:lnTo>
                    <a:pt x="657" y="995"/>
                  </a:lnTo>
                  <a:lnTo>
                    <a:pt x="664" y="939"/>
                  </a:lnTo>
                  <a:lnTo>
                    <a:pt x="669" y="871"/>
                  </a:lnTo>
                  <a:lnTo>
                    <a:pt x="680" y="804"/>
                  </a:lnTo>
                  <a:lnTo>
                    <a:pt x="698" y="726"/>
                  </a:lnTo>
                  <a:lnTo>
                    <a:pt x="721" y="647"/>
                  </a:lnTo>
                  <a:lnTo>
                    <a:pt x="733" y="562"/>
                  </a:lnTo>
                  <a:lnTo>
                    <a:pt x="750" y="478"/>
                  </a:lnTo>
                  <a:lnTo>
                    <a:pt x="750" y="394"/>
                  </a:lnTo>
                  <a:lnTo>
                    <a:pt x="745" y="321"/>
                  </a:lnTo>
                  <a:lnTo>
                    <a:pt x="692" y="242"/>
                  </a:lnTo>
                  <a:lnTo>
                    <a:pt x="639" y="225"/>
                  </a:lnTo>
                  <a:lnTo>
                    <a:pt x="599" y="220"/>
                  </a:lnTo>
                  <a:lnTo>
                    <a:pt x="553" y="214"/>
                  </a:lnTo>
                  <a:lnTo>
                    <a:pt x="518" y="208"/>
                  </a:lnTo>
                  <a:lnTo>
                    <a:pt x="471" y="180"/>
                  </a:lnTo>
                  <a:lnTo>
                    <a:pt x="436" y="157"/>
                  </a:lnTo>
                  <a:lnTo>
                    <a:pt x="401" y="130"/>
                  </a:lnTo>
                  <a:lnTo>
                    <a:pt x="367" y="101"/>
                  </a:lnTo>
                  <a:lnTo>
                    <a:pt x="332" y="73"/>
                  </a:lnTo>
                  <a:lnTo>
                    <a:pt x="297" y="45"/>
                  </a:lnTo>
                  <a:lnTo>
                    <a:pt x="262" y="17"/>
                  </a:lnTo>
                  <a:lnTo>
                    <a:pt x="228" y="0"/>
                  </a:lnTo>
                  <a:close/>
                </a:path>
              </a:pathLst>
            </a:custGeom>
            <a:solidFill>
              <a:srgbClr val="fbac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308200" y="3727440"/>
              <a:ext cx="63360" cy="65160"/>
            </a:xfrm>
            <a:custGeom>
              <a:avLst/>
              <a:gdLst/>
              <a:ahLst/>
              <a:rect l="l" t="t" r="r" b="b"/>
              <a:pathLst>
                <a:path w="272" h="258">
                  <a:moveTo>
                    <a:pt x="180" y="0"/>
                  </a:moveTo>
                  <a:lnTo>
                    <a:pt x="122" y="10"/>
                  </a:lnTo>
                  <a:lnTo>
                    <a:pt x="69" y="50"/>
                  </a:lnTo>
                  <a:lnTo>
                    <a:pt x="23" y="95"/>
                  </a:lnTo>
                  <a:lnTo>
                    <a:pt x="5" y="152"/>
                  </a:lnTo>
                  <a:lnTo>
                    <a:pt x="0" y="196"/>
                  </a:lnTo>
                  <a:lnTo>
                    <a:pt x="11" y="235"/>
                  </a:lnTo>
                  <a:lnTo>
                    <a:pt x="34" y="252"/>
                  </a:lnTo>
                  <a:lnTo>
                    <a:pt x="86" y="258"/>
                  </a:lnTo>
                  <a:lnTo>
                    <a:pt x="92" y="252"/>
                  </a:lnTo>
                  <a:lnTo>
                    <a:pt x="104" y="252"/>
                  </a:lnTo>
                  <a:lnTo>
                    <a:pt x="110" y="247"/>
                  </a:lnTo>
                  <a:lnTo>
                    <a:pt x="99" y="247"/>
                  </a:lnTo>
                  <a:lnTo>
                    <a:pt x="157" y="218"/>
                  </a:lnTo>
                  <a:lnTo>
                    <a:pt x="208" y="186"/>
                  </a:lnTo>
                  <a:lnTo>
                    <a:pt x="243" y="140"/>
                  </a:lnTo>
                  <a:lnTo>
                    <a:pt x="267" y="101"/>
                  </a:lnTo>
                  <a:lnTo>
                    <a:pt x="272" y="56"/>
                  </a:lnTo>
                  <a:lnTo>
                    <a:pt x="261" y="22"/>
                  </a:lnTo>
                  <a:lnTo>
                    <a:pt x="226" y="0"/>
                  </a:lnTo>
                  <a:lnTo>
                    <a:pt x="180" y="0"/>
                  </a:lnTo>
                  <a:close/>
                </a:path>
              </a:pathLst>
            </a:custGeom>
            <a:solidFill>
              <a:srgbClr val="e6b3a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 name=""/>
            <p:cNvSpPr/>
            <p:nvPr/>
          </p:nvSpPr>
          <p:spPr>
            <a:xfrm>
              <a:off x="4879800" y="3850200"/>
              <a:ext cx="41400" cy="42480"/>
            </a:xfrm>
            <a:custGeom>
              <a:avLst/>
              <a:gdLst/>
              <a:ahLst/>
              <a:rect l="l" t="t" r="r" b="b"/>
              <a:pathLst>
                <a:path w="186" h="169">
                  <a:moveTo>
                    <a:pt x="76" y="0"/>
                  </a:moveTo>
                  <a:lnTo>
                    <a:pt x="52" y="29"/>
                  </a:lnTo>
                  <a:lnTo>
                    <a:pt x="29" y="57"/>
                  </a:lnTo>
                  <a:lnTo>
                    <a:pt x="11" y="85"/>
                  </a:lnTo>
                  <a:lnTo>
                    <a:pt x="6" y="118"/>
                  </a:lnTo>
                  <a:lnTo>
                    <a:pt x="0" y="135"/>
                  </a:lnTo>
                  <a:lnTo>
                    <a:pt x="11" y="159"/>
                  </a:lnTo>
                  <a:lnTo>
                    <a:pt x="41" y="164"/>
                  </a:lnTo>
                  <a:lnTo>
                    <a:pt x="99" y="169"/>
                  </a:lnTo>
                  <a:lnTo>
                    <a:pt x="151" y="152"/>
                  </a:lnTo>
                  <a:lnTo>
                    <a:pt x="180" y="135"/>
                  </a:lnTo>
                  <a:lnTo>
                    <a:pt x="186" y="108"/>
                  </a:lnTo>
                  <a:lnTo>
                    <a:pt x="180" y="85"/>
                  </a:lnTo>
                  <a:lnTo>
                    <a:pt x="157" y="57"/>
                  </a:lnTo>
                  <a:lnTo>
                    <a:pt x="133" y="34"/>
                  </a:lnTo>
                  <a:lnTo>
                    <a:pt x="99" y="12"/>
                  </a:lnTo>
                  <a:lnTo>
                    <a:pt x="76" y="0"/>
                  </a:lnTo>
                  <a:close/>
                </a:path>
              </a:pathLst>
            </a:custGeom>
            <a:solidFill>
              <a:srgbClr val="e6b3a6"/>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28" name=""/>
            <p:cNvSpPr/>
            <p:nvPr/>
          </p:nvSpPr>
          <p:spPr>
            <a:xfrm>
              <a:off x="4810680" y="3853080"/>
              <a:ext cx="17640" cy="37080"/>
            </a:xfrm>
            <a:custGeom>
              <a:avLst/>
              <a:gdLst/>
              <a:ahLst/>
              <a:rect l="l" t="t" r="r" b="b"/>
              <a:pathLst>
                <a:path w="76" h="147">
                  <a:moveTo>
                    <a:pt x="23" y="0"/>
                  </a:moveTo>
                  <a:lnTo>
                    <a:pt x="11" y="51"/>
                  </a:lnTo>
                  <a:lnTo>
                    <a:pt x="0" y="106"/>
                  </a:lnTo>
                  <a:lnTo>
                    <a:pt x="0" y="123"/>
                  </a:lnTo>
                  <a:lnTo>
                    <a:pt x="5" y="140"/>
                  </a:lnTo>
                  <a:lnTo>
                    <a:pt x="17" y="147"/>
                  </a:lnTo>
                  <a:lnTo>
                    <a:pt x="51" y="147"/>
                  </a:lnTo>
                  <a:lnTo>
                    <a:pt x="76" y="113"/>
                  </a:lnTo>
                  <a:lnTo>
                    <a:pt x="69" y="73"/>
                  </a:lnTo>
                  <a:lnTo>
                    <a:pt x="40" y="28"/>
                  </a:lnTo>
                  <a:lnTo>
                    <a:pt x="23" y="0"/>
                  </a:lnTo>
                  <a:close/>
                </a:path>
              </a:pathLst>
            </a:custGeom>
            <a:solidFill>
              <a:srgbClr val="fbac1c"/>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29" name=""/>
            <p:cNvSpPr/>
            <p:nvPr/>
          </p:nvSpPr>
          <p:spPr>
            <a:xfrm>
              <a:off x="5589360" y="3863520"/>
              <a:ext cx="35640" cy="74520"/>
            </a:xfrm>
            <a:custGeom>
              <a:avLst/>
              <a:gdLst/>
              <a:ahLst/>
              <a:rect l="l" t="t" r="r" b="b"/>
              <a:pathLst>
                <a:path w="157" h="298">
                  <a:moveTo>
                    <a:pt x="41" y="0"/>
                  </a:moveTo>
                  <a:lnTo>
                    <a:pt x="0" y="298"/>
                  </a:lnTo>
                  <a:lnTo>
                    <a:pt x="29" y="292"/>
                  </a:lnTo>
                  <a:lnTo>
                    <a:pt x="58" y="287"/>
                  </a:lnTo>
                  <a:lnTo>
                    <a:pt x="87" y="287"/>
                  </a:lnTo>
                  <a:lnTo>
                    <a:pt x="110" y="287"/>
                  </a:lnTo>
                  <a:lnTo>
                    <a:pt x="127" y="236"/>
                  </a:lnTo>
                  <a:lnTo>
                    <a:pt x="145" y="186"/>
                  </a:lnTo>
                  <a:lnTo>
                    <a:pt x="152" y="141"/>
                  </a:lnTo>
                  <a:lnTo>
                    <a:pt x="157" y="108"/>
                  </a:lnTo>
                  <a:lnTo>
                    <a:pt x="140" y="67"/>
                  </a:lnTo>
                  <a:lnTo>
                    <a:pt x="122" y="40"/>
                  </a:lnTo>
                  <a:lnTo>
                    <a:pt x="87" y="12"/>
                  </a:lnTo>
                  <a:lnTo>
                    <a:pt x="41" y="0"/>
                  </a:lnTo>
                  <a:close/>
                </a:path>
              </a:pathLst>
            </a:custGeom>
            <a:solidFill>
              <a:srgbClr val="e6a699"/>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5564160" y="3866400"/>
              <a:ext cx="12240" cy="35640"/>
            </a:xfrm>
            <a:custGeom>
              <a:avLst/>
              <a:gdLst/>
              <a:ahLst/>
              <a:rect l="l" t="t" r="r" b="b"/>
              <a:pathLst>
                <a:path w="51" h="145">
                  <a:moveTo>
                    <a:pt x="17" y="0"/>
                  </a:moveTo>
                  <a:lnTo>
                    <a:pt x="5" y="39"/>
                  </a:lnTo>
                  <a:lnTo>
                    <a:pt x="0" y="96"/>
                  </a:lnTo>
                  <a:lnTo>
                    <a:pt x="5" y="135"/>
                  </a:lnTo>
                  <a:lnTo>
                    <a:pt x="28" y="145"/>
                  </a:lnTo>
                  <a:lnTo>
                    <a:pt x="51" y="101"/>
                  </a:lnTo>
                  <a:lnTo>
                    <a:pt x="46" y="62"/>
                  </a:lnTo>
                  <a:lnTo>
                    <a:pt x="23" y="22"/>
                  </a:lnTo>
                  <a:lnTo>
                    <a:pt x="17" y="0"/>
                  </a:lnTo>
                  <a:close/>
                </a:path>
              </a:pathLst>
            </a:custGeom>
            <a:solidFill>
              <a:srgbClr val="e6a699"/>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31" name=""/>
            <p:cNvSpPr/>
            <p:nvPr/>
          </p:nvSpPr>
          <p:spPr>
            <a:xfrm>
              <a:off x="6086880" y="3866400"/>
              <a:ext cx="89640" cy="137160"/>
            </a:xfrm>
            <a:custGeom>
              <a:avLst/>
              <a:gdLst/>
              <a:ahLst/>
              <a:rect l="l" t="t" r="r" b="b"/>
              <a:pathLst>
                <a:path w="389" h="545">
                  <a:moveTo>
                    <a:pt x="215" y="0"/>
                  </a:moveTo>
                  <a:lnTo>
                    <a:pt x="175" y="33"/>
                  </a:lnTo>
                  <a:lnTo>
                    <a:pt x="140" y="72"/>
                  </a:lnTo>
                  <a:lnTo>
                    <a:pt x="104" y="118"/>
                  </a:lnTo>
                  <a:lnTo>
                    <a:pt x="81" y="168"/>
                  </a:lnTo>
                  <a:lnTo>
                    <a:pt x="52" y="213"/>
                  </a:lnTo>
                  <a:lnTo>
                    <a:pt x="35" y="263"/>
                  </a:lnTo>
                  <a:lnTo>
                    <a:pt x="18" y="320"/>
                  </a:lnTo>
                  <a:lnTo>
                    <a:pt x="0" y="376"/>
                  </a:lnTo>
                  <a:lnTo>
                    <a:pt x="52" y="415"/>
                  </a:lnTo>
                  <a:lnTo>
                    <a:pt x="104" y="455"/>
                  </a:lnTo>
                  <a:lnTo>
                    <a:pt x="127" y="472"/>
                  </a:lnTo>
                  <a:lnTo>
                    <a:pt x="157" y="489"/>
                  </a:lnTo>
                  <a:lnTo>
                    <a:pt x="186" y="506"/>
                  </a:lnTo>
                  <a:lnTo>
                    <a:pt x="226" y="528"/>
                  </a:lnTo>
                  <a:lnTo>
                    <a:pt x="290" y="545"/>
                  </a:lnTo>
                  <a:lnTo>
                    <a:pt x="343" y="533"/>
                  </a:lnTo>
                  <a:lnTo>
                    <a:pt x="372" y="494"/>
                  </a:lnTo>
                  <a:lnTo>
                    <a:pt x="389" y="444"/>
                  </a:lnTo>
                  <a:lnTo>
                    <a:pt x="389" y="376"/>
                  </a:lnTo>
                  <a:lnTo>
                    <a:pt x="383" y="309"/>
                  </a:lnTo>
                  <a:lnTo>
                    <a:pt x="366" y="236"/>
                  </a:lnTo>
                  <a:lnTo>
                    <a:pt x="348" y="179"/>
                  </a:lnTo>
                  <a:lnTo>
                    <a:pt x="314" y="129"/>
                  </a:lnTo>
                  <a:lnTo>
                    <a:pt x="279" y="89"/>
                  </a:lnTo>
                  <a:lnTo>
                    <a:pt x="244" y="39"/>
                  </a:lnTo>
                  <a:lnTo>
                    <a:pt x="21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040360" y="3879720"/>
              <a:ext cx="201600" cy="518760"/>
            </a:xfrm>
            <a:custGeom>
              <a:avLst/>
              <a:gdLst/>
              <a:ahLst/>
              <a:rect l="l" t="t" r="r" b="b"/>
              <a:pathLst>
                <a:path w="878" h="2059">
                  <a:moveTo>
                    <a:pt x="0" y="0"/>
                  </a:moveTo>
                  <a:lnTo>
                    <a:pt x="0" y="51"/>
                  </a:lnTo>
                  <a:lnTo>
                    <a:pt x="0" y="102"/>
                  </a:lnTo>
                  <a:lnTo>
                    <a:pt x="0" y="158"/>
                  </a:lnTo>
                  <a:lnTo>
                    <a:pt x="6" y="220"/>
                  </a:lnTo>
                  <a:lnTo>
                    <a:pt x="6" y="270"/>
                  </a:lnTo>
                  <a:lnTo>
                    <a:pt x="18" y="326"/>
                  </a:lnTo>
                  <a:lnTo>
                    <a:pt x="24" y="383"/>
                  </a:lnTo>
                  <a:lnTo>
                    <a:pt x="41" y="439"/>
                  </a:lnTo>
                  <a:lnTo>
                    <a:pt x="47" y="461"/>
                  </a:lnTo>
                  <a:lnTo>
                    <a:pt x="59" y="490"/>
                  </a:lnTo>
                  <a:lnTo>
                    <a:pt x="76" y="524"/>
                  </a:lnTo>
                  <a:lnTo>
                    <a:pt x="94" y="557"/>
                  </a:lnTo>
                  <a:lnTo>
                    <a:pt x="105" y="591"/>
                  </a:lnTo>
                  <a:lnTo>
                    <a:pt x="117" y="625"/>
                  </a:lnTo>
                  <a:lnTo>
                    <a:pt x="122" y="664"/>
                  </a:lnTo>
                  <a:lnTo>
                    <a:pt x="134" y="709"/>
                  </a:lnTo>
                  <a:lnTo>
                    <a:pt x="140" y="861"/>
                  </a:lnTo>
                  <a:lnTo>
                    <a:pt x="145" y="1024"/>
                  </a:lnTo>
                  <a:lnTo>
                    <a:pt x="151" y="1187"/>
                  </a:lnTo>
                  <a:lnTo>
                    <a:pt x="163" y="1356"/>
                  </a:lnTo>
                  <a:lnTo>
                    <a:pt x="168" y="1513"/>
                  </a:lnTo>
                  <a:lnTo>
                    <a:pt x="181" y="1677"/>
                  </a:lnTo>
                  <a:lnTo>
                    <a:pt x="198" y="1828"/>
                  </a:lnTo>
                  <a:lnTo>
                    <a:pt x="216" y="1980"/>
                  </a:lnTo>
                  <a:lnTo>
                    <a:pt x="297" y="1963"/>
                  </a:lnTo>
                  <a:lnTo>
                    <a:pt x="384" y="1963"/>
                  </a:lnTo>
                  <a:lnTo>
                    <a:pt x="459" y="1963"/>
                  </a:lnTo>
                  <a:lnTo>
                    <a:pt x="535" y="1980"/>
                  </a:lnTo>
                  <a:lnTo>
                    <a:pt x="604" y="1991"/>
                  </a:lnTo>
                  <a:lnTo>
                    <a:pt x="675" y="2008"/>
                  </a:lnTo>
                  <a:lnTo>
                    <a:pt x="744" y="2030"/>
                  </a:lnTo>
                  <a:lnTo>
                    <a:pt x="814" y="2059"/>
                  </a:lnTo>
                  <a:lnTo>
                    <a:pt x="825" y="2047"/>
                  </a:lnTo>
                  <a:lnTo>
                    <a:pt x="855" y="2030"/>
                  </a:lnTo>
                  <a:lnTo>
                    <a:pt x="878" y="1996"/>
                  </a:lnTo>
                  <a:lnTo>
                    <a:pt x="866" y="1969"/>
                  </a:lnTo>
                  <a:lnTo>
                    <a:pt x="837" y="1895"/>
                  </a:lnTo>
                  <a:lnTo>
                    <a:pt x="814" y="1743"/>
                  </a:lnTo>
                  <a:lnTo>
                    <a:pt x="784" y="1530"/>
                  </a:lnTo>
                  <a:lnTo>
                    <a:pt x="761" y="1294"/>
                  </a:lnTo>
                  <a:lnTo>
                    <a:pt x="733" y="1047"/>
                  </a:lnTo>
                  <a:lnTo>
                    <a:pt x="715" y="821"/>
                  </a:lnTo>
                  <a:lnTo>
                    <a:pt x="698" y="642"/>
                  </a:lnTo>
                  <a:lnTo>
                    <a:pt x="692" y="541"/>
                  </a:lnTo>
                  <a:lnTo>
                    <a:pt x="686" y="502"/>
                  </a:lnTo>
                  <a:lnTo>
                    <a:pt x="686" y="468"/>
                  </a:lnTo>
                  <a:lnTo>
                    <a:pt x="686" y="434"/>
                  </a:lnTo>
                  <a:lnTo>
                    <a:pt x="692" y="400"/>
                  </a:lnTo>
                  <a:lnTo>
                    <a:pt x="686" y="366"/>
                  </a:lnTo>
                  <a:lnTo>
                    <a:pt x="686" y="333"/>
                  </a:lnTo>
                  <a:lnTo>
                    <a:pt x="675" y="299"/>
                  </a:lnTo>
                  <a:lnTo>
                    <a:pt x="669" y="282"/>
                  </a:lnTo>
                  <a:lnTo>
                    <a:pt x="622" y="242"/>
                  </a:lnTo>
                  <a:lnTo>
                    <a:pt x="553" y="203"/>
                  </a:lnTo>
                  <a:lnTo>
                    <a:pt x="465" y="158"/>
                  </a:lnTo>
                  <a:lnTo>
                    <a:pt x="366" y="119"/>
                  </a:lnTo>
                  <a:lnTo>
                    <a:pt x="256" y="80"/>
                  </a:lnTo>
                  <a:lnTo>
                    <a:pt x="157" y="46"/>
                  </a:lnTo>
                  <a:lnTo>
                    <a:pt x="64" y="12"/>
                  </a:lnTo>
                  <a:lnTo>
                    <a:pt x="0" y="0"/>
                  </a:lnTo>
                  <a:close/>
                </a:path>
              </a:pathLst>
            </a:custGeom>
            <a:solidFill>
              <a:srgbClr val="c48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95680" y="3898440"/>
              <a:ext cx="75960" cy="111600"/>
            </a:xfrm>
            <a:custGeom>
              <a:avLst/>
              <a:gdLst/>
              <a:ahLst/>
              <a:rect l="l" t="t" r="r" b="b"/>
              <a:pathLst>
                <a:path w="332" h="444">
                  <a:moveTo>
                    <a:pt x="105" y="0"/>
                  </a:moveTo>
                  <a:lnTo>
                    <a:pt x="65" y="45"/>
                  </a:lnTo>
                  <a:lnTo>
                    <a:pt x="30" y="117"/>
                  </a:lnTo>
                  <a:lnTo>
                    <a:pt x="7" y="196"/>
                  </a:lnTo>
                  <a:lnTo>
                    <a:pt x="0" y="286"/>
                  </a:lnTo>
                  <a:lnTo>
                    <a:pt x="7" y="360"/>
                  </a:lnTo>
                  <a:lnTo>
                    <a:pt x="47" y="416"/>
                  </a:lnTo>
                  <a:lnTo>
                    <a:pt x="116" y="444"/>
                  </a:lnTo>
                  <a:lnTo>
                    <a:pt x="222" y="438"/>
                  </a:lnTo>
                  <a:lnTo>
                    <a:pt x="296" y="394"/>
                  </a:lnTo>
                  <a:lnTo>
                    <a:pt x="332" y="343"/>
                  </a:lnTo>
                  <a:lnTo>
                    <a:pt x="326" y="281"/>
                  </a:lnTo>
                  <a:lnTo>
                    <a:pt x="303" y="219"/>
                  </a:lnTo>
                  <a:lnTo>
                    <a:pt x="256" y="151"/>
                  </a:lnTo>
                  <a:lnTo>
                    <a:pt x="204" y="90"/>
                  </a:lnTo>
                  <a:lnTo>
                    <a:pt x="146" y="33"/>
                  </a:lnTo>
                  <a:lnTo>
                    <a:pt x="105"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833000" y="3908880"/>
              <a:ext cx="175320" cy="443880"/>
            </a:xfrm>
            <a:custGeom>
              <a:avLst/>
              <a:gdLst/>
              <a:ahLst/>
              <a:rect l="l" t="t" r="r" b="b"/>
              <a:pathLst>
                <a:path w="767" h="1765">
                  <a:moveTo>
                    <a:pt x="581" y="0"/>
                  </a:moveTo>
                  <a:lnTo>
                    <a:pt x="505" y="0"/>
                  </a:lnTo>
                  <a:lnTo>
                    <a:pt x="429" y="11"/>
                  </a:lnTo>
                  <a:lnTo>
                    <a:pt x="354" y="17"/>
                  </a:lnTo>
                  <a:lnTo>
                    <a:pt x="284" y="28"/>
                  </a:lnTo>
                  <a:lnTo>
                    <a:pt x="209" y="28"/>
                  </a:lnTo>
                  <a:lnTo>
                    <a:pt x="140" y="34"/>
                  </a:lnTo>
                  <a:lnTo>
                    <a:pt x="75" y="22"/>
                  </a:lnTo>
                  <a:lnTo>
                    <a:pt x="23" y="11"/>
                  </a:lnTo>
                  <a:lnTo>
                    <a:pt x="6" y="135"/>
                  </a:lnTo>
                  <a:lnTo>
                    <a:pt x="0" y="287"/>
                  </a:lnTo>
                  <a:lnTo>
                    <a:pt x="0" y="461"/>
                  </a:lnTo>
                  <a:lnTo>
                    <a:pt x="0" y="652"/>
                  </a:lnTo>
                  <a:lnTo>
                    <a:pt x="0" y="838"/>
                  </a:lnTo>
                  <a:lnTo>
                    <a:pt x="6" y="1029"/>
                  </a:lnTo>
                  <a:lnTo>
                    <a:pt x="17" y="1209"/>
                  </a:lnTo>
                  <a:lnTo>
                    <a:pt x="34" y="1378"/>
                  </a:lnTo>
                  <a:lnTo>
                    <a:pt x="34" y="1422"/>
                  </a:lnTo>
                  <a:lnTo>
                    <a:pt x="46" y="1468"/>
                  </a:lnTo>
                  <a:lnTo>
                    <a:pt x="52" y="1513"/>
                  </a:lnTo>
                  <a:lnTo>
                    <a:pt x="64" y="1564"/>
                  </a:lnTo>
                  <a:lnTo>
                    <a:pt x="69" y="1608"/>
                  </a:lnTo>
                  <a:lnTo>
                    <a:pt x="75" y="1653"/>
                  </a:lnTo>
                  <a:lnTo>
                    <a:pt x="75" y="1704"/>
                  </a:lnTo>
                  <a:lnTo>
                    <a:pt x="75" y="1755"/>
                  </a:lnTo>
                  <a:lnTo>
                    <a:pt x="92" y="1748"/>
                  </a:lnTo>
                  <a:lnTo>
                    <a:pt x="127" y="1748"/>
                  </a:lnTo>
                  <a:lnTo>
                    <a:pt x="163" y="1743"/>
                  </a:lnTo>
                  <a:lnTo>
                    <a:pt x="197" y="1743"/>
                  </a:lnTo>
                  <a:lnTo>
                    <a:pt x="232" y="1743"/>
                  </a:lnTo>
                  <a:lnTo>
                    <a:pt x="272" y="1743"/>
                  </a:lnTo>
                  <a:lnTo>
                    <a:pt x="308" y="1743"/>
                  </a:lnTo>
                  <a:lnTo>
                    <a:pt x="354" y="1743"/>
                  </a:lnTo>
                  <a:lnTo>
                    <a:pt x="348" y="1704"/>
                  </a:lnTo>
                  <a:lnTo>
                    <a:pt x="348" y="1659"/>
                  </a:lnTo>
                  <a:lnTo>
                    <a:pt x="348" y="1608"/>
                  </a:lnTo>
                  <a:lnTo>
                    <a:pt x="354" y="1564"/>
                  </a:lnTo>
                  <a:lnTo>
                    <a:pt x="354" y="1513"/>
                  </a:lnTo>
                  <a:lnTo>
                    <a:pt x="354" y="1462"/>
                  </a:lnTo>
                  <a:lnTo>
                    <a:pt x="354" y="1412"/>
                  </a:lnTo>
                  <a:lnTo>
                    <a:pt x="354" y="1366"/>
                  </a:lnTo>
                  <a:lnTo>
                    <a:pt x="343" y="1282"/>
                  </a:lnTo>
                  <a:lnTo>
                    <a:pt x="336" y="1198"/>
                  </a:lnTo>
                  <a:lnTo>
                    <a:pt x="331" y="1113"/>
                  </a:lnTo>
                  <a:lnTo>
                    <a:pt x="331" y="1029"/>
                  </a:lnTo>
                  <a:lnTo>
                    <a:pt x="325" y="939"/>
                  </a:lnTo>
                  <a:lnTo>
                    <a:pt x="325" y="850"/>
                  </a:lnTo>
                  <a:lnTo>
                    <a:pt x="320" y="754"/>
                  </a:lnTo>
                  <a:lnTo>
                    <a:pt x="320" y="658"/>
                  </a:lnTo>
                  <a:lnTo>
                    <a:pt x="313" y="619"/>
                  </a:lnTo>
                  <a:lnTo>
                    <a:pt x="313" y="585"/>
                  </a:lnTo>
                  <a:lnTo>
                    <a:pt x="313" y="563"/>
                  </a:lnTo>
                  <a:lnTo>
                    <a:pt x="320" y="546"/>
                  </a:lnTo>
                  <a:lnTo>
                    <a:pt x="343" y="517"/>
                  </a:lnTo>
                  <a:lnTo>
                    <a:pt x="383" y="490"/>
                  </a:lnTo>
                  <a:lnTo>
                    <a:pt x="406" y="635"/>
                  </a:lnTo>
                  <a:lnTo>
                    <a:pt x="429" y="799"/>
                  </a:lnTo>
                  <a:lnTo>
                    <a:pt x="441" y="973"/>
                  </a:lnTo>
                  <a:lnTo>
                    <a:pt x="452" y="1152"/>
                  </a:lnTo>
                  <a:lnTo>
                    <a:pt x="452" y="1327"/>
                  </a:lnTo>
                  <a:lnTo>
                    <a:pt x="452" y="1496"/>
                  </a:lnTo>
                  <a:lnTo>
                    <a:pt x="452" y="1642"/>
                  </a:lnTo>
                  <a:lnTo>
                    <a:pt x="465" y="1765"/>
                  </a:lnTo>
                  <a:lnTo>
                    <a:pt x="493" y="1760"/>
                  </a:lnTo>
                  <a:lnTo>
                    <a:pt x="528" y="1755"/>
                  </a:lnTo>
                  <a:lnTo>
                    <a:pt x="563" y="1748"/>
                  </a:lnTo>
                  <a:lnTo>
                    <a:pt x="604" y="1748"/>
                  </a:lnTo>
                  <a:lnTo>
                    <a:pt x="639" y="1743"/>
                  </a:lnTo>
                  <a:lnTo>
                    <a:pt x="680" y="1743"/>
                  </a:lnTo>
                  <a:lnTo>
                    <a:pt x="720" y="1743"/>
                  </a:lnTo>
                  <a:lnTo>
                    <a:pt x="767" y="1743"/>
                  </a:lnTo>
                  <a:lnTo>
                    <a:pt x="761" y="1496"/>
                  </a:lnTo>
                  <a:lnTo>
                    <a:pt x="756" y="1265"/>
                  </a:lnTo>
                  <a:lnTo>
                    <a:pt x="743" y="1046"/>
                  </a:lnTo>
                  <a:lnTo>
                    <a:pt x="731" y="843"/>
                  </a:lnTo>
                  <a:lnTo>
                    <a:pt x="714" y="635"/>
                  </a:lnTo>
                  <a:lnTo>
                    <a:pt x="708" y="433"/>
                  </a:lnTo>
                  <a:lnTo>
                    <a:pt x="703" y="225"/>
                  </a:lnTo>
                  <a:lnTo>
                    <a:pt x="703" y="11"/>
                  </a:lnTo>
                  <a:lnTo>
                    <a:pt x="673" y="6"/>
                  </a:lnTo>
                  <a:lnTo>
                    <a:pt x="645" y="6"/>
                  </a:lnTo>
                  <a:lnTo>
                    <a:pt x="609" y="0"/>
                  </a:lnTo>
                  <a:lnTo>
                    <a:pt x="581" y="0"/>
                  </a:lnTo>
                  <a:close/>
                </a:path>
              </a:pathLst>
            </a:custGeom>
            <a:solidFill>
              <a:srgbClr val="0cd2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837760" y="3915720"/>
              <a:ext cx="58320" cy="83880"/>
            </a:xfrm>
            <a:custGeom>
              <a:avLst/>
              <a:gdLst/>
              <a:ahLst/>
              <a:rect l="l" t="t" r="r" b="b"/>
              <a:pathLst>
                <a:path w="250" h="332">
                  <a:moveTo>
                    <a:pt x="0" y="0"/>
                  </a:moveTo>
                  <a:lnTo>
                    <a:pt x="6" y="34"/>
                  </a:lnTo>
                  <a:lnTo>
                    <a:pt x="12" y="79"/>
                  </a:lnTo>
                  <a:lnTo>
                    <a:pt x="12" y="124"/>
                  </a:lnTo>
                  <a:lnTo>
                    <a:pt x="29" y="163"/>
                  </a:lnTo>
                  <a:lnTo>
                    <a:pt x="40" y="180"/>
                  </a:lnTo>
                  <a:lnTo>
                    <a:pt x="64" y="209"/>
                  </a:lnTo>
                  <a:lnTo>
                    <a:pt x="98" y="231"/>
                  </a:lnTo>
                  <a:lnTo>
                    <a:pt x="134" y="259"/>
                  </a:lnTo>
                  <a:lnTo>
                    <a:pt x="163" y="281"/>
                  </a:lnTo>
                  <a:lnTo>
                    <a:pt x="197" y="304"/>
                  </a:lnTo>
                  <a:lnTo>
                    <a:pt x="220" y="315"/>
                  </a:lnTo>
                  <a:lnTo>
                    <a:pt x="244" y="332"/>
                  </a:lnTo>
                  <a:lnTo>
                    <a:pt x="250" y="236"/>
                  </a:lnTo>
                  <a:lnTo>
                    <a:pt x="250" y="169"/>
                  </a:lnTo>
                  <a:lnTo>
                    <a:pt x="244" y="113"/>
                  </a:lnTo>
                  <a:lnTo>
                    <a:pt x="227" y="74"/>
                  </a:lnTo>
                  <a:lnTo>
                    <a:pt x="192" y="40"/>
                  </a:lnTo>
                  <a:lnTo>
                    <a:pt x="146" y="23"/>
                  </a:lnTo>
                  <a:lnTo>
                    <a:pt x="75" y="6"/>
                  </a:lnTo>
                  <a:lnTo>
                    <a:pt x="0" y="0"/>
                  </a:lnTo>
                  <a:close/>
                </a:path>
              </a:pathLst>
            </a:custGeom>
            <a:solidFill>
              <a:srgbClr val="73401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6" name=""/>
            <p:cNvSpPr/>
            <p:nvPr/>
          </p:nvSpPr>
          <p:spPr>
            <a:xfrm>
              <a:off x="5709240" y="3915720"/>
              <a:ext cx="302760" cy="570600"/>
            </a:xfrm>
            <a:custGeom>
              <a:avLst/>
              <a:gdLst/>
              <a:ahLst/>
              <a:rect l="l" t="t" r="r" b="b"/>
              <a:pathLst>
                <a:path w="1313" h="2266">
                  <a:moveTo>
                    <a:pt x="930" y="0"/>
                  </a:moveTo>
                  <a:lnTo>
                    <a:pt x="907" y="17"/>
                  </a:lnTo>
                  <a:lnTo>
                    <a:pt x="889" y="62"/>
                  </a:lnTo>
                  <a:lnTo>
                    <a:pt x="872" y="107"/>
                  </a:lnTo>
                  <a:lnTo>
                    <a:pt x="866" y="175"/>
                  </a:lnTo>
                  <a:lnTo>
                    <a:pt x="854" y="236"/>
                  </a:lnTo>
                  <a:lnTo>
                    <a:pt x="854" y="298"/>
                  </a:lnTo>
                  <a:lnTo>
                    <a:pt x="854" y="349"/>
                  </a:lnTo>
                  <a:lnTo>
                    <a:pt x="866" y="400"/>
                  </a:lnTo>
                  <a:lnTo>
                    <a:pt x="872" y="411"/>
                  </a:lnTo>
                  <a:lnTo>
                    <a:pt x="889" y="439"/>
                  </a:lnTo>
                  <a:lnTo>
                    <a:pt x="919" y="462"/>
                  </a:lnTo>
                  <a:lnTo>
                    <a:pt x="953" y="496"/>
                  </a:lnTo>
                  <a:lnTo>
                    <a:pt x="982" y="523"/>
                  </a:lnTo>
                  <a:lnTo>
                    <a:pt x="1017" y="551"/>
                  </a:lnTo>
                  <a:lnTo>
                    <a:pt x="1034" y="568"/>
                  </a:lnTo>
                  <a:lnTo>
                    <a:pt x="1052" y="591"/>
                  </a:lnTo>
                  <a:lnTo>
                    <a:pt x="1052" y="619"/>
                  </a:lnTo>
                  <a:lnTo>
                    <a:pt x="1052" y="670"/>
                  </a:lnTo>
                  <a:lnTo>
                    <a:pt x="1046" y="697"/>
                  </a:lnTo>
                  <a:lnTo>
                    <a:pt x="1046" y="726"/>
                  </a:lnTo>
                  <a:lnTo>
                    <a:pt x="1046" y="754"/>
                  </a:lnTo>
                  <a:lnTo>
                    <a:pt x="1052" y="781"/>
                  </a:lnTo>
                  <a:lnTo>
                    <a:pt x="1052" y="815"/>
                  </a:lnTo>
                  <a:lnTo>
                    <a:pt x="1064" y="861"/>
                  </a:lnTo>
                  <a:lnTo>
                    <a:pt x="1069" y="894"/>
                  </a:lnTo>
                  <a:lnTo>
                    <a:pt x="1081" y="940"/>
                  </a:lnTo>
                  <a:lnTo>
                    <a:pt x="1092" y="973"/>
                  </a:lnTo>
                  <a:lnTo>
                    <a:pt x="1104" y="1018"/>
                  </a:lnTo>
                  <a:lnTo>
                    <a:pt x="1115" y="1052"/>
                  </a:lnTo>
                  <a:lnTo>
                    <a:pt x="1133" y="1097"/>
                  </a:lnTo>
                  <a:lnTo>
                    <a:pt x="1069" y="1107"/>
                  </a:lnTo>
                  <a:lnTo>
                    <a:pt x="1023" y="1119"/>
                  </a:lnTo>
                  <a:lnTo>
                    <a:pt x="970" y="1124"/>
                  </a:lnTo>
                  <a:lnTo>
                    <a:pt x="930" y="1131"/>
                  </a:lnTo>
                  <a:lnTo>
                    <a:pt x="884" y="1131"/>
                  </a:lnTo>
                  <a:lnTo>
                    <a:pt x="836" y="1131"/>
                  </a:lnTo>
                  <a:lnTo>
                    <a:pt x="790" y="1136"/>
                  </a:lnTo>
                  <a:lnTo>
                    <a:pt x="744" y="1147"/>
                  </a:lnTo>
                  <a:lnTo>
                    <a:pt x="732" y="1259"/>
                  </a:lnTo>
                  <a:lnTo>
                    <a:pt x="732" y="1389"/>
                  </a:lnTo>
                  <a:lnTo>
                    <a:pt x="738" y="1524"/>
                  </a:lnTo>
                  <a:lnTo>
                    <a:pt x="744" y="1670"/>
                  </a:lnTo>
                  <a:lnTo>
                    <a:pt x="744" y="1805"/>
                  </a:lnTo>
                  <a:lnTo>
                    <a:pt x="744" y="1940"/>
                  </a:lnTo>
                  <a:lnTo>
                    <a:pt x="738" y="2058"/>
                  </a:lnTo>
                  <a:lnTo>
                    <a:pt x="732" y="2164"/>
                  </a:lnTo>
                  <a:lnTo>
                    <a:pt x="709" y="2120"/>
                  </a:lnTo>
                  <a:lnTo>
                    <a:pt x="692" y="2075"/>
                  </a:lnTo>
                  <a:lnTo>
                    <a:pt x="681" y="2019"/>
                  </a:lnTo>
                  <a:lnTo>
                    <a:pt x="681" y="1968"/>
                  </a:lnTo>
                  <a:lnTo>
                    <a:pt x="681" y="1906"/>
                  </a:lnTo>
                  <a:lnTo>
                    <a:pt x="681" y="1850"/>
                  </a:lnTo>
                  <a:lnTo>
                    <a:pt x="681" y="1788"/>
                  </a:lnTo>
                  <a:lnTo>
                    <a:pt x="681" y="1727"/>
                  </a:lnTo>
                  <a:lnTo>
                    <a:pt x="668" y="1648"/>
                  </a:lnTo>
                  <a:lnTo>
                    <a:pt x="663" y="1563"/>
                  </a:lnTo>
                  <a:lnTo>
                    <a:pt x="651" y="1473"/>
                  </a:lnTo>
                  <a:lnTo>
                    <a:pt x="651" y="1389"/>
                  </a:lnTo>
                  <a:lnTo>
                    <a:pt x="651" y="1293"/>
                  </a:lnTo>
                  <a:lnTo>
                    <a:pt x="651" y="1209"/>
                  </a:lnTo>
                  <a:lnTo>
                    <a:pt x="651" y="1119"/>
                  </a:lnTo>
                  <a:lnTo>
                    <a:pt x="663" y="1040"/>
                  </a:lnTo>
                  <a:lnTo>
                    <a:pt x="697" y="1029"/>
                  </a:lnTo>
                  <a:lnTo>
                    <a:pt x="721" y="1024"/>
                  </a:lnTo>
                  <a:lnTo>
                    <a:pt x="732" y="1012"/>
                  </a:lnTo>
                  <a:lnTo>
                    <a:pt x="738" y="1001"/>
                  </a:lnTo>
                  <a:lnTo>
                    <a:pt x="732" y="979"/>
                  </a:lnTo>
                  <a:lnTo>
                    <a:pt x="732" y="957"/>
                  </a:lnTo>
                  <a:lnTo>
                    <a:pt x="732" y="923"/>
                  </a:lnTo>
                  <a:lnTo>
                    <a:pt x="744" y="889"/>
                  </a:lnTo>
                  <a:lnTo>
                    <a:pt x="778" y="877"/>
                  </a:lnTo>
                  <a:lnTo>
                    <a:pt x="808" y="866"/>
                  </a:lnTo>
                  <a:lnTo>
                    <a:pt x="831" y="849"/>
                  </a:lnTo>
                  <a:lnTo>
                    <a:pt x="854" y="832"/>
                  </a:lnTo>
                  <a:lnTo>
                    <a:pt x="861" y="805"/>
                  </a:lnTo>
                  <a:lnTo>
                    <a:pt x="877" y="776"/>
                  </a:lnTo>
                  <a:lnTo>
                    <a:pt x="889" y="742"/>
                  </a:lnTo>
                  <a:lnTo>
                    <a:pt x="907" y="709"/>
                  </a:lnTo>
                  <a:lnTo>
                    <a:pt x="912" y="653"/>
                  </a:lnTo>
                  <a:lnTo>
                    <a:pt x="907" y="613"/>
                  </a:lnTo>
                  <a:lnTo>
                    <a:pt x="889" y="574"/>
                  </a:lnTo>
                  <a:lnTo>
                    <a:pt x="877" y="545"/>
                  </a:lnTo>
                  <a:lnTo>
                    <a:pt x="849" y="511"/>
                  </a:lnTo>
                  <a:lnTo>
                    <a:pt x="820" y="479"/>
                  </a:lnTo>
                  <a:lnTo>
                    <a:pt x="790" y="445"/>
                  </a:lnTo>
                  <a:lnTo>
                    <a:pt x="773" y="411"/>
                  </a:lnTo>
                  <a:lnTo>
                    <a:pt x="715" y="416"/>
                  </a:lnTo>
                  <a:lnTo>
                    <a:pt x="656" y="422"/>
                  </a:lnTo>
                  <a:lnTo>
                    <a:pt x="598" y="416"/>
                  </a:lnTo>
                  <a:lnTo>
                    <a:pt x="547" y="416"/>
                  </a:lnTo>
                  <a:lnTo>
                    <a:pt x="488" y="405"/>
                  </a:lnTo>
                  <a:lnTo>
                    <a:pt x="430" y="394"/>
                  </a:lnTo>
                  <a:lnTo>
                    <a:pt x="372" y="377"/>
                  </a:lnTo>
                  <a:lnTo>
                    <a:pt x="319" y="371"/>
                  </a:lnTo>
                  <a:lnTo>
                    <a:pt x="261" y="366"/>
                  </a:lnTo>
                  <a:lnTo>
                    <a:pt x="227" y="388"/>
                  </a:lnTo>
                  <a:lnTo>
                    <a:pt x="203" y="422"/>
                  </a:lnTo>
                  <a:lnTo>
                    <a:pt x="192" y="472"/>
                  </a:lnTo>
                  <a:lnTo>
                    <a:pt x="180" y="523"/>
                  </a:lnTo>
                  <a:lnTo>
                    <a:pt x="180" y="585"/>
                  </a:lnTo>
                  <a:lnTo>
                    <a:pt x="174" y="646"/>
                  </a:lnTo>
                  <a:lnTo>
                    <a:pt x="174" y="709"/>
                  </a:lnTo>
                  <a:lnTo>
                    <a:pt x="146" y="894"/>
                  </a:lnTo>
                  <a:lnTo>
                    <a:pt x="116" y="1080"/>
                  </a:lnTo>
                  <a:lnTo>
                    <a:pt x="81" y="1266"/>
                  </a:lnTo>
                  <a:lnTo>
                    <a:pt x="58" y="1451"/>
                  </a:lnTo>
                  <a:lnTo>
                    <a:pt x="29" y="1636"/>
                  </a:lnTo>
                  <a:lnTo>
                    <a:pt x="12" y="1833"/>
                  </a:lnTo>
                  <a:lnTo>
                    <a:pt x="0" y="2030"/>
                  </a:lnTo>
                  <a:lnTo>
                    <a:pt x="0" y="2238"/>
                  </a:lnTo>
                  <a:lnTo>
                    <a:pt x="52" y="2221"/>
                  </a:lnTo>
                  <a:lnTo>
                    <a:pt x="116" y="2205"/>
                  </a:lnTo>
                  <a:lnTo>
                    <a:pt x="180" y="2188"/>
                  </a:lnTo>
                  <a:lnTo>
                    <a:pt x="250" y="2171"/>
                  </a:lnTo>
                  <a:lnTo>
                    <a:pt x="314" y="2154"/>
                  </a:lnTo>
                  <a:lnTo>
                    <a:pt x="384" y="2148"/>
                  </a:lnTo>
                  <a:lnTo>
                    <a:pt x="448" y="2142"/>
                  </a:lnTo>
                  <a:lnTo>
                    <a:pt x="517" y="2148"/>
                  </a:lnTo>
                  <a:lnTo>
                    <a:pt x="552" y="2148"/>
                  </a:lnTo>
                  <a:lnTo>
                    <a:pt x="598" y="2164"/>
                  </a:lnTo>
                  <a:lnTo>
                    <a:pt x="645" y="2181"/>
                  </a:lnTo>
                  <a:lnTo>
                    <a:pt x="697" y="2205"/>
                  </a:lnTo>
                  <a:lnTo>
                    <a:pt x="744" y="2221"/>
                  </a:lnTo>
                  <a:lnTo>
                    <a:pt x="790" y="2238"/>
                  </a:lnTo>
                  <a:lnTo>
                    <a:pt x="836" y="2249"/>
                  </a:lnTo>
                  <a:lnTo>
                    <a:pt x="889" y="2266"/>
                  </a:lnTo>
                  <a:lnTo>
                    <a:pt x="930" y="2266"/>
                  </a:lnTo>
                  <a:lnTo>
                    <a:pt x="970" y="2266"/>
                  </a:lnTo>
                  <a:lnTo>
                    <a:pt x="1011" y="2266"/>
                  </a:lnTo>
                  <a:lnTo>
                    <a:pt x="1052" y="2266"/>
                  </a:lnTo>
                  <a:lnTo>
                    <a:pt x="1087" y="2260"/>
                  </a:lnTo>
                  <a:lnTo>
                    <a:pt x="1127" y="2260"/>
                  </a:lnTo>
                  <a:lnTo>
                    <a:pt x="1163" y="2260"/>
                  </a:lnTo>
                  <a:lnTo>
                    <a:pt x="1214" y="2266"/>
                  </a:lnTo>
                  <a:lnTo>
                    <a:pt x="1209" y="2221"/>
                  </a:lnTo>
                  <a:lnTo>
                    <a:pt x="1214" y="2176"/>
                  </a:lnTo>
                  <a:lnTo>
                    <a:pt x="1221" y="2171"/>
                  </a:lnTo>
                  <a:lnTo>
                    <a:pt x="1249" y="2164"/>
                  </a:lnTo>
                  <a:lnTo>
                    <a:pt x="1267" y="2164"/>
                  </a:lnTo>
                  <a:lnTo>
                    <a:pt x="1267" y="2176"/>
                  </a:lnTo>
                  <a:lnTo>
                    <a:pt x="1267" y="2188"/>
                  </a:lnTo>
                  <a:lnTo>
                    <a:pt x="1284" y="2210"/>
                  </a:lnTo>
                  <a:lnTo>
                    <a:pt x="1290" y="2227"/>
                  </a:lnTo>
                  <a:lnTo>
                    <a:pt x="1302" y="2238"/>
                  </a:lnTo>
                  <a:lnTo>
                    <a:pt x="1284" y="1997"/>
                  </a:lnTo>
                  <a:lnTo>
                    <a:pt x="1290" y="1749"/>
                  </a:lnTo>
                  <a:lnTo>
                    <a:pt x="1297" y="1485"/>
                  </a:lnTo>
                  <a:lnTo>
                    <a:pt x="1307" y="1226"/>
                  </a:lnTo>
                  <a:lnTo>
                    <a:pt x="1313" y="957"/>
                  </a:lnTo>
                  <a:lnTo>
                    <a:pt x="1313" y="709"/>
                  </a:lnTo>
                  <a:lnTo>
                    <a:pt x="1307" y="467"/>
                  </a:lnTo>
                  <a:lnTo>
                    <a:pt x="1290" y="253"/>
                  </a:lnTo>
                  <a:lnTo>
                    <a:pt x="1244" y="276"/>
                  </a:lnTo>
                  <a:lnTo>
                    <a:pt x="1186" y="310"/>
                  </a:lnTo>
                  <a:lnTo>
                    <a:pt x="1122" y="344"/>
                  </a:lnTo>
                  <a:lnTo>
                    <a:pt x="1064" y="371"/>
                  </a:lnTo>
                  <a:lnTo>
                    <a:pt x="1006" y="377"/>
                  </a:lnTo>
                  <a:lnTo>
                    <a:pt x="965" y="361"/>
                  </a:lnTo>
                  <a:lnTo>
                    <a:pt x="942" y="304"/>
                  </a:lnTo>
                  <a:lnTo>
                    <a:pt x="947" y="219"/>
                  </a:lnTo>
                  <a:lnTo>
                    <a:pt x="953" y="185"/>
                  </a:lnTo>
                  <a:lnTo>
                    <a:pt x="970" y="158"/>
                  </a:lnTo>
                  <a:lnTo>
                    <a:pt x="988" y="118"/>
                  </a:lnTo>
                  <a:lnTo>
                    <a:pt x="1000" y="79"/>
                  </a:lnTo>
                  <a:lnTo>
                    <a:pt x="982" y="50"/>
                  </a:lnTo>
                  <a:lnTo>
                    <a:pt x="965" y="28"/>
                  </a:lnTo>
                  <a:lnTo>
                    <a:pt x="935" y="11"/>
                  </a:lnTo>
                  <a:lnTo>
                    <a:pt x="930" y="0"/>
                  </a:lnTo>
                  <a:close/>
                </a:path>
              </a:pathLst>
            </a:custGeom>
            <a:solidFill>
              <a:srgbClr val="73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948640" y="3912840"/>
              <a:ext cx="53640" cy="70560"/>
            </a:xfrm>
            <a:custGeom>
              <a:avLst/>
              <a:gdLst/>
              <a:ahLst/>
              <a:rect l="l" t="t" r="r" b="b"/>
              <a:pathLst>
                <a:path w="231" h="281">
                  <a:moveTo>
                    <a:pt x="104" y="11"/>
                  </a:moveTo>
                  <a:lnTo>
                    <a:pt x="74" y="22"/>
                  </a:lnTo>
                  <a:lnTo>
                    <a:pt x="46" y="68"/>
                  </a:lnTo>
                  <a:lnTo>
                    <a:pt x="17" y="118"/>
                  </a:lnTo>
                  <a:lnTo>
                    <a:pt x="5" y="180"/>
                  </a:lnTo>
                  <a:lnTo>
                    <a:pt x="0" y="225"/>
                  </a:lnTo>
                  <a:lnTo>
                    <a:pt x="11" y="264"/>
                  </a:lnTo>
                  <a:lnTo>
                    <a:pt x="46" y="281"/>
                  </a:lnTo>
                  <a:lnTo>
                    <a:pt x="104" y="264"/>
                  </a:lnTo>
                  <a:lnTo>
                    <a:pt x="133" y="236"/>
                  </a:lnTo>
                  <a:lnTo>
                    <a:pt x="168" y="196"/>
                  </a:lnTo>
                  <a:lnTo>
                    <a:pt x="197" y="146"/>
                  </a:lnTo>
                  <a:lnTo>
                    <a:pt x="226" y="101"/>
                  </a:lnTo>
                  <a:lnTo>
                    <a:pt x="231" y="51"/>
                  </a:lnTo>
                  <a:lnTo>
                    <a:pt x="220" y="22"/>
                  </a:lnTo>
                  <a:lnTo>
                    <a:pt x="180" y="0"/>
                  </a:lnTo>
                  <a:lnTo>
                    <a:pt x="104" y="11"/>
                  </a:lnTo>
                  <a:close/>
                </a:path>
              </a:pathLst>
            </a:custGeom>
            <a:solidFill>
              <a:srgbClr val="e6b3a6"/>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38" name=""/>
            <p:cNvSpPr/>
            <p:nvPr/>
          </p:nvSpPr>
          <p:spPr>
            <a:xfrm>
              <a:off x="5766120" y="3938400"/>
              <a:ext cx="95040" cy="68040"/>
            </a:xfrm>
            <a:custGeom>
              <a:avLst/>
              <a:gdLst/>
              <a:ahLst/>
              <a:rect l="l" t="t" r="r" b="b"/>
              <a:pathLst>
                <a:path w="418" h="271">
                  <a:moveTo>
                    <a:pt x="23" y="0"/>
                  </a:moveTo>
                  <a:lnTo>
                    <a:pt x="0" y="68"/>
                  </a:lnTo>
                  <a:lnTo>
                    <a:pt x="0" y="119"/>
                  </a:lnTo>
                  <a:lnTo>
                    <a:pt x="11" y="158"/>
                  </a:lnTo>
                  <a:lnTo>
                    <a:pt x="40" y="197"/>
                  </a:lnTo>
                  <a:lnTo>
                    <a:pt x="74" y="214"/>
                  </a:lnTo>
                  <a:lnTo>
                    <a:pt x="127" y="237"/>
                  </a:lnTo>
                  <a:lnTo>
                    <a:pt x="185" y="254"/>
                  </a:lnTo>
                  <a:lnTo>
                    <a:pt x="261" y="271"/>
                  </a:lnTo>
                  <a:lnTo>
                    <a:pt x="295" y="271"/>
                  </a:lnTo>
                  <a:lnTo>
                    <a:pt x="337" y="271"/>
                  </a:lnTo>
                  <a:lnTo>
                    <a:pt x="365" y="271"/>
                  </a:lnTo>
                  <a:lnTo>
                    <a:pt x="383" y="271"/>
                  </a:lnTo>
                  <a:lnTo>
                    <a:pt x="400" y="264"/>
                  </a:lnTo>
                  <a:lnTo>
                    <a:pt x="418" y="254"/>
                  </a:lnTo>
                  <a:lnTo>
                    <a:pt x="411" y="242"/>
                  </a:lnTo>
                  <a:lnTo>
                    <a:pt x="406" y="242"/>
                  </a:lnTo>
                  <a:lnTo>
                    <a:pt x="365" y="191"/>
                  </a:lnTo>
                  <a:lnTo>
                    <a:pt x="330" y="152"/>
                  </a:lnTo>
                  <a:lnTo>
                    <a:pt x="284" y="112"/>
                  </a:lnTo>
                  <a:lnTo>
                    <a:pt x="238" y="79"/>
                  </a:lnTo>
                  <a:lnTo>
                    <a:pt x="185" y="45"/>
                  </a:lnTo>
                  <a:lnTo>
                    <a:pt x="132" y="23"/>
                  </a:lnTo>
                  <a:lnTo>
                    <a:pt x="74" y="0"/>
                  </a:lnTo>
                  <a:lnTo>
                    <a:pt x="23" y="0"/>
                  </a:lnTo>
                  <a:close/>
                </a:path>
              </a:pathLst>
            </a:custGeom>
            <a:solidFill>
              <a:srgbClr val="e6b3a6"/>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39" name=""/>
            <p:cNvSpPr/>
            <p:nvPr/>
          </p:nvSpPr>
          <p:spPr>
            <a:xfrm>
              <a:off x="4502520" y="4054320"/>
              <a:ext cx="60480" cy="43560"/>
            </a:xfrm>
            <a:custGeom>
              <a:avLst/>
              <a:gdLst/>
              <a:ahLst/>
              <a:rect l="l" t="t" r="r" b="b"/>
              <a:pathLst>
                <a:path w="263" h="175">
                  <a:moveTo>
                    <a:pt x="0" y="0"/>
                  </a:moveTo>
                  <a:lnTo>
                    <a:pt x="7" y="17"/>
                  </a:lnTo>
                  <a:lnTo>
                    <a:pt x="12" y="51"/>
                  </a:lnTo>
                  <a:lnTo>
                    <a:pt x="18" y="85"/>
                  </a:lnTo>
                  <a:lnTo>
                    <a:pt x="30" y="129"/>
                  </a:lnTo>
                  <a:lnTo>
                    <a:pt x="53" y="158"/>
                  </a:lnTo>
                  <a:lnTo>
                    <a:pt x="94" y="175"/>
                  </a:lnTo>
                  <a:lnTo>
                    <a:pt x="157" y="175"/>
                  </a:lnTo>
                  <a:lnTo>
                    <a:pt x="256" y="158"/>
                  </a:lnTo>
                  <a:lnTo>
                    <a:pt x="263" y="135"/>
                  </a:lnTo>
                  <a:lnTo>
                    <a:pt x="251" y="119"/>
                  </a:lnTo>
                  <a:lnTo>
                    <a:pt x="222" y="95"/>
                  </a:lnTo>
                  <a:lnTo>
                    <a:pt x="182" y="73"/>
                  </a:lnTo>
                  <a:lnTo>
                    <a:pt x="129" y="45"/>
                  </a:lnTo>
                  <a:lnTo>
                    <a:pt x="76" y="28"/>
                  </a:lnTo>
                  <a:lnTo>
                    <a:pt x="30" y="6"/>
                  </a:lnTo>
                  <a:lnTo>
                    <a:pt x="0" y="0"/>
                  </a:lnTo>
                  <a:close/>
                </a:path>
              </a:pathLst>
            </a:custGeom>
            <a:solidFill>
              <a:srgbClr val="e3bfb8"/>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40" name=""/>
            <p:cNvSpPr/>
            <p:nvPr/>
          </p:nvSpPr>
          <p:spPr>
            <a:xfrm>
              <a:off x="5163120" y="4094280"/>
              <a:ext cx="39960" cy="221400"/>
            </a:xfrm>
            <a:custGeom>
              <a:avLst/>
              <a:gdLst/>
              <a:ahLst/>
              <a:rect l="l" t="t" r="r" b="b"/>
              <a:pathLst>
                <a:path w="175" h="876">
                  <a:moveTo>
                    <a:pt x="11" y="0"/>
                  </a:moveTo>
                  <a:lnTo>
                    <a:pt x="64" y="11"/>
                  </a:lnTo>
                  <a:lnTo>
                    <a:pt x="122" y="22"/>
                  </a:lnTo>
                  <a:lnTo>
                    <a:pt x="122" y="123"/>
                  </a:lnTo>
                  <a:lnTo>
                    <a:pt x="128" y="224"/>
                  </a:lnTo>
                  <a:lnTo>
                    <a:pt x="134" y="326"/>
                  </a:lnTo>
                  <a:lnTo>
                    <a:pt x="145" y="427"/>
                  </a:lnTo>
                  <a:lnTo>
                    <a:pt x="151" y="523"/>
                  </a:lnTo>
                  <a:lnTo>
                    <a:pt x="163" y="618"/>
                  </a:lnTo>
                  <a:lnTo>
                    <a:pt x="168" y="719"/>
                  </a:lnTo>
                  <a:lnTo>
                    <a:pt x="175" y="820"/>
                  </a:lnTo>
                  <a:lnTo>
                    <a:pt x="168" y="854"/>
                  </a:lnTo>
                  <a:lnTo>
                    <a:pt x="157" y="876"/>
                  </a:lnTo>
                  <a:lnTo>
                    <a:pt x="128" y="849"/>
                  </a:lnTo>
                  <a:lnTo>
                    <a:pt x="104" y="770"/>
                  </a:lnTo>
                  <a:lnTo>
                    <a:pt x="81" y="652"/>
                  </a:lnTo>
                  <a:lnTo>
                    <a:pt x="58" y="517"/>
                  </a:lnTo>
                  <a:lnTo>
                    <a:pt x="35" y="365"/>
                  </a:lnTo>
                  <a:lnTo>
                    <a:pt x="18" y="231"/>
                  </a:lnTo>
                  <a:lnTo>
                    <a:pt x="0" y="118"/>
                  </a:lnTo>
                  <a:lnTo>
                    <a:pt x="0" y="50"/>
                  </a:lnTo>
                  <a:lnTo>
                    <a:pt x="0" y="33"/>
                  </a:lnTo>
                  <a:lnTo>
                    <a:pt x="6" y="17"/>
                  </a:lnTo>
                  <a:lnTo>
                    <a:pt x="6"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922360" y="4122720"/>
              <a:ext cx="18000" cy="65160"/>
            </a:xfrm>
            <a:custGeom>
              <a:avLst/>
              <a:gdLst/>
              <a:ahLst/>
              <a:rect l="l" t="t" r="r" b="b"/>
              <a:pathLst>
                <a:path w="76" h="258">
                  <a:moveTo>
                    <a:pt x="35" y="0"/>
                  </a:moveTo>
                  <a:lnTo>
                    <a:pt x="11" y="55"/>
                  </a:lnTo>
                  <a:lnTo>
                    <a:pt x="0" y="118"/>
                  </a:lnTo>
                  <a:lnTo>
                    <a:pt x="0" y="151"/>
                  </a:lnTo>
                  <a:lnTo>
                    <a:pt x="0" y="185"/>
                  </a:lnTo>
                  <a:lnTo>
                    <a:pt x="6" y="218"/>
                  </a:lnTo>
                  <a:lnTo>
                    <a:pt x="23" y="258"/>
                  </a:lnTo>
                  <a:lnTo>
                    <a:pt x="29" y="230"/>
                  </a:lnTo>
                  <a:lnTo>
                    <a:pt x="41" y="202"/>
                  </a:lnTo>
                  <a:lnTo>
                    <a:pt x="46" y="174"/>
                  </a:lnTo>
                  <a:lnTo>
                    <a:pt x="58" y="145"/>
                  </a:lnTo>
                  <a:lnTo>
                    <a:pt x="64" y="111"/>
                  </a:lnTo>
                  <a:lnTo>
                    <a:pt x="69" y="78"/>
                  </a:lnTo>
                  <a:lnTo>
                    <a:pt x="69" y="39"/>
                  </a:lnTo>
                  <a:lnTo>
                    <a:pt x="76" y="0"/>
                  </a:lnTo>
                  <a:lnTo>
                    <a:pt x="52" y="0"/>
                  </a:lnTo>
                  <a:lnTo>
                    <a:pt x="35" y="0"/>
                  </a:lnTo>
                  <a:close/>
                </a:path>
              </a:pathLst>
            </a:custGeom>
            <a:solidFill>
              <a:srgbClr val="73401a"/>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2" name=""/>
            <p:cNvSpPr/>
            <p:nvPr/>
          </p:nvSpPr>
          <p:spPr>
            <a:xfrm>
              <a:off x="6034680" y="4122720"/>
              <a:ext cx="389520" cy="654840"/>
            </a:xfrm>
            <a:custGeom>
              <a:avLst/>
              <a:gdLst/>
              <a:ahLst/>
              <a:rect l="l" t="t" r="r" b="b"/>
              <a:pathLst>
                <a:path w="1692" h="2597">
                  <a:moveTo>
                    <a:pt x="1680" y="0"/>
                  </a:moveTo>
                  <a:lnTo>
                    <a:pt x="1604" y="10"/>
                  </a:lnTo>
                  <a:lnTo>
                    <a:pt x="1528" y="33"/>
                  </a:lnTo>
                  <a:lnTo>
                    <a:pt x="1454" y="50"/>
                  </a:lnTo>
                  <a:lnTo>
                    <a:pt x="1383" y="78"/>
                  </a:lnTo>
                  <a:lnTo>
                    <a:pt x="1308" y="95"/>
                  </a:lnTo>
                  <a:lnTo>
                    <a:pt x="1238" y="118"/>
                  </a:lnTo>
                  <a:lnTo>
                    <a:pt x="1168" y="135"/>
                  </a:lnTo>
                  <a:lnTo>
                    <a:pt x="1104" y="145"/>
                  </a:lnTo>
                  <a:lnTo>
                    <a:pt x="1000" y="145"/>
                  </a:lnTo>
                  <a:lnTo>
                    <a:pt x="895" y="145"/>
                  </a:lnTo>
                  <a:lnTo>
                    <a:pt x="785" y="145"/>
                  </a:lnTo>
                  <a:lnTo>
                    <a:pt x="674" y="145"/>
                  </a:lnTo>
                  <a:lnTo>
                    <a:pt x="564" y="140"/>
                  </a:lnTo>
                  <a:lnTo>
                    <a:pt x="453" y="135"/>
                  </a:lnTo>
                  <a:lnTo>
                    <a:pt x="349" y="123"/>
                  </a:lnTo>
                  <a:lnTo>
                    <a:pt x="250" y="118"/>
                  </a:lnTo>
                  <a:lnTo>
                    <a:pt x="227" y="190"/>
                  </a:lnTo>
                  <a:lnTo>
                    <a:pt x="210" y="292"/>
                  </a:lnTo>
                  <a:lnTo>
                    <a:pt x="192" y="415"/>
                  </a:lnTo>
                  <a:lnTo>
                    <a:pt x="180" y="550"/>
                  </a:lnTo>
                  <a:lnTo>
                    <a:pt x="163" y="680"/>
                  </a:lnTo>
                  <a:lnTo>
                    <a:pt x="151" y="803"/>
                  </a:lnTo>
                  <a:lnTo>
                    <a:pt x="146" y="910"/>
                  </a:lnTo>
                  <a:lnTo>
                    <a:pt x="146" y="994"/>
                  </a:lnTo>
                  <a:lnTo>
                    <a:pt x="139" y="1050"/>
                  </a:lnTo>
                  <a:lnTo>
                    <a:pt x="139" y="1118"/>
                  </a:lnTo>
                  <a:lnTo>
                    <a:pt x="139" y="1185"/>
                  </a:lnTo>
                  <a:lnTo>
                    <a:pt x="139" y="1259"/>
                  </a:lnTo>
                  <a:lnTo>
                    <a:pt x="139" y="1326"/>
                  </a:lnTo>
                  <a:lnTo>
                    <a:pt x="139" y="1399"/>
                  </a:lnTo>
                  <a:lnTo>
                    <a:pt x="146" y="1467"/>
                  </a:lnTo>
                  <a:lnTo>
                    <a:pt x="163" y="1534"/>
                  </a:lnTo>
                  <a:lnTo>
                    <a:pt x="169" y="1557"/>
                  </a:lnTo>
                  <a:lnTo>
                    <a:pt x="174" y="1574"/>
                  </a:lnTo>
                  <a:lnTo>
                    <a:pt x="151" y="1607"/>
                  </a:lnTo>
                  <a:lnTo>
                    <a:pt x="128" y="1680"/>
                  </a:lnTo>
                  <a:lnTo>
                    <a:pt x="99" y="1781"/>
                  </a:lnTo>
                  <a:lnTo>
                    <a:pt x="76" y="1899"/>
                  </a:lnTo>
                  <a:lnTo>
                    <a:pt x="40" y="2018"/>
                  </a:lnTo>
                  <a:lnTo>
                    <a:pt x="24" y="2130"/>
                  </a:lnTo>
                  <a:lnTo>
                    <a:pt x="6" y="2220"/>
                  </a:lnTo>
                  <a:lnTo>
                    <a:pt x="0" y="2282"/>
                  </a:lnTo>
                  <a:lnTo>
                    <a:pt x="52" y="2316"/>
                  </a:lnTo>
                  <a:lnTo>
                    <a:pt x="111" y="2350"/>
                  </a:lnTo>
                  <a:lnTo>
                    <a:pt x="169" y="2384"/>
                  </a:lnTo>
                  <a:lnTo>
                    <a:pt x="233" y="2416"/>
                  </a:lnTo>
                  <a:lnTo>
                    <a:pt x="291" y="2445"/>
                  </a:lnTo>
                  <a:lnTo>
                    <a:pt x="354" y="2479"/>
                  </a:lnTo>
                  <a:lnTo>
                    <a:pt x="413" y="2512"/>
                  </a:lnTo>
                  <a:lnTo>
                    <a:pt x="476" y="2551"/>
                  </a:lnTo>
                  <a:lnTo>
                    <a:pt x="575" y="2585"/>
                  </a:lnTo>
                  <a:lnTo>
                    <a:pt x="715" y="2597"/>
                  </a:lnTo>
                  <a:lnTo>
                    <a:pt x="878" y="2591"/>
                  </a:lnTo>
                  <a:lnTo>
                    <a:pt x="1052" y="2575"/>
                  </a:lnTo>
                  <a:lnTo>
                    <a:pt x="1226" y="2546"/>
                  </a:lnTo>
                  <a:lnTo>
                    <a:pt x="1395" y="2524"/>
                  </a:lnTo>
                  <a:lnTo>
                    <a:pt x="1535" y="2496"/>
                  </a:lnTo>
                  <a:lnTo>
                    <a:pt x="1651" y="2490"/>
                  </a:lnTo>
                  <a:lnTo>
                    <a:pt x="1639" y="2433"/>
                  </a:lnTo>
                  <a:lnTo>
                    <a:pt x="1634" y="2384"/>
                  </a:lnTo>
                  <a:lnTo>
                    <a:pt x="1634" y="2327"/>
                  </a:lnTo>
                  <a:lnTo>
                    <a:pt x="1634" y="2276"/>
                  </a:lnTo>
                  <a:lnTo>
                    <a:pt x="1627" y="2215"/>
                  </a:lnTo>
                  <a:lnTo>
                    <a:pt x="1627" y="2158"/>
                  </a:lnTo>
                  <a:lnTo>
                    <a:pt x="1627" y="2102"/>
                  </a:lnTo>
                  <a:lnTo>
                    <a:pt x="1627" y="2046"/>
                  </a:lnTo>
                  <a:lnTo>
                    <a:pt x="1609" y="1972"/>
                  </a:lnTo>
                  <a:lnTo>
                    <a:pt x="1593" y="1939"/>
                  </a:lnTo>
                  <a:lnTo>
                    <a:pt x="1569" y="1928"/>
                  </a:lnTo>
                  <a:lnTo>
                    <a:pt x="1552" y="1939"/>
                  </a:lnTo>
                  <a:lnTo>
                    <a:pt x="1528" y="1962"/>
                  </a:lnTo>
                  <a:lnTo>
                    <a:pt x="1505" y="2006"/>
                  </a:lnTo>
                  <a:lnTo>
                    <a:pt x="1488" y="2051"/>
                  </a:lnTo>
                  <a:lnTo>
                    <a:pt x="1477" y="2102"/>
                  </a:lnTo>
                  <a:lnTo>
                    <a:pt x="1459" y="2085"/>
                  </a:lnTo>
                  <a:lnTo>
                    <a:pt x="1447" y="2068"/>
                  </a:lnTo>
                  <a:lnTo>
                    <a:pt x="1429" y="2051"/>
                  </a:lnTo>
                  <a:lnTo>
                    <a:pt x="1424" y="2046"/>
                  </a:lnTo>
                  <a:lnTo>
                    <a:pt x="1436" y="2012"/>
                  </a:lnTo>
                  <a:lnTo>
                    <a:pt x="1454" y="1979"/>
                  </a:lnTo>
                  <a:lnTo>
                    <a:pt x="1470" y="1945"/>
                  </a:lnTo>
                  <a:lnTo>
                    <a:pt x="1488" y="1916"/>
                  </a:lnTo>
                  <a:lnTo>
                    <a:pt x="1500" y="1877"/>
                  </a:lnTo>
                  <a:lnTo>
                    <a:pt x="1517" y="1844"/>
                  </a:lnTo>
                  <a:lnTo>
                    <a:pt x="1528" y="1810"/>
                  </a:lnTo>
                  <a:lnTo>
                    <a:pt x="1546" y="1781"/>
                  </a:lnTo>
                  <a:lnTo>
                    <a:pt x="1552" y="1692"/>
                  </a:lnTo>
                  <a:lnTo>
                    <a:pt x="1563" y="1613"/>
                  </a:lnTo>
                  <a:lnTo>
                    <a:pt x="1569" y="1540"/>
                  </a:lnTo>
                  <a:lnTo>
                    <a:pt x="1575" y="1467"/>
                  </a:lnTo>
                  <a:lnTo>
                    <a:pt x="1575" y="1388"/>
                  </a:lnTo>
                  <a:lnTo>
                    <a:pt x="1581" y="1309"/>
                  </a:lnTo>
                  <a:lnTo>
                    <a:pt x="1581" y="1225"/>
                  </a:lnTo>
                  <a:lnTo>
                    <a:pt x="1598" y="1146"/>
                  </a:lnTo>
                  <a:lnTo>
                    <a:pt x="1616" y="1000"/>
                  </a:lnTo>
                  <a:lnTo>
                    <a:pt x="1634" y="854"/>
                  </a:lnTo>
                  <a:lnTo>
                    <a:pt x="1651" y="702"/>
                  </a:lnTo>
                  <a:lnTo>
                    <a:pt x="1674" y="550"/>
                  </a:lnTo>
                  <a:lnTo>
                    <a:pt x="1680" y="393"/>
                  </a:lnTo>
                  <a:lnTo>
                    <a:pt x="1692" y="246"/>
                  </a:lnTo>
                  <a:lnTo>
                    <a:pt x="1685" y="111"/>
                  </a:lnTo>
                  <a:lnTo>
                    <a:pt x="1680" y="0"/>
                  </a:lnTo>
                  <a:close/>
                </a:path>
              </a:pathLst>
            </a:custGeom>
            <a:solidFill>
              <a:srgbClr val="bfff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614480" y="4129200"/>
              <a:ext cx="56520" cy="41040"/>
            </a:xfrm>
            <a:custGeom>
              <a:avLst/>
              <a:gdLst/>
              <a:ahLst/>
              <a:rect l="l" t="t" r="r" b="b"/>
              <a:pathLst>
                <a:path w="249" h="163">
                  <a:moveTo>
                    <a:pt x="0" y="0"/>
                  </a:moveTo>
                  <a:lnTo>
                    <a:pt x="11" y="28"/>
                  </a:lnTo>
                  <a:lnTo>
                    <a:pt x="35" y="68"/>
                  </a:lnTo>
                  <a:lnTo>
                    <a:pt x="69" y="108"/>
                  </a:lnTo>
                  <a:lnTo>
                    <a:pt x="104" y="141"/>
                  </a:lnTo>
                  <a:lnTo>
                    <a:pt x="139" y="158"/>
                  </a:lnTo>
                  <a:lnTo>
                    <a:pt x="180" y="163"/>
                  </a:lnTo>
                  <a:lnTo>
                    <a:pt x="208" y="147"/>
                  </a:lnTo>
                  <a:lnTo>
                    <a:pt x="238" y="101"/>
                  </a:lnTo>
                  <a:lnTo>
                    <a:pt x="238" y="79"/>
                  </a:lnTo>
                  <a:lnTo>
                    <a:pt x="243" y="57"/>
                  </a:lnTo>
                  <a:lnTo>
                    <a:pt x="243" y="28"/>
                  </a:lnTo>
                  <a:lnTo>
                    <a:pt x="249" y="0"/>
                  </a:lnTo>
                  <a:lnTo>
                    <a:pt x="215" y="12"/>
                  </a:lnTo>
                  <a:lnTo>
                    <a:pt x="180" y="28"/>
                  </a:lnTo>
                  <a:lnTo>
                    <a:pt x="150" y="34"/>
                  </a:lnTo>
                  <a:lnTo>
                    <a:pt x="121" y="40"/>
                  </a:lnTo>
                  <a:lnTo>
                    <a:pt x="86" y="28"/>
                  </a:lnTo>
                  <a:lnTo>
                    <a:pt x="58" y="23"/>
                  </a:lnTo>
                  <a:lnTo>
                    <a:pt x="28" y="12"/>
                  </a:lnTo>
                  <a:lnTo>
                    <a:pt x="0" y="0"/>
                  </a:lnTo>
                  <a:close/>
                </a:path>
              </a:pathLst>
            </a:custGeom>
            <a:solidFill>
              <a:srgbClr val="f2ccb3"/>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44" name=""/>
            <p:cNvSpPr/>
            <p:nvPr/>
          </p:nvSpPr>
          <p:spPr>
            <a:xfrm>
              <a:off x="5524200" y="4219920"/>
              <a:ext cx="59400" cy="221400"/>
            </a:xfrm>
            <a:custGeom>
              <a:avLst/>
              <a:gdLst/>
              <a:ahLst/>
              <a:rect l="l" t="t" r="r" b="b"/>
              <a:pathLst>
                <a:path w="256" h="877">
                  <a:moveTo>
                    <a:pt x="192" y="0"/>
                  </a:moveTo>
                  <a:lnTo>
                    <a:pt x="163" y="50"/>
                  </a:lnTo>
                  <a:lnTo>
                    <a:pt x="128" y="158"/>
                  </a:lnTo>
                  <a:lnTo>
                    <a:pt x="81" y="298"/>
                  </a:lnTo>
                  <a:lnTo>
                    <a:pt x="41" y="455"/>
                  </a:lnTo>
                  <a:lnTo>
                    <a:pt x="6" y="602"/>
                  </a:lnTo>
                  <a:lnTo>
                    <a:pt x="0" y="737"/>
                  </a:lnTo>
                  <a:lnTo>
                    <a:pt x="18" y="832"/>
                  </a:lnTo>
                  <a:lnTo>
                    <a:pt x="81" y="877"/>
                  </a:lnTo>
                  <a:lnTo>
                    <a:pt x="110" y="866"/>
                  </a:lnTo>
                  <a:lnTo>
                    <a:pt x="163" y="861"/>
                  </a:lnTo>
                  <a:lnTo>
                    <a:pt x="203" y="849"/>
                  </a:lnTo>
                  <a:lnTo>
                    <a:pt x="244" y="849"/>
                  </a:lnTo>
                  <a:lnTo>
                    <a:pt x="249" y="737"/>
                  </a:lnTo>
                  <a:lnTo>
                    <a:pt x="256" y="624"/>
                  </a:lnTo>
                  <a:lnTo>
                    <a:pt x="249" y="511"/>
                  </a:lnTo>
                  <a:lnTo>
                    <a:pt x="249" y="405"/>
                  </a:lnTo>
                  <a:lnTo>
                    <a:pt x="233" y="293"/>
                  </a:lnTo>
                  <a:lnTo>
                    <a:pt x="221" y="192"/>
                  </a:lnTo>
                  <a:lnTo>
                    <a:pt x="203" y="90"/>
                  </a:lnTo>
                  <a:lnTo>
                    <a:pt x="192" y="0"/>
                  </a:lnTo>
                  <a:close/>
                </a:path>
              </a:pathLst>
            </a:custGeom>
            <a:solidFill>
              <a:srgbClr val="e3fd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939200" y="4362480"/>
              <a:ext cx="87120" cy="35640"/>
            </a:xfrm>
            <a:custGeom>
              <a:avLst/>
              <a:gdLst/>
              <a:ahLst/>
              <a:rect l="l" t="t" r="r" b="b"/>
              <a:pathLst>
                <a:path w="377" h="147">
                  <a:moveTo>
                    <a:pt x="302" y="6"/>
                  </a:moveTo>
                  <a:lnTo>
                    <a:pt x="261" y="0"/>
                  </a:lnTo>
                  <a:lnTo>
                    <a:pt x="226" y="0"/>
                  </a:lnTo>
                  <a:lnTo>
                    <a:pt x="185" y="6"/>
                  </a:lnTo>
                  <a:lnTo>
                    <a:pt x="151" y="17"/>
                  </a:lnTo>
                  <a:lnTo>
                    <a:pt x="104" y="17"/>
                  </a:lnTo>
                  <a:lnTo>
                    <a:pt x="63" y="28"/>
                  </a:lnTo>
                  <a:lnTo>
                    <a:pt x="28" y="34"/>
                  </a:lnTo>
                  <a:lnTo>
                    <a:pt x="0" y="45"/>
                  </a:lnTo>
                  <a:lnTo>
                    <a:pt x="5" y="68"/>
                  </a:lnTo>
                  <a:lnTo>
                    <a:pt x="12" y="91"/>
                  </a:lnTo>
                  <a:lnTo>
                    <a:pt x="12" y="96"/>
                  </a:lnTo>
                  <a:lnTo>
                    <a:pt x="23" y="108"/>
                  </a:lnTo>
                  <a:lnTo>
                    <a:pt x="40" y="113"/>
                  </a:lnTo>
                  <a:lnTo>
                    <a:pt x="58" y="118"/>
                  </a:lnTo>
                  <a:lnTo>
                    <a:pt x="93" y="135"/>
                  </a:lnTo>
                  <a:lnTo>
                    <a:pt x="93" y="124"/>
                  </a:lnTo>
                  <a:lnTo>
                    <a:pt x="121" y="124"/>
                  </a:lnTo>
                  <a:lnTo>
                    <a:pt x="151" y="130"/>
                  </a:lnTo>
                  <a:lnTo>
                    <a:pt x="185" y="130"/>
                  </a:lnTo>
                  <a:lnTo>
                    <a:pt x="220" y="135"/>
                  </a:lnTo>
                  <a:lnTo>
                    <a:pt x="249" y="135"/>
                  </a:lnTo>
                  <a:lnTo>
                    <a:pt x="284" y="135"/>
                  </a:lnTo>
                  <a:lnTo>
                    <a:pt x="319" y="141"/>
                  </a:lnTo>
                  <a:lnTo>
                    <a:pt x="354" y="147"/>
                  </a:lnTo>
                  <a:lnTo>
                    <a:pt x="365" y="96"/>
                  </a:lnTo>
                  <a:lnTo>
                    <a:pt x="377" y="51"/>
                  </a:lnTo>
                  <a:lnTo>
                    <a:pt x="365" y="34"/>
                  </a:lnTo>
                  <a:lnTo>
                    <a:pt x="354" y="17"/>
                  </a:lnTo>
                  <a:lnTo>
                    <a:pt x="331" y="6"/>
                  </a:lnTo>
                  <a:lnTo>
                    <a:pt x="302" y="6"/>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46" name=""/>
            <p:cNvSpPr/>
            <p:nvPr/>
          </p:nvSpPr>
          <p:spPr>
            <a:xfrm>
              <a:off x="4797000" y="4366800"/>
              <a:ext cx="124200" cy="31680"/>
            </a:xfrm>
            <a:custGeom>
              <a:avLst/>
              <a:gdLst/>
              <a:ahLst/>
              <a:rect l="l" t="t" r="r" b="b"/>
              <a:pathLst>
                <a:path w="540" h="130">
                  <a:moveTo>
                    <a:pt x="418" y="0"/>
                  </a:moveTo>
                  <a:lnTo>
                    <a:pt x="360" y="0"/>
                  </a:lnTo>
                  <a:lnTo>
                    <a:pt x="284" y="23"/>
                  </a:lnTo>
                  <a:lnTo>
                    <a:pt x="191" y="45"/>
                  </a:lnTo>
                  <a:lnTo>
                    <a:pt x="104" y="74"/>
                  </a:lnTo>
                  <a:lnTo>
                    <a:pt x="29" y="91"/>
                  </a:lnTo>
                  <a:lnTo>
                    <a:pt x="0" y="113"/>
                  </a:lnTo>
                  <a:lnTo>
                    <a:pt x="29" y="124"/>
                  </a:lnTo>
                  <a:lnTo>
                    <a:pt x="127" y="130"/>
                  </a:lnTo>
                  <a:lnTo>
                    <a:pt x="180" y="124"/>
                  </a:lnTo>
                  <a:lnTo>
                    <a:pt x="238" y="118"/>
                  </a:lnTo>
                  <a:lnTo>
                    <a:pt x="284" y="113"/>
                  </a:lnTo>
                  <a:lnTo>
                    <a:pt x="331" y="113"/>
                  </a:lnTo>
                  <a:lnTo>
                    <a:pt x="371" y="107"/>
                  </a:lnTo>
                  <a:lnTo>
                    <a:pt x="424" y="107"/>
                  </a:lnTo>
                  <a:lnTo>
                    <a:pt x="477" y="107"/>
                  </a:lnTo>
                  <a:lnTo>
                    <a:pt x="540" y="107"/>
                  </a:lnTo>
                  <a:lnTo>
                    <a:pt x="523" y="57"/>
                  </a:lnTo>
                  <a:lnTo>
                    <a:pt x="511" y="11"/>
                  </a:lnTo>
                  <a:lnTo>
                    <a:pt x="488" y="6"/>
                  </a:lnTo>
                  <a:lnTo>
                    <a:pt x="465" y="0"/>
                  </a:lnTo>
                  <a:lnTo>
                    <a:pt x="441" y="0"/>
                  </a:lnTo>
                  <a:lnTo>
                    <a:pt x="418" y="0"/>
                  </a:lnTo>
                  <a:close/>
                </a:path>
              </a:pathLst>
            </a:custGeom>
            <a:solidFill>
              <a:srgbClr val="e6b3a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7" name=""/>
            <p:cNvSpPr/>
            <p:nvPr/>
          </p:nvSpPr>
          <p:spPr>
            <a:xfrm>
              <a:off x="5098320" y="4385160"/>
              <a:ext cx="121320" cy="35640"/>
            </a:xfrm>
            <a:custGeom>
              <a:avLst/>
              <a:gdLst/>
              <a:ahLst/>
              <a:rect l="l" t="t" r="r" b="b"/>
              <a:pathLst>
                <a:path w="528" h="145">
                  <a:moveTo>
                    <a:pt x="105" y="5"/>
                  </a:moveTo>
                  <a:lnTo>
                    <a:pt x="58" y="10"/>
                  </a:lnTo>
                  <a:lnTo>
                    <a:pt x="0" y="33"/>
                  </a:lnTo>
                  <a:lnTo>
                    <a:pt x="18" y="78"/>
                  </a:lnTo>
                  <a:lnTo>
                    <a:pt x="52" y="112"/>
                  </a:lnTo>
                  <a:lnTo>
                    <a:pt x="93" y="135"/>
                  </a:lnTo>
                  <a:lnTo>
                    <a:pt x="157" y="145"/>
                  </a:lnTo>
                  <a:lnTo>
                    <a:pt x="221" y="145"/>
                  </a:lnTo>
                  <a:lnTo>
                    <a:pt x="302" y="145"/>
                  </a:lnTo>
                  <a:lnTo>
                    <a:pt x="378" y="140"/>
                  </a:lnTo>
                  <a:lnTo>
                    <a:pt x="465" y="145"/>
                  </a:lnTo>
                  <a:lnTo>
                    <a:pt x="523" y="135"/>
                  </a:lnTo>
                  <a:lnTo>
                    <a:pt x="528" y="123"/>
                  </a:lnTo>
                  <a:lnTo>
                    <a:pt x="494" y="95"/>
                  </a:lnTo>
                  <a:lnTo>
                    <a:pt x="430" y="67"/>
                  </a:lnTo>
                  <a:lnTo>
                    <a:pt x="343" y="33"/>
                  </a:lnTo>
                  <a:lnTo>
                    <a:pt x="256" y="17"/>
                  </a:lnTo>
                  <a:lnTo>
                    <a:pt x="168" y="0"/>
                  </a:lnTo>
                  <a:lnTo>
                    <a:pt x="105" y="5"/>
                  </a:lnTo>
                  <a:close/>
                </a:path>
              </a:pathLst>
            </a:custGeom>
            <a:solidFill>
              <a:srgbClr val="e6b3a6"/>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248" name=""/>
            <p:cNvSpPr/>
            <p:nvPr/>
          </p:nvSpPr>
          <p:spPr>
            <a:xfrm>
              <a:off x="5531040" y="4452120"/>
              <a:ext cx="111960" cy="45360"/>
            </a:xfrm>
            <a:custGeom>
              <a:avLst/>
              <a:gdLst/>
              <a:ahLst/>
              <a:rect l="l" t="t" r="r" b="b"/>
              <a:pathLst>
                <a:path w="483" h="181">
                  <a:moveTo>
                    <a:pt x="81" y="0"/>
                  </a:moveTo>
                  <a:lnTo>
                    <a:pt x="65" y="0"/>
                  </a:lnTo>
                  <a:lnTo>
                    <a:pt x="40" y="12"/>
                  </a:lnTo>
                  <a:lnTo>
                    <a:pt x="12" y="17"/>
                  </a:lnTo>
                  <a:lnTo>
                    <a:pt x="0" y="23"/>
                  </a:lnTo>
                  <a:lnTo>
                    <a:pt x="0" y="51"/>
                  </a:lnTo>
                  <a:lnTo>
                    <a:pt x="6" y="80"/>
                  </a:lnTo>
                  <a:lnTo>
                    <a:pt x="6" y="96"/>
                  </a:lnTo>
                  <a:lnTo>
                    <a:pt x="12" y="130"/>
                  </a:lnTo>
                  <a:lnTo>
                    <a:pt x="40" y="124"/>
                  </a:lnTo>
                  <a:lnTo>
                    <a:pt x="76" y="124"/>
                  </a:lnTo>
                  <a:lnTo>
                    <a:pt x="105" y="119"/>
                  </a:lnTo>
                  <a:lnTo>
                    <a:pt x="139" y="119"/>
                  </a:lnTo>
                  <a:lnTo>
                    <a:pt x="197" y="119"/>
                  </a:lnTo>
                  <a:lnTo>
                    <a:pt x="250" y="130"/>
                  </a:lnTo>
                  <a:lnTo>
                    <a:pt x="261" y="135"/>
                  </a:lnTo>
                  <a:lnTo>
                    <a:pt x="279" y="152"/>
                  </a:lnTo>
                  <a:lnTo>
                    <a:pt x="291" y="158"/>
                  </a:lnTo>
                  <a:lnTo>
                    <a:pt x="308" y="169"/>
                  </a:lnTo>
                  <a:lnTo>
                    <a:pt x="331" y="175"/>
                  </a:lnTo>
                  <a:lnTo>
                    <a:pt x="372" y="181"/>
                  </a:lnTo>
                  <a:lnTo>
                    <a:pt x="453" y="169"/>
                  </a:lnTo>
                  <a:lnTo>
                    <a:pt x="483" y="147"/>
                  </a:lnTo>
                  <a:lnTo>
                    <a:pt x="453" y="113"/>
                  </a:lnTo>
                  <a:lnTo>
                    <a:pt x="395" y="80"/>
                  </a:lnTo>
                  <a:lnTo>
                    <a:pt x="308" y="46"/>
                  </a:lnTo>
                  <a:lnTo>
                    <a:pt x="220" y="17"/>
                  </a:lnTo>
                  <a:lnTo>
                    <a:pt x="139" y="0"/>
                  </a:lnTo>
                  <a:lnTo>
                    <a:pt x="81" y="0"/>
                  </a:lnTo>
                  <a:close/>
                </a:path>
              </a:pathLst>
            </a:custGeom>
            <a:solidFill>
              <a:srgbClr val="e6a699"/>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249" name=""/>
            <p:cNvSpPr/>
            <p:nvPr/>
          </p:nvSpPr>
          <p:spPr>
            <a:xfrm>
              <a:off x="5739840" y="4474800"/>
              <a:ext cx="157680" cy="58680"/>
            </a:xfrm>
            <a:custGeom>
              <a:avLst/>
              <a:gdLst/>
              <a:ahLst/>
              <a:rect l="l" t="t" r="r" b="b"/>
              <a:pathLst>
                <a:path w="679" h="236">
                  <a:moveTo>
                    <a:pt x="197" y="12"/>
                  </a:moveTo>
                  <a:lnTo>
                    <a:pt x="151" y="17"/>
                  </a:lnTo>
                  <a:lnTo>
                    <a:pt x="104" y="34"/>
                  </a:lnTo>
                  <a:lnTo>
                    <a:pt x="52" y="45"/>
                  </a:lnTo>
                  <a:lnTo>
                    <a:pt x="0" y="62"/>
                  </a:lnTo>
                  <a:lnTo>
                    <a:pt x="23" y="130"/>
                  </a:lnTo>
                  <a:lnTo>
                    <a:pt x="63" y="181"/>
                  </a:lnTo>
                  <a:lnTo>
                    <a:pt x="116" y="209"/>
                  </a:lnTo>
                  <a:lnTo>
                    <a:pt x="180" y="226"/>
                  </a:lnTo>
                  <a:lnTo>
                    <a:pt x="243" y="226"/>
                  </a:lnTo>
                  <a:lnTo>
                    <a:pt x="325" y="226"/>
                  </a:lnTo>
                  <a:lnTo>
                    <a:pt x="406" y="226"/>
                  </a:lnTo>
                  <a:lnTo>
                    <a:pt x="505" y="231"/>
                  </a:lnTo>
                  <a:lnTo>
                    <a:pt x="552" y="231"/>
                  </a:lnTo>
                  <a:lnTo>
                    <a:pt x="593" y="236"/>
                  </a:lnTo>
                  <a:lnTo>
                    <a:pt x="628" y="231"/>
                  </a:lnTo>
                  <a:lnTo>
                    <a:pt x="651" y="226"/>
                  </a:lnTo>
                  <a:lnTo>
                    <a:pt x="662" y="203"/>
                  </a:lnTo>
                  <a:lnTo>
                    <a:pt x="674" y="181"/>
                  </a:lnTo>
                  <a:lnTo>
                    <a:pt x="674" y="141"/>
                  </a:lnTo>
                  <a:lnTo>
                    <a:pt x="679" y="91"/>
                  </a:lnTo>
                  <a:lnTo>
                    <a:pt x="621" y="74"/>
                  </a:lnTo>
                  <a:lnTo>
                    <a:pt x="563" y="57"/>
                  </a:lnTo>
                  <a:lnTo>
                    <a:pt x="505" y="40"/>
                  </a:lnTo>
                  <a:lnTo>
                    <a:pt x="453" y="23"/>
                  </a:lnTo>
                  <a:lnTo>
                    <a:pt x="390" y="6"/>
                  </a:lnTo>
                  <a:lnTo>
                    <a:pt x="331" y="0"/>
                  </a:lnTo>
                  <a:lnTo>
                    <a:pt x="261" y="0"/>
                  </a:lnTo>
                  <a:lnTo>
                    <a:pt x="197" y="12"/>
                  </a:lnTo>
                  <a:close/>
                </a:path>
              </a:pathLst>
            </a:custGeom>
            <a:solidFill>
              <a:srgbClr val="e6b3a6"/>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0" name=""/>
            <p:cNvSpPr/>
            <p:nvPr/>
          </p:nvSpPr>
          <p:spPr>
            <a:xfrm>
              <a:off x="5405040" y="4479840"/>
              <a:ext cx="165600" cy="41400"/>
            </a:xfrm>
            <a:custGeom>
              <a:avLst/>
              <a:gdLst/>
              <a:ahLst/>
              <a:rect l="l" t="t" r="r" b="b"/>
              <a:pathLst>
                <a:path w="720" h="163">
                  <a:moveTo>
                    <a:pt x="0" y="0"/>
                  </a:moveTo>
                  <a:lnTo>
                    <a:pt x="0" y="45"/>
                  </a:lnTo>
                  <a:lnTo>
                    <a:pt x="0" y="95"/>
                  </a:lnTo>
                  <a:lnTo>
                    <a:pt x="69" y="95"/>
                  </a:lnTo>
                  <a:lnTo>
                    <a:pt x="157" y="107"/>
                  </a:lnTo>
                  <a:lnTo>
                    <a:pt x="249" y="124"/>
                  </a:lnTo>
                  <a:lnTo>
                    <a:pt x="355" y="141"/>
                  </a:lnTo>
                  <a:lnTo>
                    <a:pt x="447" y="152"/>
                  </a:lnTo>
                  <a:lnTo>
                    <a:pt x="540" y="163"/>
                  </a:lnTo>
                  <a:lnTo>
                    <a:pt x="622" y="163"/>
                  </a:lnTo>
                  <a:lnTo>
                    <a:pt x="692" y="158"/>
                  </a:lnTo>
                  <a:lnTo>
                    <a:pt x="720" y="124"/>
                  </a:lnTo>
                  <a:lnTo>
                    <a:pt x="680" y="102"/>
                  </a:lnTo>
                  <a:lnTo>
                    <a:pt x="586" y="73"/>
                  </a:lnTo>
                  <a:lnTo>
                    <a:pt x="459" y="51"/>
                  </a:lnTo>
                  <a:lnTo>
                    <a:pt x="314" y="28"/>
                  </a:lnTo>
                  <a:lnTo>
                    <a:pt x="175" y="17"/>
                  </a:lnTo>
                  <a:lnTo>
                    <a:pt x="64" y="0"/>
                  </a:lnTo>
                  <a:lnTo>
                    <a:pt x="0" y="0"/>
                  </a:lnTo>
                  <a:close/>
                </a:path>
              </a:pathLst>
            </a:custGeom>
            <a:solidFill>
              <a:srgbClr val="e6a699"/>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51" name=""/>
            <p:cNvSpPr/>
            <p:nvPr/>
          </p:nvSpPr>
          <p:spPr>
            <a:xfrm>
              <a:off x="5914080" y="4500000"/>
              <a:ext cx="142200" cy="34200"/>
            </a:xfrm>
            <a:custGeom>
              <a:avLst/>
              <a:gdLst/>
              <a:ahLst/>
              <a:rect l="l" t="t" r="r" b="b"/>
              <a:pathLst>
                <a:path w="616" h="142">
                  <a:moveTo>
                    <a:pt x="0" y="0"/>
                  </a:moveTo>
                  <a:lnTo>
                    <a:pt x="30" y="119"/>
                  </a:lnTo>
                  <a:lnTo>
                    <a:pt x="93" y="119"/>
                  </a:lnTo>
                  <a:lnTo>
                    <a:pt x="169" y="125"/>
                  </a:lnTo>
                  <a:lnTo>
                    <a:pt x="244" y="125"/>
                  </a:lnTo>
                  <a:lnTo>
                    <a:pt x="325" y="130"/>
                  </a:lnTo>
                  <a:lnTo>
                    <a:pt x="401" y="130"/>
                  </a:lnTo>
                  <a:lnTo>
                    <a:pt x="477" y="130"/>
                  </a:lnTo>
                  <a:lnTo>
                    <a:pt x="547" y="135"/>
                  </a:lnTo>
                  <a:lnTo>
                    <a:pt x="616" y="142"/>
                  </a:lnTo>
                  <a:lnTo>
                    <a:pt x="563" y="80"/>
                  </a:lnTo>
                  <a:lnTo>
                    <a:pt x="506" y="40"/>
                  </a:lnTo>
                  <a:lnTo>
                    <a:pt x="436" y="12"/>
                  </a:lnTo>
                  <a:lnTo>
                    <a:pt x="360" y="7"/>
                  </a:lnTo>
                  <a:lnTo>
                    <a:pt x="268" y="0"/>
                  </a:lnTo>
                  <a:lnTo>
                    <a:pt x="180" y="0"/>
                  </a:lnTo>
                  <a:lnTo>
                    <a:pt x="87" y="0"/>
                  </a:lnTo>
                  <a:lnTo>
                    <a:pt x="0" y="0"/>
                  </a:lnTo>
                  <a:close/>
                </a:path>
              </a:pathLst>
            </a:custGeom>
            <a:solidFill>
              <a:srgbClr val="e6b3a6"/>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52" name=""/>
            <p:cNvSpPr/>
            <p:nvPr/>
          </p:nvSpPr>
          <p:spPr>
            <a:xfrm>
              <a:off x="6052320" y="4740120"/>
              <a:ext cx="117360" cy="137520"/>
            </a:xfrm>
            <a:custGeom>
              <a:avLst/>
              <a:gdLst/>
              <a:ahLst/>
              <a:rect l="l" t="t" r="r" b="b"/>
              <a:pathLst>
                <a:path w="511" h="546">
                  <a:moveTo>
                    <a:pt x="17" y="0"/>
                  </a:moveTo>
                  <a:lnTo>
                    <a:pt x="5" y="34"/>
                  </a:lnTo>
                  <a:lnTo>
                    <a:pt x="5" y="85"/>
                  </a:lnTo>
                  <a:lnTo>
                    <a:pt x="0" y="130"/>
                  </a:lnTo>
                  <a:lnTo>
                    <a:pt x="0" y="186"/>
                  </a:lnTo>
                  <a:lnTo>
                    <a:pt x="0" y="236"/>
                  </a:lnTo>
                  <a:lnTo>
                    <a:pt x="5" y="287"/>
                  </a:lnTo>
                  <a:lnTo>
                    <a:pt x="12" y="332"/>
                  </a:lnTo>
                  <a:lnTo>
                    <a:pt x="29" y="371"/>
                  </a:lnTo>
                  <a:lnTo>
                    <a:pt x="52" y="395"/>
                  </a:lnTo>
                  <a:lnTo>
                    <a:pt x="104" y="427"/>
                  </a:lnTo>
                  <a:lnTo>
                    <a:pt x="162" y="467"/>
                  </a:lnTo>
                  <a:lnTo>
                    <a:pt x="238" y="506"/>
                  </a:lnTo>
                  <a:lnTo>
                    <a:pt x="302" y="529"/>
                  </a:lnTo>
                  <a:lnTo>
                    <a:pt x="372" y="546"/>
                  </a:lnTo>
                  <a:lnTo>
                    <a:pt x="418" y="546"/>
                  </a:lnTo>
                  <a:lnTo>
                    <a:pt x="453" y="529"/>
                  </a:lnTo>
                  <a:lnTo>
                    <a:pt x="459" y="495"/>
                  </a:lnTo>
                  <a:lnTo>
                    <a:pt x="471" y="461"/>
                  </a:lnTo>
                  <a:lnTo>
                    <a:pt x="476" y="427"/>
                  </a:lnTo>
                  <a:lnTo>
                    <a:pt x="488" y="395"/>
                  </a:lnTo>
                  <a:lnTo>
                    <a:pt x="494" y="355"/>
                  </a:lnTo>
                  <a:lnTo>
                    <a:pt x="499" y="316"/>
                  </a:lnTo>
                  <a:lnTo>
                    <a:pt x="506" y="277"/>
                  </a:lnTo>
                  <a:lnTo>
                    <a:pt x="511" y="243"/>
                  </a:lnTo>
                  <a:lnTo>
                    <a:pt x="441" y="214"/>
                  </a:lnTo>
                  <a:lnTo>
                    <a:pt x="377" y="186"/>
                  </a:lnTo>
                  <a:lnTo>
                    <a:pt x="314" y="158"/>
                  </a:lnTo>
                  <a:lnTo>
                    <a:pt x="255" y="130"/>
                  </a:lnTo>
                  <a:lnTo>
                    <a:pt x="197" y="96"/>
                  </a:lnTo>
                  <a:lnTo>
                    <a:pt x="139" y="62"/>
                  </a:lnTo>
                  <a:lnTo>
                    <a:pt x="75" y="29"/>
                  </a:lnTo>
                  <a:lnTo>
                    <a:pt x="17" y="0"/>
                  </a:lnTo>
                  <a:close/>
                </a:path>
              </a:pathLst>
            </a:custGeom>
            <a:solidFill>
              <a:srgbClr val="e6a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331680" y="4778640"/>
              <a:ext cx="9720" cy="9360"/>
            </a:xfrm>
            <a:custGeom>
              <a:avLst/>
              <a:gdLst/>
              <a:ahLst/>
              <a:rect l="l" t="t" r="r" b="b"/>
              <a:pathLst>
                <a:path w="41" h="40">
                  <a:moveTo>
                    <a:pt x="0" y="0"/>
                  </a:moveTo>
                  <a:lnTo>
                    <a:pt x="0" y="17"/>
                  </a:lnTo>
                  <a:lnTo>
                    <a:pt x="0" y="40"/>
                  </a:lnTo>
                  <a:lnTo>
                    <a:pt x="7" y="34"/>
                  </a:lnTo>
                  <a:lnTo>
                    <a:pt x="30" y="34"/>
                  </a:lnTo>
                  <a:lnTo>
                    <a:pt x="41" y="29"/>
                  </a:lnTo>
                  <a:lnTo>
                    <a:pt x="35" y="17"/>
                  </a:lnTo>
                  <a:lnTo>
                    <a:pt x="0" y="0"/>
                  </a:lnTo>
                  <a:close/>
                </a:path>
              </a:pathLst>
            </a:custGeom>
            <a:solidFill>
              <a:srgbClr val="bfffc4"/>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6208560" y="4782600"/>
              <a:ext cx="217080" cy="72000"/>
            </a:xfrm>
            <a:custGeom>
              <a:avLst/>
              <a:gdLst/>
              <a:ahLst/>
              <a:rect l="l" t="t" r="r" b="b"/>
              <a:pathLst>
                <a:path w="942" h="287">
                  <a:moveTo>
                    <a:pt x="99" y="12"/>
                  </a:moveTo>
                  <a:lnTo>
                    <a:pt x="58" y="12"/>
                  </a:lnTo>
                  <a:lnTo>
                    <a:pt x="35" y="28"/>
                  </a:lnTo>
                  <a:lnTo>
                    <a:pt x="18" y="45"/>
                  </a:lnTo>
                  <a:lnTo>
                    <a:pt x="12" y="74"/>
                  </a:lnTo>
                  <a:lnTo>
                    <a:pt x="0" y="96"/>
                  </a:lnTo>
                  <a:lnTo>
                    <a:pt x="7" y="124"/>
                  </a:lnTo>
                  <a:lnTo>
                    <a:pt x="7" y="158"/>
                  </a:lnTo>
                  <a:lnTo>
                    <a:pt x="18" y="192"/>
                  </a:lnTo>
                  <a:lnTo>
                    <a:pt x="18" y="226"/>
                  </a:lnTo>
                  <a:lnTo>
                    <a:pt x="18" y="265"/>
                  </a:lnTo>
                  <a:lnTo>
                    <a:pt x="111" y="270"/>
                  </a:lnTo>
                  <a:lnTo>
                    <a:pt x="215" y="282"/>
                  </a:lnTo>
                  <a:lnTo>
                    <a:pt x="321" y="282"/>
                  </a:lnTo>
                  <a:lnTo>
                    <a:pt x="431" y="287"/>
                  </a:lnTo>
                  <a:lnTo>
                    <a:pt x="542" y="275"/>
                  </a:lnTo>
                  <a:lnTo>
                    <a:pt x="651" y="270"/>
                  </a:lnTo>
                  <a:lnTo>
                    <a:pt x="762" y="258"/>
                  </a:lnTo>
                  <a:lnTo>
                    <a:pt x="872" y="253"/>
                  </a:lnTo>
                  <a:lnTo>
                    <a:pt x="902" y="243"/>
                  </a:lnTo>
                  <a:lnTo>
                    <a:pt x="925" y="236"/>
                  </a:lnTo>
                  <a:lnTo>
                    <a:pt x="937" y="226"/>
                  </a:lnTo>
                  <a:lnTo>
                    <a:pt x="942" y="214"/>
                  </a:lnTo>
                  <a:lnTo>
                    <a:pt x="937" y="175"/>
                  </a:lnTo>
                  <a:lnTo>
                    <a:pt x="937" y="141"/>
                  </a:lnTo>
                  <a:lnTo>
                    <a:pt x="797" y="130"/>
                  </a:lnTo>
                  <a:lnTo>
                    <a:pt x="686" y="113"/>
                  </a:lnTo>
                  <a:lnTo>
                    <a:pt x="576" y="84"/>
                  </a:lnTo>
                  <a:lnTo>
                    <a:pt x="489" y="57"/>
                  </a:lnTo>
                  <a:lnTo>
                    <a:pt x="395" y="23"/>
                  </a:lnTo>
                  <a:lnTo>
                    <a:pt x="303" y="6"/>
                  </a:lnTo>
                  <a:lnTo>
                    <a:pt x="204" y="0"/>
                  </a:lnTo>
                  <a:lnTo>
                    <a:pt x="99" y="12"/>
                  </a:lnTo>
                  <a:close/>
                </a:path>
              </a:pathLst>
            </a:custGeom>
            <a:solidFill>
              <a:srgbClr val="e6a699"/>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255" name=""/>
            <p:cNvSpPr/>
            <p:nvPr/>
          </p:nvSpPr>
          <p:spPr>
            <a:xfrm>
              <a:off x="6348600" y="3076560"/>
              <a:ext cx="19080" cy="75960"/>
            </a:xfrm>
            <a:custGeom>
              <a:avLst/>
              <a:gdLst/>
              <a:ahLst/>
              <a:rect l="l" t="t" r="r" b="b"/>
              <a:pathLst>
                <a:path w="87" h="299">
                  <a:moveTo>
                    <a:pt x="18" y="0"/>
                  </a:moveTo>
                  <a:lnTo>
                    <a:pt x="81" y="17"/>
                  </a:lnTo>
                  <a:lnTo>
                    <a:pt x="87" y="265"/>
                  </a:lnTo>
                  <a:lnTo>
                    <a:pt x="76" y="265"/>
                  </a:lnTo>
                  <a:lnTo>
                    <a:pt x="53" y="282"/>
                  </a:lnTo>
                  <a:lnTo>
                    <a:pt x="23" y="287"/>
                  </a:lnTo>
                  <a:lnTo>
                    <a:pt x="6" y="299"/>
                  </a:lnTo>
                  <a:lnTo>
                    <a:pt x="0" y="282"/>
                  </a:lnTo>
                  <a:lnTo>
                    <a:pt x="0" y="248"/>
                  </a:lnTo>
                  <a:lnTo>
                    <a:pt x="6" y="203"/>
                  </a:lnTo>
                  <a:lnTo>
                    <a:pt x="18" y="152"/>
                  </a:lnTo>
                  <a:lnTo>
                    <a:pt x="18" y="96"/>
                  </a:lnTo>
                  <a:lnTo>
                    <a:pt x="23" y="51"/>
                  </a:lnTo>
                  <a:lnTo>
                    <a:pt x="18" y="12"/>
                  </a:lnTo>
                  <a:lnTo>
                    <a:pt x="18" y="0"/>
                  </a:lnTo>
                  <a:close/>
                </a:path>
              </a:pathLst>
            </a:custGeom>
            <a:solidFill>
              <a:srgbClr val="e6a699"/>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6" name=""/>
            <p:cNvSpPr/>
            <p:nvPr/>
          </p:nvSpPr>
          <p:spPr>
            <a:xfrm>
              <a:off x="3288240" y="3460680"/>
              <a:ext cx="269640" cy="216000"/>
            </a:xfrm>
            <a:custGeom>
              <a:avLst/>
              <a:gdLst/>
              <a:ahLst/>
              <a:rect l="l" t="t" r="r" b="b"/>
              <a:pathLst>
                <a:path w="1174" h="854">
                  <a:moveTo>
                    <a:pt x="0" y="10"/>
                  </a:moveTo>
                  <a:lnTo>
                    <a:pt x="1174" y="0"/>
                  </a:lnTo>
                  <a:lnTo>
                    <a:pt x="436" y="780"/>
                  </a:lnTo>
                  <a:lnTo>
                    <a:pt x="994" y="854"/>
                  </a:lnTo>
                  <a:lnTo>
                    <a:pt x="552" y="736"/>
                  </a:lnTo>
                  <a:lnTo>
                    <a:pt x="1139" y="67"/>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075200" y="3963600"/>
              <a:ext cx="456120" cy="335880"/>
            </a:xfrm>
            <a:custGeom>
              <a:avLst/>
              <a:gdLst/>
              <a:ahLst/>
              <a:rect l="l" t="t" r="r" b="b"/>
              <a:pathLst>
                <a:path w="1976" h="1332">
                  <a:moveTo>
                    <a:pt x="291" y="0"/>
                  </a:moveTo>
                  <a:lnTo>
                    <a:pt x="0" y="421"/>
                  </a:lnTo>
                  <a:lnTo>
                    <a:pt x="1976" y="1332"/>
                  </a:lnTo>
                  <a:lnTo>
                    <a:pt x="81" y="421"/>
                  </a:lnTo>
                  <a:lnTo>
                    <a:pt x="2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010040" y="3120840"/>
              <a:ext cx="764280" cy="37080"/>
            </a:xfrm>
            <a:custGeom>
              <a:avLst/>
              <a:gdLst/>
              <a:ahLst/>
              <a:rect l="l" t="t" r="r" b="b"/>
              <a:pathLst>
                <a:path w="3318" h="146">
                  <a:moveTo>
                    <a:pt x="0" y="146"/>
                  </a:moveTo>
                  <a:lnTo>
                    <a:pt x="2277" y="45"/>
                  </a:lnTo>
                  <a:lnTo>
                    <a:pt x="3318" y="135"/>
                  </a:lnTo>
                  <a:lnTo>
                    <a:pt x="2306" y="0"/>
                  </a:lnTo>
                  <a:lnTo>
                    <a:pt x="0" y="14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59" name=""/>
            <p:cNvSpPr/>
            <p:nvPr/>
          </p:nvSpPr>
          <p:spPr>
            <a:xfrm>
              <a:off x="2971800" y="3243600"/>
              <a:ext cx="52560" cy="79560"/>
            </a:xfrm>
            <a:custGeom>
              <a:avLst/>
              <a:gdLst/>
              <a:ahLst/>
              <a:rect l="l" t="t" r="r" b="b"/>
              <a:pathLst>
                <a:path w="226" h="320">
                  <a:moveTo>
                    <a:pt x="226" y="0"/>
                  </a:moveTo>
                  <a:lnTo>
                    <a:pt x="81" y="101"/>
                  </a:lnTo>
                  <a:lnTo>
                    <a:pt x="0" y="320"/>
                  </a:lnTo>
                  <a:lnTo>
                    <a:pt x="17" y="101"/>
                  </a:lnTo>
                  <a:lnTo>
                    <a:pt x="22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grpSp>
      <p:pic>
        <p:nvPicPr>
          <p:cNvPr id="260" name="" descr=""/>
          <p:cNvPicPr/>
          <p:nvPr/>
        </p:nvPicPr>
        <p:blipFill>
          <a:blip r:embed="rId2"/>
          <a:stretch/>
        </p:blipFill>
        <p:spPr>
          <a:xfrm>
            <a:off x="3505320" y="3429000"/>
            <a:ext cx="1861920" cy="279864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14-16</a:t>
            </a:r>
            <a:endParaRPr b="0" lang="en-US" sz="4400" spc="-1" strike="noStrike">
              <a:solidFill>
                <a:srgbClr val="ccffff"/>
              </a:solidFill>
              <a:latin typeface="Arial"/>
            </a:endParaRPr>
          </a:p>
        </p:txBody>
      </p:sp>
      <p:sp>
        <p:nvSpPr>
          <p:cNvPr id="262"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4</a:t>
            </a:r>
            <a:r>
              <a:rPr b="0" lang="en-US" sz="2800" spc="-1" strike="noStrike">
                <a:solidFill>
                  <a:srgbClr val="ffffff"/>
                </a:solidFill>
                <a:latin typeface="Arial"/>
              </a:rPr>
              <a:t> For He Himself is our peace, who made both </a:t>
            </a:r>
            <a:r>
              <a:rPr b="0" i="1" lang="en-US" sz="2800" spc="-1" strike="noStrike">
                <a:solidFill>
                  <a:srgbClr val="ffffff"/>
                </a:solidFill>
                <a:latin typeface="Arial"/>
              </a:rPr>
              <a:t>groups into </a:t>
            </a:r>
            <a:r>
              <a:rPr b="0" lang="en-US" sz="2800" spc="-1" strike="noStrike">
                <a:solidFill>
                  <a:srgbClr val="ffffff"/>
                </a:solidFill>
                <a:latin typeface="Arial"/>
              </a:rPr>
              <a:t>one, and broke down the barrier of the dividing wall, </a:t>
            </a:r>
            <a:r>
              <a:rPr b="0" lang="en-US" sz="1800" spc="-1" strike="noStrike">
                <a:solidFill>
                  <a:srgbClr val="ffffff"/>
                </a:solidFill>
                <a:latin typeface="Arial"/>
              </a:rPr>
              <a:t>15</a:t>
            </a:r>
            <a:r>
              <a:rPr b="0" lang="en-US" sz="2800" spc="-1" strike="noStrike">
                <a:solidFill>
                  <a:srgbClr val="ffffff"/>
                </a:solidFill>
                <a:latin typeface="Arial"/>
              </a:rPr>
              <a:t> by abolishing in His flesh the enmity, </a:t>
            </a:r>
            <a:r>
              <a:rPr b="0" i="1" lang="en-US" sz="2800" spc="-1" strike="noStrike">
                <a:solidFill>
                  <a:srgbClr val="ffffff"/>
                </a:solidFill>
                <a:latin typeface="Arial"/>
              </a:rPr>
              <a:t>which is </a:t>
            </a:r>
            <a:r>
              <a:rPr b="0" lang="en-US" sz="2800" spc="-1" strike="noStrike">
                <a:solidFill>
                  <a:srgbClr val="ffffff"/>
                </a:solidFill>
                <a:latin typeface="Arial"/>
              </a:rPr>
              <a:t>the Law of commandments </a:t>
            </a:r>
            <a:r>
              <a:rPr b="0" i="1" lang="en-US" sz="2800" spc="-1" strike="noStrike">
                <a:solidFill>
                  <a:srgbClr val="ffffff"/>
                </a:solidFill>
                <a:latin typeface="Arial"/>
              </a:rPr>
              <a:t>contained </a:t>
            </a:r>
            <a:r>
              <a:rPr b="0" lang="en-US" sz="2800" spc="-1" strike="noStrike">
                <a:solidFill>
                  <a:srgbClr val="ffffff"/>
                </a:solidFill>
                <a:latin typeface="Arial"/>
              </a:rPr>
              <a:t>in ordinances, that in Himself He might make the two into one new man, </a:t>
            </a:r>
            <a:r>
              <a:rPr b="0" i="1" lang="en-US" sz="2800" spc="-1" strike="noStrike">
                <a:solidFill>
                  <a:srgbClr val="ffffff"/>
                </a:solidFill>
                <a:latin typeface="Arial"/>
              </a:rPr>
              <a:t>thus </a:t>
            </a:r>
            <a:r>
              <a:rPr b="0" lang="en-US" sz="2800" spc="-1" strike="noStrike">
                <a:solidFill>
                  <a:srgbClr val="ffffff"/>
                </a:solidFill>
                <a:latin typeface="Arial"/>
              </a:rPr>
              <a:t>establishing peace, </a:t>
            </a:r>
            <a:r>
              <a:rPr b="0" lang="en-US" sz="1800" spc="-1" strike="noStrike">
                <a:solidFill>
                  <a:srgbClr val="ffffff"/>
                </a:solidFill>
                <a:latin typeface="Arial"/>
              </a:rPr>
              <a:t>16</a:t>
            </a:r>
            <a:r>
              <a:rPr b="0" lang="en-US" sz="2800" spc="-1" strike="noStrike">
                <a:solidFill>
                  <a:srgbClr val="ffffff"/>
                </a:solidFill>
                <a:latin typeface="Arial"/>
              </a:rPr>
              <a:t> and might reconcile them both in one body to God through the cross, by it having put to death the enmity.</a:t>
            </a:r>
            <a:endParaRPr b="0" lang="en-US" sz="2800" spc="-1" strike="noStrike">
              <a:solidFill>
                <a:srgbClr val="ffffff"/>
              </a:solidFill>
              <a:latin typeface="Arial"/>
            </a:endParaRPr>
          </a:p>
        </p:txBody>
      </p:sp>
      <p:sp>
        <p:nvSpPr>
          <p:cNvPr id="263"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1028880" y="3479760"/>
            <a:ext cx="7340400" cy="1320840"/>
          </a:xfrm>
          <a:custGeom>
            <a:avLst/>
            <a:gdLst/>
            <a:ahLst/>
            <a:rect l="l" t="t" r="r" b="b"/>
            <a:pathLst>
              <a:path w="4624" h="832">
                <a:moveTo>
                  <a:pt x="2424" y="10"/>
                </a:moveTo>
                <a:cubicBezTo>
                  <a:pt x="2749" y="0"/>
                  <a:pt x="3968" y="15"/>
                  <a:pt x="4296" y="16"/>
                </a:cubicBezTo>
                <a:cubicBezTo>
                  <a:pt x="4624" y="17"/>
                  <a:pt x="4360" y="8"/>
                  <a:pt x="4392" y="16"/>
                </a:cubicBezTo>
                <a:cubicBezTo>
                  <a:pt x="4424" y="24"/>
                  <a:pt x="4472" y="24"/>
                  <a:pt x="4488" y="64"/>
                </a:cubicBezTo>
                <a:lnTo>
                  <a:pt x="4488" y="256"/>
                </a:lnTo>
                <a:lnTo>
                  <a:pt x="4488" y="448"/>
                </a:lnTo>
                <a:lnTo>
                  <a:pt x="4440" y="544"/>
                </a:lnTo>
                <a:lnTo>
                  <a:pt x="3912" y="544"/>
                </a:lnTo>
                <a:lnTo>
                  <a:pt x="1224" y="544"/>
                </a:lnTo>
                <a:lnTo>
                  <a:pt x="792" y="544"/>
                </a:lnTo>
                <a:cubicBezTo>
                  <a:pt x="696" y="560"/>
                  <a:pt x="672" y="600"/>
                  <a:pt x="648" y="640"/>
                </a:cubicBezTo>
                <a:cubicBezTo>
                  <a:pt x="624" y="680"/>
                  <a:pt x="672" y="752"/>
                  <a:pt x="648" y="784"/>
                </a:cubicBezTo>
                <a:lnTo>
                  <a:pt x="504" y="832"/>
                </a:lnTo>
                <a:lnTo>
                  <a:pt x="120" y="832"/>
                </a:lnTo>
                <a:cubicBezTo>
                  <a:pt x="40" y="808"/>
                  <a:pt x="40" y="744"/>
                  <a:pt x="24" y="688"/>
                </a:cubicBezTo>
                <a:cubicBezTo>
                  <a:pt x="8" y="632"/>
                  <a:pt x="24" y="552"/>
                  <a:pt x="24" y="496"/>
                </a:cubicBezTo>
                <a:cubicBezTo>
                  <a:pt x="24" y="440"/>
                  <a:pt x="0" y="384"/>
                  <a:pt x="24" y="352"/>
                </a:cubicBezTo>
                <a:cubicBezTo>
                  <a:pt x="48" y="320"/>
                  <a:pt x="96" y="312"/>
                  <a:pt x="168" y="304"/>
                </a:cubicBezTo>
                <a:lnTo>
                  <a:pt x="456" y="304"/>
                </a:lnTo>
                <a:lnTo>
                  <a:pt x="1368" y="304"/>
                </a:lnTo>
                <a:lnTo>
                  <a:pt x="2040" y="304"/>
                </a:lnTo>
                <a:lnTo>
                  <a:pt x="2232" y="304"/>
                </a:lnTo>
                <a:cubicBezTo>
                  <a:pt x="2232" y="304"/>
                  <a:pt x="2309" y="294"/>
                  <a:pt x="2328" y="256"/>
                </a:cubicBezTo>
                <a:cubicBezTo>
                  <a:pt x="2347" y="218"/>
                  <a:pt x="2331" y="115"/>
                  <a:pt x="2347" y="74"/>
                </a:cubicBezTo>
                <a:cubicBezTo>
                  <a:pt x="2363" y="33"/>
                  <a:pt x="2408" y="23"/>
                  <a:pt x="2424" y="10"/>
                </a:cubicBezTo>
                <a:close/>
              </a:path>
            </a:pathLst>
          </a:custGeom>
          <a:gradFill rotWithShape="0">
            <a:gsLst>
              <a:gs pos="0">
                <a:srgbClr val="660033"/>
              </a:gs>
              <a:gs pos="100000">
                <a:srgbClr val="2f0017"/>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990720" y="1793880"/>
            <a:ext cx="4038480" cy="457200"/>
          </a:xfrm>
          <a:prstGeom prst="roundRect">
            <a:avLst>
              <a:gd name="adj" fmla="val 16667"/>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3:4-7</a:t>
            </a:r>
            <a:endParaRPr b="0" lang="en-US" sz="4400" spc="-1" strike="noStrike">
              <a:solidFill>
                <a:srgbClr val="ccffff"/>
              </a:solidFill>
              <a:latin typeface="Arial"/>
            </a:endParaRPr>
          </a:p>
        </p:txBody>
      </p:sp>
      <p:sp>
        <p:nvSpPr>
          <p:cNvPr id="267" name="PlaceHolder 2"/>
          <p:cNvSpPr>
            <a:spLocks noGrp="1"/>
          </p:cNvSpPr>
          <p:nvPr>
            <p:ph type="subTitle"/>
          </p:nvPr>
        </p:nvSpPr>
        <p:spPr>
          <a:xfrm>
            <a:off x="1066320" y="914040"/>
            <a:ext cx="7086600" cy="52578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4</a:t>
            </a:r>
            <a:r>
              <a:rPr b="0" lang="en-US" sz="2800" spc="-1" strike="noStrike">
                <a:solidFill>
                  <a:srgbClr val="ffffff"/>
                </a:solidFill>
                <a:latin typeface="Arial"/>
              </a:rPr>
              <a:t> And by referring to this, when you read you can understand my insight into the mystery of Christ, </a:t>
            </a:r>
            <a:r>
              <a:rPr b="0" lang="en-US" sz="1800" spc="-1" strike="noStrike">
                <a:solidFill>
                  <a:srgbClr val="ffffff"/>
                </a:solidFill>
                <a:latin typeface="Arial"/>
              </a:rPr>
              <a:t>5</a:t>
            </a:r>
            <a:r>
              <a:rPr b="0" lang="en-US" sz="2800" spc="-1" strike="noStrike">
                <a:solidFill>
                  <a:srgbClr val="ffffff"/>
                </a:solidFill>
                <a:latin typeface="Arial"/>
              </a:rPr>
              <a:t> which in other generations was not made known to the sons of men, as it has now been revealed to His holy apostles and prophets in the Spirit; </a:t>
            </a:r>
            <a:r>
              <a:rPr b="0" lang="en-US" sz="1800" spc="-1" strike="noStrike">
                <a:solidFill>
                  <a:srgbClr val="ffffff"/>
                </a:solidFill>
                <a:latin typeface="Arial"/>
              </a:rPr>
              <a:t>6</a:t>
            </a:r>
            <a:r>
              <a:rPr b="0" lang="en-US" sz="2800" spc="-1" strike="noStrike">
                <a:solidFill>
                  <a:srgbClr val="ffffff"/>
                </a:solidFill>
                <a:latin typeface="Arial"/>
              </a:rPr>
              <a:t> </a:t>
            </a:r>
            <a:r>
              <a:rPr b="0" i="1" lang="en-US" sz="2800" spc="-1" strike="noStrike">
                <a:solidFill>
                  <a:srgbClr val="ffffff"/>
                </a:solidFill>
                <a:latin typeface="Arial"/>
              </a:rPr>
              <a:t>to be specific</a:t>
            </a:r>
            <a:r>
              <a:rPr b="0" lang="en-US" sz="2800" spc="-1" strike="noStrike">
                <a:solidFill>
                  <a:srgbClr val="ffffff"/>
                </a:solidFill>
                <a:latin typeface="Arial"/>
              </a:rPr>
              <a:t>, that the Gentiles are fellow heirs and fellow members of the body, and fellow partakers of the promise in Christ Jesus through the gospel, </a:t>
            </a:r>
            <a:r>
              <a:rPr b="0" lang="en-US" sz="1800" spc="-1" strike="noStrike">
                <a:solidFill>
                  <a:srgbClr val="ffffff"/>
                </a:solidFill>
                <a:latin typeface="Arial"/>
              </a:rPr>
              <a:t>7</a:t>
            </a:r>
            <a:r>
              <a:rPr b="0" lang="en-US" sz="2800" spc="-1" strike="noStrike">
                <a:solidFill>
                  <a:srgbClr val="ffffff"/>
                </a:solidFill>
                <a:latin typeface="Arial"/>
              </a:rPr>
              <a:t> of which I was made a minister, according to the gift of God's grace which was given to me according to the working of His power.</a:t>
            </a:r>
            <a:endParaRPr b="0" lang="en-US" sz="2800" spc="-1" strike="noStrike">
              <a:solidFill>
                <a:srgbClr val="ffffff"/>
              </a:solidFill>
              <a:latin typeface="Arial"/>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0">
                                  <p:stCondLst>
                                    <p:cond delay="0"/>
                                  </p:stCondLst>
                                  <p:childTnLst>
                                    <p:set>
                                      <p:cBhvr>
                                        <p:cTn id="434" dur="1" fill="hold">
                                          <p:stCondLst>
                                            <p:cond delay="0"/>
                                          </p:stCondLst>
                                        </p:cTn>
                                        <p:tgtEl>
                                          <p:spTgt spid="265"/>
                                        </p:tgtEl>
                                        <p:attrNameLst>
                                          <p:attrName>style.visibility</p:attrName>
                                        </p:attrNameLst>
                                      </p:cBhvr>
                                      <p:to>
                                        <p:strVal val="visible"/>
                                      </p:to>
                                    </p:set>
                                    <p:animEffect filter="fade" transition="in">
                                      <p:cBhvr additive="repl">
                                        <p:cTn id="435" dur="2000"/>
                                        <p:tgtEl>
                                          <p:spTgt spid="26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264"/>
                                        </p:tgtEl>
                                        <p:attrNameLst>
                                          <p:attrName>style.visibility</p:attrName>
                                        </p:attrNameLst>
                                      </p:cBhvr>
                                      <p:to>
                                        <p:strVal val="visible"/>
                                      </p:to>
                                    </p:set>
                                    <p:animEffect filter="fade" transition="in">
                                      <p:cBhvr additive="repl">
                                        <p:cTn id="440"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ul’s Prayer</a:t>
            </a:r>
            <a:endParaRPr b="0" lang="en-US" sz="4400" spc="-1" strike="noStrike">
              <a:solidFill>
                <a:srgbClr val="ccffff"/>
              </a:solidFill>
              <a:latin typeface="Arial"/>
            </a:endParaRPr>
          </a:p>
        </p:txBody>
      </p:sp>
      <p:sp>
        <p:nvSpPr>
          <p:cNvPr id="270" name="PlaceHolder 2"/>
          <p:cNvSpPr>
            <a:spLocks noGrp="1"/>
          </p:cNvSpPr>
          <p:nvPr>
            <p:ph type="subTitle"/>
          </p:nvPr>
        </p:nvSpPr>
        <p:spPr>
          <a:xfrm>
            <a:off x="533160" y="1752120"/>
            <a:ext cx="6019560" cy="44960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800" spc="-1" strike="noStrike">
                <a:solidFill>
                  <a:srgbClr val="ffffff"/>
                </a:solidFill>
                <a:latin typeface="Arial"/>
              </a:rPr>
              <a:t>14</a:t>
            </a:r>
            <a:r>
              <a:rPr b="0" lang="en-US" sz="3200" spc="-1" strike="noStrike">
                <a:solidFill>
                  <a:srgbClr val="ffffff"/>
                </a:solidFill>
                <a:latin typeface="Arial"/>
              </a:rPr>
              <a:t> For this reason, I bow my knees before the Father, </a:t>
            </a:r>
            <a:r>
              <a:rPr b="0" lang="en-US" sz="1800" spc="-1" strike="noStrike">
                <a:solidFill>
                  <a:srgbClr val="ffffff"/>
                </a:solidFill>
                <a:latin typeface="Arial"/>
              </a:rPr>
              <a:t>15</a:t>
            </a:r>
            <a:r>
              <a:rPr b="0" lang="en-US" sz="3200" spc="-1" strike="noStrike">
                <a:solidFill>
                  <a:srgbClr val="ffffff"/>
                </a:solidFill>
                <a:latin typeface="Arial"/>
              </a:rPr>
              <a:t> from whom every family in heaven and on earth derives its name, </a:t>
            </a:r>
            <a:r>
              <a:rPr b="0" lang="en-US" sz="1800" spc="-1" strike="noStrike">
                <a:solidFill>
                  <a:srgbClr val="ffffff"/>
                </a:solidFill>
                <a:latin typeface="Arial"/>
              </a:rPr>
              <a:t>16</a:t>
            </a:r>
            <a:r>
              <a:rPr b="0" lang="en-US" sz="3200" spc="-1" strike="noStrike">
                <a:solidFill>
                  <a:srgbClr val="ffffff"/>
                </a:solidFill>
                <a:latin typeface="Arial"/>
              </a:rPr>
              <a:t> that He would grant you, according to the riches of His glory, to be strengthened with power through His Spirit in the inner man… (3:14-16).</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1" name="" descr=""/>
          <p:cNvPicPr/>
          <p:nvPr/>
        </p:nvPicPr>
        <p:blipFill>
          <a:blip r:embed="rId2"/>
          <a:stretch/>
        </p:blipFill>
        <p:spPr>
          <a:xfrm>
            <a:off x="6934320" y="1371600"/>
            <a:ext cx="2028600" cy="19638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flipV="1">
            <a:off x="6019920" y="2895120"/>
            <a:ext cx="38088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438280" y="2666880"/>
            <a:ext cx="38124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627560" y="1360440"/>
            <a:ext cx="1686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3)</a:t>
            </a:r>
            <a:endParaRPr b="0" lang="en-US" sz="2800" spc="-1" strike="noStrike">
              <a:solidFill>
                <a:srgbClr val="ffffff"/>
              </a:solidFill>
              <a:latin typeface="Arial"/>
            </a:endParaRPr>
          </a:p>
        </p:txBody>
      </p:sp>
      <p:sp>
        <p:nvSpPr>
          <p:cNvPr id="275" name=""/>
          <p:cNvSpPr/>
          <p:nvPr/>
        </p:nvSpPr>
        <p:spPr>
          <a:xfrm>
            <a:off x="2034000" y="3646440"/>
            <a:ext cx="1794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4-6)</a:t>
            </a:r>
            <a:endParaRPr b="0" lang="en-US" sz="2800" spc="-1" strike="noStrike">
              <a:solidFill>
                <a:srgbClr val="ffffff"/>
              </a:solidFill>
              <a:latin typeface="Arial"/>
            </a:endParaRPr>
          </a:p>
        </p:txBody>
      </p:sp>
      <p:sp>
        <p:nvSpPr>
          <p:cNvPr id="276" name=""/>
          <p:cNvSpPr/>
          <p:nvPr/>
        </p:nvSpPr>
        <p:spPr>
          <a:xfrm>
            <a:off x="5175720" y="3657600"/>
            <a:ext cx="179460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ctrin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7-11)</a:t>
            </a:r>
            <a:endParaRPr b="0" lang="en-US" sz="2800" spc="-1" strike="noStrike">
              <a:solidFill>
                <a:srgbClr val="ffffff"/>
              </a:solidFill>
              <a:latin typeface="Arial"/>
            </a:endParaRPr>
          </a:p>
        </p:txBody>
      </p:sp>
      <p:sp>
        <p:nvSpPr>
          <p:cNvPr id="277" name=""/>
          <p:cNvSpPr/>
          <p:nvPr/>
        </p:nvSpPr>
        <p:spPr>
          <a:xfrm>
            <a:off x="5648760" y="1371600"/>
            <a:ext cx="1721520" cy="1373760"/>
          </a:xfrm>
          <a:prstGeom prst="rect">
            <a:avLst/>
          </a:prstGeom>
          <a:gradFill rotWithShape="0">
            <a:gsLst>
              <a:gs pos="0">
                <a:srgbClr val="990000"/>
              </a:gs>
              <a:gs pos="100000">
                <a:srgbClr val="460000"/>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actic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ersity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2-16)</a:t>
            </a:r>
            <a:endParaRPr b="0" lang="en-US" sz="2800" spc="-1" strike="noStrike">
              <a:solidFill>
                <a:srgbClr val="ffffff"/>
              </a:solidFill>
              <a:latin typeface="Arial"/>
            </a:endParaRPr>
          </a:p>
        </p:txBody>
      </p:sp>
      <p:sp>
        <p:nvSpPr>
          <p:cNvPr id="278" name=""/>
          <p:cNvSpPr/>
          <p:nvPr/>
        </p:nvSpPr>
        <p:spPr>
          <a:xfrm>
            <a:off x="3962520" y="426708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273"/>
                                        </p:tgtEl>
                                        <p:attrNameLst>
                                          <p:attrName>style.visibility</p:attrName>
                                        </p:attrNameLst>
                                      </p:cBhvr>
                                      <p:to>
                                        <p:strVal val="visible"/>
                                      </p:to>
                                    </p:set>
                                    <p:animEffect filter="wipe(up)" transition="in">
                                      <p:cBhvr additive="repl">
                                        <p:cTn id="447" dur="1000"/>
                                        <p:tgtEl>
                                          <p:spTgt spid="273"/>
                                        </p:tgtEl>
                                      </p:cBhvr>
                                    </p:animEffect>
                                  </p:childTnLst>
                                </p:cTn>
                              </p:par>
                            </p:childTnLst>
                          </p:cTn>
                        </p:par>
                        <p:par>
                          <p:cTn id="448" fill="hold">
                            <p:stCondLst>
                              <p:cond delay="1000"/>
                            </p:stCondLst>
                            <p:childTnLst>
                              <p:par>
                                <p:cTn id="449" nodeType="afterEffect" fill="hold" presetClass="entr" presetID="53">
                                  <p:stCondLst>
                                    <p:cond delay="0"/>
                                  </p:stCondLst>
                                  <p:childTnLst>
                                    <p:set>
                                      <p:cBhvr>
                                        <p:cTn id="450" dur="1" fill="hold">
                                          <p:stCondLst>
                                            <p:cond delay="0"/>
                                          </p:stCondLst>
                                        </p:cTn>
                                        <p:tgtEl>
                                          <p:spTgt spid="275"/>
                                        </p:tgtEl>
                                        <p:attrNameLst>
                                          <p:attrName>style.visibility</p:attrName>
                                        </p:attrNameLst>
                                      </p:cBhvr>
                                      <p:to>
                                        <p:strVal val="visible"/>
                                      </p:to>
                                    </p:set>
                                    <p:anim calcmode="lin" valueType="num">
                                      <p:cBhvr additive="repl">
                                        <p:cTn id="451" dur="1000" fill="hold"/>
                                        <p:tgtEl>
                                          <p:spTgt spid="275"/>
                                        </p:tgtEl>
                                        <p:attrNameLst>
                                          <p:attrName>ppt_w</p:attrName>
                                        </p:attrNameLst>
                                      </p:cBhvr>
                                      <p:tavLst>
                                        <p:tav tm="0">
                                          <p:val>
                                            <p:fltVal val="0"/>
                                          </p:val>
                                        </p:tav>
                                        <p:tav tm="100000">
                                          <p:val>
                                            <p:strVal val="#ppt_w"/>
                                          </p:val>
                                        </p:tav>
                                      </p:tavLst>
                                    </p:anim>
                                    <p:anim calcmode="lin" valueType="num">
                                      <p:cBhvr additive="repl">
                                        <p:cTn id="452" dur="1000" fill="hold"/>
                                        <p:tgtEl>
                                          <p:spTgt spid="275"/>
                                        </p:tgtEl>
                                        <p:attrNameLst>
                                          <p:attrName>ppt_h</p:attrName>
                                        </p:attrNameLst>
                                      </p:cBhvr>
                                      <p:tavLst>
                                        <p:tav tm="0">
                                          <p:val>
                                            <p:fltVal val="0"/>
                                          </p:val>
                                        </p:tav>
                                        <p:tav tm="100000">
                                          <p:val>
                                            <p:strVal val="#ppt_h"/>
                                          </p:val>
                                        </p:tav>
                                      </p:tavLst>
                                    </p:anim>
                                    <p:animEffect filter="fade" transition="in">
                                      <p:cBhvr additive="repl">
                                        <p:cTn id="453" dur="1000"/>
                                        <p:tgtEl>
                                          <p:spTgt spid="275"/>
                                        </p:tgtEl>
                                      </p:cBhvr>
                                    </p:animEffect>
                                  </p:childTnLst>
                                </p:cTn>
                              </p:par>
                            </p:childTnLst>
                          </p:cTn>
                        </p:par>
                        <p:par>
                          <p:cTn id="454" fill="hold">
                            <p:stCondLst>
                              <p:cond delay="2000"/>
                            </p:stCondLst>
                            <p:childTnLst>
                              <p:par>
                                <p:cTn id="455" nodeType="afterEffect" fill="hold" presetClass="entr" presetID="22" presetSubtype="8">
                                  <p:stCondLst>
                                    <p:cond delay="0"/>
                                  </p:stCondLst>
                                  <p:childTnLst>
                                    <p:set>
                                      <p:cBhvr>
                                        <p:cTn id="456" dur="1" fill="hold">
                                          <p:stCondLst>
                                            <p:cond delay="0"/>
                                          </p:stCondLst>
                                        </p:cTn>
                                        <p:tgtEl>
                                          <p:spTgt spid="278"/>
                                        </p:tgtEl>
                                        <p:attrNameLst>
                                          <p:attrName>style.visibility</p:attrName>
                                        </p:attrNameLst>
                                      </p:cBhvr>
                                      <p:to>
                                        <p:strVal val="visible"/>
                                      </p:to>
                                    </p:set>
                                    <p:animEffect filter="wipe(left)" transition="in">
                                      <p:cBhvr additive="repl">
                                        <p:cTn id="457" dur="500"/>
                                        <p:tgtEl>
                                          <p:spTgt spid="278"/>
                                        </p:tgtEl>
                                      </p:cBhvr>
                                    </p:animEffect>
                                  </p:childTnLst>
                                </p:cTn>
                              </p:par>
                            </p:childTnLst>
                          </p:cTn>
                        </p:par>
                        <p:par>
                          <p:cTn id="458" fill="hold">
                            <p:stCondLst>
                              <p:cond delay="2500"/>
                            </p:stCondLst>
                            <p:childTnLst>
                              <p:par>
                                <p:cTn id="459" nodeType="afterEffect" fill="hold" presetClass="entr" presetID="53">
                                  <p:stCondLst>
                                    <p:cond delay="0"/>
                                  </p:stCondLst>
                                  <p:childTnLst>
                                    <p:set>
                                      <p:cBhvr>
                                        <p:cTn id="460" dur="1" fill="hold">
                                          <p:stCondLst>
                                            <p:cond delay="0"/>
                                          </p:stCondLst>
                                        </p:cTn>
                                        <p:tgtEl>
                                          <p:spTgt spid="276"/>
                                        </p:tgtEl>
                                        <p:attrNameLst>
                                          <p:attrName>style.visibility</p:attrName>
                                        </p:attrNameLst>
                                      </p:cBhvr>
                                      <p:to>
                                        <p:strVal val="visible"/>
                                      </p:to>
                                    </p:set>
                                    <p:anim calcmode="lin" valueType="num">
                                      <p:cBhvr additive="repl">
                                        <p:cTn id="461" dur="500" fill="hold"/>
                                        <p:tgtEl>
                                          <p:spTgt spid="276"/>
                                        </p:tgtEl>
                                        <p:attrNameLst>
                                          <p:attrName>ppt_w</p:attrName>
                                        </p:attrNameLst>
                                      </p:cBhvr>
                                      <p:tavLst>
                                        <p:tav tm="0">
                                          <p:val>
                                            <p:fltVal val="0"/>
                                          </p:val>
                                        </p:tav>
                                        <p:tav tm="100000">
                                          <p:val>
                                            <p:strVal val="#ppt_w"/>
                                          </p:val>
                                        </p:tav>
                                      </p:tavLst>
                                    </p:anim>
                                    <p:anim calcmode="lin" valueType="num">
                                      <p:cBhvr additive="repl">
                                        <p:cTn id="462" dur="500" fill="hold"/>
                                        <p:tgtEl>
                                          <p:spTgt spid="276"/>
                                        </p:tgtEl>
                                        <p:attrNameLst>
                                          <p:attrName>ppt_h</p:attrName>
                                        </p:attrNameLst>
                                      </p:cBhvr>
                                      <p:tavLst>
                                        <p:tav tm="0">
                                          <p:val>
                                            <p:fltVal val="0"/>
                                          </p:val>
                                        </p:tav>
                                        <p:tav tm="100000">
                                          <p:val>
                                            <p:strVal val="#ppt_h"/>
                                          </p:val>
                                        </p:tav>
                                      </p:tavLst>
                                    </p:anim>
                                    <p:animEffect filter="fade" transition="in">
                                      <p:cBhvr additive="repl">
                                        <p:cTn id="463" dur="500"/>
                                        <p:tgtEl>
                                          <p:spTgt spid="276"/>
                                        </p:tgtEl>
                                      </p:cBhvr>
                                    </p:animEffect>
                                  </p:childTnLst>
                                </p:cTn>
                              </p:par>
                            </p:childTnLst>
                          </p:cTn>
                        </p:par>
                        <p:par>
                          <p:cTn id="464" fill="hold">
                            <p:stCondLst>
                              <p:cond delay="3000"/>
                            </p:stCondLst>
                            <p:childTnLst>
                              <p:par>
                                <p:cTn id="465" nodeType="afterEffect" fill="hold" presetClass="entr" presetID="22" presetSubtype="4">
                                  <p:stCondLst>
                                    <p:cond delay="0"/>
                                  </p:stCondLst>
                                  <p:childTnLst>
                                    <p:set>
                                      <p:cBhvr>
                                        <p:cTn id="466" dur="1" fill="hold">
                                          <p:stCondLst>
                                            <p:cond delay="0"/>
                                          </p:stCondLst>
                                        </p:cTn>
                                        <p:tgtEl>
                                          <p:spTgt spid="272"/>
                                        </p:tgtEl>
                                        <p:attrNameLst>
                                          <p:attrName>style.visibility</p:attrName>
                                        </p:attrNameLst>
                                      </p:cBhvr>
                                      <p:to>
                                        <p:strVal val="visible"/>
                                      </p:to>
                                    </p:set>
                                    <p:animEffect filter="wipe(down)" transition="in">
                                      <p:cBhvr additive="repl">
                                        <p:cTn id="467" dur="500"/>
                                        <p:tgtEl>
                                          <p:spTgt spid="272"/>
                                        </p:tgtEl>
                                      </p:cBhvr>
                                    </p:animEffect>
                                  </p:childTnLst>
                                </p:cTn>
                              </p:par>
                            </p:childTnLst>
                          </p:cTn>
                        </p:par>
                        <p:par>
                          <p:cTn id="468" fill="hold">
                            <p:stCondLst>
                              <p:cond delay="3500"/>
                            </p:stCondLst>
                            <p:childTnLst>
                              <p:par>
                                <p:cTn id="469" nodeType="afterEffect" fill="hold" presetClass="entr" presetID="53">
                                  <p:stCondLst>
                                    <p:cond delay="0"/>
                                  </p:stCondLst>
                                  <p:childTnLst>
                                    <p:set>
                                      <p:cBhvr>
                                        <p:cTn id="470" dur="1" fill="hold">
                                          <p:stCondLst>
                                            <p:cond delay="0"/>
                                          </p:stCondLst>
                                        </p:cTn>
                                        <p:tgtEl>
                                          <p:spTgt spid="277"/>
                                        </p:tgtEl>
                                        <p:attrNameLst>
                                          <p:attrName>style.visibility</p:attrName>
                                        </p:attrNameLst>
                                      </p:cBhvr>
                                      <p:to>
                                        <p:strVal val="visible"/>
                                      </p:to>
                                    </p:set>
                                    <p:anim calcmode="lin" valueType="num">
                                      <p:cBhvr additive="repl">
                                        <p:cTn id="471" dur="500" fill="hold"/>
                                        <p:tgtEl>
                                          <p:spTgt spid="277"/>
                                        </p:tgtEl>
                                        <p:attrNameLst>
                                          <p:attrName>ppt_w</p:attrName>
                                        </p:attrNameLst>
                                      </p:cBhvr>
                                      <p:tavLst>
                                        <p:tav tm="0">
                                          <p:val>
                                            <p:fltVal val="0"/>
                                          </p:val>
                                        </p:tav>
                                        <p:tav tm="100000">
                                          <p:val>
                                            <p:strVal val="#ppt_w"/>
                                          </p:val>
                                        </p:tav>
                                      </p:tavLst>
                                    </p:anim>
                                    <p:anim calcmode="lin" valueType="num">
                                      <p:cBhvr additive="repl">
                                        <p:cTn id="472" dur="500" fill="hold"/>
                                        <p:tgtEl>
                                          <p:spTgt spid="277"/>
                                        </p:tgtEl>
                                        <p:attrNameLst>
                                          <p:attrName>ppt_h</p:attrName>
                                        </p:attrNameLst>
                                      </p:cBhvr>
                                      <p:tavLst>
                                        <p:tav tm="0">
                                          <p:val>
                                            <p:fltVal val="0"/>
                                          </p:val>
                                        </p:tav>
                                        <p:tav tm="100000">
                                          <p:val>
                                            <p:strVal val="#ppt_h"/>
                                          </p:val>
                                        </p:tav>
                                      </p:tavLst>
                                    </p:anim>
                                    <p:animEffect filter="fade" transition="in">
                                      <p:cBhvr additive="repl">
                                        <p:cTn id="473"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152280" y="0"/>
            <a:ext cx="9372600" cy="6840360"/>
          </a:xfrm>
          <a:prstGeom prst="rect">
            <a:avLst/>
          </a:prstGeom>
          <a:ln w="0">
            <a:noFill/>
          </a:ln>
        </p:spPr>
      </p:pic>
      <p:sp>
        <p:nvSpPr>
          <p:cNvPr id="48" name=""/>
          <p:cNvSpPr/>
          <p:nvPr/>
        </p:nvSpPr>
        <p:spPr>
          <a:xfrm>
            <a:off x="304920" y="762120"/>
            <a:ext cx="1981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Wingdings"/>
                <a:ea typeface="Wingdings"/>
              </a:rPr>
              <a:t></a:t>
            </a:r>
            <a:r>
              <a:rPr b="0" lang="en-US" sz="2800" spc="-1" strike="noStrike">
                <a:solidFill>
                  <a:srgbClr val="000066"/>
                </a:solidFill>
                <a:latin typeface="Arial Black"/>
              </a:rPr>
              <a:t> </a:t>
            </a:r>
            <a:r>
              <a:rPr b="0" lang="en-US" sz="2800" spc="-1" strike="noStrike">
                <a:solidFill>
                  <a:srgbClr val="000066"/>
                </a:solidFill>
                <a:latin typeface="Arial Black"/>
              </a:rPr>
              <a:t>Rome</a:t>
            </a:r>
            <a:endParaRPr b="0" lang="en-US" sz="2800" spc="-1" strike="noStrike">
              <a:solidFill>
                <a:srgbClr val="ffffff"/>
              </a:solidFill>
              <a:latin typeface="Arial"/>
            </a:endParaRPr>
          </a:p>
        </p:txBody>
      </p:sp>
      <p:sp>
        <p:nvSpPr>
          <p:cNvPr id="49" name=""/>
          <p:cNvSpPr/>
          <p:nvPr/>
        </p:nvSpPr>
        <p:spPr>
          <a:xfrm>
            <a:off x="6058080" y="2254320"/>
            <a:ext cx="24001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Wingdings"/>
                <a:ea typeface="Wingdings"/>
              </a:rPr>
              <a:t></a:t>
            </a:r>
            <a:r>
              <a:rPr b="0" lang="en-US" sz="2800" spc="-1" strike="noStrike">
                <a:solidFill>
                  <a:srgbClr val="000066"/>
                </a:solidFill>
                <a:latin typeface="Arial Black"/>
              </a:rPr>
              <a:t> </a:t>
            </a:r>
            <a:r>
              <a:rPr b="0" lang="en-US" sz="2800" spc="-1" strike="noStrike">
                <a:solidFill>
                  <a:srgbClr val="000066"/>
                </a:solidFill>
                <a:latin typeface="Arial Black"/>
              </a:rPr>
              <a:t>Colossae</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2286000" y="510552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PlaceHolder 1"/>
          <p:cNvSpPr>
            <a:spLocks noGrp="1"/>
          </p:cNvSpPr>
          <p:nvPr>
            <p:ph/>
          </p:nvPr>
        </p:nvSpPr>
        <p:spPr>
          <a:xfrm>
            <a:off x="457200" y="304560"/>
            <a:ext cx="822960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He gav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ome as apost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rophe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evangelis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some as pastors and teachers</a:t>
            </a:r>
            <a:endParaRPr b="0" lang="en-US" sz="3200" spc="-1" strike="noStrike">
              <a:solidFill>
                <a:srgbClr val="ffffff"/>
              </a:solidFill>
              <a:latin typeface="Arial"/>
            </a:endParaRPr>
          </a:p>
        </p:txBody>
      </p:sp>
      <p:sp>
        <p:nvSpPr>
          <p:cNvPr id="281" name=""/>
          <p:cNvSpPr/>
          <p:nvPr/>
        </p:nvSpPr>
        <p:spPr>
          <a:xfrm>
            <a:off x="4572000" y="5105520"/>
            <a:ext cx="10666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219320" y="3429000"/>
            <a:ext cx="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19600" y="4483080"/>
            <a:ext cx="210240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p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saints</a:t>
            </a:r>
            <a:endParaRPr b="0" lang="en-US" sz="2800" spc="-1" strike="noStrike">
              <a:solidFill>
                <a:srgbClr val="ffffff"/>
              </a:solidFill>
              <a:latin typeface="Arial"/>
            </a:endParaRPr>
          </a:p>
        </p:txBody>
      </p:sp>
      <p:sp>
        <p:nvSpPr>
          <p:cNvPr id="284" name=""/>
          <p:cNvSpPr/>
          <p:nvPr/>
        </p:nvSpPr>
        <p:spPr>
          <a:xfrm>
            <a:off x="3290760" y="4483080"/>
            <a:ext cx="142740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a:t>
            </a:r>
            <a:endParaRPr b="0" lang="en-US" sz="2800" spc="-1" strike="noStrike">
              <a:solidFill>
                <a:srgbClr val="ffffff"/>
              </a:solidFill>
              <a:latin typeface="Arial"/>
            </a:endParaRPr>
          </a:p>
        </p:txBody>
      </p:sp>
      <p:sp>
        <p:nvSpPr>
          <p:cNvPr id="285" name=""/>
          <p:cNvSpPr/>
          <p:nvPr/>
        </p:nvSpPr>
        <p:spPr>
          <a:xfrm>
            <a:off x="5874840" y="4471920"/>
            <a:ext cx="2635920" cy="1373760"/>
          </a:xfrm>
          <a:prstGeom prst="rect">
            <a:avLst/>
          </a:prstGeom>
          <a:gradFill rotWithShape="0">
            <a:gsLst>
              <a:gs pos="0">
                <a:srgbClr val="3366cc"/>
              </a:gs>
              <a:gs pos="100000">
                <a:srgbClr val="172f5e"/>
              </a:gs>
            </a:gsLst>
            <a:path path="rect">
              <a:fillToRect l="50000" t="50000" r="50000" b="50000"/>
            </a:path>
          </a:gradFill>
          <a:ln w="9360">
            <a:solidFill>
              <a:srgbClr val="cc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build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p of the bod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Christ</a:t>
            </a:r>
            <a:endParaRPr b="0" lang="en-US" sz="2800" spc="-1" strike="noStrike">
              <a:solidFill>
                <a:srgbClr val="ffffff"/>
              </a:solidFill>
              <a:latin typeface="Arial"/>
            </a:endParaRPr>
          </a:p>
        </p:txBody>
      </p:sp>
    </p:spTree>
  </p:cSld>
  <p:transition spd="med">
    <p:fad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53">
                                  <p:stCondLst>
                                    <p:cond delay="0"/>
                                  </p:stCondLst>
                                  <p:childTnLst>
                                    <p:set>
                                      <p:cBhvr>
                                        <p:cTn id="479" dur="1" fill="hold">
                                          <p:stCondLst>
                                            <p:cond delay="0"/>
                                          </p:stCondLst>
                                        </p:cTn>
                                        <p:tgtEl>
                                          <p:spTgt spid="280">
                                            <p:txEl>
                                              <p:pRg st="1" end="1"/>
                                            </p:txEl>
                                          </p:spTgt>
                                        </p:tgtEl>
                                        <p:attrNameLst>
                                          <p:attrName>style.visibility</p:attrName>
                                        </p:attrNameLst>
                                      </p:cBhvr>
                                      <p:to>
                                        <p:strVal val="visible"/>
                                      </p:to>
                                    </p:set>
                                    <p:anim calcmode="lin" valueType="num">
                                      <p:cBhvr additive="repl">
                                        <p:cTn id="480" dur="500" fill="hold"/>
                                        <p:tgtEl>
                                          <p:spTgt spid="280">
                                            <p:txEl>
                                              <p:pRg st="1" end="1"/>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80">
                                            <p:txEl>
                                              <p:pRg st="1" end="1"/>
                                            </p:txEl>
                                          </p:spTgt>
                                        </p:tgtEl>
                                        <p:attrNameLst>
                                          <p:attrName>ppt_h</p:attrName>
                                        </p:attrNameLst>
                                      </p:cBhvr>
                                      <p:tavLst>
                                        <p:tav tm="0">
                                          <p:val>
                                            <p:fltVal val="0"/>
                                          </p:val>
                                        </p:tav>
                                        <p:tav tm="100000">
                                          <p:val>
                                            <p:strVal val="#ppt_h"/>
                                          </p:val>
                                        </p:tav>
                                      </p:tavLst>
                                    </p:anim>
                                    <p:animEffect filter="fade" transition="in">
                                      <p:cBhvr additive="repl">
                                        <p:cTn id="482" dur="500"/>
                                        <p:tgtEl>
                                          <p:spTgt spid="280">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280">
                                            <p:txEl>
                                              <p:pRg st="2" end="2"/>
                                            </p:txEl>
                                          </p:spTgt>
                                        </p:tgtEl>
                                        <p:attrNameLst>
                                          <p:attrName>style.visibility</p:attrName>
                                        </p:attrNameLst>
                                      </p:cBhvr>
                                      <p:to>
                                        <p:strVal val="visible"/>
                                      </p:to>
                                    </p:set>
                                    <p:anim calcmode="lin" valueType="num">
                                      <p:cBhvr additive="repl">
                                        <p:cTn id="487"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488"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489" dur="500"/>
                                        <p:tgtEl>
                                          <p:spTgt spid="280">
                                            <p:txEl>
                                              <p:pRg st="2" end="2"/>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80">
                                            <p:txEl>
                                              <p:pRg st="3" end="3"/>
                                            </p:txEl>
                                          </p:spTgt>
                                        </p:tgtEl>
                                        <p:attrNameLst>
                                          <p:attrName>style.visibility</p:attrName>
                                        </p:attrNameLst>
                                      </p:cBhvr>
                                      <p:to>
                                        <p:strVal val="visible"/>
                                      </p:to>
                                    </p:set>
                                    <p:anim calcmode="lin" valueType="num">
                                      <p:cBhvr additive="repl">
                                        <p:cTn id="494"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496" dur="500"/>
                                        <p:tgtEl>
                                          <p:spTgt spid="280">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280">
                                            <p:txEl>
                                              <p:pRg st="4" end="4"/>
                                            </p:txEl>
                                          </p:spTgt>
                                        </p:tgtEl>
                                        <p:attrNameLst>
                                          <p:attrName>style.visibility</p:attrName>
                                        </p:attrNameLst>
                                      </p:cBhvr>
                                      <p:to>
                                        <p:strVal val="visible"/>
                                      </p:to>
                                    </p:set>
                                    <p:anim calcmode="lin" valueType="num">
                                      <p:cBhvr additive="repl">
                                        <p:cTn id="501"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502"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503" dur="500"/>
                                        <p:tgtEl>
                                          <p:spTgt spid="280">
                                            <p:txEl>
                                              <p:pRg st="4" end="4"/>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82"/>
                                        </p:tgtEl>
                                        <p:attrNameLst>
                                          <p:attrName>style.visibility</p:attrName>
                                        </p:attrNameLst>
                                      </p:cBhvr>
                                      <p:to>
                                        <p:strVal val="visible"/>
                                      </p:to>
                                    </p:set>
                                    <p:animEffect filter="wipe(up)" transition="in">
                                      <p:cBhvr additive="repl">
                                        <p:cTn id="508" dur="500"/>
                                        <p:tgtEl>
                                          <p:spTgt spid="282"/>
                                        </p:tgtEl>
                                      </p:cBhvr>
                                    </p:animEffect>
                                  </p:childTnLst>
                                </p:cTn>
                              </p:par>
                            </p:childTnLst>
                          </p:cTn>
                        </p:par>
                        <p:par>
                          <p:cTn id="509" fill="hold">
                            <p:stCondLst>
                              <p:cond delay="500"/>
                            </p:stCondLst>
                            <p:childTnLst>
                              <p:par>
                                <p:cTn id="510" nodeType="afterEffect" fill="hold" presetClass="entr" presetID="53">
                                  <p:stCondLst>
                                    <p:cond delay="0"/>
                                  </p:stCondLst>
                                  <p:childTnLst>
                                    <p:set>
                                      <p:cBhvr>
                                        <p:cTn id="511" dur="1" fill="hold">
                                          <p:stCondLst>
                                            <p:cond delay="0"/>
                                          </p:stCondLst>
                                        </p:cTn>
                                        <p:tgtEl>
                                          <p:spTgt spid="283"/>
                                        </p:tgtEl>
                                        <p:attrNameLst>
                                          <p:attrName>style.visibility</p:attrName>
                                        </p:attrNameLst>
                                      </p:cBhvr>
                                      <p:to>
                                        <p:strVal val="visible"/>
                                      </p:to>
                                    </p:set>
                                    <p:anim calcmode="lin" valueType="num">
                                      <p:cBhvr additive="repl">
                                        <p:cTn id="512" dur="1000" fill="hold"/>
                                        <p:tgtEl>
                                          <p:spTgt spid="283"/>
                                        </p:tgtEl>
                                        <p:attrNameLst>
                                          <p:attrName>ppt_w</p:attrName>
                                        </p:attrNameLst>
                                      </p:cBhvr>
                                      <p:tavLst>
                                        <p:tav tm="0">
                                          <p:val>
                                            <p:fltVal val="0"/>
                                          </p:val>
                                        </p:tav>
                                        <p:tav tm="100000">
                                          <p:val>
                                            <p:strVal val="#ppt_w"/>
                                          </p:val>
                                        </p:tav>
                                      </p:tavLst>
                                    </p:anim>
                                    <p:anim calcmode="lin" valueType="num">
                                      <p:cBhvr additive="repl">
                                        <p:cTn id="513" dur="1000" fill="hold"/>
                                        <p:tgtEl>
                                          <p:spTgt spid="283"/>
                                        </p:tgtEl>
                                        <p:attrNameLst>
                                          <p:attrName>ppt_h</p:attrName>
                                        </p:attrNameLst>
                                      </p:cBhvr>
                                      <p:tavLst>
                                        <p:tav tm="0">
                                          <p:val>
                                            <p:fltVal val="0"/>
                                          </p:val>
                                        </p:tav>
                                        <p:tav tm="100000">
                                          <p:val>
                                            <p:strVal val="#ppt_h"/>
                                          </p:val>
                                        </p:tav>
                                      </p:tavLst>
                                    </p:anim>
                                    <p:animEffect filter="fade" transition="in">
                                      <p:cBhvr additive="repl">
                                        <p:cTn id="514" dur="1000"/>
                                        <p:tgtEl>
                                          <p:spTgt spid="28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279"/>
                                        </p:tgtEl>
                                        <p:attrNameLst>
                                          <p:attrName>style.visibility</p:attrName>
                                        </p:attrNameLst>
                                      </p:cBhvr>
                                      <p:to>
                                        <p:strVal val="visible"/>
                                      </p:to>
                                    </p:set>
                                    <p:animEffect filter="wipe(left)" transition="in">
                                      <p:cBhvr additive="repl">
                                        <p:cTn id="519" dur="500"/>
                                        <p:tgtEl>
                                          <p:spTgt spid="279"/>
                                        </p:tgtEl>
                                      </p:cBhvr>
                                    </p:animEffect>
                                  </p:childTnLst>
                                </p:cTn>
                              </p:par>
                            </p:childTnLst>
                          </p:cTn>
                        </p:par>
                        <p:par>
                          <p:cTn id="520" fill="hold">
                            <p:stCondLst>
                              <p:cond delay="500"/>
                            </p:stCondLst>
                            <p:childTnLst>
                              <p:par>
                                <p:cTn id="521" nodeType="afterEffect" fill="hold" presetClass="entr" presetID="53">
                                  <p:stCondLst>
                                    <p:cond delay="0"/>
                                  </p:stCondLst>
                                  <p:childTnLst>
                                    <p:set>
                                      <p:cBhvr>
                                        <p:cTn id="522" dur="1" fill="hold">
                                          <p:stCondLst>
                                            <p:cond delay="0"/>
                                          </p:stCondLst>
                                        </p:cTn>
                                        <p:tgtEl>
                                          <p:spTgt spid="284"/>
                                        </p:tgtEl>
                                        <p:attrNameLst>
                                          <p:attrName>style.visibility</p:attrName>
                                        </p:attrNameLst>
                                      </p:cBhvr>
                                      <p:to>
                                        <p:strVal val="visible"/>
                                      </p:to>
                                    </p:set>
                                    <p:anim calcmode="lin" valueType="num">
                                      <p:cBhvr additive="repl">
                                        <p:cTn id="523" dur="500" fill="hold"/>
                                        <p:tgtEl>
                                          <p:spTgt spid="284"/>
                                        </p:tgtEl>
                                        <p:attrNameLst>
                                          <p:attrName>ppt_w</p:attrName>
                                        </p:attrNameLst>
                                      </p:cBhvr>
                                      <p:tavLst>
                                        <p:tav tm="0">
                                          <p:val>
                                            <p:fltVal val="0"/>
                                          </p:val>
                                        </p:tav>
                                        <p:tav tm="100000">
                                          <p:val>
                                            <p:strVal val="#ppt_w"/>
                                          </p:val>
                                        </p:tav>
                                      </p:tavLst>
                                    </p:anim>
                                    <p:anim calcmode="lin" valueType="num">
                                      <p:cBhvr additive="repl">
                                        <p:cTn id="524" dur="500" fill="hold"/>
                                        <p:tgtEl>
                                          <p:spTgt spid="284"/>
                                        </p:tgtEl>
                                        <p:attrNameLst>
                                          <p:attrName>ppt_h</p:attrName>
                                        </p:attrNameLst>
                                      </p:cBhvr>
                                      <p:tavLst>
                                        <p:tav tm="0">
                                          <p:val>
                                            <p:fltVal val="0"/>
                                          </p:val>
                                        </p:tav>
                                        <p:tav tm="100000">
                                          <p:val>
                                            <p:strVal val="#ppt_h"/>
                                          </p:val>
                                        </p:tav>
                                      </p:tavLst>
                                    </p:anim>
                                    <p:animEffect filter="fade" transition="in">
                                      <p:cBhvr additive="repl">
                                        <p:cTn id="525" dur="500"/>
                                        <p:tgtEl>
                                          <p:spTgt spid="28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81"/>
                                        </p:tgtEl>
                                        <p:attrNameLst>
                                          <p:attrName>style.visibility</p:attrName>
                                        </p:attrNameLst>
                                      </p:cBhvr>
                                      <p:to>
                                        <p:strVal val="visible"/>
                                      </p:to>
                                    </p:set>
                                    <p:animEffect filter="wipe(left)" transition="in">
                                      <p:cBhvr additive="repl">
                                        <p:cTn id="530" dur="500"/>
                                        <p:tgtEl>
                                          <p:spTgt spid="281"/>
                                        </p:tgtEl>
                                      </p:cBhvr>
                                    </p:animEffect>
                                  </p:childTnLst>
                                </p:cTn>
                              </p:par>
                            </p:childTnLst>
                          </p:cTn>
                        </p:par>
                        <p:par>
                          <p:cTn id="531" fill="hold">
                            <p:stCondLst>
                              <p:cond delay="500"/>
                            </p:stCondLst>
                            <p:childTnLst>
                              <p:par>
                                <p:cTn id="532" nodeType="afterEffect" fill="hold" presetClass="entr" presetID="53">
                                  <p:stCondLst>
                                    <p:cond delay="0"/>
                                  </p:stCondLst>
                                  <p:childTnLst>
                                    <p:set>
                                      <p:cBhvr>
                                        <p:cTn id="533" dur="1" fill="hold">
                                          <p:stCondLst>
                                            <p:cond delay="0"/>
                                          </p:stCondLst>
                                        </p:cTn>
                                        <p:tgtEl>
                                          <p:spTgt spid="285"/>
                                        </p:tgtEl>
                                        <p:attrNameLst>
                                          <p:attrName>style.visibility</p:attrName>
                                        </p:attrNameLst>
                                      </p:cBhvr>
                                      <p:to>
                                        <p:strVal val="visible"/>
                                      </p:to>
                                    </p:set>
                                    <p:anim calcmode="lin" valueType="num">
                                      <p:cBhvr additive="repl">
                                        <p:cTn id="534" dur="500" fill="hold"/>
                                        <p:tgtEl>
                                          <p:spTgt spid="285"/>
                                        </p:tgtEl>
                                        <p:attrNameLst>
                                          <p:attrName>ppt_w</p:attrName>
                                        </p:attrNameLst>
                                      </p:cBhvr>
                                      <p:tavLst>
                                        <p:tav tm="0">
                                          <p:val>
                                            <p:fltVal val="0"/>
                                          </p:val>
                                        </p:tav>
                                        <p:tav tm="100000">
                                          <p:val>
                                            <p:strVal val="#ppt_w"/>
                                          </p:val>
                                        </p:tav>
                                      </p:tavLst>
                                    </p:anim>
                                    <p:anim calcmode="lin" valueType="num">
                                      <p:cBhvr additive="repl">
                                        <p:cTn id="535" dur="500" fill="hold"/>
                                        <p:tgtEl>
                                          <p:spTgt spid="285"/>
                                        </p:tgtEl>
                                        <p:attrNameLst>
                                          <p:attrName>ppt_h</p:attrName>
                                        </p:attrNameLst>
                                      </p:cBhvr>
                                      <p:tavLst>
                                        <p:tav tm="0">
                                          <p:val>
                                            <p:fltVal val="0"/>
                                          </p:val>
                                        </p:tav>
                                        <p:tav tm="100000">
                                          <p:val>
                                            <p:strVal val="#ppt_h"/>
                                          </p:val>
                                        </p:tav>
                                      </p:tavLst>
                                    </p:anim>
                                    <p:animEffect filter="fade" transition="in">
                                      <p:cBhvr additive="repl">
                                        <p:cTn id="53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6" name=""/>
          <p:cNvGraphicFramePr/>
          <p:nvPr/>
        </p:nvGraphicFramePr>
        <p:xfrm>
          <a:off x="304920" y="1981080"/>
          <a:ext cx="8534160" cy="3125880"/>
        </p:xfrm>
        <a:graphic>
          <a:graphicData uri="http://schemas.openxmlformats.org/drawingml/2006/table">
            <a:tbl>
              <a:tblPr/>
              <a:tblGrid>
                <a:gridCol w="2838240"/>
                <a:gridCol w="2535480"/>
                <a:gridCol w="3160440"/>
              </a:tblGrid>
              <a:tr h="533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4</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5</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16</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00"/>
                    </a:solidFill>
                  </a:tcPr>
                </a:tc>
              </a:tr>
              <a:tr h="106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negative resul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Positive resul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that result is achieved</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52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ssed about children</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rowing up into Christ</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y all members pulling together in love</a:t>
                      </a:r>
                      <a:endParaRPr b="0" lang="en-US" sz="2800" spc="-1" strike="noStrike">
                        <a:solidFill>
                          <a:srgbClr val="ff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287" name=""/>
          <p:cNvSpPr/>
          <p:nvPr/>
        </p:nvSpPr>
        <p:spPr>
          <a:xfrm>
            <a:off x="2285280" y="5486400"/>
            <a:ext cx="440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ruthing in love” (4:15)</a:t>
            </a:r>
            <a:endParaRPr b="0" lang="en-US" sz="32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4:17-19</a:t>
            </a:r>
            <a:endParaRPr b="0" lang="en-US" sz="4400" spc="-1" strike="noStrike">
              <a:solidFill>
                <a:srgbClr val="ccffff"/>
              </a:solidFill>
              <a:latin typeface="Arial"/>
            </a:endParaRPr>
          </a:p>
        </p:txBody>
      </p:sp>
      <p:sp>
        <p:nvSpPr>
          <p:cNvPr id="289"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7</a:t>
            </a:r>
            <a:r>
              <a:rPr b="0" lang="en-US" sz="2800" spc="-1" strike="noStrike">
                <a:solidFill>
                  <a:srgbClr val="ffffff"/>
                </a:solidFill>
                <a:latin typeface="Arial"/>
              </a:rPr>
              <a:t> This I say therefore, and affirm together with the Lord, that you walk no longer just as the Gentiles also walk, in the futility of their mind, </a:t>
            </a:r>
            <a:r>
              <a:rPr b="0" lang="en-US" sz="1800" spc="-1" strike="noStrike">
                <a:solidFill>
                  <a:srgbClr val="ffffff"/>
                </a:solidFill>
                <a:latin typeface="Arial"/>
              </a:rPr>
              <a:t>18</a:t>
            </a:r>
            <a:r>
              <a:rPr b="0" lang="en-US" sz="2800" spc="-1" strike="noStrike">
                <a:solidFill>
                  <a:srgbClr val="ffffff"/>
                </a:solidFill>
                <a:latin typeface="Arial"/>
              </a:rPr>
              <a:t> being darkened in their understanding, excluded from the life of God, because of the ignorance that is in them, because of the hardness of their heart; </a:t>
            </a:r>
            <a:r>
              <a:rPr b="0" lang="en-US" sz="1800" spc="-1" strike="noStrike">
                <a:solidFill>
                  <a:srgbClr val="ffffff"/>
                </a:solidFill>
                <a:latin typeface="Arial"/>
              </a:rPr>
              <a:t>19</a:t>
            </a:r>
            <a:r>
              <a:rPr b="0" lang="en-US" sz="2800" spc="-1" strike="noStrike">
                <a:solidFill>
                  <a:srgbClr val="ffffff"/>
                </a:solidFill>
                <a:latin typeface="Arial"/>
              </a:rPr>
              <a:t> and they, having become callous, have given themselves over to sensuality, for the practice of every kind of impurity with greedines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90"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781680" y="19051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43000" y="236232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291"/>
                                        </p:tgtEl>
                                        <p:attrNameLst>
                                          <p:attrName>style.visibility</p:attrName>
                                        </p:attrNameLst>
                                      </p:cBhvr>
                                      <p:to>
                                        <p:strVal val="visible"/>
                                      </p:to>
                                    </p:set>
                                    <p:animEffect filter="wipe(left)" transition="in">
                                      <p:cBhvr additive="repl">
                                        <p:cTn id="543" dur="2000"/>
                                        <p:tgtEl>
                                          <p:spTgt spid="291"/>
                                        </p:tgtEl>
                                      </p:cBhvr>
                                    </p:animEffect>
                                  </p:childTnLst>
                                </p:cTn>
                              </p:par>
                            </p:childTnLst>
                          </p:cTn>
                        </p:par>
                        <p:par>
                          <p:cTn id="544" fill="hold">
                            <p:stCondLst>
                              <p:cond delay="2000"/>
                            </p:stCondLst>
                            <p:childTnLst>
                              <p:par>
                                <p:cTn id="545" nodeType="afterEffect" fill="hold" presetClass="entr" presetID="22" presetSubtype="8">
                                  <p:stCondLst>
                                    <p:cond delay="0"/>
                                  </p:stCondLst>
                                  <p:childTnLst>
                                    <p:set>
                                      <p:cBhvr>
                                        <p:cTn id="546" dur="1" fill="hold">
                                          <p:stCondLst>
                                            <p:cond delay="0"/>
                                          </p:stCondLst>
                                        </p:cTn>
                                        <p:tgtEl>
                                          <p:spTgt spid="292"/>
                                        </p:tgtEl>
                                        <p:attrNameLst>
                                          <p:attrName>style.visibility</p:attrName>
                                        </p:attrNameLst>
                                      </p:cBhvr>
                                      <p:to>
                                        <p:strVal val="visible"/>
                                      </p:to>
                                    </p:set>
                                    <p:animEffect filter="wipe(left)" transition="in">
                                      <p:cBhvr additive="repl">
                                        <p:cTn id="547"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1079640" y="4749840"/>
            <a:ext cx="320040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3581280" y="2857680"/>
            <a:ext cx="4496040" cy="457200"/>
          </a:xfrm>
          <a:prstGeom prst="roundRect">
            <a:avLst>
              <a:gd name="adj" fmla="val 16667"/>
            </a:avLst>
          </a:prstGeom>
          <a:gradFill rotWithShape="0">
            <a:gsLst>
              <a:gs pos="0">
                <a:srgbClr val="000066"/>
              </a:gs>
              <a:gs pos="100000">
                <a:srgbClr val="0000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4:20-24</a:t>
            </a:r>
            <a:endParaRPr b="0" lang="en-US" sz="4400" spc="-1" strike="noStrike">
              <a:solidFill>
                <a:srgbClr val="ccffff"/>
              </a:solidFill>
              <a:latin typeface="Arial"/>
            </a:endParaRPr>
          </a:p>
        </p:txBody>
      </p:sp>
      <p:sp>
        <p:nvSpPr>
          <p:cNvPr id="296"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0</a:t>
            </a:r>
            <a:r>
              <a:rPr b="0" lang="en-US" sz="2800" spc="-1" strike="noStrike">
                <a:solidFill>
                  <a:srgbClr val="ffffff"/>
                </a:solidFill>
                <a:latin typeface="Arial"/>
              </a:rPr>
              <a:t> But you did not learn Christ in this way, </a:t>
            </a:r>
            <a:r>
              <a:rPr b="0" lang="en-US" sz="1800" spc="-1" strike="noStrike">
                <a:solidFill>
                  <a:srgbClr val="ffffff"/>
                </a:solidFill>
                <a:latin typeface="Arial"/>
              </a:rPr>
              <a:t>21</a:t>
            </a:r>
            <a:r>
              <a:rPr b="0" lang="en-US" sz="2800" spc="-1" strike="noStrike">
                <a:solidFill>
                  <a:srgbClr val="ffffff"/>
                </a:solidFill>
                <a:latin typeface="Arial"/>
              </a:rPr>
              <a:t> if indeed you have heard Him and have been taught in Him, just as truth is in Jesus,  </a:t>
            </a:r>
            <a:r>
              <a:rPr b="0" lang="en-US" sz="1800" spc="-1" strike="noStrike">
                <a:solidFill>
                  <a:srgbClr val="ffffff"/>
                </a:solidFill>
                <a:latin typeface="Arial"/>
              </a:rPr>
              <a:t>22</a:t>
            </a:r>
            <a:r>
              <a:rPr b="0" lang="en-US" sz="2800" spc="-1" strike="noStrike">
                <a:solidFill>
                  <a:srgbClr val="ffffff"/>
                </a:solidFill>
                <a:latin typeface="Arial"/>
              </a:rPr>
              <a:t> that, in reference to your former manner of life, you lay aside the old self, which is being corrupted in accordance with the lusts of deceit, </a:t>
            </a:r>
            <a:r>
              <a:rPr b="0" lang="en-US" sz="1800" spc="-1" strike="noStrike">
                <a:solidFill>
                  <a:srgbClr val="ffffff"/>
                </a:solidFill>
                <a:latin typeface="Arial"/>
              </a:rPr>
              <a:t>23</a:t>
            </a:r>
            <a:r>
              <a:rPr b="0" lang="en-US" sz="2800" spc="-1" strike="noStrike">
                <a:solidFill>
                  <a:srgbClr val="ffffff"/>
                </a:solidFill>
                <a:latin typeface="Arial"/>
              </a:rPr>
              <a:t> and that you be renewed in the spirit of your mind,  </a:t>
            </a:r>
            <a:r>
              <a:rPr b="0" lang="en-US" sz="1800" spc="-1" strike="noStrike">
                <a:solidFill>
                  <a:srgbClr val="ffffff"/>
                </a:solidFill>
                <a:latin typeface="Arial"/>
              </a:rPr>
              <a:t>24</a:t>
            </a:r>
            <a:r>
              <a:rPr b="0" lang="en-US" sz="2800" spc="-1" strike="noStrike">
                <a:solidFill>
                  <a:srgbClr val="ffffff"/>
                </a:solidFill>
                <a:latin typeface="Arial"/>
              </a:rPr>
              <a:t> and put on the new self, which in </a:t>
            </a:r>
            <a:r>
              <a:rPr b="0" i="1" lang="en-US" sz="2800" spc="-1" strike="noStrike">
                <a:solidFill>
                  <a:srgbClr val="ffffff"/>
                </a:solidFill>
                <a:latin typeface="Arial"/>
              </a:rPr>
              <a:t>the likeness of </a:t>
            </a:r>
            <a:r>
              <a:rPr b="0" lang="en-US" sz="2800" spc="-1" strike="noStrike">
                <a:solidFill>
                  <a:srgbClr val="ffffff"/>
                </a:solidFill>
                <a:latin typeface="Arial"/>
              </a:rPr>
              <a:t>God has been created in righteousness and holiness of the truth.</a:t>
            </a:r>
            <a:endParaRPr b="0" lang="en-US" sz="2800" spc="-1" strike="noStrike">
              <a:solidFill>
                <a:srgbClr val="ffffff"/>
              </a:solidFill>
              <a:latin typeface="Arial"/>
            </a:endParaRPr>
          </a:p>
        </p:txBody>
      </p:sp>
      <p:sp>
        <p:nvSpPr>
          <p:cNvPr id="297"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10">
                                  <p:stCondLst>
                                    <p:cond delay="0"/>
                                  </p:stCondLst>
                                  <p:childTnLst>
                                    <p:set>
                                      <p:cBhvr>
                                        <p:cTn id="553" dur="1" fill="hold">
                                          <p:stCondLst>
                                            <p:cond delay="0"/>
                                          </p:stCondLst>
                                        </p:cTn>
                                        <p:tgtEl>
                                          <p:spTgt spid="294"/>
                                        </p:tgtEl>
                                        <p:attrNameLst>
                                          <p:attrName>style.visibility</p:attrName>
                                        </p:attrNameLst>
                                      </p:cBhvr>
                                      <p:to>
                                        <p:strVal val="visible"/>
                                      </p:to>
                                    </p:set>
                                    <p:animEffect filter="fade" transition="in">
                                      <p:cBhvr additive="repl">
                                        <p:cTn id="554" dur="5000"/>
                                        <p:tgtEl>
                                          <p:spTgt spid="294"/>
                                        </p:tgtEl>
                                      </p:cBhvr>
                                    </p:animEffect>
                                  </p:childTnLst>
                                </p:cTn>
                              </p:par>
                            </p:childTnLst>
                          </p:cTn>
                        </p:par>
                        <p:par>
                          <p:cTn id="555" fill="hold">
                            <p:stCondLst>
                              <p:cond delay="5000"/>
                            </p:stCondLst>
                            <p:childTnLst>
                              <p:par>
                                <p:cTn id="556" nodeType="afterEffect" fill="hold" presetClass="entr" presetID="10">
                                  <p:stCondLst>
                                    <p:cond delay="0"/>
                                  </p:stCondLst>
                                  <p:childTnLst>
                                    <p:set>
                                      <p:cBhvr>
                                        <p:cTn id="557" dur="1" fill="hold">
                                          <p:stCondLst>
                                            <p:cond delay="0"/>
                                          </p:stCondLst>
                                        </p:cTn>
                                        <p:tgtEl>
                                          <p:spTgt spid="293"/>
                                        </p:tgtEl>
                                        <p:attrNameLst>
                                          <p:attrName>style.visibility</p:attrName>
                                        </p:attrNameLst>
                                      </p:cBhvr>
                                      <p:to>
                                        <p:strVal val="visible"/>
                                      </p:to>
                                    </p:set>
                                    <p:animEffect filter="fade" transition="in">
                                      <p:cBhvr additive="repl">
                                        <p:cTn id="558" dur="5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structions for the New Self</a:t>
            </a:r>
            <a:endParaRPr b="0" lang="en-US" sz="4400" spc="-1" strike="noStrike">
              <a:solidFill>
                <a:srgbClr val="ccffff"/>
              </a:solidFill>
              <a:latin typeface="Arial"/>
            </a:endParaRPr>
          </a:p>
        </p:txBody>
      </p:sp>
      <p:sp>
        <p:nvSpPr>
          <p:cNvPr id="299" name="PlaceHolder 2"/>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 aside falsehood; speak truth (4: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in in your anger (4:2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steal; instead share (4:2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no unwholesome word procede from your mouth; edify (4: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grieve the Holy Spirit of God (4:3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ll bitterness and wrath and anger and clamor and slander be put away from you; be kind and forgiving (4:31-32)</a:t>
            </a:r>
            <a:endParaRPr b="0" lang="en-US" sz="3200" spc="-1" strike="noStrike">
              <a:solidFill>
                <a:srgbClr val="ffffff"/>
              </a:solidFill>
              <a:latin typeface="Arial"/>
            </a:endParaRPr>
          </a:p>
        </p:txBody>
      </p:sp>
    </p:spTree>
  </p:cSld>
  <p:transition spd="med">
    <p:fad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299">
                                            <p:txEl>
                                              <p:pRg st="0" end="0"/>
                                            </p:txEl>
                                          </p:spTgt>
                                        </p:tgtEl>
                                        <p:attrNameLst>
                                          <p:attrName>style.visibility</p:attrName>
                                        </p:attrNameLst>
                                      </p:cBhvr>
                                      <p:to>
                                        <p:strVal val="visible"/>
                                      </p:to>
                                    </p:set>
                                    <p:anim calcmode="lin" valueType="num">
                                      <p:cBhvr additive="repl">
                                        <p:cTn id="565"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566" dur="5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567" dur="500"/>
                                        <p:tgtEl>
                                          <p:spTgt spid="299">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99">
                                            <p:txEl>
                                              <p:pRg st="1" end="1"/>
                                            </p:txEl>
                                          </p:spTgt>
                                        </p:tgtEl>
                                        <p:attrNameLst>
                                          <p:attrName>style.visibility</p:attrName>
                                        </p:attrNameLst>
                                      </p:cBhvr>
                                      <p:to>
                                        <p:strVal val="visible"/>
                                      </p:to>
                                    </p:set>
                                    <p:anim calcmode="lin" valueType="num">
                                      <p:cBhvr additive="repl">
                                        <p:cTn id="572" dur="5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99">
                                            <p:txEl>
                                              <p:pRg st="1" end="1"/>
                                            </p:txEl>
                                          </p:spTgt>
                                        </p:tgtEl>
                                        <p:attrNameLst>
                                          <p:attrName>ppt_h</p:attrName>
                                        </p:attrNameLst>
                                      </p:cBhvr>
                                      <p:tavLst>
                                        <p:tav tm="0">
                                          <p:val>
                                            <p:fltVal val="0"/>
                                          </p:val>
                                        </p:tav>
                                        <p:tav tm="100000">
                                          <p:val>
                                            <p:strVal val="#ppt_h"/>
                                          </p:val>
                                        </p:tav>
                                      </p:tavLst>
                                    </p:anim>
                                    <p:animEffect filter="fade" transition="in">
                                      <p:cBhvr additive="repl">
                                        <p:cTn id="574" dur="500"/>
                                        <p:tgtEl>
                                          <p:spTgt spid="299">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299">
                                            <p:txEl>
                                              <p:pRg st="2" end="2"/>
                                            </p:txEl>
                                          </p:spTgt>
                                        </p:tgtEl>
                                        <p:attrNameLst>
                                          <p:attrName>style.visibility</p:attrName>
                                        </p:attrNameLst>
                                      </p:cBhvr>
                                      <p:to>
                                        <p:strVal val="visible"/>
                                      </p:to>
                                    </p:set>
                                    <p:anim calcmode="lin" valueType="num">
                                      <p:cBhvr additive="repl">
                                        <p:cTn id="579"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580" dur="5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581" dur="500"/>
                                        <p:tgtEl>
                                          <p:spTgt spid="299">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99">
                                            <p:txEl>
                                              <p:pRg st="3" end="3"/>
                                            </p:txEl>
                                          </p:spTgt>
                                        </p:tgtEl>
                                        <p:attrNameLst>
                                          <p:attrName>style.visibility</p:attrName>
                                        </p:attrNameLst>
                                      </p:cBhvr>
                                      <p:to>
                                        <p:strVal val="visible"/>
                                      </p:to>
                                    </p:set>
                                    <p:anim calcmode="lin" valueType="num">
                                      <p:cBhvr additive="repl">
                                        <p:cTn id="586" dur="500" fill="hold"/>
                                        <p:tgtEl>
                                          <p:spTgt spid="299">
                                            <p:txEl>
                                              <p:pRg st="3" end="3"/>
                                            </p:txEl>
                                          </p:spTgt>
                                        </p:tgtEl>
                                        <p:attrNameLst>
                                          <p:attrName>ppt_w</p:attrName>
                                        </p:attrNameLst>
                                      </p:cBhvr>
                                      <p:tavLst>
                                        <p:tav tm="0">
                                          <p:val>
                                            <p:fltVal val="0"/>
                                          </p:val>
                                        </p:tav>
                                        <p:tav tm="100000">
                                          <p:val>
                                            <p:strVal val="#ppt_w"/>
                                          </p:val>
                                        </p:tav>
                                      </p:tavLst>
                                    </p:anim>
                                    <p:anim calcmode="lin" valueType="num">
                                      <p:cBhvr additive="repl">
                                        <p:cTn id="587" dur="500" fill="hold"/>
                                        <p:tgtEl>
                                          <p:spTgt spid="299">
                                            <p:txEl>
                                              <p:pRg st="3" end="3"/>
                                            </p:txEl>
                                          </p:spTgt>
                                        </p:tgtEl>
                                        <p:attrNameLst>
                                          <p:attrName>ppt_h</p:attrName>
                                        </p:attrNameLst>
                                      </p:cBhvr>
                                      <p:tavLst>
                                        <p:tav tm="0">
                                          <p:val>
                                            <p:fltVal val="0"/>
                                          </p:val>
                                        </p:tav>
                                        <p:tav tm="100000">
                                          <p:val>
                                            <p:strVal val="#ppt_h"/>
                                          </p:val>
                                        </p:tav>
                                      </p:tavLst>
                                    </p:anim>
                                    <p:animEffect filter="fade" transition="in">
                                      <p:cBhvr additive="repl">
                                        <p:cTn id="588" dur="500"/>
                                        <p:tgtEl>
                                          <p:spTgt spid="299">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3">
                                  <p:stCondLst>
                                    <p:cond delay="0"/>
                                  </p:stCondLst>
                                  <p:childTnLst>
                                    <p:set>
                                      <p:cBhvr>
                                        <p:cTn id="592" dur="1" fill="hold">
                                          <p:stCondLst>
                                            <p:cond delay="0"/>
                                          </p:stCondLst>
                                        </p:cTn>
                                        <p:tgtEl>
                                          <p:spTgt spid="299">
                                            <p:txEl>
                                              <p:pRg st="4" end="4"/>
                                            </p:txEl>
                                          </p:spTgt>
                                        </p:tgtEl>
                                        <p:attrNameLst>
                                          <p:attrName>style.visibility</p:attrName>
                                        </p:attrNameLst>
                                      </p:cBhvr>
                                      <p:to>
                                        <p:strVal val="visible"/>
                                      </p:to>
                                    </p:set>
                                    <p:anim calcmode="lin" valueType="num">
                                      <p:cBhvr additive="repl">
                                        <p:cTn id="593" dur="500" fill="hold"/>
                                        <p:tgtEl>
                                          <p:spTgt spid="299">
                                            <p:txEl>
                                              <p:pRg st="4" end="4"/>
                                            </p:txEl>
                                          </p:spTgt>
                                        </p:tgtEl>
                                        <p:attrNameLst>
                                          <p:attrName>ppt_w</p:attrName>
                                        </p:attrNameLst>
                                      </p:cBhvr>
                                      <p:tavLst>
                                        <p:tav tm="0">
                                          <p:val>
                                            <p:fltVal val="0"/>
                                          </p:val>
                                        </p:tav>
                                        <p:tav tm="100000">
                                          <p:val>
                                            <p:strVal val="#ppt_w"/>
                                          </p:val>
                                        </p:tav>
                                      </p:tavLst>
                                    </p:anim>
                                    <p:anim calcmode="lin" valueType="num">
                                      <p:cBhvr additive="repl">
                                        <p:cTn id="594" dur="500" fill="hold"/>
                                        <p:tgtEl>
                                          <p:spTgt spid="299">
                                            <p:txEl>
                                              <p:pRg st="4" end="4"/>
                                            </p:txEl>
                                          </p:spTgt>
                                        </p:tgtEl>
                                        <p:attrNameLst>
                                          <p:attrName>ppt_h</p:attrName>
                                        </p:attrNameLst>
                                      </p:cBhvr>
                                      <p:tavLst>
                                        <p:tav tm="0">
                                          <p:val>
                                            <p:fltVal val="0"/>
                                          </p:val>
                                        </p:tav>
                                        <p:tav tm="100000">
                                          <p:val>
                                            <p:strVal val="#ppt_h"/>
                                          </p:val>
                                        </p:tav>
                                      </p:tavLst>
                                    </p:anim>
                                    <p:animEffect filter="fade" transition="in">
                                      <p:cBhvr additive="repl">
                                        <p:cTn id="595" dur="500"/>
                                        <p:tgtEl>
                                          <p:spTgt spid="299">
                                            <p:txEl>
                                              <p:pRg st="4" end="4"/>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99">
                                            <p:txEl>
                                              <p:pRg st="5" end="5"/>
                                            </p:txEl>
                                          </p:spTgt>
                                        </p:tgtEl>
                                        <p:attrNameLst>
                                          <p:attrName>style.visibility</p:attrName>
                                        </p:attrNameLst>
                                      </p:cBhvr>
                                      <p:to>
                                        <p:strVal val="visible"/>
                                      </p:to>
                                    </p:set>
                                    <p:anim calcmode="lin" valueType="num">
                                      <p:cBhvr additive="repl">
                                        <p:cTn id="600" dur="500" fill="hold"/>
                                        <p:tgtEl>
                                          <p:spTgt spid="299">
                                            <p:txEl>
                                              <p:pRg st="5" end="5"/>
                                            </p:txEl>
                                          </p:spTgt>
                                        </p:tgtEl>
                                        <p:attrNameLst>
                                          <p:attrName>ppt_w</p:attrName>
                                        </p:attrNameLst>
                                      </p:cBhvr>
                                      <p:tavLst>
                                        <p:tav tm="0">
                                          <p:val>
                                            <p:fltVal val="0"/>
                                          </p:val>
                                        </p:tav>
                                        <p:tav tm="100000">
                                          <p:val>
                                            <p:strVal val="#ppt_w"/>
                                          </p:val>
                                        </p:tav>
                                      </p:tavLst>
                                    </p:anim>
                                    <p:anim calcmode="lin" valueType="num">
                                      <p:cBhvr additive="repl">
                                        <p:cTn id="601" dur="500" fill="hold"/>
                                        <p:tgtEl>
                                          <p:spTgt spid="299">
                                            <p:txEl>
                                              <p:pRg st="5" end="5"/>
                                            </p:txEl>
                                          </p:spTgt>
                                        </p:tgtEl>
                                        <p:attrNameLst>
                                          <p:attrName>ppt_h</p:attrName>
                                        </p:attrNameLst>
                                      </p:cBhvr>
                                      <p:tavLst>
                                        <p:tav tm="0">
                                          <p:val>
                                            <p:fltVal val="0"/>
                                          </p:val>
                                        </p:tav>
                                        <p:tav tm="100000">
                                          <p:val>
                                            <p:strVal val="#ppt_h"/>
                                          </p:val>
                                        </p:tav>
                                      </p:tavLst>
                                    </p:anim>
                                    <p:animEffect filter="fade" transition="in">
                                      <p:cBhvr additive="repl">
                                        <p:cTn id="602" dur="5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066680" y="1981080"/>
            <a:ext cx="106704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5029200" y="1523880"/>
            <a:ext cx="3124080" cy="457200"/>
          </a:xfrm>
          <a:prstGeom prst="roundRect">
            <a:avLst>
              <a:gd name="adj" fmla="val 1666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5:18-21</a:t>
            </a:r>
            <a:endParaRPr b="0" lang="en-US" sz="4400" spc="-1" strike="noStrike">
              <a:solidFill>
                <a:srgbClr val="ccffff"/>
              </a:solidFill>
              <a:latin typeface="Arial"/>
            </a:endParaRPr>
          </a:p>
        </p:txBody>
      </p:sp>
      <p:sp>
        <p:nvSpPr>
          <p:cNvPr id="303"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8</a:t>
            </a:r>
            <a:r>
              <a:rPr b="0" lang="en-US" sz="2800" spc="-1" strike="noStrike">
                <a:solidFill>
                  <a:srgbClr val="ffffff"/>
                </a:solidFill>
                <a:latin typeface="Arial"/>
              </a:rPr>
              <a:t> And do not get drunk with wine, for that is dissipation, but be filled with the Spirit, </a:t>
            </a:r>
            <a:r>
              <a:rPr b="0" lang="en-US" sz="1800" spc="-1" strike="noStrike">
                <a:solidFill>
                  <a:srgbClr val="ffffff"/>
                </a:solidFill>
                <a:latin typeface="Arial"/>
              </a:rPr>
              <a:t>19</a:t>
            </a:r>
            <a:r>
              <a:rPr b="0" lang="en-US" sz="2800" spc="-1" strike="noStrike">
                <a:solidFill>
                  <a:srgbClr val="ffffff"/>
                </a:solidFill>
                <a:latin typeface="Arial"/>
              </a:rPr>
              <a:t> speaking to one another in psalms and hymns and spiritual songs, singing and making melody with your heart to the Lord; </a:t>
            </a:r>
            <a:r>
              <a:rPr b="0" lang="en-US" sz="1800" spc="-1" strike="noStrike">
                <a:solidFill>
                  <a:srgbClr val="ffffff"/>
                </a:solidFill>
                <a:latin typeface="Arial"/>
              </a:rPr>
              <a:t>20</a:t>
            </a:r>
            <a:r>
              <a:rPr b="0" lang="en-US" sz="2800" spc="-1" strike="noStrike">
                <a:solidFill>
                  <a:srgbClr val="ffffff"/>
                </a:solidFill>
                <a:latin typeface="Arial"/>
              </a:rPr>
              <a:t> always giving thanks for all things in the name of our Lord Jesus Christ to God, even the Father; </a:t>
            </a:r>
            <a:r>
              <a:rPr b="0" lang="en-US" sz="1800" spc="-1" strike="noStrike">
                <a:solidFill>
                  <a:srgbClr val="ffffff"/>
                </a:solidFill>
                <a:latin typeface="Arial"/>
              </a:rPr>
              <a:t>21</a:t>
            </a:r>
            <a:r>
              <a:rPr b="0" lang="en-US" sz="2800" spc="-1" strike="noStrike">
                <a:solidFill>
                  <a:srgbClr val="ffffff"/>
                </a:solidFill>
                <a:latin typeface="Arial"/>
              </a:rPr>
              <a:t> and be subject to one another in the fear of Christ.</a:t>
            </a:r>
            <a:endParaRPr b="0" lang="en-US" sz="2800" spc="-1" strike="noStrike">
              <a:solidFill>
                <a:srgbClr val="ffffff"/>
              </a:solidFill>
              <a:latin typeface="Arial"/>
            </a:endParaRPr>
          </a:p>
        </p:txBody>
      </p:sp>
      <p:sp>
        <p:nvSpPr>
          <p:cNvPr id="304"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0">
                                  <p:stCondLst>
                                    <p:cond delay="0"/>
                                  </p:stCondLst>
                                  <p:childTnLst>
                                    <p:set>
                                      <p:cBhvr>
                                        <p:cTn id="608" dur="1" fill="hold">
                                          <p:stCondLst>
                                            <p:cond delay="0"/>
                                          </p:stCondLst>
                                        </p:cTn>
                                        <p:tgtEl>
                                          <p:spTgt spid="301"/>
                                        </p:tgtEl>
                                        <p:attrNameLst>
                                          <p:attrName>style.visibility</p:attrName>
                                        </p:attrNameLst>
                                      </p:cBhvr>
                                      <p:to>
                                        <p:strVal val="visible"/>
                                      </p:to>
                                    </p:set>
                                    <p:animEffect filter="fade" transition="in">
                                      <p:cBhvr additive="repl">
                                        <p:cTn id="609" dur="2000"/>
                                        <p:tgtEl>
                                          <p:spTgt spid="301"/>
                                        </p:tgtEl>
                                      </p:cBhvr>
                                    </p:animEffect>
                                  </p:childTnLst>
                                </p:cTn>
                              </p:par>
                            </p:childTnLst>
                          </p:cTn>
                        </p:par>
                        <p:par>
                          <p:cTn id="610" fill="hold">
                            <p:stCondLst>
                              <p:cond delay="2000"/>
                            </p:stCondLst>
                            <p:childTnLst>
                              <p:par>
                                <p:cTn id="611" nodeType="afterEffect" fill="hold" presetClass="entr" presetID="10">
                                  <p:stCondLst>
                                    <p:cond delay="0"/>
                                  </p:stCondLst>
                                  <p:childTnLst>
                                    <p:set>
                                      <p:cBhvr>
                                        <p:cTn id="612" dur="1" fill="hold">
                                          <p:stCondLst>
                                            <p:cond delay="0"/>
                                          </p:stCondLst>
                                        </p:cTn>
                                        <p:tgtEl>
                                          <p:spTgt spid="300"/>
                                        </p:tgtEl>
                                        <p:attrNameLst>
                                          <p:attrName>style.visibility</p:attrName>
                                        </p:attrNameLst>
                                      </p:cBhvr>
                                      <p:to>
                                        <p:strVal val="visible"/>
                                      </p:to>
                                    </p:set>
                                    <p:animEffect filter="fade" transition="in">
                                      <p:cBhvr additive="repl">
                                        <p:cTn id="613"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ubject to One Another…</a:t>
            </a:r>
            <a:endParaRPr b="0" lang="en-US" sz="4400" spc="-1" strike="noStrike">
              <a:solidFill>
                <a:srgbClr val="ccffff"/>
              </a:solidFill>
              <a:latin typeface="Arial"/>
            </a:endParaRPr>
          </a:p>
        </p:txBody>
      </p:sp>
      <p:sp>
        <p:nvSpPr>
          <p:cNvPr id="306"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ves, </a:t>
            </a:r>
            <a:r>
              <a:rPr b="0" i="1" lang="en-US" sz="3200" spc="-1" strike="noStrike">
                <a:solidFill>
                  <a:srgbClr val="ffffff"/>
                </a:solidFill>
                <a:latin typeface="Arial"/>
              </a:rPr>
              <a:t>be subject </a:t>
            </a:r>
            <a:r>
              <a:rPr b="0" lang="en-US" sz="3200" spc="-1" strike="noStrike">
                <a:solidFill>
                  <a:srgbClr val="ffffff"/>
                </a:solidFill>
                <a:latin typeface="Arial"/>
              </a:rPr>
              <a:t>to your own husbands, as to the Lord (5:2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sbands, love your wives, just as Christ also loved the church and gave Himself up for her (5:2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obey your parents in the Lord, for this is right (6: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s, do not provoke your children to anger (6:4).</a:t>
            </a:r>
            <a:endParaRPr b="0" lang="en-US" sz="3200" spc="-1" strike="noStrike">
              <a:solidFill>
                <a:srgbClr val="ffffff"/>
              </a:solidFill>
              <a:latin typeface="Arial"/>
            </a:endParaRPr>
          </a:p>
        </p:txBody>
      </p:sp>
    </p:spTree>
  </p:cSld>
  <p:transition spd="med">
    <p:fade/>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306">
                                            <p:txEl>
                                              <p:pRg st="0" end="0"/>
                                            </p:txEl>
                                          </p:spTgt>
                                        </p:tgtEl>
                                        <p:attrNameLst>
                                          <p:attrName>style.visibility</p:attrName>
                                        </p:attrNameLst>
                                      </p:cBhvr>
                                      <p:to>
                                        <p:strVal val="visible"/>
                                      </p:to>
                                    </p:set>
                                    <p:anim calcmode="lin" valueType="num">
                                      <p:cBhvr additive="base">
                                        <p:cTn id="620"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306">
                                            <p:txEl>
                                              <p:pRg st="1" end="1"/>
                                            </p:txEl>
                                          </p:spTgt>
                                        </p:tgtEl>
                                        <p:attrNameLst>
                                          <p:attrName>style.visibility</p:attrName>
                                        </p:attrNameLst>
                                      </p:cBhvr>
                                      <p:to>
                                        <p:strVal val="visible"/>
                                      </p:to>
                                    </p:set>
                                    <p:anim calcmode="lin" valueType="num">
                                      <p:cBhvr additive="base">
                                        <p:cTn id="626"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306">
                                            <p:txEl>
                                              <p:pRg st="2" end="2"/>
                                            </p:txEl>
                                          </p:spTgt>
                                        </p:tgtEl>
                                        <p:attrNameLst>
                                          <p:attrName>style.visibility</p:attrName>
                                        </p:attrNameLst>
                                      </p:cBhvr>
                                      <p:to>
                                        <p:strVal val="visible"/>
                                      </p:to>
                                    </p:set>
                                    <p:anim calcmode="lin" valueType="num">
                                      <p:cBhvr additive="base">
                                        <p:cTn id="632"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3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06">
                                            <p:txEl>
                                              <p:pRg st="3" end="3"/>
                                            </p:txEl>
                                          </p:spTgt>
                                        </p:tgtEl>
                                        <p:attrNameLst>
                                          <p:attrName>style.visibility</p:attrName>
                                        </p:attrNameLst>
                                      </p:cBhvr>
                                      <p:to>
                                        <p:strVal val="visible"/>
                                      </p:to>
                                    </p:set>
                                    <p:anim calcmode="lin" valueType="num">
                                      <p:cBhvr additive="base">
                                        <p:cTn id="638"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3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 Subject to One Another…</a:t>
            </a:r>
            <a:endParaRPr b="0" lang="en-US" sz="4400" spc="-1" strike="noStrike">
              <a:solidFill>
                <a:srgbClr val="ccffff"/>
              </a:solidFill>
              <a:latin typeface="Arial"/>
            </a:endParaRPr>
          </a:p>
        </p:txBody>
      </p:sp>
      <p:sp>
        <p:nvSpPr>
          <p:cNvPr id="308"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s, be obedient to those who are your masters according to the flesh (6: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ters, do the same things to them, and give up threatening, knowing that both their Master and yours is in heaven, and there is no partiality with Him (6:9).</a:t>
            </a:r>
            <a:endParaRPr b="0" lang="en-US" sz="3200" spc="-1" strike="noStrike">
              <a:solidFill>
                <a:srgbClr val="ffffff"/>
              </a:solidFill>
              <a:latin typeface="Arial"/>
            </a:endParaRPr>
          </a:p>
        </p:txBody>
      </p:sp>
    </p:spTree>
  </p:cSld>
  <p:transition spd="med">
    <p:fade/>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08">
                                            <p:txEl>
                                              <p:pRg st="0" end="0"/>
                                            </p:txEl>
                                          </p:spTgt>
                                        </p:tgtEl>
                                        <p:attrNameLst>
                                          <p:attrName>style.visibility</p:attrName>
                                        </p:attrNameLst>
                                      </p:cBhvr>
                                      <p:to>
                                        <p:strVal val="visible"/>
                                      </p:to>
                                    </p:set>
                                    <p:anim calcmode="lin" valueType="num">
                                      <p:cBhvr additive="base">
                                        <p:cTn id="646"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308">
                                            <p:txEl>
                                              <p:pRg st="1" end="1"/>
                                            </p:txEl>
                                          </p:spTgt>
                                        </p:tgtEl>
                                        <p:attrNameLst>
                                          <p:attrName>style.visibility</p:attrName>
                                        </p:attrNameLst>
                                      </p:cBhvr>
                                      <p:to>
                                        <p:strVal val="visible"/>
                                      </p:to>
                                    </p:set>
                                    <p:anim calcmode="lin" valueType="num">
                                      <p:cBhvr additive="base">
                                        <p:cTn id="652" dur="5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3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680"/>
            <a:ext cx="7772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6:10-12</a:t>
            </a:r>
            <a:endParaRPr b="0" lang="en-US" sz="4400" spc="-1" strike="noStrike">
              <a:solidFill>
                <a:srgbClr val="ccffff"/>
              </a:solidFill>
              <a:latin typeface="Arial"/>
            </a:endParaRPr>
          </a:p>
        </p:txBody>
      </p:sp>
      <p:sp>
        <p:nvSpPr>
          <p:cNvPr id="310" name="PlaceHolder 2"/>
          <p:cNvSpPr>
            <a:spLocks noGrp="1"/>
          </p:cNvSpPr>
          <p:nvPr>
            <p:ph type="subTitle"/>
          </p:nvPr>
        </p:nvSpPr>
        <p:spPr>
          <a:xfrm>
            <a:off x="1066320" y="914400"/>
            <a:ext cx="7086600" cy="5867280"/>
          </a:xfrm>
          <a:prstGeom prst="rect">
            <a:avLst/>
          </a:prstGeom>
          <a:noFill/>
          <a:ln w="0">
            <a:noFill/>
          </a:ln>
        </p:spPr>
        <p:txBody>
          <a:bodyPr lIns="90000" rIns="90000" tIns="46800" bIns="46800" anchor="t">
            <a:no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0</a:t>
            </a:r>
            <a:r>
              <a:rPr b="0" lang="en-US" sz="2800" spc="-1" strike="noStrike">
                <a:solidFill>
                  <a:srgbClr val="ffffff"/>
                </a:solidFill>
                <a:latin typeface="Arial"/>
              </a:rPr>
              <a:t> Finally, be strong in the Lord, and in the strength of His might.</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1</a:t>
            </a:r>
            <a:r>
              <a:rPr b="0" lang="en-US" sz="2800" spc="-1" strike="noStrike">
                <a:solidFill>
                  <a:srgbClr val="ffffff"/>
                </a:solidFill>
                <a:latin typeface="Arial"/>
              </a:rPr>
              <a:t> Put on the full armor of God, that you may be able to stand firm against the schemes of the devil.</a:t>
            </a:r>
            <a:endParaRPr b="0" lang="en-US" sz="2800" spc="-1" strike="noStrike">
              <a:solidFill>
                <a:srgbClr val="ffffff"/>
              </a:solidFill>
              <a:latin typeface="Arial"/>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12</a:t>
            </a:r>
            <a:r>
              <a:rPr b="0" lang="en-US" sz="2800" spc="-1" strike="noStrike">
                <a:solidFill>
                  <a:srgbClr val="ffffff"/>
                </a:solidFill>
                <a:latin typeface="Arial"/>
              </a:rPr>
              <a:t> For our struggle is not against flesh and blood, but against the rulers, against the powers, against the world forces of this darkness, against the spiritual </a:t>
            </a:r>
            <a:r>
              <a:rPr b="0" i="1" lang="en-US" sz="2800" spc="-1" strike="noStrike">
                <a:solidFill>
                  <a:srgbClr val="ffffff"/>
                </a:solidFill>
                <a:latin typeface="Arial"/>
              </a:rPr>
              <a:t>forces </a:t>
            </a:r>
            <a:r>
              <a:rPr b="0" lang="en-US" sz="2800" spc="-1" strike="noStrike">
                <a:solidFill>
                  <a:srgbClr val="ffffff"/>
                </a:solidFill>
                <a:latin typeface="Arial"/>
              </a:rPr>
              <a:t>of wickedness in the heavenly </a:t>
            </a:r>
            <a:r>
              <a:rPr b="0" i="1" lang="en-US" sz="2800" spc="-1" strike="noStrike">
                <a:solidFill>
                  <a:srgbClr val="ffffff"/>
                </a:solidFill>
                <a:latin typeface="Arial"/>
              </a:rPr>
              <a:t>places</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311" name=""/>
          <p:cNvSpPr/>
          <p:nvPr/>
        </p:nvSpPr>
        <p:spPr>
          <a:xfrm>
            <a:off x="1066680" y="6858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1828800" y="380880"/>
            <a:ext cx="32004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ins girded with tru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plate of righteousness</a:t>
            </a:r>
            <a:endParaRPr b="0" lang="en-US" sz="3200" spc="-1" strike="noStrike">
              <a:solidFill>
                <a:srgbClr val="ffffff"/>
              </a:solidFill>
              <a:latin typeface="Arial"/>
            </a:endParaRPr>
          </a:p>
        </p:txBody>
      </p:sp>
      <p:pic>
        <p:nvPicPr>
          <p:cNvPr id="313" name="" descr=""/>
          <p:cNvPicPr/>
          <p:nvPr/>
        </p:nvPicPr>
        <p:blipFill>
          <a:blip r:embed="rId2"/>
          <a:stretch/>
        </p:blipFill>
        <p:spPr>
          <a:xfrm>
            <a:off x="5029200" y="228600"/>
            <a:ext cx="3676680" cy="2023920"/>
          </a:xfrm>
          <a:prstGeom prst="rect">
            <a:avLst/>
          </a:prstGeom>
          <a:ln w="0">
            <a:noFill/>
          </a:ln>
        </p:spPr>
      </p:pic>
      <p:sp>
        <p:nvSpPr>
          <p:cNvPr id="314" name=""/>
          <p:cNvSpPr/>
          <p:nvPr/>
        </p:nvSpPr>
        <p:spPr>
          <a:xfrm>
            <a:off x="1816200" y="2540160"/>
            <a:ext cx="723888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d your feet with the preparation of the gospel of pe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of fai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met of salv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ord of the Spirit, which is the word of God.</a:t>
            </a:r>
            <a:endParaRPr b="0" lang="en-US" sz="3200" spc="-1" strike="noStrike">
              <a:solidFill>
                <a:srgbClr val="ffffff"/>
              </a:solidFill>
              <a:latin typeface="Arial"/>
            </a:endParaRPr>
          </a:p>
        </p:txBody>
      </p:sp>
      <p:pic>
        <p:nvPicPr>
          <p:cNvPr id="315" name="" descr=""/>
          <p:cNvPicPr/>
          <p:nvPr/>
        </p:nvPicPr>
        <p:blipFill>
          <a:blip r:embed="rId3"/>
          <a:stretch/>
        </p:blipFill>
        <p:spPr>
          <a:xfrm>
            <a:off x="208080" y="1143000"/>
            <a:ext cx="1620720" cy="4800600"/>
          </a:xfrm>
          <a:prstGeom prst="rect">
            <a:avLst/>
          </a:prstGeom>
          <a:ln w="0">
            <a:noFill/>
          </a:ln>
        </p:spPr>
      </p:pic>
    </p:spTree>
  </p:cSld>
  <p:transition spd="med">
    <p:fad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xEl>
                                              <p:pRg st="0" end="0"/>
                                            </p:txEl>
                                          </p:spTgt>
                                        </p:tgtEl>
                                        <p:attrNameLst>
                                          <p:attrName>style.visibility</p:attrName>
                                        </p:attrNameLst>
                                      </p:cBhvr>
                                      <p:to>
                                        <p:strVal val="visible"/>
                                      </p:to>
                                    </p:set>
                                    <p:anim calcmode="lin" valueType="num">
                                      <p:cBhvr additive="base">
                                        <p:cTn id="66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312">
                                            <p:txEl>
                                              <p:pRg st="1" end="1"/>
                                            </p:txEl>
                                          </p:spTgt>
                                        </p:tgtEl>
                                        <p:attrNameLst>
                                          <p:attrName>style.visibility</p:attrName>
                                        </p:attrNameLst>
                                      </p:cBhvr>
                                      <p:to>
                                        <p:strVal val="visible"/>
                                      </p:to>
                                    </p:set>
                                    <p:anim calcmode="lin" valueType="num">
                                      <p:cBhvr additive="base">
                                        <p:cTn id="66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14">
                                            <p:txEl>
                                              <p:pRg st="0" end="0"/>
                                            </p:txEl>
                                          </p:spTgt>
                                        </p:tgtEl>
                                        <p:attrNameLst>
                                          <p:attrName>style.visibility</p:attrName>
                                        </p:attrNameLst>
                                      </p:cBhvr>
                                      <p:to>
                                        <p:strVal val="visible"/>
                                      </p:to>
                                    </p:set>
                                    <p:anim calcmode="lin" valueType="num">
                                      <p:cBhvr additive="base">
                                        <p:cTn id="672"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314">
                                            <p:txEl>
                                              <p:pRg st="1" end="1"/>
                                            </p:txEl>
                                          </p:spTgt>
                                        </p:tgtEl>
                                        <p:attrNameLst>
                                          <p:attrName>style.visibility</p:attrName>
                                        </p:attrNameLst>
                                      </p:cBhvr>
                                      <p:to>
                                        <p:strVal val="visible"/>
                                      </p:to>
                                    </p:set>
                                    <p:anim calcmode="lin" valueType="num">
                                      <p:cBhvr additive="base">
                                        <p:cTn id="678"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314">
                                            <p:txEl>
                                              <p:pRg st="2" end="2"/>
                                            </p:txEl>
                                          </p:spTgt>
                                        </p:tgtEl>
                                        <p:attrNameLst>
                                          <p:attrName>style.visibility</p:attrName>
                                        </p:attrNameLst>
                                      </p:cBhvr>
                                      <p:to>
                                        <p:strVal val="visible"/>
                                      </p:to>
                                    </p:set>
                                    <p:anim calcmode="lin" valueType="num">
                                      <p:cBhvr additive="base">
                                        <p:cTn id="684"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314">
                                            <p:txEl>
                                              <p:pRg st="3" end="3"/>
                                            </p:txEl>
                                          </p:spTgt>
                                        </p:tgtEl>
                                        <p:attrNameLst>
                                          <p:attrName>style.visibility</p:attrName>
                                        </p:attrNameLst>
                                      </p:cBhvr>
                                      <p:to>
                                        <p:strVal val="visible"/>
                                      </p:to>
                                    </p:set>
                                    <p:anim calcmode="lin" valueType="num">
                                      <p:cBhvr additive="base">
                                        <p:cTn id="690"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51" name="PlaceHolder 2"/>
          <p:cNvSpPr>
            <a:spLocks noGrp="1"/>
          </p:cNvSpPr>
          <p:nvPr>
            <p:ph/>
          </p:nvPr>
        </p:nvSpPr>
        <p:spPr>
          <a:xfrm>
            <a:off x="990360" y="2971800"/>
            <a:ext cx="70102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 prisoner of Christ Jesus, and Timothy our brother, to Philemon our beloved </a:t>
            </a:r>
            <a:r>
              <a:rPr b="0" i="1" lang="en-US" sz="2800" spc="-1" strike="noStrike">
                <a:solidFill>
                  <a:srgbClr val="ffffff"/>
                </a:solidFill>
                <a:latin typeface="Arial"/>
              </a:rPr>
              <a:t>brother </a:t>
            </a:r>
            <a:r>
              <a:rPr b="0" lang="en-US" sz="2800" spc="-1" strike="noStrike">
                <a:solidFill>
                  <a:srgbClr val="ffffff"/>
                </a:solidFill>
                <a:latin typeface="Arial"/>
              </a:rPr>
              <a:t>and fellow worker, </a:t>
            </a:r>
            <a:r>
              <a:rPr b="0" lang="en-US" sz="1800" spc="-1" strike="noStrike">
                <a:solidFill>
                  <a:srgbClr val="ffffff"/>
                </a:solidFill>
                <a:latin typeface="Arial"/>
              </a:rPr>
              <a:t>2</a:t>
            </a:r>
            <a:r>
              <a:rPr b="0" lang="en-US" sz="2800" spc="-1" strike="noStrike">
                <a:solidFill>
                  <a:srgbClr val="ffffff"/>
                </a:solidFill>
                <a:latin typeface="Arial"/>
              </a:rPr>
              <a:t> and to Apphia our sister, and to Archippus our fellow soldier, and to the church in your hous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3</a:t>
            </a:r>
            <a:r>
              <a:rPr b="0" lang="en-US" sz="2800" spc="-1" strike="noStrike">
                <a:solidFill>
                  <a:srgbClr val="ffffff"/>
                </a:solidFill>
                <a:latin typeface="Arial"/>
              </a:rPr>
              <a:t> Grace to you and peace from God our Father and the Lord Jesus Christ.</a:t>
            </a:r>
            <a:endParaRPr b="0" lang="en-US" sz="2800" spc="-1" strike="noStrike">
              <a:solidFill>
                <a:srgbClr val="ffffff"/>
              </a:solidFill>
              <a:latin typeface="Arial"/>
            </a:endParaRPr>
          </a:p>
        </p:txBody>
      </p:sp>
      <p:sp>
        <p:nvSpPr>
          <p:cNvPr id="52"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53"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54"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55"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56"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Tree>
  </p:cSld>
  <p:transition spd="med">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base">
                                        <p:cTn id="18" dur="500" fill="hold"/>
                                        <p:tgtEl>
                                          <p:spTgt spid="50"/>
                                        </p:tgtEl>
                                        <p:attrNameLst>
                                          <p:attrName>ppt_x</p:attrName>
                                        </p:attrNameLst>
                                      </p:cBhvr>
                                      <p:tavLst>
                                        <p:tav tm="0">
                                          <p:val>
                                            <p:strVal val="#ppt_x"/>
                                          </p:val>
                                        </p:tav>
                                        <p:tav tm="100000">
                                          <p:val>
                                            <p:strVal val="#ppt_x"/>
                                          </p:val>
                                        </p:tav>
                                      </p:tavLst>
                                    </p:anim>
                                    <p:anim calcmode="lin" valueType="num">
                                      <p:cBhvr additive="base">
                                        <p:cTn id="19"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51">
                                            <p:txEl>
                                              <p:pRg st="0" end="0"/>
                                            </p:txEl>
                                          </p:spTgt>
                                        </p:tgtEl>
                                        <p:attrNameLst>
                                          <p:attrName>style.visibility</p:attrName>
                                        </p:attrNameLst>
                                      </p:cBhvr>
                                      <p:to>
                                        <p:strVal val="visible"/>
                                      </p:to>
                                    </p:set>
                                    <p:anim calcmode="lin" valueType="num">
                                      <p:cBhvr additive="repl">
                                        <p:cTn id="24"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5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51">
                                            <p:txEl>
                                              <p:pRg st="1" end="1"/>
                                            </p:txEl>
                                          </p:spTgt>
                                        </p:tgtEl>
                                        <p:attrNameLst>
                                          <p:attrName>style.visibility</p:attrName>
                                        </p:attrNameLst>
                                      </p:cBhvr>
                                      <p:to>
                                        <p:strVal val="visible"/>
                                      </p:to>
                                    </p:set>
                                    <p:anim calcmode="lin" valueType="num">
                                      <p:cBhvr additive="repl">
                                        <p:cTn id="31"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32"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33"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reak into Groups of 3-4</a:t>
            </a:r>
            <a:endParaRPr b="0" lang="en-US" sz="2800" spc="-1" strike="noStrike">
              <a:solidFill>
                <a:srgbClr val="ccffff"/>
              </a:solidFill>
              <a:latin typeface="Arial"/>
            </a:endParaRPr>
          </a:p>
        </p:txBody>
      </p:sp>
      <p:sp>
        <p:nvSpPr>
          <p:cNvPr id="317" name=""/>
          <p:cNvSpPr txBox="1"/>
          <p:nvPr/>
        </p:nvSpPr>
        <p:spPr>
          <a:xfrm>
            <a:off x="2514600" y="304920"/>
            <a:ext cx="3886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18" name="" descr=""/>
          <p:cNvPicPr/>
          <p:nvPr/>
        </p:nvPicPr>
        <p:blipFill>
          <a:blip r:embed="rId2"/>
          <a:stretch/>
        </p:blipFill>
        <p:spPr>
          <a:xfrm>
            <a:off x="3733920" y="1752480"/>
            <a:ext cx="1295280" cy="1238400"/>
          </a:xfrm>
          <a:prstGeom prst="rect">
            <a:avLst/>
          </a:prstGeom>
          <a:ln w="0">
            <a:noFill/>
          </a:ln>
        </p:spPr>
      </p:pic>
      <p:sp>
        <p:nvSpPr>
          <p:cNvPr id="319" name="PlaceHolder 2"/>
          <p:cNvSpPr>
            <a:spLocks noGrp="1"/>
          </p:cNvSpPr>
          <p:nvPr>
            <p:ph/>
          </p:nvPr>
        </p:nvSpPr>
        <p:spPr>
          <a:xfrm>
            <a:off x="1295280" y="4541400"/>
            <a:ext cx="6858000" cy="1706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 Christian look lik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some practical examples of how that works in today’s culture</a:t>
            </a:r>
            <a:endParaRPr b="0" lang="en-US" sz="3200" spc="-1" strike="noStrike">
              <a:solidFill>
                <a:srgbClr val="ffffff"/>
              </a:solidFill>
              <a:latin typeface="Arial"/>
            </a:endParaRPr>
          </a:p>
        </p:txBody>
      </p:sp>
      <p:sp>
        <p:nvSpPr>
          <p:cNvPr id="320" name=""/>
          <p:cNvSpPr/>
          <p:nvPr/>
        </p:nvSpPr>
        <p:spPr>
          <a:xfrm>
            <a:off x="457200" y="3219480"/>
            <a:ext cx="7848720" cy="11912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ok through the “practical sections” of Paul’s epistles…</a:t>
            </a:r>
            <a:endParaRPr b="0" lang="en-US" sz="36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txBox="1"/>
          <p:nvPr/>
        </p:nvSpPr>
        <p:spPr>
          <a:xfrm>
            <a:off x="533520" y="380880"/>
            <a:ext cx="601956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lass Project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22" name="" descr=""/>
          <p:cNvPicPr/>
          <p:nvPr/>
        </p:nvPicPr>
        <p:blipFill>
          <a:blip r:embed="rId2"/>
          <a:stretch/>
        </p:blipFill>
        <p:spPr>
          <a:xfrm>
            <a:off x="7010280" y="304920"/>
            <a:ext cx="1295640" cy="1238040"/>
          </a:xfrm>
          <a:prstGeom prst="rect">
            <a:avLst/>
          </a:prstGeom>
          <a:ln w="0">
            <a:noFill/>
          </a:ln>
        </p:spPr>
      </p:pic>
      <p:sp>
        <p:nvSpPr>
          <p:cNvPr id="323" name="PlaceHolder 1"/>
          <p:cNvSpPr>
            <a:spLocks noGrp="1"/>
          </p:cNvSpPr>
          <p:nvPr>
            <p:ph type="title"/>
          </p:nvPr>
        </p:nvSpPr>
        <p:spPr>
          <a:xfrm>
            <a:off x="457200" y="152388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are doing some reading for an American history class, and you come across the writings of a pre-Civil War,  pro-slavery clergyman.  You notice that in his arguments supporting slavery he appeals to Eph 6:5-9 and Philemon…</a:t>
            </a:r>
            <a:endParaRPr b="0" lang="en-US" sz="3200" spc="-1" strike="noStrike">
              <a:solidFill>
                <a:srgbClr val="ccffff"/>
              </a:solidFill>
              <a:latin typeface="Arial"/>
            </a:endParaRPr>
          </a:p>
        </p:txBody>
      </p:sp>
      <p:sp>
        <p:nvSpPr>
          <p:cNvPr id="324" name="PlaceHolder 2"/>
          <p:cNvSpPr>
            <a:spLocks noGrp="1"/>
          </p:cNvSpPr>
          <p:nvPr>
            <p:ph/>
          </p:nvPr>
        </p:nvSpPr>
        <p:spPr>
          <a:xfrm>
            <a:off x="1676520" y="4800240"/>
            <a:ext cx="632448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respond to his use of those pass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apply those passages today?</a:t>
            </a:r>
            <a:endParaRPr b="0" lang="en-US" sz="3200" spc="-1" strike="noStrike">
              <a:solidFill>
                <a:srgbClr val="ffffff"/>
              </a:solidFill>
              <a:latin typeface="Arial"/>
            </a:endParaRPr>
          </a:p>
        </p:txBody>
      </p:sp>
    </p:spTree>
  </p:cSld>
  <p:transition spd="med">
    <p:fade/>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324">
                                            <p:txEl>
                                              <p:pRg st="0" end="0"/>
                                            </p:txEl>
                                          </p:spTgt>
                                        </p:tgtEl>
                                        <p:attrNameLst>
                                          <p:attrName>style.visibility</p:attrName>
                                        </p:attrNameLst>
                                      </p:cBhvr>
                                      <p:to>
                                        <p:strVal val="visible"/>
                                      </p:to>
                                    </p:set>
                                    <p:anim calcmode="lin" valueType="num">
                                      <p:cBhvr additive="repl">
                                        <p:cTn id="698"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699" dur="500" fill="hold"/>
                                        <p:tgtEl>
                                          <p:spTgt spid="324">
                                            <p:txEl>
                                              <p:pRg st="0" end="0"/>
                                            </p:txEl>
                                          </p:spTgt>
                                        </p:tgtEl>
                                        <p:attrNameLst>
                                          <p:attrName>ppt_h</p:attrName>
                                        </p:attrNameLst>
                                      </p:cBhvr>
                                      <p:tavLst>
                                        <p:tav tm="0">
                                          <p:val>
                                            <p:fltVal val="0"/>
                                          </p:val>
                                        </p:tav>
                                        <p:tav tm="100000">
                                          <p:val>
                                            <p:strVal val="#ppt_h"/>
                                          </p:val>
                                        </p:tav>
                                      </p:tavLst>
                                    </p:anim>
                                    <p:animEffect filter="fade" transition="in">
                                      <p:cBhvr additive="repl">
                                        <p:cTn id="700" dur="500"/>
                                        <p:tgtEl>
                                          <p:spTgt spid="324">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324">
                                            <p:txEl>
                                              <p:pRg st="1" end="1"/>
                                            </p:txEl>
                                          </p:spTgt>
                                        </p:tgtEl>
                                        <p:attrNameLst>
                                          <p:attrName>style.visibility</p:attrName>
                                        </p:attrNameLst>
                                      </p:cBhvr>
                                      <p:to>
                                        <p:strVal val="visible"/>
                                      </p:to>
                                    </p:set>
                                    <p:anim calcmode="lin" valueType="num">
                                      <p:cBhvr additive="repl">
                                        <p:cTn id="705" dur="500" fill="hold"/>
                                        <p:tgtEl>
                                          <p:spTgt spid="324">
                                            <p:txEl>
                                              <p:pRg st="1" end="1"/>
                                            </p:txEl>
                                          </p:spTgt>
                                        </p:tgtEl>
                                        <p:attrNameLst>
                                          <p:attrName>ppt_w</p:attrName>
                                        </p:attrNameLst>
                                      </p:cBhvr>
                                      <p:tavLst>
                                        <p:tav tm="0">
                                          <p:val>
                                            <p:fltVal val="0"/>
                                          </p:val>
                                        </p:tav>
                                        <p:tav tm="100000">
                                          <p:val>
                                            <p:strVal val="#ppt_w"/>
                                          </p:val>
                                        </p:tav>
                                      </p:tavLst>
                                    </p:anim>
                                    <p:anim calcmode="lin" valueType="num">
                                      <p:cBhvr additive="repl">
                                        <p:cTn id="706" dur="500" fill="hold"/>
                                        <p:tgtEl>
                                          <p:spTgt spid="324">
                                            <p:txEl>
                                              <p:pRg st="1" end="1"/>
                                            </p:txEl>
                                          </p:spTgt>
                                        </p:tgtEl>
                                        <p:attrNameLst>
                                          <p:attrName>ppt_h</p:attrName>
                                        </p:attrNameLst>
                                      </p:cBhvr>
                                      <p:tavLst>
                                        <p:tav tm="0">
                                          <p:val>
                                            <p:fltVal val="0"/>
                                          </p:val>
                                        </p:tav>
                                        <p:tav tm="100000">
                                          <p:val>
                                            <p:strVal val="#ppt_h"/>
                                          </p:val>
                                        </p:tav>
                                      </p:tavLst>
                                    </p:anim>
                                    <p:animEffect filter="fade" transition="in">
                                      <p:cBhvr additive="repl">
                                        <p:cTn id="707"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58" name="PlaceHolder 2"/>
          <p:cNvSpPr>
            <a:spLocks noGrp="1"/>
          </p:cNvSpPr>
          <p:nvPr>
            <p:ph/>
          </p:nvPr>
        </p:nvSpPr>
        <p:spPr>
          <a:xfrm>
            <a:off x="1523880" y="2819520"/>
            <a:ext cx="68580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ank my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I hear of you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pray that the fellowship of your faith may become effective</a:t>
            </a:r>
            <a:endParaRPr b="0" lang="en-US" sz="3200" spc="-1" strike="noStrike">
              <a:solidFill>
                <a:srgbClr val="ffffff"/>
              </a:solidFill>
              <a:latin typeface="Arial"/>
            </a:endParaRPr>
          </a:p>
        </p:txBody>
      </p:sp>
      <p:sp>
        <p:nvSpPr>
          <p:cNvPr id="59"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60"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61"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62"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63"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64"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Tree>
  </p:cSld>
  <p:transition spd="med">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4"/>
                                        </p:tgtEl>
                                        <p:attrNameLst>
                                          <p:attrName>style.visibility</p:attrName>
                                        </p:attrNameLst>
                                      </p:cBhvr>
                                      <p:to>
                                        <p:strVal val="visible"/>
                                      </p:to>
                                    </p:set>
                                    <p:anim calcmode="lin" valueType="num">
                                      <p:cBhvr additive="base">
                                        <p:cTn id="40" dur="500" fill="hold"/>
                                        <p:tgtEl>
                                          <p:spTgt spid="64"/>
                                        </p:tgtEl>
                                        <p:attrNameLst>
                                          <p:attrName>ppt_x</p:attrName>
                                        </p:attrNameLst>
                                      </p:cBhvr>
                                      <p:tavLst>
                                        <p:tav tm="0">
                                          <p:val>
                                            <p:strVal val="#ppt_x"/>
                                          </p:val>
                                        </p:tav>
                                        <p:tav tm="100000">
                                          <p:val>
                                            <p:strVal val="#ppt_x"/>
                                          </p:val>
                                        </p:tav>
                                      </p:tavLst>
                                    </p:anim>
                                    <p:anim calcmode="lin" valueType="num">
                                      <p:cBhvr additive="base">
                                        <p:cTn id="4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 calcmode="lin" valueType="num">
                                      <p:cBhvr additive="repl">
                                        <p:cTn id="46"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5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8">
                                            <p:txEl>
                                              <p:pRg st="1" end="1"/>
                                            </p:txEl>
                                          </p:spTgt>
                                        </p:tgtEl>
                                        <p:attrNameLst>
                                          <p:attrName>style.visibility</p:attrName>
                                        </p:attrNameLst>
                                      </p:cBhvr>
                                      <p:to>
                                        <p:strVal val="visible"/>
                                      </p:to>
                                    </p:set>
                                    <p:anim calcmode="lin" valueType="num">
                                      <p:cBhvr additive="repl">
                                        <p:cTn id="5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54"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55" dur="500"/>
                                        <p:tgtEl>
                                          <p:spTgt spid="58">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58">
                                            <p:txEl>
                                              <p:pRg st="2" end="2"/>
                                            </p:txEl>
                                          </p:spTgt>
                                        </p:tgtEl>
                                        <p:attrNameLst>
                                          <p:attrName>style.visibility</p:attrName>
                                        </p:attrNameLst>
                                      </p:cBhvr>
                                      <p:to>
                                        <p:strVal val="visible"/>
                                      </p:to>
                                    </p:set>
                                    <p:anim calcmode="lin" valueType="num">
                                      <p:cBhvr additive="repl">
                                        <p:cTn id="60"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58">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8">
                                            <p:txEl>
                                              <p:pRg st="3" end="3"/>
                                            </p:txEl>
                                          </p:spTgt>
                                        </p:tgtEl>
                                        <p:attrNameLst>
                                          <p:attrName>style.visibility</p:attrName>
                                        </p:attrNameLst>
                                      </p:cBhvr>
                                      <p:to>
                                        <p:strVal val="visible"/>
                                      </p:to>
                                    </p:set>
                                    <p:anim calcmode="lin" valueType="num">
                                      <p:cBhvr additive="repl">
                                        <p:cTn id="67"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69" dur="500"/>
                                        <p:tgtEl>
                                          <p:spTgt spid="5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58">
                                            <p:txEl>
                                              <p:pRg st="4" end="4"/>
                                            </p:txEl>
                                          </p:spTgt>
                                        </p:tgtEl>
                                        <p:attrNameLst>
                                          <p:attrName>style.visibility</p:attrName>
                                        </p:attrNameLst>
                                      </p:cBhvr>
                                      <p:to>
                                        <p:strVal val="visible"/>
                                      </p:to>
                                    </p:set>
                                    <p:anim calcmode="lin" valueType="num">
                                      <p:cBhvr additive="repl">
                                        <p:cTn id="74"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75"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76"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66" name="PlaceHolder 2"/>
          <p:cNvSpPr>
            <a:spLocks noGrp="1"/>
          </p:cNvSpPr>
          <p:nvPr>
            <p:ph/>
          </p:nvPr>
        </p:nvSpPr>
        <p:spPr>
          <a:xfrm>
            <a:off x="533520" y="2895120"/>
            <a:ext cx="82296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I could order you, I appeal to yo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ehalf of Onesim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ly useless to you; now useful to both you and m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sending him bac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longer as a slave, but now as a s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has wronged you, charge it to my accou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you will do even more than what I say</a:t>
            </a:r>
            <a:endParaRPr b="0" lang="en-US" sz="2800" spc="-1" strike="noStrike">
              <a:solidFill>
                <a:srgbClr val="ffffff"/>
              </a:solidFill>
              <a:latin typeface="Arial"/>
            </a:endParaRPr>
          </a:p>
        </p:txBody>
      </p:sp>
      <p:sp>
        <p:nvSpPr>
          <p:cNvPr id="67"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68"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69"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70"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71"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72"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
        <p:nvSpPr>
          <p:cNvPr id="73" name=""/>
          <p:cNvSpPr/>
          <p:nvPr/>
        </p:nvSpPr>
        <p:spPr>
          <a:xfrm>
            <a:off x="3809880" y="1219320"/>
            <a:ext cx="327672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Appeal on behalf of Onesimus</a:t>
            </a:r>
            <a:endParaRPr b="0" lang="en-US" sz="2800" spc="-1" strike="noStrike">
              <a:solidFill>
                <a:srgbClr val="ffffff"/>
              </a:solidFill>
              <a:latin typeface="Arial"/>
            </a:endParaRPr>
          </a:p>
        </p:txBody>
      </p:sp>
    </p:spTree>
  </p:cSld>
  <p:transition spd="med">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3"/>
                                        </p:tgtEl>
                                        <p:attrNameLst>
                                          <p:attrName>style.visibility</p:attrName>
                                        </p:attrNameLst>
                                      </p:cBhvr>
                                      <p:to>
                                        <p:strVal val="visible"/>
                                      </p:to>
                                    </p:set>
                                    <p:anim calcmode="lin" valueType="num">
                                      <p:cBhvr additive="base">
                                        <p:cTn id="83" dur="500" fill="hold"/>
                                        <p:tgtEl>
                                          <p:spTgt spid="73"/>
                                        </p:tgtEl>
                                        <p:attrNameLst>
                                          <p:attrName>ppt_x</p:attrName>
                                        </p:attrNameLst>
                                      </p:cBhvr>
                                      <p:tavLst>
                                        <p:tav tm="0">
                                          <p:val>
                                            <p:strVal val="#ppt_x"/>
                                          </p:val>
                                        </p:tav>
                                        <p:tav tm="100000">
                                          <p:val>
                                            <p:strVal val="#ppt_x"/>
                                          </p:val>
                                        </p:tav>
                                      </p:tavLst>
                                    </p:anim>
                                    <p:anim calcmode="lin" valueType="num">
                                      <p:cBhvr additive="base">
                                        <p:cTn id="8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anim calcmode="lin" valueType="num">
                                      <p:cBhvr additive="repl">
                                        <p:cTn id="89"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91" dur="500"/>
                                        <p:tgtEl>
                                          <p:spTgt spid="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66">
                                            <p:txEl>
                                              <p:pRg st="1" end="1"/>
                                            </p:txEl>
                                          </p:spTgt>
                                        </p:tgtEl>
                                        <p:attrNameLst>
                                          <p:attrName>style.visibility</p:attrName>
                                        </p:attrNameLst>
                                      </p:cBhvr>
                                      <p:to>
                                        <p:strVal val="visible"/>
                                      </p:to>
                                    </p:set>
                                    <p:anim calcmode="lin" valueType="num">
                                      <p:cBhvr additive="repl">
                                        <p:cTn id="96"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98" dur="500"/>
                                        <p:tgtEl>
                                          <p:spTgt spid="6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6">
                                            <p:txEl>
                                              <p:pRg st="2" end="2"/>
                                            </p:txEl>
                                          </p:spTgt>
                                        </p:tgtEl>
                                        <p:attrNameLst>
                                          <p:attrName>style.visibility</p:attrName>
                                        </p:attrNameLst>
                                      </p:cBhvr>
                                      <p:to>
                                        <p:strVal val="visible"/>
                                      </p:to>
                                    </p:set>
                                    <p:anim calcmode="lin" valueType="num">
                                      <p:cBhvr additive="repl">
                                        <p:cTn id="103"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104"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105" dur="500"/>
                                        <p:tgtEl>
                                          <p:spTgt spid="66">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66">
                                            <p:txEl>
                                              <p:pRg st="3" end="3"/>
                                            </p:txEl>
                                          </p:spTgt>
                                        </p:tgtEl>
                                        <p:attrNameLst>
                                          <p:attrName>style.visibility</p:attrName>
                                        </p:attrNameLst>
                                      </p:cBhvr>
                                      <p:to>
                                        <p:strVal val="visible"/>
                                      </p:to>
                                    </p:set>
                                    <p:anim calcmode="lin" valueType="num">
                                      <p:cBhvr additive="repl">
                                        <p:cTn id="110"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6">
                                            <p:txEl>
                                              <p:pRg st="3" end="3"/>
                                            </p:txEl>
                                          </p:spTgt>
                                        </p:tgtEl>
                                        <p:attrNameLst>
                                          <p:attrName>ppt_h</p:attrName>
                                        </p:attrNameLst>
                                      </p:cBhvr>
                                      <p:tavLst>
                                        <p:tav tm="0">
                                          <p:val>
                                            <p:fltVal val="0"/>
                                          </p:val>
                                        </p:tav>
                                        <p:tav tm="100000">
                                          <p:val>
                                            <p:strVal val="#ppt_h"/>
                                          </p:val>
                                        </p:tav>
                                      </p:tavLst>
                                    </p:anim>
                                    <p:animEffect filter="fade" transition="in">
                                      <p:cBhvr additive="repl">
                                        <p:cTn id="112" dur="500"/>
                                        <p:tgtEl>
                                          <p:spTgt spid="66">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anim calcmode="lin" valueType="num">
                                      <p:cBhvr additive="repl">
                                        <p:cTn id="117"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6">
                                            <p:txEl>
                                              <p:pRg st="4" end="4"/>
                                            </p:txEl>
                                          </p:spTgt>
                                        </p:tgtEl>
                                        <p:attrNameLst>
                                          <p:attrName>ppt_h</p:attrName>
                                        </p:attrNameLst>
                                      </p:cBhvr>
                                      <p:tavLst>
                                        <p:tav tm="0">
                                          <p:val>
                                            <p:fltVal val="0"/>
                                          </p:val>
                                        </p:tav>
                                        <p:tav tm="100000">
                                          <p:val>
                                            <p:strVal val="#ppt_h"/>
                                          </p:val>
                                        </p:tav>
                                      </p:tavLst>
                                    </p:anim>
                                    <p:animEffect filter="fade" transition="in">
                                      <p:cBhvr additive="repl">
                                        <p:cTn id="119" dur="500"/>
                                        <p:tgtEl>
                                          <p:spTgt spid="66">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6">
                                            <p:txEl>
                                              <p:pRg st="5" end="5"/>
                                            </p:txEl>
                                          </p:spTgt>
                                        </p:tgtEl>
                                        <p:attrNameLst>
                                          <p:attrName>style.visibility</p:attrName>
                                        </p:attrNameLst>
                                      </p:cBhvr>
                                      <p:to>
                                        <p:strVal val="visible"/>
                                      </p:to>
                                    </p:set>
                                    <p:anim calcmode="lin" valueType="num">
                                      <p:cBhvr additive="repl">
                                        <p:cTn id="124"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6">
                                            <p:txEl>
                                              <p:pRg st="5" end="5"/>
                                            </p:txEl>
                                          </p:spTgt>
                                        </p:tgtEl>
                                        <p:attrNameLst>
                                          <p:attrName>ppt_h</p:attrName>
                                        </p:attrNameLst>
                                      </p:cBhvr>
                                      <p:tavLst>
                                        <p:tav tm="0">
                                          <p:val>
                                            <p:fltVal val="0"/>
                                          </p:val>
                                        </p:tav>
                                        <p:tav tm="100000">
                                          <p:val>
                                            <p:strVal val="#ppt_h"/>
                                          </p:val>
                                        </p:tav>
                                      </p:tavLst>
                                    </p:anim>
                                    <p:animEffect filter="fade" transition="in">
                                      <p:cBhvr additive="repl">
                                        <p:cTn id="126" dur="500"/>
                                        <p:tgtEl>
                                          <p:spTgt spid="66">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6">
                                            <p:txEl>
                                              <p:pRg st="6" end="6"/>
                                            </p:txEl>
                                          </p:spTgt>
                                        </p:tgtEl>
                                        <p:attrNameLst>
                                          <p:attrName>style.visibility</p:attrName>
                                        </p:attrNameLst>
                                      </p:cBhvr>
                                      <p:to>
                                        <p:strVal val="visible"/>
                                      </p:to>
                                    </p:set>
                                    <p:anim calcmode="lin" valueType="num">
                                      <p:cBhvr additive="repl">
                                        <p:cTn id="131" dur="5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6">
                                            <p:txEl>
                                              <p:pRg st="6" end="6"/>
                                            </p:txEl>
                                          </p:spTgt>
                                        </p:tgtEl>
                                        <p:attrNameLst>
                                          <p:attrName>ppt_h</p:attrName>
                                        </p:attrNameLst>
                                      </p:cBhvr>
                                      <p:tavLst>
                                        <p:tav tm="0">
                                          <p:val>
                                            <p:fltVal val="0"/>
                                          </p:val>
                                        </p:tav>
                                        <p:tav tm="100000">
                                          <p:val>
                                            <p:strVal val="#ppt_h"/>
                                          </p:val>
                                        </p:tav>
                                      </p:tavLst>
                                    </p:anim>
                                    <p:animEffect filter="fade" transition="in">
                                      <p:cBhvr additive="repl">
                                        <p:cTn id="133"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218960"/>
            <a:ext cx="175284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Opening Greetings</a:t>
            </a:r>
            <a:endParaRPr b="0" lang="en-US" sz="2800" spc="-1" strike="noStrike">
              <a:solidFill>
                <a:srgbClr val="ccffff"/>
              </a:solidFill>
              <a:latin typeface="Arial"/>
            </a:endParaRPr>
          </a:p>
        </p:txBody>
      </p:sp>
      <p:sp>
        <p:nvSpPr>
          <p:cNvPr id="75" name="PlaceHolder 2"/>
          <p:cNvSpPr>
            <a:spLocks noGrp="1"/>
          </p:cNvSpPr>
          <p:nvPr>
            <p:ph/>
          </p:nvPr>
        </p:nvSpPr>
        <p:spPr>
          <a:xfrm>
            <a:off x="4572000" y="2819160"/>
            <a:ext cx="4495680" cy="3733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me a lodging</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tings from…</a:t>
            </a:r>
            <a:endParaRPr b="0" lang="en-US" sz="32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a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arch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ke</a:t>
            </a:r>
            <a:endParaRPr b="0" lang="en-US" sz="2800" spc="-1" strike="noStrike">
              <a:solidFill>
                <a:srgbClr val="ffffff"/>
              </a:solidFill>
              <a:latin typeface="Arial"/>
            </a:endParaRPr>
          </a:p>
        </p:txBody>
      </p:sp>
      <p:sp>
        <p:nvSpPr>
          <p:cNvPr id="76" name=""/>
          <p:cNvSpPr/>
          <p:nvPr/>
        </p:nvSpPr>
        <p:spPr>
          <a:xfrm>
            <a:off x="152280" y="685800"/>
            <a:ext cx="175284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a:t>
            </a:r>
            <a:endParaRPr b="0" lang="en-US" sz="2400" spc="-1" strike="noStrike">
              <a:solidFill>
                <a:srgbClr val="ffffff"/>
              </a:solidFill>
              <a:latin typeface="Arial"/>
            </a:endParaRPr>
          </a:p>
        </p:txBody>
      </p:sp>
      <p:sp>
        <p:nvSpPr>
          <p:cNvPr id="77" name=""/>
          <p:cNvSpPr/>
          <p:nvPr/>
        </p:nvSpPr>
        <p:spPr>
          <a:xfrm>
            <a:off x="1905120" y="685800"/>
            <a:ext cx="190476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7</a:t>
            </a:r>
            <a:endParaRPr b="0" lang="en-US" sz="2400" spc="-1" strike="noStrike">
              <a:solidFill>
                <a:srgbClr val="ffffff"/>
              </a:solidFill>
              <a:latin typeface="Arial"/>
            </a:endParaRPr>
          </a:p>
        </p:txBody>
      </p:sp>
      <p:sp>
        <p:nvSpPr>
          <p:cNvPr id="78" name=""/>
          <p:cNvSpPr/>
          <p:nvPr/>
        </p:nvSpPr>
        <p:spPr>
          <a:xfrm>
            <a:off x="3809880" y="685800"/>
            <a:ext cx="327672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2</a:t>
            </a:r>
            <a:endParaRPr b="0" lang="en-US" sz="2400" spc="-1" strike="noStrike">
              <a:solidFill>
                <a:srgbClr val="ffffff"/>
              </a:solidFill>
              <a:latin typeface="Arial"/>
            </a:endParaRPr>
          </a:p>
        </p:txBody>
      </p:sp>
      <p:sp>
        <p:nvSpPr>
          <p:cNvPr id="79" name=""/>
          <p:cNvSpPr/>
          <p:nvPr/>
        </p:nvSpPr>
        <p:spPr>
          <a:xfrm>
            <a:off x="7086600" y="685800"/>
            <a:ext cx="1981080" cy="533520"/>
          </a:xfrm>
          <a:prstGeom prst="rect">
            <a:avLst/>
          </a:prstGeom>
          <a:gradFill rotWithShape="0">
            <a:gsLst>
              <a:gs pos="0">
                <a:srgbClr val="000060"/>
              </a:gs>
              <a:gs pos="100000">
                <a:srgbClr val="00002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5</a:t>
            </a:r>
            <a:endParaRPr b="0" lang="en-US" sz="2400" spc="-1" strike="noStrike">
              <a:solidFill>
                <a:srgbClr val="ffffff"/>
              </a:solidFill>
              <a:latin typeface="Arial"/>
            </a:endParaRPr>
          </a:p>
        </p:txBody>
      </p:sp>
      <p:sp>
        <p:nvSpPr>
          <p:cNvPr id="80" name=""/>
          <p:cNvSpPr/>
          <p:nvPr/>
        </p:nvSpPr>
        <p:spPr>
          <a:xfrm>
            <a:off x="0" y="-76320"/>
            <a:ext cx="9144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hilemon</a:t>
            </a:r>
            <a:endParaRPr b="0" lang="en-US" sz="4000" spc="-1" strike="noStrike">
              <a:solidFill>
                <a:srgbClr val="ffffff"/>
              </a:solidFill>
              <a:latin typeface="Arial"/>
            </a:endParaRPr>
          </a:p>
        </p:txBody>
      </p:sp>
      <p:sp>
        <p:nvSpPr>
          <p:cNvPr id="81" name=""/>
          <p:cNvSpPr/>
          <p:nvPr/>
        </p:nvSpPr>
        <p:spPr>
          <a:xfrm>
            <a:off x="1905120" y="1219320"/>
            <a:ext cx="190476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ayer of thanks for Philemon</a:t>
            </a:r>
            <a:endParaRPr b="0" lang="en-US" sz="2800" spc="-1" strike="noStrike">
              <a:solidFill>
                <a:srgbClr val="ffffff"/>
              </a:solidFill>
              <a:latin typeface="Arial"/>
            </a:endParaRPr>
          </a:p>
        </p:txBody>
      </p:sp>
      <p:sp>
        <p:nvSpPr>
          <p:cNvPr id="82" name=""/>
          <p:cNvSpPr/>
          <p:nvPr/>
        </p:nvSpPr>
        <p:spPr>
          <a:xfrm>
            <a:off x="3809880" y="1219320"/>
            <a:ext cx="327672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aul’s Appeal on behalf of Onesimus</a:t>
            </a:r>
            <a:endParaRPr b="0" lang="en-US" sz="2800" spc="-1" strike="noStrike">
              <a:solidFill>
                <a:srgbClr val="ffffff"/>
              </a:solidFill>
              <a:latin typeface="Arial"/>
            </a:endParaRPr>
          </a:p>
        </p:txBody>
      </p:sp>
      <p:sp>
        <p:nvSpPr>
          <p:cNvPr id="83" name=""/>
          <p:cNvSpPr/>
          <p:nvPr/>
        </p:nvSpPr>
        <p:spPr>
          <a:xfrm>
            <a:off x="7086600" y="1219320"/>
            <a:ext cx="1981080" cy="144756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cluding Farewells</a:t>
            </a:r>
            <a:endParaRPr b="0" lang="en-US" sz="2800" spc="-1" strike="noStrike">
              <a:solidFill>
                <a:srgbClr val="ffffff"/>
              </a:solidFill>
              <a:latin typeface="Arial"/>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83"/>
                                        </p:tgtEl>
                                        <p:attrNameLst>
                                          <p:attrName>style.visibility</p:attrName>
                                        </p:attrNameLst>
                                      </p:cBhvr>
                                      <p:to>
                                        <p:strVal val="visible"/>
                                      </p:to>
                                    </p:set>
                                    <p:anim calcmode="lin" valueType="num">
                                      <p:cBhvr additive="base">
                                        <p:cTn id="140" dur="500" fill="hold"/>
                                        <p:tgtEl>
                                          <p:spTgt spid="83"/>
                                        </p:tgtEl>
                                        <p:attrNameLst>
                                          <p:attrName>ppt_x</p:attrName>
                                        </p:attrNameLst>
                                      </p:cBhvr>
                                      <p:tavLst>
                                        <p:tav tm="0">
                                          <p:val>
                                            <p:strVal val="#ppt_x"/>
                                          </p:val>
                                        </p:tav>
                                        <p:tav tm="100000">
                                          <p:val>
                                            <p:strVal val="#ppt_x"/>
                                          </p:val>
                                        </p:tav>
                                      </p:tavLst>
                                    </p:anim>
                                    <p:anim calcmode="lin" valueType="num">
                                      <p:cBhvr additive="base">
                                        <p:cTn id="141"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 calcmode="lin" valueType="num">
                                      <p:cBhvr additive="repl">
                                        <p:cTn id="146"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7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anim calcmode="lin" valueType="num">
                                      <p:cBhvr additive="repl">
                                        <p:cTn id="153"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155" dur="500"/>
                                        <p:tgtEl>
                                          <p:spTgt spid="7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5">
                                            <p:txEl>
                                              <p:pRg st="2" end="2"/>
                                            </p:txEl>
                                          </p:spTgt>
                                        </p:tgtEl>
                                        <p:attrNameLst>
                                          <p:attrName>style.visibility</p:attrName>
                                        </p:attrNameLst>
                                      </p:cBhvr>
                                      <p:to>
                                        <p:strVal val="visible"/>
                                      </p:to>
                                    </p:set>
                                    <p:anim calcmode="lin" valueType="num">
                                      <p:cBhvr additive="repl">
                                        <p:cTn id="160"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162" dur="500"/>
                                        <p:tgtEl>
                                          <p:spTgt spid="75">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75">
                                            <p:txEl>
                                              <p:pRg st="3" end="3"/>
                                            </p:txEl>
                                          </p:spTgt>
                                        </p:tgtEl>
                                        <p:attrNameLst>
                                          <p:attrName>style.visibility</p:attrName>
                                        </p:attrNameLst>
                                      </p:cBhvr>
                                      <p:to>
                                        <p:strVal val="visible"/>
                                      </p:to>
                                    </p:set>
                                    <p:anim calcmode="lin" valueType="num">
                                      <p:cBhvr additive="repl">
                                        <p:cTn id="167"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168" dur="500" fill="hold"/>
                                        <p:tgtEl>
                                          <p:spTgt spid="75">
                                            <p:txEl>
                                              <p:pRg st="3" end="3"/>
                                            </p:txEl>
                                          </p:spTgt>
                                        </p:tgtEl>
                                        <p:attrNameLst>
                                          <p:attrName>ppt_h</p:attrName>
                                        </p:attrNameLst>
                                      </p:cBhvr>
                                      <p:tavLst>
                                        <p:tav tm="0">
                                          <p:val>
                                            <p:fltVal val="0"/>
                                          </p:val>
                                        </p:tav>
                                        <p:tav tm="100000">
                                          <p:val>
                                            <p:strVal val="#ppt_h"/>
                                          </p:val>
                                        </p:tav>
                                      </p:tavLst>
                                    </p:anim>
                                    <p:animEffect filter="fade" transition="in">
                                      <p:cBhvr additive="repl">
                                        <p:cTn id="169" dur="500"/>
                                        <p:tgtEl>
                                          <p:spTgt spid="75">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75">
                                            <p:txEl>
                                              <p:pRg st="4" end="4"/>
                                            </p:txEl>
                                          </p:spTgt>
                                        </p:tgtEl>
                                        <p:attrNameLst>
                                          <p:attrName>style.visibility</p:attrName>
                                        </p:attrNameLst>
                                      </p:cBhvr>
                                      <p:to>
                                        <p:strVal val="visible"/>
                                      </p:to>
                                    </p:set>
                                    <p:anim calcmode="lin" valueType="num">
                                      <p:cBhvr additive="repl">
                                        <p:cTn id="174"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175" dur="500" fill="hold"/>
                                        <p:tgtEl>
                                          <p:spTgt spid="75">
                                            <p:txEl>
                                              <p:pRg st="4" end="4"/>
                                            </p:txEl>
                                          </p:spTgt>
                                        </p:tgtEl>
                                        <p:attrNameLst>
                                          <p:attrName>ppt_h</p:attrName>
                                        </p:attrNameLst>
                                      </p:cBhvr>
                                      <p:tavLst>
                                        <p:tav tm="0">
                                          <p:val>
                                            <p:fltVal val="0"/>
                                          </p:val>
                                        </p:tav>
                                        <p:tav tm="100000">
                                          <p:val>
                                            <p:strVal val="#ppt_h"/>
                                          </p:val>
                                        </p:tav>
                                      </p:tavLst>
                                    </p:anim>
                                    <p:animEffect filter="fade" transition="in">
                                      <p:cBhvr additive="repl">
                                        <p:cTn id="176" dur="500"/>
                                        <p:tgtEl>
                                          <p:spTgt spid="75">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75">
                                            <p:txEl>
                                              <p:pRg st="5" end="5"/>
                                            </p:txEl>
                                          </p:spTgt>
                                        </p:tgtEl>
                                        <p:attrNameLst>
                                          <p:attrName>style.visibility</p:attrName>
                                        </p:attrNameLst>
                                      </p:cBhvr>
                                      <p:to>
                                        <p:strVal val="visible"/>
                                      </p:to>
                                    </p:set>
                                    <p:anim calcmode="lin" valueType="num">
                                      <p:cBhvr additive="repl">
                                        <p:cTn id="181"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182" dur="500" fill="hold"/>
                                        <p:tgtEl>
                                          <p:spTgt spid="75">
                                            <p:txEl>
                                              <p:pRg st="5" end="5"/>
                                            </p:txEl>
                                          </p:spTgt>
                                        </p:tgtEl>
                                        <p:attrNameLst>
                                          <p:attrName>ppt_h</p:attrName>
                                        </p:attrNameLst>
                                      </p:cBhvr>
                                      <p:tavLst>
                                        <p:tav tm="0">
                                          <p:val>
                                            <p:fltVal val="0"/>
                                          </p:val>
                                        </p:tav>
                                        <p:tav tm="100000">
                                          <p:val>
                                            <p:strVal val="#ppt_h"/>
                                          </p:val>
                                        </p:tav>
                                      </p:tavLst>
                                    </p:anim>
                                    <p:animEffect filter="fade" transition="in">
                                      <p:cBhvr additive="repl">
                                        <p:cTn id="183" dur="500"/>
                                        <p:tgtEl>
                                          <p:spTgt spid="75">
                                            <p:txEl>
                                              <p:pRg st="5" end="5"/>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75">
                                            <p:txEl>
                                              <p:pRg st="6" end="6"/>
                                            </p:txEl>
                                          </p:spTgt>
                                        </p:tgtEl>
                                        <p:attrNameLst>
                                          <p:attrName>style.visibility</p:attrName>
                                        </p:attrNameLst>
                                      </p:cBhvr>
                                      <p:to>
                                        <p:strVal val="visible"/>
                                      </p:to>
                                    </p:set>
                                    <p:anim calcmode="lin" valueType="num">
                                      <p:cBhvr additive="repl">
                                        <p:cTn id="188" dur="5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189" dur="500" fill="hold"/>
                                        <p:tgtEl>
                                          <p:spTgt spid="75">
                                            <p:txEl>
                                              <p:pRg st="6" end="6"/>
                                            </p:txEl>
                                          </p:spTgt>
                                        </p:tgtEl>
                                        <p:attrNameLst>
                                          <p:attrName>ppt_h</p:attrName>
                                        </p:attrNameLst>
                                      </p:cBhvr>
                                      <p:tavLst>
                                        <p:tav tm="0">
                                          <p:val>
                                            <p:fltVal val="0"/>
                                          </p:val>
                                        </p:tav>
                                        <p:tav tm="100000">
                                          <p:val>
                                            <p:strVal val="#ppt_h"/>
                                          </p:val>
                                        </p:tav>
                                      </p:tavLst>
                                    </p:anim>
                                    <p:animEffect filter="fade" transition="in">
                                      <p:cBhvr additive="repl">
                                        <p:cTn id="19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62520" y="685440"/>
            <a:ext cx="49528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Ephesians</a:t>
            </a:r>
            <a:endParaRPr b="0" lang="en-US" sz="4400" spc="-1" strike="noStrike">
              <a:solidFill>
                <a:srgbClr val="ccffff"/>
              </a:solidFill>
              <a:latin typeface="Arial"/>
            </a:endParaRPr>
          </a:p>
        </p:txBody>
      </p:sp>
      <p:sp>
        <p:nvSpPr>
          <p:cNvPr id="85" name="PlaceHolder 2"/>
          <p:cNvSpPr>
            <a:spLocks noGrp="1"/>
          </p:cNvSpPr>
          <p:nvPr>
            <p:ph type="subTitle"/>
          </p:nvPr>
        </p:nvSpPr>
        <p:spPr>
          <a:xfrm>
            <a:off x="5029200" y="2286000"/>
            <a:ext cx="3124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 of Christ</a:t>
            </a:r>
            <a:endParaRPr b="0" lang="en-US" sz="3200" spc="-1" strike="noStrike">
              <a:solidFill>
                <a:srgbClr val="ffffff"/>
              </a:solidFill>
              <a:latin typeface="Arial"/>
            </a:endParaRPr>
          </a:p>
        </p:txBody>
      </p:sp>
      <p:pic>
        <p:nvPicPr>
          <p:cNvPr id="86" name="" descr=""/>
          <p:cNvPicPr/>
          <p:nvPr/>
        </p:nvPicPr>
        <p:blipFill>
          <a:blip r:embed="rId2"/>
          <a:stretch/>
        </p:blipFill>
        <p:spPr>
          <a:xfrm>
            <a:off x="609480" y="1981080"/>
            <a:ext cx="3962520" cy="38703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8-25T15:23:32Z</dcterms:modified>
  <cp:revision>234</cp:revision>
  <dc:subject/>
  <dc:title>Discipleship Across the Lifespan</dc:title>
</cp:coreProperties>
</file>