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549-1C0A-425B-995C-BE0A3A89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7BC-3409-4EC7-8B25-43ECEA7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49D-7085-4CE9-8866-04173796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7AA-61BC-41D8-A924-56F840A9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988-1CFD-44B7-B93B-73CAA36E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A28-2CBB-4F84-9E96-07871499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B95-0132-4DBD-AEEE-66563C9F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8FF-1954-480A-84B4-F78C8D47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DA7-1C2B-4ABF-956C-D3639F1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F4D-209E-4733-A19D-7D63D84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5E0-B334-4FE3-9BC8-9B6018F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3A0-17F5-4B38-AC38-9E40B0A1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F879-7177-4B4E-93CF-4CE35624AB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1200"/>
            <a:ext cx="77724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 Black"/>
              </a:rPr>
              <a:t>The Epistles 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&amp;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the Practical Christian Lif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ass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Doctrinal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5653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reckoning men as righteous by crediting them with the righteousness of Christ (Chapter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declaring men to be righteous on the basis of the reckoning described in the previous chapter (Chapter 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Cloud"/>
          <p:cNvSpPr/>
          <p:nvPr/>
        </p:nvSpPr>
        <p:spPr>
          <a:xfrm>
            <a:off x="2209680" y="3886200"/>
            <a:ext cx="3657600" cy="838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bout s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800600"/>
            <a:ext cx="7620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we continue to live in sin?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about the sin that is still in our lives?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adopting us as His children (Chapter 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00200" y="320040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t all Israel is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 is sovereign and able to chose whom He w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vation is offered to all who beli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’s unbelief has resulted in blessings to the Gent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l Israel will be sa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Cloud"/>
          <p:cNvSpPr/>
          <p:nvPr/>
        </p:nvSpPr>
        <p:spPr>
          <a:xfrm>
            <a:off x="914400" y="152280"/>
            <a:ext cx="4191120" cy="137160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Isra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How can we see God as righteous when His own chosen people do not believe and receive His promi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41148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-11</a:t>
            </a:r>
            <a:br>
              <a:rPr sz="32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914400"/>
            <a:ext cx="32004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hapters 12-16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4114800" y="1595520"/>
            <a:ext cx="1828800" cy="11476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895480"/>
            <a:ext cx="3581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 Urge you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763800"/>
            <a:ext cx="7315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sent your bodies a living and holy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conformed to this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transformed by the renewing of your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reak into Groups of 3-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he Epistle to the Roman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14600" y="3049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Activ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1295280" cy="123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2120" y="4343400"/>
            <a:ext cx="312408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1:  Who are we apart from Chri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343400"/>
            <a:ext cx="3124080" cy="1752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2:  Who are we in Chri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1120" y="685440"/>
            <a:ext cx="4952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lossi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638320" y="228600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y in the Jour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2284560"/>
            <a:ext cx="5105520" cy="385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441972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57200"/>
            <a:ext cx="25146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457200"/>
            <a:ext cx="190512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57200"/>
            <a:ext cx="190476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990720"/>
            <a:ext cx="426708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457200"/>
            <a:ext cx="24382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752480"/>
            <a:ext cx="251460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1752480"/>
            <a:ext cx="190512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Fulnes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752480"/>
            <a:ext cx="190476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Imag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1752480"/>
            <a:ext cx="243828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ervant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441972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457200"/>
            <a:ext cx="25146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"/>
            <a:ext cx="190512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457200"/>
            <a:ext cx="190476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990720"/>
            <a:ext cx="426708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57200"/>
            <a:ext cx="24382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752480"/>
            <a:ext cx="251460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 to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Pr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and Work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ministry of the mys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441972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57200"/>
            <a:ext cx="25146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457200"/>
            <a:ext cx="190512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457200"/>
            <a:ext cx="190476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990720"/>
            <a:ext cx="426708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57200"/>
            <a:ext cx="24382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752480"/>
            <a:ext cx="251460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1752480"/>
            <a:ext cx="190512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Fulnes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6880" y="388584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nger of De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ness and faith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nger of 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utline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76160"/>
            <a:ext cx="16765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676520"/>
            <a:ext cx="16765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1676520"/>
            <a:ext cx="167616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676520"/>
            <a:ext cx="16765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1676520"/>
            <a:ext cx="16765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743200"/>
            <a:ext cx="1676520" cy="2286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 to Pau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les as a gen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2743200"/>
            <a:ext cx="50292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Epistles &amp; The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1676520" cy="2286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neral Epi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342900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&amp;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429000"/>
            <a:ext cx="167616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trinal Epi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342900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oral Epi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441972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ctrinal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57200"/>
            <a:ext cx="25146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57200"/>
            <a:ext cx="190512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57200"/>
            <a:ext cx="190476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990720"/>
            <a:ext cx="4267080" cy="761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57200"/>
            <a:ext cx="24382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752480"/>
            <a:ext cx="251460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premac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752480"/>
            <a:ext cx="190512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Fulnes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1752480"/>
            <a:ext cx="190476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Imag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1752480"/>
            <a:ext cx="2438280" cy="1905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ervants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95320" y="3885840"/>
            <a:ext cx="3581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Life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lf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structions to Various Group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ves, be subject to your husbands, as is fitting in the Lord (3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bands, love your wives, and do not be embittered against them (3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, be obedient to your parents in all things (3: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s, do not exasperate your children, that they may not lose heart (3:2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s, in all things obey those who are your masters on earth (3:2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structions to Various Group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s, grant to your slaves justice and fairness, knowing that you too have a Master in heaven (4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l Instruc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ote yourselves to prayer (4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rt in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ttitude of thanksg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ing for us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yourselves with wisdom toward outsiders, making the most of the opportunity (4: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your speech always be with grace, seasoned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 it w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salt, so that you may know how you should respond to each person (4: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rvants of the Gosp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467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chi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ill bring you information about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imus (one of your numb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arch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s his gr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(Barnabas' cous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ho is called Jus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phras (one of your numb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, the beloved phys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ssion Objectiv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asic hermeneutical principles for interpreting and applying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the Big Idea of Romans, Colossians, Philemon, &amp; Ephesi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developing skills to assess aspects of current worldview, ethical practice, and church life in light of theological principles taught in the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om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ghteousness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pistle to the Rom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doctrinal and the most systematic of all of Paul’s writ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seven chapters are characterized by an argumentative style as seen by the repeated expression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What shall we say then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4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6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7: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8: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9: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s 9: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pistle to the Roma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doctrinal and the most systematic of all of Paul’s writ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seven chapters are characterized by an argumentative style as seen by the repeated expression: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What shall we say then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76884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only one of Paul’s epistles written to an audience with whom he had not previously m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ma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600200"/>
            <a:ext cx="2743200" cy="455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By Fa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01640"/>
            <a:ext cx="6248160" cy="455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By Fa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4114800"/>
            <a:ext cx="102060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1297080"/>
            <a:ext cx="1066680" cy="334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: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1297080"/>
            <a:ext cx="1676520" cy="334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6920" y="1297080"/>
            <a:ext cx="5227560" cy="334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1297080"/>
            <a:ext cx="1020600" cy="334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01000" y="762120"/>
            <a:ext cx="1066680" cy="534960"/>
          </a:xfrm>
          <a:prstGeom prst="rect">
            <a:avLst/>
          </a:prstGeom>
          <a:solidFill>
            <a:srgbClr val="770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pilog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762120"/>
            <a:ext cx="1676520" cy="534960"/>
          </a:xfrm>
          <a:prstGeom prst="rect">
            <a:avLst/>
          </a:prstGeom>
          <a:solidFill>
            <a:srgbClr val="770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C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6920" y="762120"/>
            <a:ext cx="5227560" cy="534960"/>
          </a:xfrm>
          <a:prstGeom prst="rect">
            <a:avLst/>
          </a:prstGeom>
          <a:solidFill>
            <a:srgbClr val="770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CTR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762120"/>
            <a:ext cx="1020600" cy="534960"/>
          </a:xfrm>
          <a:prstGeom prst="rect">
            <a:avLst/>
          </a:prstGeom>
          <a:solidFill>
            <a:srgbClr val="770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olog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762120"/>
            <a:ext cx="8991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110280"/>
            <a:ext cx="102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67680" y="762120"/>
            <a:ext cx="0" cy="5348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1297080"/>
            <a:ext cx="8991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066680" y="762120"/>
            <a:ext cx="30240" cy="838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762120"/>
            <a:ext cx="0" cy="1295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76212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2666880"/>
            <a:ext cx="0" cy="7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4114800"/>
            <a:ext cx="0" cy="19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077920"/>
            <a:ext cx="89154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Cloud"/>
          <p:cNvSpPr/>
          <p:nvPr/>
        </p:nvSpPr>
        <p:spPr>
          <a:xfrm>
            <a:off x="76320" y="2438280"/>
            <a:ext cx="2286000" cy="838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edience of Faith (1: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6781680" y="2438280"/>
            <a:ext cx="2286000" cy="838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edience of Faith (16:2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664000"/>
            <a:ext cx="449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ighteousness of God Revea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am not ashamed of the gospel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the power of God for salvation to everyone who belie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it the righteousness of God is rev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>
            <a:off x="1905120" y="2819520"/>
            <a:ext cx="3886200" cy="206208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the righteousness of God revealed in the gosp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49528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wrath of God toward those who sin (Romans 1-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grace of God toward those who believe (Romans 4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Righteousness of God is revealed…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judging the pagans who rejected Him (Chapter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judging the Jews who disobeyed Him (Chapter 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judging all men who have sinned against Him (Chapter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8-21T15:25:38Z</dcterms:modified>
  <cp:revision>231</cp:revision>
  <dc:subject/>
  <dc:title>Discipleship Across the Lifespan</dc:title>
</cp:coreProperties>
</file>