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F07-25D4-4BB0-B941-5911897E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240-6E35-4EA2-A10F-4EFC6AE9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2D5-BC16-4A73-B81E-393F9A50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3E8-BB4E-41D3-9E91-DAFD434E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CD8B-E11D-41CE-BA5E-AA0FE093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B90D-3346-4126-9479-2941DBC9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D47-8C75-4741-91DA-26AAB8C4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E142-F781-4AD2-9623-AC387502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92B5-1E8E-40B1-B0FA-D3F6692D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904-E485-4495-AB1E-C4259D02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F56D-7677-4AB4-B86F-B39CEBBA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6B5E-1E7E-47DF-881D-1B826B96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EC3A-21FF-440D-8574-4CA4B5B3BA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 Incomparable Chr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ossians 1:15-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50436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ll Lamk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2057400"/>
            <a:ext cx="480060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lossia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Issue Facing the Colossian Church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cetic Judaizers who also advocated angel worsh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esis of the Lette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1273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rist is Pre-eminent over ALL, and I (Paul) mean ALL.  Jesus is the only means of our acceptance with Go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urpose of the Lette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273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are “Qualified” by the Father, ONLY in Chr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What’s next in the letter?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1273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laining the Thesis statement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4419720" cy="7617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…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19320"/>
            <a:ext cx="4419720" cy="68580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Qualif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219320"/>
            <a:ext cx="4267080" cy="68580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Qualifi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1905120"/>
            <a:ext cx="4267080" cy="7617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you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81080" y="152280"/>
            <a:ext cx="51818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lossians 1:15-2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2666520"/>
            <a:ext cx="4419720" cy="3886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God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Creator (1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Pre-eminent (1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Head (1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Redeemer (1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complete (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2666880"/>
            <a:ext cx="4267080" cy="3886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ienated, Hostile, evil (2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/why are you saints (2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everance (2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’s Commitment to this Gospel (2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Stevenson</cp:lastModifiedBy>
  <dcterms:modified xsi:type="dcterms:W3CDTF">2010-04-19T03:07:49Z</dcterms:modified>
  <cp:revision>246</cp:revision>
  <dc:subject/>
  <dc:title>Discipleship Across the Lifespan</dc:title>
</cp:coreProperties>
</file>