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62A-942D-4424-ADCE-1B22F693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A31-9E4C-45AD-A7D5-B2A529DB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8FA-6089-4A5A-8282-220C58FD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0E8-7E43-40C7-929A-CDEDF763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E00-EB0D-435E-A82C-B9F2149E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E4A-9422-430D-A179-758F6A69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AB5-2BD9-44E3-9F6C-AA35D316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9FB-D903-4D34-A062-B0EB5CF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8C7-74C3-49EC-A361-B8C06589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3EF-A8FD-4124-BB14-7A1805DC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3FF-95E6-4098-A60E-AA78BBE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722-4D86-4438-814D-ECE412A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03B9-5DCD-4513-B9F6-C27FA32958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 Pastoral Pray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ossians 1:1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436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/JohnStevenson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05740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ssi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48320" y="2362320"/>
            <a:ext cx="21333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32120" y="3327480"/>
            <a:ext cx="44956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5-6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of the hope laid up for you in heaven, of which you previously heard in the word of truth, the gospe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has come to you, just as in all the world also it is constantly bearing fruit and increasing, even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has been do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 also since the day you hea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f 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understood the grace of God in tru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14600" y="2362320"/>
            <a:ext cx="1447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/>
              </a:gs>
              <a:gs pos="100000">
                <a:srgbClr val="3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1480" y="1866960"/>
            <a:ext cx="3733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7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s you learn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Epaphras, our beloved fellow bond-servant, who is a faithful servant of Christ on our behalf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971800" y="3733920"/>
            <a:ext cx="5181120" cy="1434600"/>
            <a:chOff x="2971800" y="3733920"/>
            <a:chExt cx="5181120" cy="1434600"/>
          </a:xfrm>
        </p:grpSpPr>
        <p:sp>
          <p:nvSpPr>
            <p:cNvPr id="111" name=""/>
            <p:cNvSpPr/>
            <p:nvPr/>
          </p:nvSpPr>
          <p:spPr>
            <a:xfrm>
              <a:off x="2971800" y="3733920"/>
              <a:ext cx="5105160" cy="68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00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3733920"/>
              <a:ext cx="2514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ffff"/>
                  </a:solidFill>
                  <a:latin typeface="Bwgrkl"/>
                </a:rPr>
                <a:t>su,ndouloj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440" y="375912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sundoulo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600200" y="4952880"/>
            <a:ext cx="4952880" cy="1556280"/>
            <a:chOff x="1600200" y="4952880"/>
            <a:chExt cx="4952880" cy="1556280"/>
          </a:xfrm>
        </p:grpSpPr>
        <p:sp>
          <p:nvSpPr>
            <p:cNvPr id="115" name=""/>
            <p:cNvSpPr/>
            <p:nvPr/>
          </p:nvSpPr>
          <p:spPr>
            <a:xfrm>
              <a:off x="1676520" y="4952880"/>
              <a:ext cx="487656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3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0200" y="4952880"/>
              <a:ext cx="2666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ffff"/>
                  </a:solidFill>
                  <a:latin typeface="Bwgrkl"/>
                </a:rPr>
                <a:t>dia,konoj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36960" y="50418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diakono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7-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s you learn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Epaphras, our beloved fellow bond-servant, who is a faithful servant of Christ on our behalf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also informed us of your love in the Spir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819520"/>
            <a:ext cx="4191120" cy="1371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ayer of Thanksgi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905120"/>
            <a:ext cx="4191120" cy="91440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:3-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905120"/>
            <a:ext cx="3962160" cy="91440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:9-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09480"/>
            <a:ext cx="8153280" cy="1295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14600" y="838080"/>
            <a:ext cx="4110120" cy="895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ul's Pray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819520"/>
            <a:ext cx="3962160" cy="1371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ayer of Interc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191120"/>
            <a:ext cx="4191120" cy="19810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ul thanks God for their conver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191120"/>
            <a:ext cx="3962160" cy="19810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ul prays for their sanc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son also, since the day we hea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f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e have not ceased to pray for you and to ask that you may be filled with the knowledge of His will in all spiritual wisdom and understand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267080"/>
            <a:ext cx="2362320" cy="1676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Will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4267080"/>
            <a:ext cx="6019920" cy="8384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things God has pla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5105520"/>
            <a:ext cx="6019920" cy="8380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things God has comm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at you will walk in a manner worthy of the Lord, to pleas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ll respects, bearing fruit in every good work and increasing in the knowledge of Go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038480"/>
            <a:ext cx="3809880" cy="7621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Verse 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800600"/>
            <a:ext cx="3809880" cy="1600200"/>
          </a:xfrm>
          <a:prstGeom prst="rect">
            <a:avLst/>
          </a:prstGeom>
          <a:gradFill rotWithShape="0">
            <a:gsLst>
              <a:gs pos="0">
                <a:srgbClr val="2952a3"/>
              </a:gs>
              <a:gs pos="100000">
                <a:srgbClr val="1225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to know God’s wil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038480"/>
            <a:ext cx="3809880" cy="7621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Verse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800600"/>
            <a:ext cx="3809880" cy="1600200"/>
          </a:xfrm>
          <a:prstGeom prst="rect">
            <a:avLst/>
          </a:prstGeom>
          <a:gradFill rotWithShape="0">
            <a:gsLst>
              <a:gs pos="0">
                <a:srgbClr val="2952a3"/>
              </a:gs>
              <a:gs pos="100000">
                <a:srgbClr val="1225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you can pleas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11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ed with all power, according to His glorious might, for the attaining of all steadfastness and patience; joyous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ing thanks to the Father, who has qualified us to share in the inheritance of the saints in L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472428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is the inheritanc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LORD is the portion of my inheritance and my cup;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You support my lot. (Psalm 16:5).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om have I in heaven but You?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besides You, I desire nothing on earth.  </a:t>
            </a:r>
            <a:br>
              <a:rPr sz="36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6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My flesh and my heart may fail,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ut God is the strength of my heart and my portion forever. (Psalm 73:25-26)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The LORD is my portion,” says my soul,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Therefore I have hope in Him.” (Lamentations 3:24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13-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rescued us from the domain of darkness, and transferred us to the kingdom of His beloved Son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whom we have redemption, the forgiveness of si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4343400"/>
            <a:ext cx="2590920" cy="1739880"/>
          </a:xfrm>
          <a:prstGeom prst="rect">
            <a:avLst/>
          </a:prstGeom>
          <a:gradFill rotWithShape="0">
            <a:gsLst>
              <a:gs pos="0">
                <a:srgbClr val="2952a3"/>
              </a:gs>
              <a:gs pos="100000">
                <a:srgbClr val="1225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ingdom of His beloved 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5029200"/>
            <a:ext cx="1905120" cy="533520"/>
          </a:xfrm>
          <a:prstGeom prst="rightArrow">
            <a:avLst>
              <a:gd name="adj1" fmla="val 50000"/>
              <a:gd name="adj2" fmla="val 89271"/>
            </a:avLst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648320"/>
            <a:ext cx="2590920" cy="1191240"/>
          </a:xfrm>
          <a:prstGeom prst="rect">
            <a:avLst/>
          </a:prstGeom>
          <a:gradFill rotWithShape="0">
            <a:gsLst>
              <a:gs pos="0">
                <a:srgbClr val="2952a3"/>
              </a:gs>
              <a:gs pos="100000">
                <a:srgbClr val="1225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main of Dark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2590920" cy="175248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undational Epistl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971440" y="914400"/>
            <a:ext cx="289548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o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Corinth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 Corinth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ala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666880"/>
            <a:ext cx="2590920" cy="175284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ison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419720"/>
            <a:ext cx="2590920" cy="114300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phetic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562720"/>
            <a:ext cx="2590920" cy="1218960"/>
          </a:xfrm>
          <a:prstGeom prst="rect">
            <a:avLst/>
          </a:prstGeom>
          <a:gradFill rotWithShape="0">
            <a:gsLst>
              <a:gs pos="0">
                <a:srgbClr val="640000"/>
              </a:gs>
              <a:gs pos="100000">
                <a:srgbClr val="2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storal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666880"/>
            <a:ext cx="2895480" cy="1752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hes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hilipp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loss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hile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4419720"/>
            <a:ext cx="289548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Thessalon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 Thessalon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5562720"/>
            <a:ext cx="289548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Timo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 Timo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914400"/>
            <a:ext cx="289584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rist &amp; the 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666880"/>
            <a:ext cx="2895840" cy="1752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rist &amp; 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419720"/>
            <a:ext cx="289584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rist &amp; the Second 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562720"/>
            <a:ext cx="289584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rist &amp; the Con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152280"/>
            <a:ext cx="518148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pistles of Pau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800600" y="2819520"/>
            <a:ext cx="22860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52a3"/>
              </a:gs>
              <a:gs pos="100000">
                <a:srgbClr val="1225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13-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e rescued us from the domain of darkness, and transferred us to the kingdom of His beloved Son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whom we have redemption, the forgiveness of si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19320" y="5105520"/>
            <a:ext cx="6172200" cy="1434600"/>
            <a:chOff x="1219320" y="5105520"/>
            <a:chExt cx="6172200" cy="1434600"/>
          </a:xfrm>
        </p:grpSpPr>
        <p:sp>
          <p:nvSpPr>
            <p:cNvPr id="159" name=""/>
            <p:cNvSpPr/>
            <p:nvPr/>
          </p:nvSpPr>
          <p:spPr>
            <a:xfrm>
              <a:off x="1295280" y="5105520"/>
              <a:ext cx="609624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952a3"/>
                </a:gs>
                <a:gs pos="100000">
                  <a:srgbClr val="1225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19320" y="5105520"/>
              <a:ext cx="3352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ffff"/>
                  </a:solidFill>
                  <a:latin typeface="Bwgrkl"/>
                </a:rPr>
                <a:t>avpolu,trwsij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55920" y="51274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apolutrosi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362320"/>
            <a:ext cx="441972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25146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1828800"/>
            <a:ext cx="190512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828800"/>
            <a:ext cx="190476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362320"/>
            <a:ext cx="426708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1828800"/>
            <a:ext cx="24382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124080"/>
            <a:ext cx="251460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124080"/>
            <a:ext cx="190512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Fulnes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124080"/>
            <a:ext cx="182880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Imag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124080"/>
            <a:ext cx="243828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ervant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19520" y="838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ssi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an apostle of Jesus Christ by the will of God, and Timothy our broth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2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saints and faithful brethren in Chri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o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olossae: Grace to you and peace from God our Fa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8162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816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2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saints and faithful brethren in Chri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o a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olossae: Grace to you and peace from God our Fa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114800" cy="3106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9829800" cy="6848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800600" y="2133720"/>
            <a:ext cx="17622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ssa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lossians 1:3-4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2949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ive thanks to God, the Father of our Lord Jesus Christ, praying always for yo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we heard of your faith in Christ Jesus and the love which you have for all the sain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324480" y="5715000"/>
            <a:ext cx="2286000" cy="685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h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6720" y="3543480"/>
            <a:ext cx="4952520" cy="2286000"/>
            <a:chOff x="3276720" y="3543480"/>
            <a:chExt cx="4952520" cy="2286000"/>
          </a:xfrm>
        </p:grpSpPr>
        <p:grpSp>
          <p:nvGrpSpPr>
            <p:cNvPr id="88" name=""/>
            <p:cNvGrpSpPr/>
            <p:nvPr/>
          </p:nvGrpSpPr>
          <p:grpSpPr>
            <a:xfrm>
              <a:off x="3276720" y="3543480"/>
              <a:ext cx="4952520" cy="2286000"/>
              <a:chOff x="3276720" y="3543480"/>
              <a:chExt cx="4952520" cy="2286000"/>
            </a:xfrm>
          </p:grpSpPr>
          <p:sp>
            <p:nvSpPr>
              <p:cNvPr id="89" name=""/>
              <p:cNvSpPr/>
              <p:nvPr/>
            </p:nvSpPr>
            <p:spPr>
              <a:xfrm rot="5400000">
                <a:off x="5714640" y="3314880"/>
                <a:ext cx="2210040" cy="2819160"/>
              </a:xfrm>
              <a:custGeom>
                <a:avLst/>
                <a:gdLst>
                  <a:gd name="textAreaLeft" fmla="*/ 0 w 2210040"/>
                  <a:gd name="textAreaRight" fmla="*/ 2210400 w 2210040"/>
                  <a:gd name="textAreaTop" fmla="*/ 0 h 2819160"/>
                  <a:gd name="textAreaBottom" fmla="*/ 2819520 h 28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17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543480"/>
                <a:ext cx="2286000" cy="761760"/>
              </a:xfrm>
              <a:prstGeom prst="rect">
                <a:avLst/>
              </a:prstGeom>
              <a:gradFill rotWithShape="0">
                <a:gsLst>
                  <a:gs pos="0">
                    <a:srgbClr val="00172f"/>
                  </a:gs>
                  <a:gs pos="100000">
                    <a:srgbClr val="0033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191120" y="3619440"/>
              <a:ext cx="32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because of…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666880" y="4152960"/>
            <a:ext cx="3962520" cy="685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love you h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562040"/>
            <a:ext cx="5257800" cy="685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aying always for you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324160"/>
            <a:ext cx="5257800" cy="685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aving hear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009960"/>
            <a:ext cx="3124440" cy="685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f your fa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70200"/>
            <a:ext cx="99036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rot="10800000">
            <a:off x="609120" y="1638360"/>
            <a:ext cx="990720" cy="1371600"/>
          </a:xfrm>
          <a:custGeom>
            <a:avLst/>
            <a:gdLst>
              <a:gd name="textAreaLeft" fmla="*/ 360 w 990720"/>
              <a:gd name="textAreaRight" fmla="*/ 991440 w 9907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60" stAng="10800000" swAng="5400000"/>
                <a:lnTo>
                  <a:pt x="12427" y="4000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158"/>
                </a:lnTo>
                <a:lnTo>
                  <a:pt x="12427" y="8158"/>
                </a:lnTo>
                <a:arcTo wR="8269" hR="4002" stAng="16200000" swAng="-5400000"/>
                <a:lnTo>
                  <a:pt x="4158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rot="10800000">
            <a:off x="609120" y="952560"/>
            <a:ext cx="990720" cy="1371600"/>
          </a:xfrm>
          <a:custGeom>
            <a:avLst/>
            <a:gdLst>
              <a:gd name="textAreaLeft" fmla="*/ 360 w 990720"/>
              <a:gd name="textAreaRight" fmla="*/ 991440 w 9907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60" stAng="10800000" swAng="5400000"/>
                <a:lnTo>
                  <a:pt x="12427" y="4000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158"/>
                </a:lnTo>
                <a:lnTo>
                  <a:pt x="12427" y="8158"/>
                </a:lnTo>
                <a:arcTo wR="8269" hR="4002" stAng="16200000" swAng="-5400000"/>
                <a:lnTo>
                  <a:pt x="4158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43080"/>
            <a:ext cx="396216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give thanks…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04-11T13:02:16Z</dcterms:modified>
  <cp:revision>243</cp:revision>
  <dc:subject/>
  <dc:title>Discipleship Across the Lifespan</dc:title>
</cp:coreProperties>
</file>