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36.png" ContentType="image/png"/>
  <Override PartName="/ppt/media/image34.jpeg" ContentType="image/jpeg"/>
  <Override PartName="/ppt/media/image7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ED8-E1E9-4AD2-A769-44CB3304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397-B6E5-4551-8D46-9F4E517A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321-A743-4CF6-BCB3-58A3433C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F4F-0A6E-4C2A-9E16-671C79B4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2AA-D537-4257-A232-41F48EF7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D61-B959-4CA1-A8B7-91211A8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9E2-94F2-4CB1-AFB9-07D62431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5C0-9799-4CDB-967A-0AF38FE9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A89-3E6A-4866-9384-A327B656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2A8-51C9-4164-8039-1BB7F5E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EFC-9BBF-4176-B31E-C216B482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89B-D80F-4B7B-B146-4C283A4A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A32B-A56B-45CE-B539-23B5FE10FA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jpe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jpe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Enlighte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19520" y="5424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7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295280" y="1600200"/>
            <a:ext cx="6248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History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ianit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666520" y="205740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ocated a public school system for rich and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ght to invent a universal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81360" y="99036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92-167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WordArt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0"/>
          <p:cNvSpPr txBox="1"/>
          <p:nvPr/>
        </p:nvSpPr>
        <p:spPr>
          <a:xfrm>
            <a:off x="838080" y="380880"/>
            <a:ext cx="7239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n Amos Comeni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2" descr="C:\Users\Owner\Desktop\Portrait_of_an_Old_Man,_Rembrandt.jpg"/>
          <p:cNvPicPr/>
          <p:nvPr/>
        </p:nvPicPr>
        <p:blipFill>
          <a:blip r:embed="rId4"/>
          <a:stretch/>
        </p:blipFill>
        <p:spPr>
          <a:xfrm>
            <a:off x="609480" y="1676520"/>
            <a:ext cx="1981440" cy="471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Owner\Desktop\Richard_Baxter_Colour.jpg"/>
          <p:cNvPicPr/>
          <p:nvPr/>
        </p:nvPicPr>
        <p:blipFill>
          <a:blip r:embed="rId1"/>
          <a:stretch/>
        </p:blipFill>
        <p:spPr>
          <a:xfrm>
            <a:off x="457200" y="1066680"/>
            <a:ext cx="2006640" cy="549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666520" y="2057400"/>
            <a:ext cx="58676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Puritan Pas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ly debate with John Owen over particular ato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d chaplaincy under Crom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bidden to pr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15 - 169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2" name="WordArt 4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0"/>
          <p:cNvSpPr txBox="1"/>
          <p:nvPr/>
        </p:nvSpPr>
        <p:spPr>
          <a:xfrm>
            <a:off x="18288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chard Baxt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Owner\Desktop\Reformed_Pastor.jpg"/>
          <p:cNvPicPr/>
          <p:nvPr/>
        </p:nvPicPr>
        <p:blipFill>
          <a:blip r:embed="rId1"/>
          <a:stretch/>
        </p:blipFill>
        <p:spPr>
          <a:xfrm>
            <a:off x="5105520" y="1066680"/>
            <a:ext cx="3452760" cy="549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Owner\Desktop\Richard_Baxter_Colour.jpg"/>
          <p:cNvPicPr/>
          <p:nvPr/>
        </p:nvPicPr>
        <p:blipFill>
          <a:blip r:embed="rId2"/>
          <a:stretch/>
        </p:blipFill>
        <p:spPr>
          <a:xfrm>
            <a:off x="457200" y="1066680"/>
            <a:ext cx="2006640" cy="5499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15 - 169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WordArt 4" descr=""/>
          <p:cNvPicPr/>
          <p:nvPr/>
        </p:nvPicPr>
        <p:blipFill>
          <a:blip r:embed="rId3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0"/>
          <p:cNvSpPr txBox="1"/>
          <p:nvPr/>
        </p:nvSpPr>
        <p:spPr>
          <a:xfrm>
            <a:off x="18288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chard Baxt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Owner\Desktop\Richard_Baxter_Colour.jpg"/>
          <p:cNvPicPr/>
          <p:nvPr/>
        </p:nvPicPr>
        <p:blipFill>
          <a:blip r:embed="rId1"/>
          <a:stretch/>
        </p:blipFill>
        <p:spPr>
          <a:xfrm>
            <a:off x="457200" y="1066680"/>
            <a:ext cx="2006640" cy="5499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15 - 169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1" name="WordArt 4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0"/>
          <p:cNvSpPr txBox="1"/>
          <p:nvPr/>
        </p:nvSpPr>
        <p:spPr>
          <a:xfrm>
            <a:off x="18288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chard Baxt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3733920" y="2408400"/>
            <a:ext cx="2895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hard, for the well is deep, and our brains are shallow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Owner\Desktop\Richard_Baxter_Colour.jpg"/>
          <p:cNvPicPr/>
          <p:nvPr/>
        </p:nvPicPr>
        <p:blipFill>
          <a:blip r:embed="rId1"/>
          <a:stretch/>
        </p:blipFill>
        <p:spPr>
          <a:xfrm>
            <a:off x="457200" y="1066680"/>
            <a:ext cx="2006640" cy="549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15 - 169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WordArt 4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0"/>
          <p:cNvSpPr txBox="1"/>
          <p:nvPr/>
        </p:nvSpPr>
        <p:spPr>
          <a:xfrm>
            <a:off x="18288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chard Baxt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3200400" y="2541600"/>
            <a:ext cx="4876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 siege to your sins, and starve them out by keeping away the food and fuel which is their maintenance and life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Owner\Desktop\Richard_Baxter_Colour.jpg"/>
          <p:cNvPicPr/>
          <p:nvPr/>
        </p:nvPicPr>
        <p:blipFill>
          <a:blip r:embed="rId1"/>
          <a:stretch/>
        </p:blipFill>
        <p:spPr>
          <a:xfrm>
            <a:off x="457200" y="1066680"/>
            <a:ext cx="2006640" cy="5499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15 - 169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1" name="WordArt 4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0"/>
          <p:cNvSpPr txBox="1"/>
          <p:nvPr/>
        </p:nvSpPr>
        <p:spPr>
          <a:xfrm>
            <a:off x="18288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chard Baxt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2666880" y="2286000"/>
            <a:ext cx="52578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a man a sermon with a broken head and telling him to be right with God is equal to telling a man with a broken leg to get up and run a race.” 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Owner\Desktop\Richard_Baxter_Colour.jpg"/>
          <p:cNvPicPr/>
          <p:nvPr/>
        </p:nvPicPr>
        <p:blipFill>
          <a:blip r:embed="rId1"/>
          <a:stretch/>
        </p:blipFill>
        <p:spPr>
          <a:xfrm>
            <a:off x="457200" y="1066680"/>
            <a:ext cx="2006640" cy="5499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15 - 169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6" name="WordArt 4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0"/>
          <p:cNvSpPr txBox="1"/>
          <p:nvPr/>
        </p:nvSpPr>
        <p:spPr>
          <a:xfrm>
            <a:off x="18288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chard Baxte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Title 1"/>
          <p:cNvSpPr/>
          <p:nvPr/>
        </p:nvSpPr>
        <p:spPr>
          <a:xfrm>
            <a:off x="2463840" y="2286000"/>
            <a:ext cx="6222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likely to see no general reformation till you procure family reformation. Some little obscure religion there may be in here and there one; but while it sticks in single persons, and is not promoted by these societies, it doth not prosper, nor promise much for future increase.” 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Owner\Desktop\BRAND_BIO_BSFC_154723_SF_2997_005_20140124_V1_HD_768x432-16x9.jpg"/>
          <p:cNvPicPr/>
          <p:nvPr/>
        </p:nvPicPr>
        <p:blipFill>
          <a:blip r:embed="rId1"/>
          <a:stretch/>
        </p:blipFill>
        <p:spPr>
          <a:xfrm>
            <a:off x="380880" y="2286000"/>
            <a:ext cx="583884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343400" y="2666520"/>
            <a:ext cx="4191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’etat, c’est mo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“The state, it is I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ked Edict of Nantes &amp; Huguenot free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,000 Huguenots flee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WordArt 10"/>
          <p:cNvSpPr txBox="1"/>
          <p:nvPr/>
        </p:nvSpPr>
        <p:spPr>
          <a:xfrm>
            <a:off x="838080" y="380880"/>
            <a:ext cx="7315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uis XIV of Franc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1371600" y="1447920"/>
            <a:ext cx="6095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Sun King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igned 1661 - 171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Owner\Documents\Powerpoints\Bible Maps\Europ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10"/>
          <p:cNvSpPr txBox="1"/>
          <p:nvPr/>
        </p:nvSpPr>
        <p:spPr>
          <a:xfrm>
            <a:off x="685800" y="30492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r of Spanish Success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Rounded Rectangular Callout 4"/>
          <p:cNvSpPr/>
          <p:nvPr/>
        </p:nvSpPr>
        <p:spPr>
          <a:xfrm>
            <a:off x="2133720" y="5410080"/>
            <a:ext cx="3657600" cy="1073160"/>
          </a:xfrm>
          <a:prstGeom prst="wedgeRoundRectCallout">
            <a:avLst>
              <a:gd name="adj1" fmla="val -69620"/>
              <a:gd name="adj2" fmla="val -88152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arles II of Spa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ies with no hei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6" name="Picture 3" descr="C:\Users\Owner\Desktop\BRAND_BIO_BSFC_154723_SF_2997_005_20140124_V1_HD_768x432-16x9.jpg"/>
          <p:cNvPicPr/>
          <p:nvPr/>
        </p:nvPicPr>
        <p:blipFill>
          <a:blip r:embed="rId5"/>
          <a:stretch/>
        </p:blipFill>
        <p:spPr>
          <a:xfrm>
            <a:off x="2286000" y="2514600"/>
            <a:ext cx="1143000" cy="13143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2895480" y="118584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01 - 171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Rounded Rectangular Callout 7"/>
          <p:cNvSpPr/>
          <p:nvPr/>
        </p:nvSpPr>
        <p:spPr>
          <a:xfrm>
            <a:off x="4114800" y="1447920"/>
            <a:ext cx="3352680" cy="2590560"/>
          </a:xfrm>
          <a:prstGeom prst="wedgeRoundRectCallout">
            <a:avLst>
              <a:gd name="adj1" fmla="val -75898"/>
              <a:gd name="adj2" fmla="val 19171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grandson c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 king of Spa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make it 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ingle na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ith France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Owner\Documents\Powerpoints\Bible Maps\Europ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0"/>
          <p:cNvSpPr txBox="1"/>
          <p:nvPr/>
        </p:nvSpPr>
        <p:spPr>
          <a:xfrm>
            <a:off x="685800" y="30492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r of Spanish Success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Rounded Rectangular Callout 4"/>
          <p:cNvSpPr/>
          <p:nvPr/>
        </p:nvSpPr>
        <p:spPr>
          <a:xfrm>
            <a:off x="247680" y="1981080"/>
            <a:ext cx="1143000" cy="762120"/>
          </a:xfrm>
          <a:prstGeom prst="wedgeRoundRectCallout">
            <a:avLst>
              <a:gd name="adj1" fmla="val 102087"/>
              <a:gd name="adj2" fmla="val -72055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!!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2" name="Picture 3" descr="C:\Users\Owner\Desktop\BRAND_BIO_BSFC_154723_SF_2997_005_20140124_V1_HD_768x432-16x9.jpg"/>
          <p:cNvPicPr/>
          <p:nvPr/>
        </p:nvPicPr>
        <p:blipFill>
          <a:blip r:embed="rId5"/>
          <a:stretch/>
        </p:blipFill>
        <p:spPr>
          <a:xfrm>
            <a:off x="2286000" y="2514600"/>
            <a:ext cx="1143000" cy="13143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ular Callout 6"/>
          <p:cNvSpPr/>
          <p:nvPr/>
        </p:nvSpPr>
        <p:spPr>
          <a:xfrm>
            <a:off x="4800600" y="1219320"/>
            <a:ext cx="1143000" cy="761760"/>
          </a:xfrm>
          <a:prstGeom prst="wedgeRoundRectCallout">
            <a:avLst>
              <a:gd name="adj1" fmla="val -137912"/>
              <a:gd name="adj2" fmla="val -3277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!!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Rounded Rectangular Callout 8"/>
          <p:cNvSpPr/>
          <p:nvPr/>
        </p:nvSpPr>
        <p:spPr>
          <a:xfrm>
            <a:off x="5743440" y="2895480"/>
            <a:ext cx="1143000" cy="762120"/>
          </a:xfrm>
          <a:prstGeom prst="wedgeRoundRectCallout">
            <a:avLst>
              <a:gd name="adj1" fmla="val -105717"/>
              <a:gd name="adj2" fmla="val -79375"/>
              <a:gd name="adj3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!!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Rounded Rectangular Callout 9"/>
          <p:cNvSpPr/>
          <p:nvPr/>
        </p:nvSpPr>
        <p:spPr>
          <a:xfrm>
            <a:off x="7391520" y="1752480"/>
            <a:ext cx="1143000" cy="762120"/>
          </a:xfrm>
          <a:prstGeom prst="wedgeRoundRectCallout">
            <a:avLst>
              <a:gd name="adj1" fmla="val -119375"/>
              <a:gd name="adj2" fmla="val -70592"/>
              <a:gd name="adj3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!!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Text Box 33"/>
          <p:cNvSpPr/>
          <p:nvPr/>
        </p:nvSpPr>
        <p:spPr>
          <a:xfrm>
            <a:off x="-2491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Text Box 34"/>
          <p:cNvSpPr/>
          <p:nvPr/>
        </p:nvSpPr>
        <p:spPr>
          <a:xfrm>
            <a:off x="91440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575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ext Box 35"/>
          <p:cNvSpPr/>
          <p:nvPr/>
        </p:nvSpPr>
        <p:spPr>
          <a:xfrm>
            <a:off x="21337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3352680" y="3657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625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Text Box 37"/>
          <p:cNvSpPr/>
          <p:nvPr/>
        </p:nvSpPr>
        <p:spPr>
          <a:xfrm>
            <a:off x="46483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650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594360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675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WordArt 43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Line 44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Text Box 45"/>
          <p:cNvSpPr/>
          <p:nvPr/>
        </p:nvSpPr>
        <p:spPr>
          <a:xfrm>
            <a:off x="71629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700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Left Brace 1"/>
          <p:cNvSpPr/>
          <p:nvPr/>
        </p:nvSpPr>
        <p:spPr>
          <a:xfrm rot="5400000">
            <a:off x="4114800" y="228600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676160"/>
              <a:gd name="textAreaBottom" fmla="*/ 166428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Text Box 72"/>
          <p:cNvSpPr/>
          <p:nvPr/>
        </p:nvSpPr>
        <p:spPr>
          <a:xfrm>
            <a:off x="6477120" y="2141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ign of Louis XIV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Line 68"/>
          <p:cNvSpPr/>
          <p:nvPr/>
        </p:nvSpPr>
        <p:spPr>
          <a:xfrm>
            <a:off x="2638440" y="2709720"/>
            <a:ext cx="0" cy="668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Line 68"/>
          <p:cNvSpPr/>
          <p:nvPr/>
        </p:nvSpPr>
        <p:spPr>
          <a:xfrm flipV="1">
            <a:off x="3276720" y="41338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Text Box 69"/>
          <p:cNvSpPr/>
          <p:nvPr/>
        </p:nvSpPr>
        <p:spPr>
          <a:xfrm>
            <a:off x="2606760" y="50734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King James Versi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Text Box 73"/>
          <p:cNvSpPr/>
          <p:nvPr/>
        </p:nvSpPr>
        <p:spPr>
          <a:xfrm>
            <a:off x="1295280" y="6273720"/>
            <a:ext cx="2210040" cy="3988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hakespear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Text Box 69"/>
          <p:cNvSpPr/>
          <p:nvPr/>
        </p:nvSpPr>
        <p:spPr>
          <a:xfrm>
            <a:off x="4245120" y="4660920"/>
            <a:ext cx="23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nglish Commonweal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Left Brace 39"/>
          <p:cNvSpPr/>
          <p:nvPr/>
        </p:nvSpPr>
        <p:spPr>
          <a:xfrm flipH="1" rot="5400000">
            <a:off x="5280840" y="4079160"/>
            <a:ext cx="263520" cy="1062000"/>
          </a:xfrm>
          <a:custGeom>
            <a:avLst/>
            <a:gdLst>
              <a:gd name="textAreaLeft" fmla="*/ 168840 w 263520"/>
              <a:gd name="textAreaRight" fmla="*/ 264240 w 263520"/>
              <a:gd name="textAreaTop" fmla="*/ 6840 h 1062000"/>
              <a:gd name="textAreaBottom" fmla="*/ 1055160 h 10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3"/>
                  <a:pt x="10800" y="446"/>
                </a:cubicBezTo>
                <a:lnTo>
                  <a:pt x="10800" y="10354"/>
                </a:lnTo>
                <a:cubicBezTo>
                  <a:pt x="10800" y="10577"/>
                  <a:pt x="5400" y="10800"/>
                  <a:pt x="0" y="10800"/>
                </a:cubicBezTo>
                <a:cubicBezTo>
                  <a:pt x="5400" y="10800"/>
                  <a:pt x="10800" y="11023"/>
                  <a:pt x="10800" y="11246"/>
                </a:cubicBezTo>
                <a:lnTo>
                  <a:pt x="10800" y="21154"/>
                </a:lnTo>
                <a:cubicBezTo>
                  <a:pt x="10800" y="213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6827760" y="4648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urkish Wa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Left Brace 1"/>
          <p:cNvSpPr/>
          <p:nvPr/>
        </p:nvSpPr>
        <p:spPr>
          <a:xfrm rot="5400000">
            <a:off x="7048440" y="179028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2666880"/>
              <a:gd name="textAreaBottom" fmla="*/ 2655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Text Box 72"/>
          <p:cNvSpPr/>
          <p:nvPr/>
        </p:nvSpPr>
        <p:spPr>
          <a:xfrm>
            <a:off x="3695760" y="2293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0 Years Wa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Left Brace 39"/>
          <p:cNvSpPr/>
          <p:nvPr/>
        </p:nvSpPr>
        <p:spPr>
          <a:xfrm flipH="1" rot="5400000">
            <a:off x="7279560" y="4196520"/>
            <a:ext cx="263520" cy="792000"/>
          </a:xfrm>
          <a:custGeom>
            <a:avLst/>
            <a:gdLst>
              <a:gd name="textAreaLeft" fmla="*/ 168840 w 263520"/>
              <a:gd name="textAreaRight" fmla="*/ 264240 w 263520"/>
              <a:gd name="textAreaTop" fmla="*/ 6840 h 792000"/>
              <a:gd name="textAreaBottom" fmla="*/ 7851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9"/>
                  <a:pt x="10800" y="598"/>
                </a:cubicBezTo>
                <a:lnTo>
                  <a:pt x="10800" y="10202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099"/>
                  <a:pt x="10800" y="11398"/>
                </a:cubicBezTo>
                <a:lnTo>
                  <a:pt x="10800" y="21002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1905120" y="1952640"/>
            <a:ext cx="148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dict of Nanc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228600" y="4592520"/>
            <a:ext cx="24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t Bartholomew Day Massacr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Line 68"/>
          <p:cNvSpPr/>
          <p:nvPr/>
        </p:nvSpPr>
        <p:spPr>
          <a:xfrm flipV="1">
            <a:off x="1455840" y="4170240"/>
            <a:ext cx="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Owner\Documents\Powerpoints\Bible Maps\Europ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10"/>
          <p:cNvSpPr txBox="1"/>
          <p:nvPr/>
        </p:nvSpPr>
        <p:spPr>
          <a:xfrm>
            <a:off x="685800" y="30492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r of Spanish Success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Rounded Rectangular Callout 4"/>
          <p:cNvSpPr/>
          <p:nvPr/>
        </p:nvSpPr>
        <p:spPr>
          <a:xfrm>
            <a:off x="247680" y="1981080"/>
            <a:ext cx="1143000" cy="762120"/>
          </a:xfrm>
          <a:prstGeom prst="wedgeRoundRectCallout">
            <a:avLst>
              <a:gd name="adj1" fmla="val 102087"/>
              <a:gd name="adj2" fmla="val -72055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!!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9" name="Picture 3" descr="C:\Users\Owner\Desktop\BRAND_BIO_BSFC_154723_SF_2997_005_20140124_V1_HD_768x432-16x9.jpg"/>
          <p:cNvPicPr/>
          <p:nvPr/>
        </p:nvPicPr>
        <p:blipFill>
          <a:blip r:embed="rId5"/>
          <a:stretch/>
        </p:blipFill>
        <p:spPr>
          <a:xfrm>
            <a:off x="2286000" y="2514600"/>
            <a:ext cx="1143000" cy="1314360"/>
          </a:xfrm>
          <a:prstGeom prst="rect">
            <a:avLst/>
          </a:prstGeom>
          <a:ln w="0">
            <a:noFill/>
          </a:ln>
        </p:spPr>
      </p:pic>
      <p:sp>
        <p:nvSpPr>
          <p:cNvPr id="160" name="Rounded Rectangular Callout 6"/>
          <p:cNvSpPr/>
          <p:nvPr/>
        </p:nvSpPr>
        <p:spPr>
          <a:xfrm>
            <a:off x="4792680" y="1227240"/>
            <a:ext cx="1143000" cy="761760"/>
          </a:xfrm>
          <a:prstGeom prst="wedgeRoundRectCallout">
            <a:avLst>
              <a:gd name="adj1" fmla="val -137912"/>
              <a:gd name="adj2" fmla="val -3277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!!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Rounded Rectangular Callout 8"/>
          <p:cNvSpPr/>
          <p:nvPr/>
        </p:nvSpPr>
        <p:spPr>
          <a:xfrm>
            <a:off x="5638680" y="2971800"/>
            <a:ext cx="2590920" cy="1600200"/>
          </a:xfrm>
          <a:prstGeom prst="wedgeRoundRectCallout">
            <a:avLst>
              <a:gd name="adj1" fmla="val -66120"/>
              <a:gd name="adj2" fmla="val -63467"/>
              <a:gd name="adj3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r I c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nite Austri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Spa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Rounded Rectangular Callout 9"/>
          <p:cNvSpPr/>
          <p:nvPr/>
        </p:nvSpPr>
        <p:spPr>
          <a:xfrm>
            <a:off x="7391520" y="1752480"/>
            <a:ext cx="1143000" cy="762120"/>
          </a:xfrm>
          <a:prstGeom prst="wedgeRoundRectCallout">
            <a:avLst>
              <a:gd name="adj1" fmla="val -119375"/>
              <a:gd name="adj2" fmla="val -70592"/>
              <a:gd name="adj3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!!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Users\Owner\Documents\Powerpoints\Bible Maps\Europ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10"/>
          <p:cNvSpPr txBox="1"/>
          <p:nvPr/>
        </p:nvSpPr>
        <p:spPr>
          <a:xfrm>
            <a:off x="685800" y="30492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r of Spanish Success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Rounded Rectangular Callout 4"/>
          <p:cNvSpPr/>
          <p:nvPr/>
        </p:nvSpPr>
        <p:spPr>
          <a:xfrm>
            <a:off x="247680" y="1981080"/>
            <a:ext cx="1143000" cy="762120"/>
          </a:xfrm>
          <a:prstGeom prst="wedgeRoundRectCallout">
            <a:avLst>
              <a:gd name="adj1" fmla="val 102087"/>
              <a:gd name="adj2" fmla="val -72055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ka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6" name="Picture 3" descr="C:\Users\Owner\Desktop\BRAND_BIO_BSFC_154723_SF_2997_005_20140124_V1_HD_768x432-16x9.jpg"/>
          <p:cNvPicPr/>
          <p:nvPr/>
        </p:nvPicPr>
        <p:blipFill>
          <a:blip r:embed="rId5"/>
          <a:stretch/>
        </p:blipFill>
        <p:spPr>
          <a:xfrm>
            <a:off x="2286000" y="2514600"/>
            <a:ext cx="1143000" cy="1314360"/>
          </a:xfrm>
          <a:prstGeom prst="rect">
            <a:avLst/>
          </a:prstGeom>
          <a:ln w="0">
            <a:noFill/>
          </a:ln>
        </p:spPr>
      </p:pic>
      <p:sp>
        <p:nvSpPr>
          <p:cNvPr id="167" name="Rounded Rectangular Callout 6"/>
          <p:cNvSpPr/>
          <p:nvPr/>
        </p:nvSpPr>
        <p:spPr>
          <a:xfrm>
            <a:off x="4792680" y="1227240"/>
            <a:ext cx="1143000" cy="761760"/>
          </a:xfrm>
          <a:prstGeom prst="wedgeRoundRectCallout">
            <a:avLst>
              <a:gd name="adj1" fmla="val -137912"/>
              <a:gd name="adj2" fmla="val -3277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ka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Rounded Rectangular Callout 8"/>
          <p:cNvSpPr/>
          <p:nvPr/>
        </p:nvSpPr>
        <p:spPr>
          <a:xfrm>
            <a:off x="4237200" y="3171960"/>
            <a:ext cx="3398760" cy="2666880"/>
          </a:xfrm>
          <a:prstGeom prst="wedgeRoundRectCallout">
            <a:avLst>
              <a:gd name="adj1" fmla="val -84495"/>
              <a:gd name="adj2" fmla="val -50504"/>
              <a:gd name="adj3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grandson c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 king of Spa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we will kee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a separa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a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Rounded Rectangular Callout 9"/>
          <p:cNvSpPr/>
          <p:nvPr/>
        </p:nvSpPr>
        <p:spPr>
          <a:xfrm>
            <a:off x="7391520" y="1752480"/>
            <a:ext cx="1143000" cy="762120"/>
          </a:xfrm>
          <a:prstGeom prst="wedgeRoundRectCallout">
            <a:avLst>
              <a:gd name="adj1" fmla="val -119375"/>
              <a:gd name="adj2" fmla="val -70592"/>
              <a:gd name="adj3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ka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Rounded Rectangular Callout 10"/>
          <p:cNvSpPr/>
          <p:nvPr/>
        </p:nvSpPr>
        <p:spPr>
          <a:xfrm>
            <a:off x="5935680" y="1981080"/>
            <a:ext cx="1143000" cy="1067040"/>
          </a:xfrm>
          <a:prstGeom prst="wedgeRoundRectCallout">
            <a:avLst>
              <a:gd name="adj1" fmla="val -114500"/>
              <a:gd name="adj2" fmla="val 15749"/>
              <a:gd name="adj3" fmla="val 16667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hhh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ka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6"/>
          <p:cNvSpPr txBox="1"/>
          <p:nvPr/>
        </p:nvSpPr>
        <p:spPr>
          <a:xfrm>
            <a:off x="600120" y="228600"/>
            <a:ext cx="7848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t and the Enlightenmen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28600" y="1219320"/>
            <a:ext cx="2895480" cy="1145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oman Catholic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28600" y="2365200"/>
            <a:ext cx="2895480" cy="258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raced many art forms, giving rise to Baroque sty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124080" y="1217520"/>
            <a:ext cx="289584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utheran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6019920" y="1217520"/>
            <a:ext cx="289548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lvinist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24080" y="2365200"/>
            <a:ext cx="2895840" cy="258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d some art forms within the ch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019920" y="2363760"/>
            <a:ext cx="2895480" cy="2589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ected religious art as idolatrous in Christian worshi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28600" y="5105520"/>
            <a:ext cx="86868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d to increasingly secular subjects in ar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Users\Owner\Desktop\The_Calling_of_Saint_Matthew-Caravaggo_(1599-1600).jpg"/>
          <p:cNvPicPr/>
          <p:nvPr/>
        </p:nvPicPr>
        <p:blipFill>
          <a:blip r:embed="rId1"/>
          <a:stretch/>
        </p:blipFill>
        <p:spPr>
          <a:xfrm>
            <a:off x="2362320" y="304920"/>
            <a:ext cx="6172200" cy="6340320"/>
          </a:xfrm>
          <a:prstGeom prst="rect">
            <a:avLst/>
          </a:prstGeom>
          <a:ln w="0">
            <a:noFill/>
          </a:ln>
        </p:spPr>
      </p:pic>
      <p:sp>
        <p:nvSpPr>
          <p:cNvPr id="180" name="WordArt 10"/>
          <p:cNvSpPr txBox="1"/>
          <p:nvPr/>
        </p:nvSpPr>
        <p:spPr>
          <a:xfrm>
            <a:off x="228600" y="1522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roque Ar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235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e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k sha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38080" y="6257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ll of St Matthew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Owner\Desktop\Michelangelo_Merisi,_called_Caravaggio_-_The_Crowning_with_Thorns_-_Google_Art_Project.jpg"/>
          <p:cNvPicPr/>
          <p:nvPr/>
        </p:nvPicPr>
        <p:blipFill>
          <a:blip r:embed="rId1"/>
          <a:stretch/>
        </p:blipFill>
        <p:spPr>
          <a:xfrm>
            <a:off x="341280" y="169920"/>
            <a:ext cx="8345520" cy="632916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0"/>
          <p:cNvSpPr txBox="1"/>
          <p:nvPr/>
        </p:nvSpPr>
        <p:spPr>
          <a:xfrm>
            <a:off x="228600" y="1522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roque Ar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4800600" y="6237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rown of Thorns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Owner\Desktop\caravaggio.jpg"/>
          <p:cNvPicPr/>
          <p:nvPr/>
        </p:nvPicPr>
        <p:blipFill>
          <a:blip r:embed="rId1"/>
          <a:stretch/>
        </p:blipFill>
        <p:spPr>
          <a:xfrm>
            <a:off x="363600" y="415800"/>
            <a:ext cx="8170920" cy="5821560"/>
          </a:xfrm>
          <a:prstGeom prst="rect">
            <a:avLst/>
          </a:prstGeom>
          <a:ln w="0">
            <a:noFill/>
          </a:ln>
        </p:spPr>
      </p:pic>
      <p:sp>
        <p:nvSpPr>
          <p:cNvPr id="187" name="WordArt 10"/>
          <p:cNvSpPr txBox="1"/>
          <p:nvPr/>
        </p:nvSpPr>
        <p:spPr>
          <a:xfrm>
            <a:off x="228600" y="1522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roque Ar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2362320" y="62373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credulity of St Thomas” - Caravaggi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s://upload.wikimedia.org/wikipedia/en/1/1c/Janbrueghelark.jpg"/>
          <p:cNvPicPr/>
          <p:nvPr/>
        </p:nvPicPr>
        <p:blipFill>
          <a:blip r:embed="rId1"/>
          <a:stretch/>
        </p:blipFill>
        <p:spPr>
          <a:xfrm>
            <a:off x="198360" y="609480"/>
            <a:ext cx="8624880" cy="54039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0"/>
          <p:cNvSpPr txBox="1"/>
          <p:nvPr/>
        </p:nvSpPr>
        <p:spPr>
          <a:xfrm>
            <a:off x="228600" y="1522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roque Ar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09680" y="623736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Entry of Animals into Noah’s Ark” – Jan Brueghe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286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naissanc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374840"/>
            <a:ext cx="4343400" cy="606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00 - 16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aroqu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572000" y="1374840"/>
            <a:ext cx="4343400" cy="606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0 - 180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28600" y="1981080"/>
            <a:ext cx="4343400" cy="166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d perspective, but failed to capture emotio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0" y="1996920"/>
            <a:ext cx="4343400" cy="166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on drama and emotio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3657600"/>
            <a:ext cx="4343400" cy="2955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is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metr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572000" y="3673440"/>
            <a:ext cx="4343400" cy="2955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na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mmetric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286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naissanc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5720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aroqu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28600" y="1359000"/>
            <a:ext cx="4343400" cy="534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572000" y="1374840"/>
            <a:ext cx="4343400" cy="5330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4" name="Picture 4" descr="'David' by Michelangelo JBU0001.JPG"/>
          <p:cNvPicPr/>
          <p:nvPr/>
        </p:nvPicPr>
        <p:blipFill>
          <a:blip r:embed="rId1"/>
          <a:stretch/>
        </p:blipFill>
        <p:spPr>
          <a:xfrm>
            <a:off x="685800" y="1488960"/>
            <a:ext cx="3429000" cy="5143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Users\Owner\Desktop\bernini_david4.jpg"/>
          <p:cNvPicPr/>
          <p:nvPr/>
        </p:nvPicPr>
        <p:blipFill>
          <a:blip r:embed="rId2"/>
          <a:stretch/>
        </p:blipFill>
        <p:spPr>
          <a:xfrm>
            <a:off x="4915080" y="1488960"/>
            <a:ext cx="3695400" cy="514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286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naissanc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45720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aroqu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28600" y="1359000"/>
            <a:ext cx="4343400" cy="534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0" y="1374840"/>
            <a:ext cx="4343400" cy="5330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4538520" y="-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4691160" y="-122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2" name="Picture 6" descr="Image result for madonna and child renaissance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5195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:\Users\Owner\Desktop\8332.jpg"/>
          <p:cNvPicPr/>
          <p:nvPr/>
        </p:nvPicPr>
        <p:blipFill>
          <a:blip r:embed="rId2"/>
          <a:stretch/>
        </p:blipFill>
        <p:spPr>
          <a:xfrm>
            <a:off x="4995720" y="1463760"/>
            <a:ext cx="3619800" cy="511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428640" y="19051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Estate:  C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Estate:  No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bility of the s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bility of the 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Estate:  Commo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447920" y="380880"/>
            <a:ext cx="5790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ree Estat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2" descr="C:\Users\Owner\Desktop\Cleric-Knight-Workman.jpg"/>
          <p:cNvPicPr/>
          <p:nvPr/>
        </p:nvPicPr>
        <p:blipFill>
          <a:blip r:embed="rId1"/>
          <a:stretch/>
        </p:blipFill>
        <p:spPr>
          <a:xfrm>
            <a:off x="258840" y="1905120"/>
            <a:ext cx="32004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2286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naissanc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45720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aroqu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28600" y="1359000"/>
            <a:ext cx="4343400" cy="534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0" y="1374840"/>
            <a:ext cx="4343400" cy="5330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AutoShape 2"/>
          <p:cNvSpPr/>
          <p:nvPr/>
        </p:nvSpPr>
        <p:spPr>
          <a:xfrm>
            <a:off x="4538520" y="-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4691160" y="-122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0" name="Picture 2" descr="C:\Users\Owner\Desktop\peruginoCrus.jpg"/>
          <p:cNvPicPr/>
          <p:nvPr/>
        </p:nvPicPr>
        <p:blipFill>
          <a:blip r:embed="rId1"/>
          <a:stretch/>
        </p:blipFill>
        <p:spPr>
          <a:xfrm>
            <a:off x="914400" y="1447920"/>
            <a:ext cx="2859120" cy="5249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Owner\Desktop\rub1.jpg"/>
          <p:cNvPicPr/>
          <p:nvPr/>
        </p:nvPicPr>
        <p:blipFill>
          <a:blip r:embed="rId2"/>
          <a:stretch/>
        </p:blipFill>
        <p:spPr>
          <a:xfrm>
            <a:off x="4876920" y="1452600"/>
            <a:ext cx="3700440" cy="510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286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naissanc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572000" y="228600"/>
            <a:ext cx="4343400" cy="1146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aroque Ar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228600" y="1359000"/>
            <a:ext cx="4343400" cy="534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572000" y="1374840"/>
            <a:ext cx="4343400" cy="5330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4538520" y="-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4691160" y="-122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2" descr="C:\Users\Owner\Desktop\APx1989_03_CON_BT_WEB.jpg"/>
          <p:cNvPicPr/>
          <p:nvPr/>
        </p:nvPicPr>
        <p:blipFill>
          <a:blip r:embed="rId1"/>
          <a:stretch/>
        </p:blipFill>
        <p:spPr>
          <a:xfrm>
            <a:off x="287280" y="1660680"/>
            <a:ext cx="4251240" cy="3292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Owner\Desktop\Caravaggio_supper_in_Emmas.jpg"/>
          <p:cNvPicPr/>
          <p:nvPr/>
        </p:nvPicPr>
        <p:blipFill>
          <a:blip r:embed="rId2"/>
          <a:stretch/>
        </p:blipFill>
        <p:spPr>
          <a:xfrm>
            <a:off x="4621320" y="1560600"/>
            <a:ext cx="4257720" cy="354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6"/>
          <p:cNvSpPr txBox="1"/>
          <p:nvPr/>
        </p:nvSpPr>
        <p:spPr>
          <a:xfrm>
            <a:off x="609480" y="28195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the Enlightenmen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133720" y="175248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ilosoph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94 - 1778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743200" y="2285640"/>
            <a:ext cx="5943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ois-Marie Arou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pted pen name after incarc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ed Christia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med Christianity for the fall of 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ed that deity of Christ was a later i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2590920" y="506520"/>
            <a:ext cx="40384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ltair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5" name="Picture 2" descr="C:\Users\Owner\Desktop\Nicolas_de_Largillière,_François-Marie_Arouet_dit_Voltaire_(vers_1724-1725)_-001.jpg"/>
          <p:cNvPicPr/>
          <p:nvPr/>
        </p:nvPicPr>
        <p:blipFill>
          <a:blip r:embed="rId3"/>
          <a:stretch/>
        </p:blipFill>
        <p:spPr>
          <a:xfrm>
            <a:off x="465120" y="1523880"/>
            <a:ext cx="216072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94 - 1778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743200" y="2285640"/>
            <a:ext cx="5943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God did not exist, it would be necessary to invent hi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ed Adam &amp; Eve story and believed different races had different ori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WordArt 10"/>
          <p:cNvSpPr txBox="1"/>
          <p:nvPr/>
        </p:nvSpPr>
        <p:spPr>
          <a:xfrm>
            <a:off x="2590920" y="506520"/>
            <a:ext cx="40384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ltair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9" name="Picture 2" descr="C:\Users\Owner\Desktop\Nicolas_de_Largillière,_François-Marie_Arouet_dit_Voltaire_(vers_1724-1725)_-001.jpg"/>
          <p:cNvPicPr/>
          <p:nvPr/>
        </p:nvPicPr>
        <p:blipFill>
          <a:blip r:embed="rId3"/>
          <a:stretch/>
        </p:blipFill>
        <p:spPr>
          <a:xfrm>
            <a:off x="465120" y="1523880"/>
            <a:ext cx="216072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94 - 1778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WordArt 10"/>
          <p:cNvSpPr txBox="1"/>
          <p:nvPr/>
        </p:nvSpPr>
        <p:spPr>
          <a:xfrm>
            <a:off x="2590920" y="506520"/>
            <a:ext cx="40384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ltair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Picture 2" descr="C:\Users\Owner\Desktop\Nicolas_de_Largillière,_François-Marie_Arouet_dit_Voltaire_(vers_1724-1725)_-001.jpg"/>
          <p:cNvPicPr/>
          <p:nvPr/>
        </p:nvPicPr>
        <p:blipFill>
          <a:blip r:embed="rId3"/>
          <a:stretch/>
        </p:blipFill>
        <p:spPr>
          <a:xfrm>
            <a:off x="465120" y="1523880"/>
            <a:ext cx="2160720" cy="48769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3048120" y="2362320"/>
            <a:ext cx="480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ity is the most ridiculous, the most absurd and bloody religion that has ever infected the world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0481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 from Smy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hatology of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hristian authors thought Jesus would return in 16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har interpreted 1648 as year of rede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ares himself to be the Messiah (164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10"/>
          <p:cNvSpPr txBox="1"/>
          <p:nvPr/>
        </p:nvSpPr>
        <p:spPr>
          <a:xfrm>
            <a:off x="1523880" y="3808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bbatai Zevi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2" descr="C:\Users\Owner\Desktop\Shabbetai-Zevi-192x300.jpg"/>
          <p:cNvPicPr/>
          <p:nvPr/>
        </p:nvPicPr>
        <p:blipFill>
          <a:blip r:embed="rId3"/>
          <a:stretch/>
        </p:blipFill>
        <p:spPr>
          <a:xfrm>
            <a:off x="533520" y="1600200"/>
            <a:ext cx="23209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0481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ocation to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his followers claimed to be Elij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rity throughout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ested in Constantinople and converted to Islam on threat of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1523880" y="3808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bbatai Zevi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2" descr="C:\Users\Owner\Desktop\Shabbetai-Zevi-192x300.jpg"/>
          <p:cNvPicPr/>
          <p:nvPr/>
        </p:nvPicPr>
        <p:blipFill>
          <a:blip r:embed="rId3"/>
          <a:stretch/>
        </p:blipFill>
        <p:spPr>
          <a:xfrm>
            <a:off x="533520" y="1600200"/>
            <a:ext cx="23209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14400" y="2361960"/>
            <a:ext cx="5052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from p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am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ey of Christ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ey of Christi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2840" y="12189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ohn Bunyan</a:t>
            </a:r>
            <a:br>
              <a:rPr sz="32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678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6" name="WordArt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Owner\Desktop\pilgrims-progress-18.jpg"/>
          <p:cNvPicPr/>
          <p:nvPr/>
        </p:nvPicPr>
        <p:blipFill>
          <a:blip r:embed="rId2"/>
          <a:stretch/>
        </p:blipFill>
        <p:spPr>
          <a:xfrm>
            <a:off x="5967360" y="1447920"/>
            <a:ext cx="2414520" cy="5010120"/>
          </a:xfrm>
          <a:prstGeom prst="rect">
            <a:avLst/>
          </a:prstGeom>
          <a:ln w="0">
            <a:noFill/>
          </a:ln>
        </p:spPr>
      </p:pic>
      <p:sp>
        <p:nvSpPr>
          <p:cNvPr id="88" name="WordArt 10"/>
          <p:cNvSpPr txBox="1"/>
          <p:nvPr/>
        </p:nvSpPr>
        <p:spPr>
          <a:xfrm>
            <a:off x="1523880" y="3808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ilgrim’s Progres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371600" y="2438280"/>
            <a:ext cx="45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y of De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ugh of Desp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cket G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ity F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ing Ca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ver of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stial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cations in the Sto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WordArt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Owner\Desktop\pilgrims-progress-18.jpg"/>
          <p:cNvPicPr/>
          <p:nvPr/>
        </p:nvPicPr>
        <p:blipFill>
          <a:blip r:embed="rId2"/>
          <a:stretch/>
        </p:blipFill>
        <p:spPr>
          <a:xfrm>
            <a:off x="5967360" y="1447920"/>
            <a:ext cx="2414520" cy="5010120"/>
          </a:xfrm>
          <a:prstGeom prst="rect">
            <a:avLst/>
          </a:prstGeom>
          <a:ln w="0">
            <a:noFill/>
          </a:ln>
        </p:spPr>
      </p:pic>
      <p:sp>
        <p:nvSpPr>
          <p:cNvPr id="93" name="WordArt 10"/>
          <p:cNvSpPr txBox="1"/>
          <p:nvPr/>
        </p:nvSpPr>
        <p:spPr>
          <a:xfrm>
            <a:off x="1523880" y="3808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ilgrim’s Progres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666520" y="205740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avian Brethren pastor in tradition of John H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sophy:  Integration of all knowledge with the Christian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orial text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asked to be president of Harv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81360" y="99036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92-167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6" name="WordArt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sp>
        <p:nvSpPr>
          <p:cNvPr id="97" name="WordArt 10"/>
          <p:cNvSpPr txBox="1"/>
          <p:nvPr/>
        </p:nvSpPr>
        <p:spPr>
          <a:xfrm>
            <a:off x="838080" y="380880"/>
            <a:ext cx="7239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n Amos Comeni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2" descr="C:\Users\Owner\Desktop\Portrait_of_an_Old_Man,_Rembrandt.jpg"/>
          <p:cNvPicPr/>
          <p:nvPr/>
        </p:nvPicPr>
        <p:blipFill>
          <a:blip r:embed="rId4"/>
          <a:stretch/>
        </p:blipFill>
        <p:spPr>
          <a:xfrm>
            <a:off x="609480" y="1676520"/>
            <a:ext cx="1981440" cy="471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81360" y="990360"/>
            <a:ext cx="54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92-167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0" name="WordArt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7924680" cy="94428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838080" y="380880"/>
            <a:ext cx="7239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n Amos Comeni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2" descr="C:\Users\Owner\Desktop\Portrait_of_an_Old_Man,_Rembrandt.jpg"/>
          <p:cNvPicPr/>
          <p:nvPr/>
        </p:nvPicPr>
        <p:blipFill>
          <a:blip r:embed="rId4"/>
          <a:stretch/>
        </p:blipFill>
        <p:spPr>
          <a:xfrm>
            <a:off x="609480" y="1676520"/>
            <a:ext cx="1981440" cy="4719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2743200" y="2063880"/>
            <a:ext cx="5715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are all citizens of one world, we are all of one blood.  To hate a man because he was born in another country, because he speaks a different language, or because he takes a different view on this subject or that, is a great folly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7-02-27T05:44:50Z</dcterms:modified>
  <cp:revision>512</cp:revision>
  <dc:subject/>
  <dc:title>Church History</dc:title>
</cp:coreProperties>
</file>