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1C6-2B2E-4CBB-BB9E-C0694ACD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4D8-2E81-43AF-9AC5-B891771D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881-67A5-4AD7-9B38-8FC315D1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F24-04B7-450E-A918-E89A325F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39C-FFF8-4B81-8340-C0C5061E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A6F-34F4-4004-86B8-65119DE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7A0-CC84-4954-A29E-A31B9C3D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E98-C8DC-4074-8C52-CD8F4024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B9D-04D3-47A1-B003-0E7AA4DC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9ED-2C9E-4581-AADD-D1E2020D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D49-1316-4EB6-B4D6-CB36BFC5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D90-1DA7-4519-91D9-30E4BDFB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01E9-D834-4522-9853-7418010B3F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fining the Refom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819520" y="5424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6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295280" y="1600200"/>
            <a:ext cx="6248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History o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ianit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Owner\Desktop\425px-Joseph_Martin_Kronheim_-_Foxe's_Book_of_Martyrs_Plate_II_-_Death_of_Admiral_de_Coligny.jpg"/>
          <p:cNvPicPr/>
          <p:nvPr/>
        </p:nvPicPr>
        <p:blipFill>
          <a:blip r:embed="rId1"/>
          <a:stretch/>
        </p:blipFill>
        <p:spPr>
          <a:xfrm>
            <a:off x="5172120" y="1447920"/>
            <a:ext cx="3438360" cy="4884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9903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7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mpted assassination of Huguenot no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ing an uprising, de Medeci had her son authorize the murder of all Huguenot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0,000 Protestants killed i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533520" y="304920"/>
            <a:ext cx="8076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 Bartholomew Day Massacr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971800" y="99072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7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533520" y="304920"/>
            <a:ext cx="8076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 Bartholomew Day Massacr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52680" y="1905120"/>
            <a:ext cx="2514600" cy="11458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nry II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332160" y="3051000"/>
            <a:ext cx="259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st surviving son of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therine de Medici &amp; King of Fran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248520" y="1905120"/>
            <a:ext cx="2514600" cy="11458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nry of Guis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6248520" y="30510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ad of Catholic Leagu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57200" y="1905120"/>
            <a:ext cx="2514600" cy="11458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nry of Navar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457200" y="3051000"/>
            <a:ext cx="25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testant but next in line for the thron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990720" y="380880"/>
            <a:ext cx="7086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Three Henry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352680" y="1905120"/>
            <a:ext cx="2514600" cy="11458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nry II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332160" y="305100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ced to flee Pari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248520" y="1905120"/>
            <a:ext cx="2514600" cy="11458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nry of Guis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6248520" y="3051000"/>
            <a:ext cx="251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vaded Paris on the Day of the Barricades (1588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7200" y="1905120"/>
            <a:ext cx="2514600" cy="11458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nry of Navar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57200" y="3051000"/>
            <a:ext cx="25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testant but next in line for the thron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 rot="5400000">
            <a:off x="5712480" y="2251800"/>
            <a:ext cx="609480" cy="452160"/>
          </a:xfrm>
          <a:prstGeom prst="downArrow">
            <a:avLst>
              <a:gd name="adj1" fmla="val 42194"/>
              <a:gd name="adj2" fmla="val 42426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990720" y="380880"/>
            <a:ext cx="7086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Three Henry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352680" y="1905120"/>
            <a:ext cx="2514600" cy="11458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nry II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3332160" y="305100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s Henry of Guise murder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6248520" y="1905120"/>
            <a:ext cx="2514600" cy="11458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nry of Guis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57200" y="1905120"/>
            <a:ext cx="2514600" cy="11458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nry of Navar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457200" y="3051000"/>
            <a:ext cx="25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testant but next in line for the thron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 rot="16200000">
            <a:off x="5793480" y="2251440"/>
            <a:ext cx="609480" cy="452160"/>
          </a:xfrm>
          <a:prstGeom prst="downArrow">
            <a:avLst>
              <a:gd name="adj1" fmla="val 42194"/>
              <a:gd name="adj2" fmla="val 42426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xit" presetID="31" repeatCount="1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990720" y="380880"/>
            <a:ext cx="7086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Three Henry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352680" y="1905120"/>
            <a:ext cx="2514600" cy="11458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nry II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3332160" y="3051000"/>
            <a:ext cx="259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urdered by a Roman Catholic mon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57200" y="1905120"/>
            <a:ext cx="2514600" cy="114588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nry of Navar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457200" y="3051000"/>
            <a:ext cx="25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testant but next in line for the thron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00400" y="1904760"/>
            <a:ext cx="541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of Navarre converts to Catholicism to become King of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is is worth a ma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ict of Nance (15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uenots allowed to worship priv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ned from Paris &amp; other major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33520" y="533520"/>
            <a:ext cx="8076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guenots in Franc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Picture 2" descr="C:\Users\Owner\Desktop\HenriIV_original.jpg"/>
          <p:cNvPicPr/>
          <p:nvPr/>
        </p:nvPicPr>
        <p:blipFill>
          <a:blip r:embed="rId3"/>
          <a:stretch/>
        </p:blipFill>
        <p:spPr>
          <a:xfrm>
            <a:off x="762120" y="1905120"/>
            <a:ext cx="2209680" cy="437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9000" y="9903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-160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8120" y="1752120"/>
            <a:ext cx="5486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d under Theodore Be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or of theology at University of Leiden in Nether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followers published five points of remonstrance against Calvi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3276720" y="304920"/>
            <a:ext cx="38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cob Armini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6" descr="C:\Users\Owner\Desktop\James_Arminius_2.jpg"/>
          <p:cNvPicPr/>
          <p:nvPr/>
        </p:nvPicPr>
        <p:blipFill>
          <a:blip r:embed="rId3"/>
          <a:stretch/>
        </p:blipFill>
        <p:spPr>
          <a:xfrm>
            <a:off x="685800" y="1600200"/>
            <a:ext cx="2286000" cy="448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080" y="9903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1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is based upon man’s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ton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needs to be regenerated in order to bel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ly Spirit works in man to believe, but man can resist the Spirit’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possible for believers to fall from grace and be l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600200" y="304920"/>
            <a:ext cx="6400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ticles of Remonstranc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4267080" cy="765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rminia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560" y="2361960"/>
            <a:ext cx="4267080" cy="990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 died for each and every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648320" y="155520"/>
            <a:ext cx="4267080" cy="765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vinis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648320" y="2362320"/>
            <a:ext cx="4267080" cy="990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’s death brought some men to salva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04920" y="917640"/>
            <a:ext cx="4267080" cy="1447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determined to save whoever would believe in Jes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648320" y="917640"/>
            <a:ext cx="4267080" cy="1447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determined to save certain people and bring them to faith in Jes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4920" y="3352680"/>
            <a:ext cx="426708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are saved by using their own free will to accept God’s gra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648320" y="3352680"/>
            <a:ext cx="426708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are saved as God draws them to His gra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4724280"/>
            <a:ext cx="4267080" cy="609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’s grace is resistib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4648320" y="4724280"/>
            <a:ext cx="4267080" cy="609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’s grace is irresistib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304920" y="5334120"/>
            <a:ext cx="426708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retain their salvation only as they persevere in fai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648320" y="5334120"/>
            <a:ext cx="426708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ill cause all of those whom He has chosen to persever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static1.squarespace.com/static/536d3c48e4b0fe71c2d20601/t/54f22120e4b0df03d1f037e9/1425154339159/"/>
          <p:cNvPicPr/>
          <p:nvPr/>
        </p:nvPicPr>
        <p:blipFill>
          <a:blip r:embed="rId1"/>
          <a:stretch/>
        </p:blipFill>
        <p:spPr>
          <a:xfrm>
            <a:off x="1066680" y="2971800"/>
            <a:ext cx="7020000" cy="3510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4080" y="9903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18 - 161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at Dordrect in Nether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emned Armini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2362320" y="304920"/>
            <a:ext cx="4800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ynod of Dor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407960" y="1295280"/>
            <a:ext cx="204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-2491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144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1337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2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352680" y="3657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4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6483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594360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8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85800" y="4495680"/>
            <a:ext cx="36576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2860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8545680" y="22096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7848720" y="10224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King James Versi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WordArt 21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7162920" y="3657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Line 24"/>
          <p:cNvSpPr/>
          <p:nvPr/>
        </p:nvSpPr>
        <p:spPr>
          <a:xfrm>
            <a:off x="2438280" y="2133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685800" y="5095800"/>
            <a:ext cx="2743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rich Zwingl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8" name="Group 26"/>
          <p:cNvGrpSpPr/>
          <p:nvPr/>
        </p:nvGrpSpPr>
        <p:grpSpPr>
          <a:xfrm>
            <a:off x="2666880" y="2590560"/>
            <a:ext cx="228600" cy="762120"/>
            <a:chOff x="2666880" y="2590560"/>
            <a:chExt cx="228600" cy="762120"/>
          </a:xfrm>
        </p:grpSpPr>
        <p:sp>
          <p:nvSpPr>
            <p:cNvPr id="69" name="Line 27"/>
            <p:cNvSpPr/>
            <p:nvPr/>
          </p:nvSpPr>
          <p:spPr>
            <a:xfrm>
              <a:off x="266688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71" name="Text Box 29"/>
          <p:cNvSpPr/>
          <p:nvPr/>
        </p:nvSpPr>
        <p:spPr>
          <a:xfrm>
            <a:off x="2438280" y="207324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wingli 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Zuri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114480" y="198108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cover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Line 31"/>
          <p:cNvSpPr/>
          <p:nvPr/>
        </p:nvSpPr>
        <p:spPr>
          <a:xfrm>
            <a:off x="114300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2057400" y="5705640"/>
            <a:ext cx="373392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Calvi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2057400" y="6315120"/>
            <a:ext cx="3886200" cy="4597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Knox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6" name="Group 34"/>
          <p:cNvGrpSpPr/>
          <p:nvPr/>
        </p:nvGrpSpPr>
        <p:grpSpPr>
          <a:xfrm>
            <a:off x="3733920" y="2057040"/>
            <a:ext cx="533160" cy="1295640"/>
            <a:chOff x="3733920" y="2057040"/>
            <a:chExt cx="533160" cy="1295640"/>
          </a:xfrm>
        </p:grpSpPr>
        <p:sp>
          <p:nvSpPr>
            <p:cNvPr id="77" name="Line 35"/>
            <p:cNvSpPr/>
            <p:nvPr/>
          </p:nvSpPr>
          <p:spPr>
            <a:xfrm>
              <a:off x="3733920" y="29718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8" name="Line 36"/>
            <p:cNvSpPr/>
            <p:nvPr/>
          </p:nvSpPr>
          <p:spPr>
            <a:xfrm flipV="1">
              <a:off x="3733920" y="2742840"/>
              <a:ext cx="53316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9" name="Line 37"/>
            <p:cNvSpPr/>
            <p:nvPr/>
          </p:nvSpPr>
          <p:spPr>
            <a:xfrm flipV="1">
              <a:off x="4267080" y="205704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80" name="Text Box 38"/>
          <p:cNvSpPr/>
          <p:nvPr/>
        </p:nvSpPr>
        <p:spPr>
          <a:xfrm>
            <a:off x="3238560" y="123192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nry VII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6248520" y="1371600"/>
            <a:ext cx="166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panish Armada sunk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Line 40"/>
          <p:cNvSpPr/>
          <p:nvPr/>
        </p:nvSpPr>
        <p:spPr>
          <a:xfrm>
            <a:off x="70866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Line 41"/>
          <p:cNvSpPr/>
          <p:nvPr/>
        </p:nvSpPr>
        <p:spPr>
          <a:xfrm>
            <a:off x="5181480" y="1279440"/>
            <a:ext cx="0" cy="16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152960" y="457200"/>
            <a:ext cx="20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Queen Elizabet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85" name="Straight Arrow Connector 2"/>
          <p:cNvCxnSpPr/>
          <p:nvPr/>
        </p:nvCxnSpPr>
        <p:spPr>
          <a:xfrm flipV="1">
            <a:off x="6095520" y="4120920"/>
            <a:ext cx="1080" cy="552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6" name="Text Box 20"/>
          <p:cNvSpPr/>
          <p:nvPr/>
        </p:nvSpPr>
        <p:spPr>
          <a:xfrm>
            <a:off x="4952880" y="46483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t Bartholomew Day Massacr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5116680" y="2273400"/>
            <a:ext cx="143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utch Revol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Right Brace 1"/>
          <p:cNvSpPr/>
          <p:nvPr/>
        </p:nvSpPr>
        <p:spPr>
          <a:xfrm rot="16200000">
            <a:off x="5688000" y="2582640"/>
            <a:ext cx="298440" cy="1158840"/>
          </a:xfrm>
          <a:custGeom>
            <a:avLst/>
            <a:gdLst>
              <a:gd name="textAreaLeft" fmla="*/ 0 w 298440"/>
              <a:gd name="textAreaRight" fmla="*/ 107640 w 298440"/>
              <a:gd name="textAreaTop" fmla="*/ 7560 h 1158840"/>
              <a:gd name="textAreaBottom" fmla="*/ 1151280 h 11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1"/>
                  <a:pt x="10800" y="462"/>
                </a:cubicBezTo>
                <a:lnTo>
                  <a:pt x="10800" y="10150"/>
                </a:lnTo>
                <a:cubicBezTo>
                  <a:pt x="10800" y="10381"/>
                  <a:pt x="16200" y="10612"/>
                  <a:pt x="21600" y="10612"/>
                </a:cubicBezTo>
                <a:cubicBezTo>
                  <a:pt x="16200" y="10612"/>
                  <a:pt x="10800" y="10843"/>
                  <a:pt x="10800" y="11074"/>
                </a:cubicBezTo>
                <a:lnTo>
                  <a:pt x="10800" y="21138"/>
                </a:lnTo>
                <a:cubicBezTo>
                  <a:pt x="10800" y="2136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89" name="Straight Arrow Connector 2"/>
          <p:cNvCxnSpPr/>
          <p:nvPr/>
        </p:nvCxnSpPr>
        <p:spPr>
          <a:xfrm flipV="1">
            <a:off x="7716600" y="4190760"/>
            <a:ext cx="1080" cy="1288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0" name="Text Box 20"/>
          <p:cNvSpPr/>
          <p:nvPr/>
        </p:nvSpPr>
        <p:spPr>
          <a:xfrm>
            <a:off x="7058160" y="5435640"/>
            <a:ext cx="13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dict of Nanc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2438280" y="457200"/>
            <a:ext cx="4419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yrald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0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Amyraut, French theology prof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k issue with Limited Atonement (4-point Calvin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n by some as a compromise between Calvinism vs Armini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http://houtz.tv/wp-content/uploads/2014/01/Mo%C3%AFse_Amyraut.jpg"/>
          <p:cNvPicPr/>
          <p:nvPr/>
        </p:nvPicPr>
        <p:blipFill>
          <a:blip r:embed="rId3"/>
          <a:stretch/>
        </p:blipFill>
        <p:spPr>
          <a:xfrm>
            <a:off x="533520" y="1698480"/>
            <a:ext cx="252396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4"/>
          <p:cNvSpPr txBox="1"/>
          <p:nvPr/>
        </p:nvSpPr>
        <p:spPr>
          <a:xfrm>
            <a:off x="2666880" y="457200"/>
            <a:ext cx="40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nsen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00040" y="160020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ius Jansen, Roman Catholic Bishop of Yp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te on Augustinian Theology, but not published until after his death in 16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depra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essity of effective g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fication by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C:\Users\Owner\Desktop\Cornelius_Jansen_by_Evêque_d'Ypres_(1585-1638).png"/>
          <p:cNvPicPr/>
          <p:nvPr/>
        </p:nvPicPr>
        <p:blipFill>
          <a:blip r:embed="rId3"/>
          <a:stretch/>
        </p:blipFill>
        <p:spPr>
          <a:xfrm>
            <a:off x="550800" y="1717560"/>
            <a:ext cx="2421000" cy="399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2666880" y="457200"/>
            <a:ext cx="40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nsen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00040" y="160020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ius Jansen, Roman Catholic Bishop of Yp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te on Augustinian Theology, but not published until after hi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 at Port Royale influenced by his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ire convent excommuni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C:\Users\Owner\Desktop\Cornelius_Jansen_by_Evêque_d'Ypres_(1585-1638).png"/>
          <p:cNvPicPr/>
          <p:nvPr/>
        </p:nvPicPr>
        <p:blipFill>
          <a:blip r:embed="rId3"/>
          <a:stretch/>
        </p:blipFill>
        <p:spPr>
          <a:xfrm>
            <a:off x="550800" y="1717560"/>
            <a:ext cx="2421000" cy="399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2666880" y="457200"/>
            <a:ext cx="4038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nsen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00040" y="160020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al Bull condemning Jansenis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God’s enabling grace, fallen humans cannot exercise faith or merit God’s fav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’s grace cannot be resi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 died to secure salvation for the e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2" descr="C:\Users\Owner\Desktop\Cornelius_Jansen_by_Evêque_d'Ypres_(1585-1638).png"/>
          <p:cNvPicPr/>
          <p:nvPr/>
        </p:nvPicPr>
        <p:blipFill>
          <a:blip r:embed="rId3"/>
          <a:stretch/>
        </p:blipFill>
        <p:spPr>
          <a:xfrm>
            <a:off x="550800" y="1717560"/>
            <a:ext cx="2421000" cy="399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Owner\Desktop\heidelberg-castle-germany-116450-2048x1536.jpg"/>
          <p:cNvPicPr/>
          <p:nvPr/>
        </p:nvPicPr>
        <p:blipFill>
          <a:blip r:embed="rId1"/>
          <a:stretch/>
        </p:blipFill>
        <p:spPr>
          <a:xfrm>
            <a:off x="457200" y="930240"/>
            <a:ext cx="3019320" cy="5521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240" y="1980720"/>
            <a:ext cx="5181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of Melanchthon (156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of Calvinism in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or Frederick III of Palat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ech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 of Augsburg (156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10"/>
          <p:cNvSpPr txBox="1"/>
          <p:nvPr/>
        </p:nvSpPr>
        <p:spPr>
          <a:xfrm>
            <a:off x="1371600" y="457200"/>
            <a:ext cx="632448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idelberg Catech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4267080" cy="7650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uthera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560" y="1981080"/>
            <a:ext cx="4267080" cy="990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atives have authority in the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48320" y="231840"/>
            <a:ext cx="4267080" cy="7650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7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vinis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648320" y="1981080"/>
            <a:ext cx="4267080" cy="990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religious authority is the Bib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04920" y="993600"/>
            <a:ext cx="4267080" cy="987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estination not a foc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48320" y="993600"/>
            <a:ext cx="4267080" cy="987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estination emphasize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04920" y="2971800"/>
            <a:ext cx="426708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and blood of Christ have physical presence in bread and win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4648320" y="2971800"/>
            <a:ext cx="426708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and blood of Christ have only spiritual presence in bread and win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04920" y="4724280"/>
            <a:ext cx="426708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ments worn by priest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648320" y="4724280"/>
            <a:ext cx="426708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ion of vestments by minist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304920" y="5638680"/>
            <a:ext cx="426708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namentation and artwork used in churc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648320" y="5638680"/>
            <a:ext cx="426708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ion of all images in churc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Users\Owner\Desktop\WilliamOfOrange1580.jpg"/>
          <p:cNvPicPr/>
          <p:nvPr/>
        </p:nvPicPr>
        <p:blipFill>
          <a:blip r:embed="rId1"/>
          <a:stretch/>
        </p:blipFill>
        <p:spPr>
          <a:xfrm>
            <a:off x="600120" y="1828800"/>
            <a:ext cx="2467080" cy="426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9903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76720" y="1752120"/>
            <a:ext cx="5486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vinist ministers lead to iconocl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 II of Spain sends Duke of Alva to punis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cil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Catholics resented Al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219320" y="304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Dutch Revol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062000" y="5680080"/>
            <a:ext cx="15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illiam the Silen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:\Users\Owner\Desktop\WilliamOfOrange1580.jpg"/>
          <p:cNvPicPr/>
          <p:nvPr/>
        </p:nvPicPr>
        <p:blipFill>
          <a:blip r:embed="rId1"/>
          <a:stretch/>
        </p:blipFill>
        <p:spPr>
          <a:xfrm>
            <a:off x="600120" y="1828800"/>
            <a:ext cx="2467080" cy="4267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9903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6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76720" y="1752120"/>
            <a:ext cx="5486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aid Spanish soldiers aid reb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a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seeks to have freedom of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1219320" y="304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Dutch Revol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1062000" y="5680080"/>
            <a:ext cx="15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illiam the Silen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Owner\Desktop\Belgium_Netherlands_Locator.png"/>
          <p:cNvPicPr/>
          <p:nvPr/>
        </p:nvPicPr>
        <p:blipFill>
          <a:blip r:embed="rId1"/>
          <a:stretch/>
        </p:blipFill>
        <p:spPr>
          <a:xfrm>
            <a:off x="533520" y="531720"/>
            <a:ext cx="8001000" cy="59454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1219320" y="304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Dutch Revol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4680" y="4266720"/>
            <a:ext cx="4114800" cy="1295640"/>
          </a:xfrm>
          <a:prstGeom prst="rect">
            <a:avLst/>
          </a:prstGeom>
          <a:solidFill>
            <a:srgbClr val="00264d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gic Conf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us refug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800" y="9903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7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holics ruled France under sons of Catherine de Medic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s turning to Calvinism: Huguen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of Catholic Margaret of Valois to Huguenot Henry of Navar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533520" y="304920"/>
            <a:ext cx="8076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 Bartholomew Day Massacr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3" descr="C:\Users\Owner\Desktop\225px-CaterinaDe'Medici.jpg"/>
          <p:cNvPicPr/>
          <p:nvPr/>
        </p:nvPicPr>
        <p:blipFill>
          <a:blip r:embed="rId3"/>
          <a:stretch/>
        </p:blipFill>
        <p:spPr>
          <a:xfrm>
            <a:off x="5913360" y="1676520"/>
            <a:ext cx="2425680" cy="391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1800" y="9903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7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mpted assassination of Huguenot no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ing an uprising, de Medeci had her son authorize the murder of all Huguenot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533520" y="304920"/>
            <a:ext cx="8076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 Bartholomew Day Massacr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3" descr="C:\Users\Owner\Desktop\225px-CaterinaDe'Medici.jpg"/>
          <p:cNvPicPr/>
          <p:nvPr/>
        </p:nvPicPr>
        <p:blipFill>
          <a:blip r:embed="rId3"/>
          <a:stretch/>
        </p:blipFill>
        <p:spPr>
          <a:xfrm>
            <a:off x="5913360" y="1676520"/>
            <a:ext cx="2425680" cy="391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7-02-20T14:12:47Z</dcterms:modified>
  <cp:revision>484</cp:revision>
  <dc:subject/>
  <dc:title>Church History</dc:title>
</cp:coreProperties>
</file>