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548-1219-4896-9666-DCD2D5A0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A6A-371F-40F0-AFF1-728008F4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C56-50F5-4A2E-AC9D-1AC3BAE6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955-8747-42F2-AC24-81EACEE8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305-9FE6-44AF-896B-CEE19247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18A-5565-47CA-8D37-9E367061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78F-9B53-4419-AEEC-15E2A017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B26-C459-4E45-9CB5-38499001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E45-DD26-4C4A-ABB3-77B786B3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409-29BF-4D1F-B3FA-0DEE777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335-5DDE-40A5-AC94-5499A5B0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680-E2B3-4DD6-BFE2-115C6AA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0810-6B3A-4FB0-98F1-19358EA791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Council of T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19520" y="5424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295280" y="1600200"/>
            <a:ext cx="6248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History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ianit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aries in Braz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dinha appointed first bis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brega focuses on child evange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mu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aries in Central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ciones (Jesuit colonies open to native Americ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590920" y="380880"/>
            <a:ext cx="3504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i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2362320" y="1219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ciety of Jes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Owner\Desktop\Antônio_Parreiras_-_Fundação_de_São_Paulo,_1913.jpg"/>
          <p:cNvPicPr/>
          <p:nvPr/>
        </p:nvPicPr>
        <p:blipFill>
          <a:blip r:embed="rId1"/>
          <a:stretch/>
        </p:blipFill>
        <p:spPr>
          <a:xfrm>
            <a:off x="304920" y="920880"/>
            <a:ext cx="8450280" cy="53974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7"/>
          <p:cNvSpPr txBox="1"/>
          <p:nvPr/>
        </p:nvSpPr>
        <p:spPr>
          <a:xfrm>
            <a:off x="2590920" y="380880"/>
            <a:ext cx="3504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i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2362320" y="1219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ciety of Jes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1235160" y="6019920"/>
            <a:ext cx="676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unding of São Paulo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 requested by Martin Lu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1248840"/>
            <a:ext cx="822960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5 - 156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1447920" y="304920"/>
            <a:ext cx="6248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cil of Tren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 requested by Martin Lu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because of political turm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1248840"/>
            <a:ext cx="822960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5 - 156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1447920" y="304920"/>
            <a:ext cx="6248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cil of Tren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Picture 6" descr="C:\Users\Owner\Desktop\Europe.jpg"/>
          <p:cNvPicPr/>
          <p:nvPr/>
        </p:nvPicPr>
        <p:blipFill>
          <a:blip r:embed="rId1"/>
          <a:stretch/>
        </p:blipFill>
        <p:spPr>
          <a:xfrm>
            <a:off x="1295280" y="3200400"/>
            <a:ext cx="6324840" cy="32479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7"/>
          <p:cNvSpPr txBox="1"/>
          <p:nvPr/>
        </p:nvSpPr>
        <p:spPr>
          <a:xfrm>
            <a:off x="4491000" y="5410080"/>
            <a:ext cx="1757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pal Stat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2590920" y="4267080"/>
            <a:ext cx="110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anc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4468680" y="3429000"/>
            <a:ext cx="110664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8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rma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4532400" y="3809880"/>
            <a:ext cx="1106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8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inc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1789200" y="5715000"/>
            <a:ext cx="954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ai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4114800" y="4653000"/>
            <a:ext cx="11066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les V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6248520" y="4606920"/>
            <a:ext cx="110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slim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2070000" y="3397320"/>
            <a:ext cx="11066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gland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 requested by Martin Lu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because of political turm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in City of Trent in northern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1248840"/>
            <a:ext cx="822960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5 - 156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47920" y="304920"/>
            <a:ext cx="6248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cil of Tren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2" descr="K:\TrentoConcilio.jpg"/>
          <p:cNvPicPr/>
          <p:nvPr/>
        </p:nvPicPr>
        <p:blipFill>
          <a:blip r:embed="rId1"/>
          <a:stretch/>
        </p:blipFill>
        <p:spPr>
          <a:xfrm>
            <a:off x="1143000" y="3733920"/>
            <a:ext cx="6248520" cy="278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tion condem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crypha added to Scrip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cation on the basis of human cooperation with divine 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charist affirmed as a propitiatory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n to be used for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gatory and prayers to saints affi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 of indulgences hal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457200" y="228600"/>
            <a:ext cx="6248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sults of the Counci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and Scripture given equal weight of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n Vulgate considered the only authorized version of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rgy required to reside in the locale of their church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ling of church offices forbid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ubstantiation affi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7"/>
          <p:cNvSpPr txBox="1"/>
          <p:nvPr/>
        </p:nvSpPr>
        <p:spPr>
          <a:xfrm>
            <a:off x="457200" y="228600"/>
            <a:ext cx="6248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sults of the Counci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9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stament translated in 1582 in Rheims,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 and Apocrypha translated in 1610 at University of Dou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lation from Jerome’s Latin Vulg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1447920" y="533520"/>
            <a:ext cx="6248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heims-Douay Vers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16256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affirm that the Scriptures do not contain the totality of necessary doctrine, for faith as well as for morals; then when we say that apart from the Word of God written, it is necessary to have his non-written Word, that is to say, divine and apostolic tradition.”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- Jesuit Robert Bellarmi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8545680" y="2209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7848720" y="10224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King James Versi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WordArt 21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Line 24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8" name="Group 26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69" name="Line 27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71" name="Text Box 29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2057400" y="5705640"/>
            <a:ext cx="373392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Calv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2057400" y="6315120"/>
            <a:ext cx="3886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Knox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6" name="Group 34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77" name="Line 35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8" name="Line 36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9" name="Line 37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80" name="Text Box 38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6248520" y="1371600"/>
            <a:ext cx="16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panish Armada sunk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70866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Line 41"/>
          <p:cNvSpPr/>
          <p:nvPr/>
        </p:nvSpPr>
        <p:spPr>
          <a:xfrm>
            <a:off x="518148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15296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Queen Elizabe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85" name="Text Box 33"/>
          <p:cNvGrpSpPr/>
          <p:nvPr/>
        </p:nvGrpSpPr>
        <p:grpSpPr>
          <a:xfrm>
            <a:off x="4243320" y="5072040"/>
            <a:ext cx="1266840" cy="511200"/>
            <a:chOff x="4243320" y="5072040"/>
            <a:chExt cx="1266840" cy="511200"/>
          </a:xfrm>
        </p:grpSpPr>
        <p:pic>
          <p:nvPicPr>
            <p:cNvPr id="86" name="Text Box 33" descr=""/>
            <p:cNvPicPr/>
            <p:nvPr/>
          </p:nvPicPr>
          <p:blipFill>
            <a:blip r:embed="rId1"/>
            <a:stretch/>
          </p:blipFill>
          <p:spPr>
            <a:xfrm>
              <a:off x="4243320" y="5072040"/>
              <a:ext cx="1266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267080" y="5095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ent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895120" y="18284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natius of Loy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sold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dicant life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grimage to Pale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in P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ritual Exerc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y of Jesus (153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ed to the P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3886200" y="380880"/>
            <a:ext cx="3505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i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657600" y="12193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ciety of Jes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Picture 2" descr="C:\Users\Owner\Desktop\731ignatius41.jpg"/>
          <p:cNvPicPr/>
          <p:nvPr/>
        </p:nvPicPr>
        <p:blipFill>
          <a:blip r:embed="rId1"/>
          <a:stretch/>
        </p:blipFill>
        <p:spPr>
          <a:xfrm>
            <a:off x="498600" y="795240"/>
            <a:ext cx="2168280" cy="564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7"/>
          <p:cNvSpPr txBox="1"/>
          <p:nvPr/>
        </p:nvSpPr>
        <p:spPr>
          <a:xfrm>
            <a:off x="3886200" y="380880"/>
            <a:ext cx="3505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i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2" descr="C:\Users\Owner\Desktop\731ignatius41.jpg"/>
          <p:cNvPicPr/>
          <p:nvPr/>
        </p:nvPicPr>
        <p:blipFill>
          <a:blip r:embed="rId1"/>
          <a:stretch/>
        </p:blipFill>
        <p:spPr>
          <a:xfrm>
            <a:off x="498600" y="795240"/>
            <a:ext cx="2168280" cy="5649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3200400" y="18288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ct as if everything depended on you; trust as if everything depended on God.”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gnatius of Loyola 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7"/>
          <p:cNvSpPr txBox="1"/>
          <p:nvPr/>
        </p:nvSpPr>
        <p:spPr>
          <a:xfrm>
            <a:off x="3886200" y="380880"/>
            <a:ext cx="3505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i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2" descr="C:\Users\Owner\Desktop\731ignatius41.jpg"/>
          <p:cNvPicPr/>
          <p:nvPr/>
        </p:nvPicPr>
        <p:blipFill>
          <a:blip r:embed="rId1"/>
          <a:stretch/>
        </p:blipFill>
        <p:spPr>
          <a:xfrm>
            <a:off x="498600" y="795240"/>
            <a:ext cx="2168280" cy="5649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3200400" y="182880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at seems to me white, I will believe black if the hierarchical Church so defines.”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gnatius of Loyola 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895120" y="18284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l Bul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gimini militantis eccles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“Government of the Church Militant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on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 Emph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: The defense and propagation of the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-Prote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3886200" y="380880"/>
            <a:ext cx="3505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i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657600" y="12193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ciety of Jes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Picture 2" descr="C:\Users\Owner\Desktop\731ignatius41.jpg"/>
          <p:cNvPicPr/>
          <p:nvPr/>
        </p:nvPicPr>
        <p:blipFill>
          <a:blip r:embed="rId1"/>
          <a:stretch/>
        </p:blipFill>
        <p:spPr>
          <a:xfrm>
            <a:off x="498600" y="795240"/>
            <a:ext cx="2168280" cy="564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895120" y="18284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: Francis Xav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t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:  College in Mac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b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udal fiefdom at Nagasa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tes confli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3886200" y="380880"/>
            <a:ext cx="3505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i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657600" y="12193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ciety of Jes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5" name="Picture 6" descr="C:\Users\Owner\Desktop\saint-francis-xavier.jpg"/>
          <p:cNvPicPr/>
          <p:nvPr/>
        </p:nvPicPr>
        <p:blipFill>
          <a:blip r:embed="rId1"/>
          <a:stretch/>
        </p:blipFill>
        <p:spPr>
          <a:xfrm>
            <a:off x="503280" y="1743120"/>
            <a:ext cx="2392200" cy="448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Owner\Desktop\St._Francis_Xavier_-_Asia_Voyages.svg.png"/>
          <p:cNvPicPr/>
          <p:nvPr/>
        </p:nvPicPr>
        <p:blipFill>
          <a:blip r:embed="rId1"/>
          <a:stretch/>
        </p:blipFill>
        <p:spPr>
          <a:xfrm>
            <a:off x="-152280" y="9360"/>
            <a:ext cx="9353520" cy="6010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-152280" y="65880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https://en.wikipedia.org/wiki/File:St._Francis_Xavier_-_Asia_Voyages.svg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04920" y="244440"/>
            <a:ext cx="4190760" cy="13716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ission in the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es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04920" y="3200400"/>
            <a:ext cx="4190760" cy="1508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aries sought to replace cult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495680" y="244440"/>
            <a:ext cx="4191120" cy="137160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ission in the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as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495680" y="3200400"/>
            <a:ext cx="4191120" cy="1508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aries sought to adapt Christianity to the cult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04920" y="4714920"/>
            <a:ext cx="4190760" cy="1508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an conquest and coloniza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495680" y="4714920"/>
            <a:ext cx="4191120" cy="1508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an trading and economic partnership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04920" y="1676520"/>
            <a:ext cx="4190760" cy="1508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cultures seen as inferio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495680" y="1676520"/>
            <a:ext cx="4191120" cy="1508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cultures seen as equal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7-02-12T06:31:40Z</dcterms:modified>
  <cp:revision>481</cp:revision>
  <dc:subject/>
  <dc:title>Church History</dc:title>
</cp:coreProperties>
</file>