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912-A1C2-435B-89F2-22E2C4B8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CF8-C23E-4B10-9D16-4370B30B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875-9016-4897-B2CE-46994EDF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579-5D37-48E4-9C51-84B682D3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43B-8C21-411B-B821-52AB60C4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FA0-1E21-4AA9-A04B-F815E2E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185-F8D9-46B5-B484-551B632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B4E-C917-48EA-961D-B27AB31B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337-E1C3-4EEF-B59C-B2F88037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D2F-264D-45B1-821C-02826C3B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705-4A62-4B89-A1CE-B96AFC8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DF8-A279-4D94-AF28-BE24D2A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D3FF-C323-4881-AEC7-815AF07F0B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glish Re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4"/>
          <p:cNvSpPr/>
          <p:nvPr/>
        </p:nvSpPr>
        <p:spPr>
          <a:xfrm>
            <a:off x="6315120" y="297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Straight Connector 13"/>
          <p:cNvSpPr/>
          <p:nvPr/>
        </p:nvSpPr>
        <p:spPr>
          <a:xfrm>
            <a:off x="24382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666880" y="1295280"/>
            <a:ext cx="15242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bell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0" y="1295280"/>
            <a:ext cx="190512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Straight Connector 5"/>
          <p:cNvSpPr/>
          <p:nvPr/>
        </p:nvSpPr>
        <p:spPr>
          <a:xfrm>
            <a:off x="4191120" y="1562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914400" y="2666880"/>
            <a:ext cx="152388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lip 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705040" y="2666880"/>
            <a:ext cx="15242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ann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495680" y="2666880"/>
            <a:ext cx="18288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herine of Aragor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638760" y="2666880"/>
            <a:ext cx="18957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VI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ing of Englan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600200" y="4038480"/>
            <a:ext cx="190512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mperor of Holy Roman Empir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Straight Connector 15"/>
          <p:cNvSpPr/>
          <p:nvPr/>
        </p:nvSpPr>
        <p:spPr>
          <a:xfrm>
            <a:off x="3467160" y="2286000"/>
            <a:ext cx="19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Straight Connector 17"/>
          <p:cNvSpPr/>
          <p:nvPr/>
        </p:nvSpPr>
        <p:spPr>
          <a:xfrm>
            <a:off x="4373640" y="156204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Straight Connector 20"/>
          <p:cNvSpPr/>
          <p:nvPr/>
        </p:nvSpPr>
        <p:spPr>
          <a:xfrm>
            <a:off x="5405400" y="2295360"/>
            <a:ext cx="0" cy="3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Straight Connector 22"/>
          <p:cNvSpPr/>
          <p:nvPr/>
        </p:nvSpPr>
        <p:spPr>
          <a:xfrm>
            <a:off x="3463920" y="2286000"/>
            <a:ext cx="3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Straight Connector 24"/>
          <p:cNvSpPr/>
          <p:nvPr/>
        </p:nvSpPr>
        <p:spPr>
          <a:xfrm flipH="1">
            <a:off x="2552760" y="2987640"/>
            <a:ext cx="9360" cy="1050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Rounded Rectangular Callout 1"/>
          <p:cNvSpPr/>
          <p:nvPr/>
        </p:nvSpPr>
        <p:spPr>
          <a:xfrm>
            <a:off x="3886200" y="4724280"/>
            <a:ext cx="2819520" cy="1067040"/>
          </a:xfrm>
          <a:prstGeom prst="wedgeRoundRectCallout">
            <a:avLst>
              <a:gd name="adj1" fmla="val -66685"/>
              <a:gd name="adj2" fmla="val -2916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ptured th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atican in  152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WordArt 20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204" name="Line 26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06" name="Text Box 28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09" name="Group 32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210" name="Line 33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1" name="Line 34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13" name="Text Box 36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6858000" y="496800"/>
            <a:ext cx="2046240" cy="2538360"/>
            <a:chOff x="6858000" y="496800"/>
            <a:chExt cx="2046240" cy="2538360"/>
          </a:xfrm>
        </p:grpSpPr>
        <p:pic>
          <p:nvPicPr>
            <p:cNvPr id="216" name="Picture 37" descr="C:\Users\Owner\Desktop\Cardinal_Wolsey_Christ_Church.jpg"/>
            <p:cNvPicPr/>
            <p:nvPr/>
          </p:nvPicPr>
          <p:blipFill>
            <a:blip r:embed="rId2"/>
            <a:stretch/>
          </p:blipFill>
          <p:spPr>
            <a:xfrm>
              <a:off x="7052040" y="496800"/>
              <a:ext cx="1517040" cy="24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6"/>
            <p:cNvSpPr/>
            <p:nvPr/>
          </p:nvSpPr>
          <p:spPr>
            <a:xfrm>
              <a:off x="6858000" y="2209680"/>
              <a:ext cx="204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Cardinal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Wolsey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WordArt 20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1" name="Group 25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242" name="Line 26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44" name="Text Box 28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7" name="Group 32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248" name="Line 33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51" name="Text Box 36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3" name="Group 1"/>
          <p:cNvGrpSpPr/>
          <p:nvPr/>
        </p:nvGrpSpPr>
        <p:grpSpPr>
          <a:xfrm>
            <a:off x="6786720" y="361800"/>
            <a:ext cx="2047680" cy="2596680"/>
            <a:chOff x="6786720" y="361800"/>
            <a:chExt cx="2047680" cy="2596680"/>
          </a:xfrm>
        </p:grpSpPr>
        <p:pic>
          <p:nvPicPr>
            <p:cNvPr id="254" name="Picture 37" descr="C:\Users\Owner\Desktop\St-Thomas-More.jpg"/>
            <p:cNvPicPr/>
            <p:nvPr/>
          </p:nvPicPr>
          <p:blipFill>
            <a:blip r:embed="rId2"/>
            <a:stretch/>
          </p:blipFill>
          <p:spPr>
            <a:xfrm>
              <a:off x="7009920" y="361800"/>
              <a:ext cx="1744560" cy="25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36"/>
            <p:cNvSpPr/>
            <p:nvPr/>
          </p:nvSpPr>
          <p:spPr>
            <a:xfrm>
              <a:off x="6786720" y="2133000"/>
              <a:ext cx="204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Thomas More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657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a divorce from his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the church away from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457200" y="4114800"/>
            <a:ext cx="7010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follow Roman Catholic forms of worshi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dale Bib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5943600" y="411336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2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1600200" y="285444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therine of Arag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600200" y="34956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Boley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600200" y="413388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ane Seymou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600200" y="47592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of Cle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5943600" y="285444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vorc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5943600" y="349560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ecut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9" name="Picture 16" descr="C:\Users\Owner\Desktop\800px-Cromwell,Thomas(1EEssex)01.jpg"/>
          <p:cNvPicPr/>
          <p:nvPr/>
        </p:nvPicPr>
        <p:blipFill>
          <a:blip r:embed="rId2"/>
          <a:stretch/>
        </p:blipFill>
        <p:spPr>
          <a:xfrm>
            <a:off x="6488280" y="3846600"/>
            <a:ext cx="2141280" cy="270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0" name="WordArt 10"/>
          <p:cNvSpPr txBox="1"/>
          <p:nvPr/>
        </p:nvSpPr>
        <p:spPr>
          <a:xfrm>
            <a:off x="4952880" y="6095880"/>
            <a:ext cx="39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as Cromwel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2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1600200" y="285444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therine of Arag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00200" y="34956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Boley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600200" y="413388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ane Seymou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600200" y="475920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of Cle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600200" y="541332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thryn Howar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6054840"/>
            <a:ext cx="434340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therine Par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5943600" y="285444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vorc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943600" y="349560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ecut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5943600" y="413388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943600" y="475920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vorc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943600" y="541332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ecut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5943600" y="6054840"/>
            <a:ext cx="22096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urviv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04920" y="3448080"/>
            <a:ext cx="26668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therine of Arag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276720" y="3448080"/>
            <a:ext cx="26668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ne Boley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172200" y="3448080"/>
            <a:ext cx="2666880" cy="119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ane Seymou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Straight Connector 2"/>
          <p:cNvSpPr/>
          <p:nvPr/>
        </p:nvSpPr>
        <p:spPr>
          <a:xfrm>
            <a:off x="1638360" y="3124080"/>
            <a:ext cx="588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Straight Connector 5"/>
          <p:cNvSpPr/>
          <p:nvPr/>
        </p:nvSpPr>
        <p:spPr>
          <a:xfrm>
            <a:off x="1638360" y="3124080"/>
            <a:ext cx="0" cy="3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Straight Connector 20"/>
          <p:cNvSpPr/>
          <p:nvPr/>
        </p:nvSpPr>
        <p:spPr>
          <a:xfrm>
            <a:off x="4621320" y="3124080"/>
            <a:ext cx="0" cy="3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Straight Connector 21"/>
          <p:cNvSpPr/>
          <p:nvPr/>
        </p:nvSpPr>
        <p:spPr>
          <a:xfrm>
            <a:off x="7543800" y="3124080"/>
            <a:ext cx="0" cy="3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Straight Connector 22"/>
          <p:cNvSpPr/>
          <p:nvPr/>
        </p:nvSpPr>
        <p:spPr>
          <a:xfrm>
            <a:off x="5415120" y="2657520"/>
            <a:ext cx="4680" cy="4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4" name="Picture 4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24"/>
          <p:cNvSpPr/>
          <p:nvPr/>
        </p:nvSpPr>
        <p:spPr>
          <a:xfrm>
            <a:off x="1636560" y="4668840"/>
            <a:ext cx="0" cy="51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Straight Connector 25"/>
          <p:cNvSpPr/>
          <p:nvPr/>
        </p:nvSpPr>
        <p:spPr>
          <a:xfrm>
            <a:off x="4621320" y="4656240"/>
            <a:ext cx="7920" cy="52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Straight Connector 26"/>
          <p:cNvSpPr/>
          <p:nvPr/>
        </p:nvSpPr>
        <p:spPr>
          <a:xfrm>
            <a:off x="7543800" y="4657680"/>
            <a:ext cx="0" cy="52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284880" y="5181480"/>
            <a:ext cx="247824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dward V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0880" y="5181480"/>
            <a:ext cx="2478240" cy="1069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ry I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Bloody Mary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389400" y="5181480"/>
            <a:ext cx="247788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lizabe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dward VI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37-1553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Henry VIII and Jane Seym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been tutored in Reformed Theology under the influence of Archbishop Thomas Cram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paper describing Pope as anti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Edward_VI_of_England_c"/>
          <p:cNvPicPr/>
          <p:nvPr/>
        </p:nvPicPr>
        <p:blipFill>
          <a:blip r:embed="rId1"/>
          <a:stretch/>
        </p:blipFill>
        <p:spPr>
          <a:xfrm>
            <a:off x="5486400" y="304920"/>
            <a:ext cx="3038400" cy="61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dward VI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37-1553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at age of 9 (154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s against reading Scripture rep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of priests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book rewritten to reflect Protestant 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4" descr="Edward_VI_of_England_c"/>
          <p:cNvPicPr/>
          <p:nvPr/>
        </p:nvPicPr>
        <p:blipFill>
          <a:blip r:embed="rId1"/>
          <a:stretch/>
        </p:blipFill>
        <p:spPr>
          <a:xfrm>
            <a:off x="5486400" y="304920"/>
            <a:ext cx="3038400" cy="61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dward VI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37-1553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d by reformers as a new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y-two 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ed by Cram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ed doctrinal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of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his cousin Jane Grey as his suc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Edward_VI_of_England_c"/>
          <p:cNvPicPr/>
          <p:nvPr/>
        </p:nvPicPr>
        <p:blipFill>
          <a:blip r:embed="rId1"/>
          <a:stretch/>
        </p:blipFill>
        <p:spPr>
          <a:xfrm>
            <a:off x="5486400" y="304920"/>
            <a:ext cx="3038400" cy="61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6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67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9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45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dy Jane Grey</a:t>
            </a:r>
            <a:br>
              <a:rPr sz="4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36 - 155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819160" y="1828440"/>
            <a:ext cx="60195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sin to Edward VI &amp; named his suc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queen (9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y Council turned to Mary I, daughter of Catherine of Arag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d (155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" descr="C:\Users\Owner\Desktop\Streathamladyjayne.jpg"/>
          <p:cNvPicPr/>
          <p:nvPr/>
        </p:nvPicPr>
        <p:blipFill>
          <a:blip r:embed="rId1"/>
          <a:stretch/>
        </p:blipFill>
        <p:spPr>
          <a:xfrm>
            <a:off x="609480" y="631800"/>
            <a:ext cx="1981440" cy="575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Owner\Desktop\PAUL_DELAROCHE_-_Ejecución_de_Lady_Jane_Grey_(National_Gallery_de_Londres,_1834).jpg"/>
          <p:cNvPicPr/>
          <p:nvPr/>
        </p:nvPicPr>
        <p:blipFill>
          <a:blip r:embed="rId1"/>
          <a:stretch/>
        </p:blipFill>
        <p:spPr>
          <a:xfrm>
            <a:off x="0" y="-380880"/>
            <a:ext cx="9220320" cy="7705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dy Jane Grey</a:t>
            </a:r>
            <a:br>
              <a:rPr sz="4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36 - 155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ry I</a:t>
            </a:r>
            <a:br>
              <a:rPr sz="48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Bloody Mary”</a:t>
            </a:r>
            <a:br>
              <a:rPr sz="32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516-1558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8862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of Henry VIII &amp; Catherine of Arag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 of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676760" y="457200"/>
            <a:ext cx="393372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489 - 1556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733920" y="19810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bishop of Canterb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ed Re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 in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of Common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charistic spiritual pres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ested and tortured into reca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J:\448px-Thomas_Cranmer.png"/>
          <p:cNvPicPr/>
          <p:nvPr/>
        </p:nvPicPr>
        <p:blipFill>
          <a:blip r:embed="rId1"/>
          <a:stretch/>
        </p:blipFill>
        <p:spPr>
          <a:xfrm>
            <a:off x="685800" y="1905120"/>
            <a:ext cx="2438280" cy="4578120"/>
          </a:xfrm>
          <a:prstGeom prst="rect">
            <a:avLst/>
          </a:prstGeom>
          <a:ln w="0">
            <a:noFill/>
          </a:ln>
        </p:spPr>
      </p:pic>
      <p:sp>
        <p:nvSpPr>
          <p:cNvPr id="321" name="WordArt 7"/>
          <p:cNvSpPr txBox="1"/>
          <p:nvPr/>
        </p:nvSpPr>
        <p:spPr>
          <a:xfrm>
            <a:off x="1371600" y="304920"/>
            <a:ext cx="6248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as Cranm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J:\Cranmer_burning_foxe.jpg"/>
          <p:cNvPicPr/>
          <p:nvPr/>
        </p:nvPicPr>
        <p:blipFill>
          <a:blip r:embed="rId1"/>
          <a:stretch/>
        </p:blipFill>
        <p:spPr>
          <a:xfrm>
            <a:off x="687240" y="1015920"/>
            <a:ext cx="7694640" cy="553716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380880" y="144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489 - 1556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1371600" y="304920"/>
            <a:ext cx="6248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omas Cranm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atimer_Ridley_Foxe_burning"/>
          <p:cNvPicPr/>
          <p:nvPr/>
        </p:nvPicPr>
        <p:blipFill>
          <a:blip r:embed="rId1"/>
          <a:stretch/>
        </p:blipFill>
        <p:spPr>
          <a:xfrm>
            <a:off x="666720" y="333360"/>
            <a:ext cx="7257960" cy="5753160"/>
          </a:xfrm>
          <a:prstGeom prst="rect">
            <a:avLst/>
          </a:prstGeom>
          <a:ln w="0">
            <a:noFill/>
          </a:ln>
        </p:spPr>
      </p:pic>
      <p:sp>
        <p:nvSpPr>
          <p:cNvPr id="326" name="WordArt 9"/>
          <p:cNvSpPr txBox="1"/>
          <p:nvPr/>
        </p:nvSpPr>
        <p:spPr>
          <a:xfrm>
            <a:off x="4038480" y="4876920"/>
            <a:ext cx="4191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gh Latimer &amp;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icholas Ridle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atimer_Ridley_Foxe_burning"/>
          <p:cNvPicPr/>
          <p:nvPr/>
        </p:nvPicPr>
        <p:blipFill>
          <a:blip r:embed="rId1"/>
          <a:stretch/>
        </p:blipFill>
        <p:spPr>
          <a:xfrm>
            <a:off x="666720" y="333360"/>
            <a:ext cx="7257960" cy="57531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of good comfort, Master Ridley, and play the man; we shall this day light such a candle, by God's grace, in England, as I trust shall never be put 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33 - 160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19160" y="2057400"/>
            <a:ext cx="6019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of Henry VIII and Anne Boley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reme governor” of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ant, but sought a “middle wa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of Uniformity: Worship &amp; book of common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WordArt 7"/>
          <p:cNvSpPr txBox="1"/>
          <p:nvPr/>
        </p:nvSpPr>
        <p:spPr>
          <a:xfrm>
            <a:off x="1523880" y="228600"/>
            <a:ext cx="6248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en Elizabe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2" name="Picture 2" descr="C:\Users\Owner\Desktop\Darnley_stage_3.jpg"/>
          <p:cNvPicPr/>
          <p:nvPr/>
        </p:nvPicPr>
        <p:blipFill>
          <a:blip r:embed="rId1"/>
          <a:stretch/>
        </p:blipFill>
        <p:spPr>
          <a:xfrm>
            <a:off x="533520" y="1447920"/>
            <a:ext cx="198108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33 - 160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1523880" y="228600"/>
            <a:ext cx="6248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en Elizabe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5" name="Picture 2" descr="C:\Users\Owner\Desktop\Darnley_stage_3.jpg"/>
          <p:cNvPicPr/>
          <p:nvPr/>
        </p:nvPicPr>
        <p:blipFill>
          <a:blip r:embed="rId1"/>
          <a:stretch/>
        </p:blipFill>
        <p:spPr>
          <a:xfrm>
            <a:off x="533520" y="1447920"/>
            <a:ext cx="1981080" cy="507204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3505320" y="2362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church that taught and prayed like a Protestant but looked Catholic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C:\Users\Owner\Desktop\England - Copy.jpg"/>
          <p:cNvPicPr/>
          <p:nvPr/>
        </p:nvPicPr>
        <p:blipFill>
          <a:blip r:embed="rId1"/>
          <a:stretch/>
        </p:blipFill>
        <p:spPr>
          <a:xfrm>
            <a:off x="5486400" y="771480"/>
            <a:ext cx="3271680" cy="5665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1523880" y="228600"/>
            <a:ext cx="6248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anish Armad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Shape 7"/>
          <p:cNvSpPr/>
          <p:nvPr/>
        </p:nvSpPr>
        <p:spPr>
          <a:xfrm rot="19754400">
            <a:off x="5686560" y="4160880"/>
            <a:ext cx="1689120" cy="1546200"/>
          </a:xfrm>
          <a:custGeom>
            <a:avLst/>
            <a:gdLst/>
            <a:ahLst/>
            <a:rect l="l" t="t" r="r" b="b"/>
            <a:pathLst>
              <a:path w="1689100" h="1546225">
                <a:moveTo>
                  <a:pt x="0" y="1546225"/>
                </a:moveTo>
                <a:cubicBezTo>
                  <a:pt x="187678" y="859014"/>
                  <a:pt x="589028" y="408031"/>
                  <a:pt x="1204049" y="193278"/>
                </a:cubicBezTo>
                <a:lnTo>
                  <a:pt x="1182272" y="0"/>
                </a:lnTo>
                <a:lnTo>
                  <a:pt x="1689100" y="215667"/>
                </a:lnTo>
                <a:lnTo>
                  <a:pt x="1248294" y="585957"/>
                </a:lnTo>
                <a:lnTo>
                  <a:pt x="1226516" y="392679"/>
                </a:lnTo>
                <a:cubicBezTo>
                  <a:pt x="690355" y="478580"/>
                  <a:pt x="281517" y="863096"/>
                  <a:pt x="0" y="1546225"/>
                </a:cubicBezTo>
                <a:close/>
              </a:path>
            </a:pathLst>
          </a:custGeom>
          <a:solidFill>
            <a:srgbClr val="3366c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41" name="Picture 2" descr="http://www.abc.es/Media/201408/08/armada-invencible-pintura--644x362.jpg"/>
          <p:cNvPicPr/>
          <p:nvPr/>
        </p:nvPicPr>
        <p:blipFill>
          <a:blip r:embed="rId2"/>
          <a:stretch/>
        </p:blipFill>
        <p:spPr>
          <a:xfrm>
            <a:off x="228600" y="2200320"/>
            <a:ext cx="58294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Users\Owner\Desktop\2000px-Roses-Lancaster_victory.svg.png"/>
          <p:cNvPicPr/>
          <p:nvPr/>
        </p:nvPicPr>
        <p:blipFill>
          <a:blip r:embed="rId1"/>
          <a:stretch/>
        </p:blipFill>
        <p:spPr>
          <a:xfrm>
            <a:off x="1119240" y="839880"/>
            <a:ext cx="2843280" cy="272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Owner\Desktop\2000px-Roses-Lancaster_victory.svg - Copy.png"/>
          <p:cNvPicPr/>
          <p:nvPr/>
        </p:nvPicPr>
        <p:blipFill>
          <a:blip r:embed="rId2"/>
          <a:stretch/>
        </p:blipFill>
        <p:spPr>
          <a:xfrm rot="2071200">
            <a:off x="5105160" y="896760"/>
            <a:ext cx="2690640" cy="2610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10"/>
          <p:cNvSpPr txBox="1"/>
          <p:nvPr/>
        </p:nvSpPr>
        <p:spPr>
          <a:xfrm>
            <a:off x="1676520" y="363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the Ros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295280" y="342900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use of Lancast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181480" y="342900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use of York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352680" y="566424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457 - 148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C:\Users\Owner\Desktop\England - Copy.jpg"/>
          <p:cNvPicPr/>
          <p:nvPr/>
        </p:nvPicPr>
        <p:blipFill>
          <a:blip r:embed="rId1"/>
          <a:stretch/>
        </p:blipFill>
        <p:spPr>
          <a:xfrm>
            <a:off x="5486400" y="771480"/>
            <a:ext cx="3271680" cy="56656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WordArt 7"/>
          <p:cNvSpPr txBox="1"/>
          <p:nvPr/>
        </p:nvSpPr>
        <p:spPr>
          <a:xfrm>
            <a:off x="1523880" y="228600"/>
            <a:ext cx="6248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anish Armad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Diagram 2" descr=""/>
          <p:cNvPicPr/>
          <p:nvPr/>
        </p:nvPicPr>
        <p:blipFill>
          <a:blip r:embed="rId2"/>
          <a:stretch/>
        </p:blipFill>
        <p:spPr>
          <a:xfrm>
            <a:off x="2743200" y="993600"/>
            <a:ext cx="6229440" cy="4059360"/>
          </a:xfrm>
          <a:prstGeom prst="rect">
            <a:avLst/>
          </a:prstGeom>
          <a:ln w="0">
            <a:noFill/>
          </a:ln>
        </p:spPr>
      </p:pic>
      <p:sp>
        <p:nvSpPr>
          <p:cNvPr id="346" name="Shape 7"/>
          <p:cNvSpPr/>
          <p:nvPr/>
        </p:nvSpPr>
        <p:spPr>
          <a:xfrm rot="19754400">
            <a:off x="5686560" y="4160880"/>
            <a:ext cx="1689120" cy="1546200"/>
          </a:xfrm>
          <a:custGeom>
            <a:avLst/>
            <a:gdLst/>
            <a:ahLst/>
            <a:rect l="l" t="t" r="r" b="b"/>
            <a:pathLst>
              <a:path w="1689100" h="1546225">
                <a:moveTo>
                  <a:pt x="0" y="1546225"/>
                </a:moveTo>
                <a:cubicBezTo>
                  <a:pt x="187678" y="859014"/>
                  <a:pt x="589028" y="408031"/>
                  <a:pt x="1204049" y="193278"/>
                </a:cubicBezTo>
                <a:lnTo>
                  <a:pt x="1182272" y="0"/>
                </a:lnTo>
                <a:lnTo>
                  <a:pt x="1689100" y="215667"/>
                </a:lnTo>
                <a:lnTo>
                  <a:pt x="1248294" y="585957"/>
                </a:lnTo>
                <a:lnTo>
                  <a:pt x="1226516" y="392679"/>
                </a:lnTo>
                <a:cubicBezTo>
                  <a:pt x="690355" y="478580"/>
                  <a:pt x="281517" y="863096"/>
                  <a:pt x="0" y="1546225"/>
                </a:cubicBezTo>
                <a:close/>
              </a:path>
            </a:pathLst>
          </a:custGeom>
          <a:solidFill>
            <a:srgbClr val="3366cc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868320" y="23623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sent the Armada against men, not God’s wind and waves” – Philip I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8545680" y="2209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7848720" y="10224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72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373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75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2057400" y="570564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2057400" y="6315120"/>
            <a:ext cx="3886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Knox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80" name="Group 34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381" name="Line 35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82" name="Line 36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83" name="Line 37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84" name="Text Box 38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6248520" y="137160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panish Armada sunk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Line 41"/>
          <p:cNvSpPr/>
          <p:nvPr/>
        </p:nvSpPr>
        <p:spPr>
          <a:xfrm>
            <a:off x="518148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415296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Queen Elizab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Elbow Connector 13"/>
          <p:cNvCxnSpPr/>
          <p:nvPr/>
        </p:nvCxnSpPr>
        <p:spPr>
          <a:xfrm>
            <a:off x="3809880" y="4038120"/>
            <a:ext cx="1448640" cy="1220040"/>
          </a:xfrm>
          <a:prstGeom prst="bentConnector3">
            <a:avLst>
              <a:gd name="adj1" fmla="val 49987"/>
            </a:avLst>
          </a:prstGeom>
          <a:ln w="9360">
            <a:solidFill>
              <a:srgbClr val="ffffff"/>
            </a:solidFill>
            <a:round/>
          </a:ln>
        </p:spPr>
      </p:cxnSp>
      <p:pic>
        <p:nvPicPr>
          <p:cNvPr id="80" name="Picture 3" descr="C:\Users\Owner\Desktop\2000px-Roses-Lancaster_victory.svg.png"/>
          <p:cNvPicPr/>
          <p:nvPr/>
        </p:nvPicPr>
        <p:blipFill>
          <a:blip r:embed="rId1"/>
          <a:stretch/>
        </p:blipFill>
        <p:spPr>
          <a:xfrm>
            <a:off x="1119240" y="839880"/>
            <a:ext cx="2843280" cy="2724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Owner\Desktop\2000px-Roses-Lancaster_victory.svg - Copy.png"/>
          <p:cNvPicPr/>
          <p:nvPr/>
        </p:nvPicPr>
        <p:blipFill>
          <a:blip r:embed="rId2"/>
          <a:stretch/>
        </p:blipFill>
        <p:spPr>
          <a:xfrm rot="2071200">
            <a:off x="5105160" y="896760"/>
            <a:ext cx="269064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10"/>
          <p:cNvSpPr txBox="1"/>
          <p:nvPr/>
        </p:nvSpPr>
        <p:spPr>
          <a:xfrm>
            <a:off x="1676520" y="363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the Ros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295280" y="3630600"/>
            <a:ext cx="259092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VI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5181480" y="3657600"/>
            <a:ext cx="259092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II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Straight Connector 3"/>
          <p:cNvSpPr/>
          <p:nvPr/>
        </p:nvSpPr>
        <p:spPr>
          <a:xfrm flipV="1">
            <a:off x="5257800" y="3678120"/>
            <a:ext cx="2473200" cy="86688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181480" y="4952880"/>
            <a:ext cx="2590920" cy="68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0"/>
          <p:cNvSpPr txBox="1"/>
          <p:nvPr/>
        </p:nvSpPr>
        <p:spPr>
          <a:xfrm>
            <a:off x="914400" y="380880"/>
            <a:ext cx="230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a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5024520" y="3124080"/>
            <a:ext cx="1371600" cy="7621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853320" y="3124080"/>
            <a:ext cx="1828800" cy="7621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VIII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6451560" y="167652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Straight Connector 9"/>
          <p:cNvSpPr/>
          <p:nvPr/>
        </p:nvSpPr>
        <p:spPr>
          <a:xfrm>
            <a:off x="65959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5719680" y="2590920"/>
            <a:ext cx="202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Straight Connector 14"/>
          <p:cNvSpPr/>
          <p:nvPr/>
        </p:nvSpPr>
        <p:spPr>
          <a:xfrm flipV="1">
            <a:off x="5710320" y="25905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Straight Connector 20"/>
          <p:cNvSpPr/>
          <p:nvPr/>
        </p:nvSpPr>
        <p:spPr>
          <a:xfrm flipV="1">
            <a:off x="7731000" y="25905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2280" y="1228680"/>
            <a:ext cx="1828800" cy="9050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65480" y="1219320"/>
            <a:ext cx="1828800" cy="9046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bell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14680" y="1219320"/>
            <a:ext cx="20368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VI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726240" y="1219320"/>
            <a:ext cx="20368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Straight Connector 24"/>
          <p:cNvSpPr/>
          <p:nvPr/>
        </p:nvSpPr>
        <p:spPr>
          <a:xfrm>
            <a:off x="1990800" y="167652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Straight Connector 25"/>
          <p:cNvSpPr/>
          <p:nvPr/>
        </p:nvSpPr>
        <p:spPr>
          <a:xfrm>
            <a:off x="2124000" y="1685880"/>
            <a:ext cx="0" cy="136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041480" y="3048120"/>
            <a:ext cx="22096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rine of Aragor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253120" y="380880"/>
            <a:ext cx="26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Straight Connector 34"/>
          <p:cNvSpPr/>
          <p:nvPr/>
        </p:nvSpPr>
        <p:spPr>
          <a:xfrm>
            <a:off x="3251160" y="3505320"/>
            <a:ext cx="177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0"/>
          <p:cNvSpPr txBox="1"/>
          <p:nvPr/>
        </p:nvSpPr>
        <p:spPr>
          <a:xfrm>
            <a:off x="914400" y="380880"/>
            <a:ext cx="230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a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853320" y="3124080"/>
            <a:ext cx="1828800" cy="7621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VIII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6451560" y="167652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Straight Connector 9"/>
          <p:cNvSpPr/>
          <p:nvPr/>
        </p:nvSpPr>
        <p:spPr>
          <a:xfrm>
            <a:off x="65959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6595920" y="2590920"/>
            <a:ext cx="1146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Straight Connector 20"/>
          <p:cNvSpPr/>
          <p:nvPr/>
        </p:nvSpPr>
        <p:spPr>
          <a:xfrm flipV="1">
            <a:off x="7731000" y="25905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52280" y="1228680"/>
            <a:ext cx="1828800" cy="9050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265480" y="1219320"/>
            <a:ext cx="1828800" cy="9046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bell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414680" y="1219320"/>
            <a:ext cx="20368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VII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6726240" y="1219320"/>
            <a:ext cx="20368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Straight Connector 24"/>
          <p:cNvSpPr/>
          <p:nvPr/>
        </p:nvSpPr>
        <p:spPr>
          <a:xfrm>
            <a:off x="1990800" y="167652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Straight Connector 25"/>
          <p:cNvSpPr/>
          <p:nvPr/>
        </p:nvSpPr>
        <p:spPr>
          <a:xfrm>
            <a:off x="2124000" y="1685880"/>
            <a:ext cx="0" cy="136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041480" y="3048120"/>
            <a:ext cx="220968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herine of Aragor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5253120" y="380880"/>
            <a:ext cx="26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Straight Connector 34"/>
          <p:cNvSpPr/>
          <p:nvPr/>
        </p:nvSpPr>
        <p:spPr>
          <a:xfrm>
            <a:off x="3251160" y="3505320"/>
            <a:ext cx="360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94-153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3810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ed the Bible into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ed as a her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ested in Brus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open the eyes of the king of Englan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2209680" y="3808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iam Tyndal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01608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15000" cy="644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Tyndale Bibl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105160" y="2895480"/>
            <a:ext cx="37335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ynnynge was the worde ad that worde was with god: and god was thatt word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nry 8"/>
          <p:cNvPicPr/>
          <p:nvPr/>
        </p:nvPicPr>
        <p:blipFill>
          <a:blip r:embed="rId1"/>
          <a:stretch/>
        </p:blipFill>
        <p:spPr>
          <a:xfrm>
            <a:off x="4495680" y="304920"/>
            <a:ext cx="1838520" cy="24462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9" name="Group 25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150" name="Line 26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52" name="Text Box 28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55" name="Group 32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156" name="Line 33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7" name="Line 34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59" name="Text Box 36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1447920" y="5659560"/>
            <a:ext cx="20574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nda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1" name="Group 1"/>
          <p:cNvGrpSpPr/>
          <p:nvPr/>
        </p:nvGrpSpPr>
        <p:grpSpPr>
          <a:xfrm>
            <a:off x="6858000" y="496800"/>
            <a:ext cx="2046240" cy="2538360"/>
            <a:chOff x="6858000" y="496800"/>
            <a:chExt cx="2046240" cy="2538360"/>
          </a:xfrm>
        </p:grpSpPr>
        <p:pic>
          <p:nvPicPr>
            <p:cNvPr id="162" name="Picture 37" descr="C:\Users\Owner\Desktop\Cardinal_Wolsey_Christ_Church.jpg"/>
            <p:cNvPicPr/>
            <p:nvPr/>
          </p:nvPicPr>
          <p:blipFill>
            <a:blip r:embed="rId2"/>
            <a:stretch/>
          </p:blipFill>
          <p:spPr>
            <a:xfrm>
              <a:off x="7052040" y="496800"/>
              <a:ext cx="1517040" cy="24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6"/>
            <p:cNvSpPr/>
            <p:nvPr/>
          </p:nvSpPr>
          <p:spPr>
            <a:xfrm>
              <a:off x="6858000" y="2209680"/>
              <a:ext cx="204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Cardinal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Wolsey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2-13T15:21:57Z</dcterms:modified>
  <cp:revision>488</cp:revision>
  <dc:subject/>
  <dc:title>Church History</dc:title>
</cp:coreProperties>
</file>