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11.png" ContentType="image/png"/>
  <Override PartName="/ppt/media/image19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6.jpeg" ContentType="image/jpeg"/>
  <Override PartName="/ppt/media/image13.png" ContentType="image/png"/>
  <Override PartName="/ppt/media/image1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F923-92D5-4B2C-B476-052C700B6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72CF-1338-4FBB-9340-D4B003F9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C44D-3225-4AA9-AA98-BA6CBA49A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B18D-680C-42AC-8A5C-85C458FF2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48E6-1FC2-44A4-B387-57594A1E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1CEF-62C3-44C7-AF90-D8E994C2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E7F7-6B66-4639-84E3-E5597355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9104-EFE6-41C9-8C5F-C6150638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6BCC-121F-499E-A0B0-AD75A985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F42C-CE59-4EB6-A8AF-2A2BE9DA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A5D2-824B-4036-9A4C-224C6C44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52F6-EDA9-43E5-A030-81AE1C2E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B637-2C38-4EBC-A258-A0E6EB0BC9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Road to Re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art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819520" y="601992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17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1447920" y="2133720"/>
            <a:ext cx="6248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hurch History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7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0" y="3505320"/>
            <a:ext cx="9144000" cy="9144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380880" y="35053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2" name="Line 5"/>
          <p:cNvSpPr/>
          <p:nvPr/>
        </p:nvSpPr>
        <p:spPr>
          <a:xfrm>
            <a:off x="1863720" y="35053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3" name="Line 6"/>
          <p:cNvSpPr/>
          <p:nvPr/>
        </p:nvSpPr>
        <p:spPr>
          <a:xfrm>
            <a:off x="3463920" y="35053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4" name="Line 7"/>
          <p:cNvSpPr/>
          <p:nvPr/>
        </p:nvSpPr>
        <p:spPr>
          <a:xfrm>
            <a:off x="4932360" y="35053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5" name="Line 8"/>
          <p:cNvSpPr/>
          <p:nvPr/>
        </p:nvSpPr>
        <p:spPr>
          <a:xfrm>
            <a:off x="6456240" y="35053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Line 9"/>
          <p:cNvSpPr/>
          <p:nvPr/>
        </p:nvSpPr>
        <p:spPr>
          <a:xfrm>
            <a:off x="7980480" y="35053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-249120" y="37339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25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1177920" y="37339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3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2819520" y="37339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35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4302000" y="37339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4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5791320" y="37339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45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7335720" y="37339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3" name="AutoShape 18"/>
          <p:cNvSpPr/>
          <p:nvPr/>
        </p:nvSpPr>
        <p:spPr>
          <a:xfrm rot="5400000">
            <a:off x="2836440" y="2040120"/>
            <a:ext cx="762120" cy="2168280"/>
          </a:xfrm>
          <a:custGeom>
            <a:avLst/>
            <a:gdLst>
              <a:gd name="textAreaLeft" fmla="*/ 487080 w 762120"/>
              <a:gd name="textAreaRight" fmla="*/ 762480 w 762120"/>
              <a:gd name="textAreaTop" fmla="*/ 39240 h 2168280"/>
              <a:gd name="textAreaBottom" fmla="*/ 2129040 h 216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29"/>
                  <a:pt x="10800" y="1258"/>
                </a:cubicBezTo>
                <a:lnTo>
                  <a:pt x="10800" y="8792"/>
                </a:lnTo>
                <a:cubicBezTo>
                  <a:pt x="10800" y="9421"/>
                  <a:pt x="5400" y="10050"/>
                  <a:pt x="0" y="10050"/>
                </a:cubicBezTo>
                <a:cubicBezTo>
                  <a:pt x="5400" y="10050"/>
                  <a:pt x="10800" y="10679"/>
                  <a:pt x="10800" y="11308"/>
                </a:cubicBezTo>
                <a:lnTo>
                  <a:pt x="10800" y="20342"/>
                </a:lnTo>
                <a:cubicBezTo>
                  <a:pt x="10800" y="2097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4" name="Text Box 19"/>
          <p:cNvSpPr/>
          <p:nvPr/>
        </p:nvSpPr>
        <p:spPr>
          <a:xfrm>
            <a:off x="2230560" y="1828800"/>
            <a:ext cx="213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vignon Papacy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5" name="WordArt 23"/>
          <p:cNvSpPr txBox="1"/>
          <p:nvPr/>
        </p:nvSpPr>
        <p:spPr>
          <a:xfrm>
            <a:off x="609480" y="380880"/>
            <a:ext cx="3353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imelin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Text Box 19"/>
          <p:cNvSpPr/>
          <p:nvPr/>
        </p:nvSpPr>
        <p:spPr>
          <a:xfrm>
            <a:off x="2209680" y="526716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Black Death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57" name="Straight Arrow Connector 2"/>
          <p:cNvCxnSpPr/>
          <p:nvPr/>
        </p:nvCxnSpPr>
        <p:spPr>
          <a:xfrm flipV="1">
            <a:off x="3276360" y="4252320"/>
            <a:ext cx="1080" cy="10054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58" name="AutoShape 18"/>
          <p:cNvSpPr/>
          <p:nvPr/>
        </p:nvSpPr>
        <p:spPr>
          <a:xfrm rot="5400000">
            <a:off x="4474080" y="2566080"/>
            <a:ext cx="762120" cy="1084320"/>
          </a:xfrm>
          <a:custGeom>
            <a:avLst/>
            <a:gdLst>
              <a:gd name="textAreaLeft" fmla="*/ 487080 w 762120"/>
              <a:gd name="textAreaRight" fmla="*/ 762480 w 762120"/>
              <a:gd name="textAreaTop" fmla="*/ 39240 h 1084320"/>
              <a:gd name="textAreaBottom" fmla="*/ 1045080 h 1084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8"/>
                  <a:pt x="10800" y="2516"/>
                </a:cubicBezTo>
                <a:lnTo>
                  <a:pt x="10800" y="7534"/>
                </a:lnTo>
                <a:cubicBezTo>
                  <a:pt x="10800" y="8792"/>
                  <a:pt x="5400" y="10050"/>
                  <a:pt x="0" y="10050"/>
                </a:cubicBezTo>
                <a:cubicBezTo>
                  <a:pt x="5400" y="10050"/>
                  <a:pt x="10800" y="11308"/>
                  <a:pt x="10800" y="12566"/>
                </a:cubicBezTo>
                <a:lnTo>
                  <a:pt x="10800" y="19084"/>
                </a:lnTo>
                <a:cubicBezTo>
                  <a:pt x="10800" y="20342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9" name="Text Box 19"/>
          <p:cNvSpPr/>
          <p:nvPr/>
        </p:nvSpPr>
        <p:spPr>
          <a:xfrm>
            <a:off x="3855960" y="175248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Papal Schism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60" name="Straight Arrow Connector 25"/>
          <p:cNvCxnSpPr/>
          <p:nvPr/>
        </p:nvCxnSpPr>
        <p:spPr>
          <a:xfrm flipV="1">
            <a:off x="5409720" y="4266720"/>
            <a:ext cx="1080" cy="1005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61" name="Text Box 19"/>
          <p:cNvSpPr/>
          <p:nvPr/>
        </p:nvSpPr>
        <p:spPr>
          <a:xfrm>
            <a:off x="4363920" y="530388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ouncil of Constanc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2" name="Text Box 20"/>
          <p:cNvSpPr/>
          <p:nvPr/>
        </p:nvSpPr>
        <p:spPr>
          <a:xfrm>
            <a:off x="2473200" y="5943600"/>
            <a:ext cx="1870200" cy="45972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18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hn Wyclif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6" descr="1024px-Vaclav_Brozik_-_Hus"/>
          <p:cNvPicPr/>
          <p:nvPr/>
        </p:nvPicPr>
        <p:blipFill>
          <a:blip r:embed="rId1"/>
          <a:stretch/>
        </p:blipFill>
        <p:spPr>
          <a:xfrm>
            <a:off x="228600" y="1219320"/>
            <a:ext cx="8610480" cy="53816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114440" y="304560"/>
            <a:ext cx="48769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-pope controvers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gismund (Emperor of Holy Roman Empi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nceslaus (King of Bohemi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WordArt 8"/>
          <p:cNvSpPr txBox="1"/>
          <p:nvPr/>
        </p:nvSpPr>
        <p:spPr>
          <a:xfrm>
            <a:off x="304920" y="304920"/>
            <a:ext cx="3429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uncil of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WordArt 9"/>
          <p:cNvSpPr txBox="1"/>
          <p:nvPr/>
        </p:nvSpPr>
        <p:spPr>
          <a:xfrm>
            <a:off x="304920" y="1295280"/>
            <a:ext cx="34290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stanc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6172200" y="64008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Painting by Václav Brožík</a:t>
            </a:r>
            <a:endParaRPr b="0" lang="en-US" sz="1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John Huss (Jan Hus)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715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9" name="Rectangle 5"/>
          <p:cNvSpPr/>
          <p:nvPr/>
        </p:nvSpPr>
        <p:spPr>
          <a:xfrm>
            <a:off x="457200" y="182520"/>
            <a:ext cx="822960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Arial"/>
              </a:rPr>
              <a:t>John Hus</a:t>
            </a:r>
            <a:br>
              <a:rPr sz="54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1372-1415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3581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thus that you silence the goose, but a hundred years hence there will arise a swan whose singing you shall not be able to silence.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457200" y="182520"/>
            <a:ext cx="822960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Arial"/>
              </a:rPr>
              <a:t>John Hus</a:t>
            </a:r>
            <a:br>
              <a:rPr sz="54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1372-1415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72" name="Picture 8" descr=""/>
          <p:cNvPicPr/>
          <p:nvPr/>
        </p:nvPicPr>
        <p:blipFill>
          <a:blip r:embed="rId1"/>
          <a:stretch/>
        </p:blipFill>
        <p:spPr>
          <a:xfrm>
            <a:off x="5181480" y="2057400"/>
            <a:ext cx="233856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0" y="3505320"/>
            <a:ext cx="9144000" cy="9144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4" name="Line 4"/>
          <p:cNvSpPr/>
          <p:nvPr/>
        </p:nvSpPr>
        <p:spPr>
          <a:xfrm>
            <a:off x="380880" y="35053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5" name="Line 5"/>
          <p:cNvSpPr/>
          <p:nvPr/>
        </p:nvSpPr>
        <p:spPr>
          <a:xfrm>
            <a:off x="1863720" y="35053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6" name="Line 6"/>
          <p:cNvSpPr/>
          <p:nvPr/>
        </p:nvSpPr>
        <p:spPr>
          <a:xfrm>
            <a:off x="3463920" y="35053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7" name="Line 7"/>
          <p:cNvSpPr/>
          <p:nvPr/>
        </p:nvSpPr>
        <p:spPr>
          <a:xfrm>
            <a:off x="4932360" y="35053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8" name="Line 8"/>
          <p:cNvSpPr/>
          <p:nvPr/>
        </p:nvSpPr>
        <p:spPr>
          <a:xfrm>
            <a:off x="6456240" y="35053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9" name="Line 9"/>
          <p:cNvSpPr/>
          <p:nvPr/>
        </p:nvSpPr>
        <p:spPr>
          <a:xfrm>
            <a:off x="7980480" y="35053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-249120" y="37339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25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1177920" y="37339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3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2819520" y="37339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35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3" name="Text Box 15"/>
          <p:cNvSpPr/>
          <p:nvPr/>
        </p:nvSpPr>
        <p:spPr>
          <a:xfrm>
            <a:off x="4302000" y="37339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4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5791320" y="37339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45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5" name="Text Box 17"/>
          <p:cNvSpPr/>
          <p:nvPr/>
        </p:nvSpPr>
        <p:spPr>
          <a:xfrm>
            <a:off x="7335720" y="37339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6" name="AutoShape 18"/>
          <p:cNvSpPr/>
          <p:nvPr/>
        </p:nvSpPr>
        <p:spPr>
          <a:xfrm rot="5400000">
            <a:off x="2836440" y="2040120"/>
            <a:ext cx="762120" cy="2168280"/>
          </a:xfrm>
          <a:custGeom>
            <a:avLst/>
            <a:gdLst>
              <a:gd name="textAreaLeft" fmla="*/ 487080 w 762120"/>
              <a:gd name="textAreaRight" fmla="*/ 762480 w 762120"/>
              <a:gd name="textAreaTop" fmla="*/ 39240 h 2168280"/>
              <a:gd name="textAreaBottom" fmla="*/ 2129040 h 216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29"/>
                  <a:pt x="10800" y="1258"/>
                </a:cubicBezTo>
                <a:lnTo>
                  <a:pt x="10800" y="8792"/>
                </a:lnTo>
                <a:cubicBezTo>
                  <a:pt x="10800" y="9421"/>
                  <a:pt x="5400" y="10050"/>
                  <a:pt x="0" y="10050"/>
                </a:cubicBezTo>
                <a:cubicBezTo>
                  <a:pt x="5400" y="10050"/>
                  <a:pt x="10800" y="10679"/>
                  <a:pt x="10800" y="11308"/>
                </a:cubicBezTo>
                <a:lnTo>
                  <a:pt x="10800" y="20342"/>
                </a:lnTo>
                <a:cubicBezTo>
                  <a:pt x="10800" y="2097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7" name="Text Box 19"/>
          <p:cNvSpPr/>
          <p:nvPr/>
        </p:nvSpPr>
        <p:spPr>
          <a:xfrm>
            <a:off x="2230560" y="1828800"/>
            <a:ext cx="213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vignon Papacy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8" name="WordArt 23"/>
          <p:cNvSpPr txBox="1"/>
          <p:nvPr/>
        </p:nvSpPr>
        <p:spPr>
          <a:xfrm>
            <a:off x="609480" y="380880"/>
            <a:ext cx="3353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imelin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9" name="Text Box 19"/>
          <p:cNvSpPr/>
          <p:nvPr/>
        </p:nvSpPr>
        <p:spPr>
          <a:xfrm>
            <a:off x="2209680" y="526716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Black Death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0" name="Straight Arrow Connector 2"/>
          <p:cNvCxnSpPr/>
          <p:nvPr/>
        </p:nvCxnSpPr>
        <p:spPr>
          <a:xfrm flipV="1">
            <a:off x="3276360" y="4252320"/>
            <a:ext cx="1080" cy="10054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91" name="AutoShape 18"/>
          <p:cNvSpPr/>
          <p:nvPr/>
        </p:nvSpPr>
        <p:spPr>
          <a:xfrm rot="5400000">
            <a:off x="4474080" y="2566080"/>
            <a:ext cx="762120" cy="1084320"/>
          </a:xfrm>
          <a:custGeom>
            <a:avLst/>
            <a:gdLst>
              <a:gd name="textAreaLeft" fmla="*/ 487080 w 762120"/>
              <a:gd name="textAreaRight" fmla="*/ 762480 w 762120"/>
              <a:gd name="textAreaTop" fmla="*/ 39240 h 1084320"/>
              <a:gd name="textAreaBottom" fmla="*/ 1045080 h 1084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8"/>
                  <a:pt x="10800" y="2516"/>
                </a:cubicBezTo>
                <a:lnTo>
                  <a:pt x="10800" y="7534"/>
                </a:lnTo>
                <a:cubicBezTo>
                  <a:pt x="10800" y="8792"/>
                  <a:pt x="5400" y="10050"/>
                  <a:pt x="0" y="10050"/>
                </a:cubicBezTo>
                <a:cubicBezTo>
                  <a:pt x="5400" y="10050"/>
                  <a:pt x="10800" y="11308"/>
                  <a:pt x="10800" y="12566"/>
                </a:cubicBezTo>
                <a:lnTo>
                  <a:pt x="10800" y="19084"/>
                </a:lnTo>
                <a:cubicBezTo>
                  <a:pt x="10800" y="20342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3855960" y="175248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Multiple Pope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3" name="Straight Arrow Connector 25"/>
          <p:cNvCxnSpPr>
            <a:stCxn id="194" idx="0"/>
          </p:cNvCxnSpPr>
          <p:nvPr/>
        </p:nvCxnSpPr>
        <p:spPr>
          <a:xfrm flipH="1" flipV="1">
            <a:off x="6019560" y="4266720"/>
            <a:ext cx="10080" cy="13723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94" name="Text Box 19"/>
          <p:cNvSpPr/>
          <p:nvPr/>
        </p:nvSpPr>
        <p:spPr>
          <a:xfrm>
            <a:off x="4962600" y="5638680"/>
            <a:ext cx="213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Printing Pres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5" name="Text Box 20"/>
          <p:cNvSpPr/>
          <p:nvPr/>
        </p:nvSpPr>
        <p:spPr>
          <a:xfrm>
            <a:off x="2473200" y="5943600"/>
            <a:ext cx="1870200" cy="45972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18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hn Wyclif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6" name="Text Box 20"/>
          <p:cNvSpPr/>
          <p:nvPr/>
        </p:nvSpPr>
        <p:spPr>
          <a:xfrm>
            <a:off x="4334040" y="4800600"/>
            <a:ext cx="1083960" cy="82548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18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hn Hu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97" name="Picture 2" descr="Image result for printing press gif"/>
          <p:cNvPicPr/>
          <p:nvPr/>
        </p:nvPicPr>
        <p:blipFill>
          <a:blip r:embed="rId3"/>
          <a:stretch/>
        </p:blipFill>
        <p:spPr>
          <a:xfrm>
            <a:off x="6710400" y="4756320"/>
            <a:ext cx="2023920" cy="1836720"/>
          </a:xfrm>
          <a:prstGeom prst="rect">
            <a:avLst/>
          </a:prstGeom>
          <a:ln w="0">
            <a:noFill/>
          </a:ln>
        </p:spPr>
      </p:pic>
      <p:cxnSp>
        <p:nvCxnSpPr>
          <p:cNvPr id="198" name="Straight Arrow Connector 6"/>
          <p:cNvCxnSpPr/>
          <p:nvPr/>
        </p:nvCxnSpPr>
        <p:spPr>
          <a:xfrm>
            <a:off x="6603480" y="1740960"/>
            <a:ext cx="26280" cy="1917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99" name="Text Box 19"/>
          <p:cNvSpPr/>
          <p:nvPr/>
        </p:nvSpPr>
        <p:spPr>
          <a:xfrm>
            <a:off x="5292720" y="762120"/>
            <a:ext cx="26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onstantinople Fall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5"/>
          <p:cNvSpPr/>
          <p:nvPr/>
        </p:nvSpPr>
        <p:spPr>
          <a:xfrm>
            <a:off x="380880" y="2139840"/>
            <a:ext cx="4114800" cy="9874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des qua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ith with which you believ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380880" y="384120"/>
            <a:ext cx="4114800" cy="1755720"/>
          </a:xfrm>
          <a:prstGeom prst="rect">
            <a:avLst/>
          </a:prstGeom>
          <a:gradFill rotWithShape="0">
            <a:gsLst>
              <a:gs pos="0">
                <a:srgbClr val="993300"/>
              </a:gs>
              <a:gs pos="100000">
                <a:srgbClr val="471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The Act of Faith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495680" y="2139840"/>
            <a:ext cx="4114800" cy="9874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des quae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ith that is believe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495680" y="384120"/>
            <a:ext cx="4114800" cy="1755720"/>
          </a:xfrm>
          <a:prstGeom prst="rect">
            <a:avLst/>
          </a:prstGeom>
          <a:gradFill rotWithShape="0">
            <a:gsLst>
              <a:gs pos="0">
                <a:srgbClr val="993300"/>
              </a:gs>
              <a:gs pos="100000">
                <a:srgbClr val="471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The Content of Faith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380880" y="3127320"/>
            <a:ext cx="4114800" cy="16002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sting in Christ as Lord and Savior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4495680" y="3127320"/>
            <a:ext cx="4114800" cy="16002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ing the specific content of faith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80880" y="4727520"/>
            <a:ext cx="4114800" cy="9874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icit faith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4495680" y="4727520"/>
            <a:ext cx="4114800" cy="9874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icit faith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80880" y="5715000"/>
            <a:ext cx="4114800" cy="9874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peopl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4495680" y="5715000"/>
            <a:ext cx="4114800" cy="9874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ologian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Isosceles Triangle 2"/>
          <p:cNvSpPr/>
          <p:nvPr/>
        </p:nvSpPr>
        <p:spPr>
          <a:xfrm>
            <a:off x="533520" y="1066680"/>
            <a:ext cx="5715000" cy="541044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2438280" y="838080"/>
            <a:ext cx="1905120" cy="10670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op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2666520"/>
            <a:ext cx="1905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Bishop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3" name="Straight Connector 5"/>
          <p:cNvSpPr/>
          <p:nvPr/>
        </p:nvSpPr>
        <p:spPr>
          <a:xfrm>
            <a:off x="1962000" y="3772080"/>
            <a:ext cx="2857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4" name="Title 1"/>
          <p:cNvSpPr/>
          <p:nvPr/>
        </p:nvSpPr>
        <p:spPr>
          <a:xfrm>
            <a:off x="914400" y="4572000"/>
            <a:ext cx="2590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riest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(Secular Clergy)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5" name="Title 1"/>
          <p:cNvSpPr/>
          <p:nvPr/>
        </p:nvSpPr>
        <p:spPr>
          <a:xfrm>
            <a:off x="3124080" y="4808520"/>
            <a:ext cx="297180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Monk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(Regular Clergy)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6" name="Straight Connector 13"/>
          <p:cNvSpPr/>
          <p:nvPr/>
        </p:nvSpPr>
        <p:spPr>
          <a:xfrm>
            <a:off x="3390840" y="3772080"/>
            <a:ext cx="0" cy="2705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7" name="TextBox 14"/>
          <p:cNvSpPr/>
          <p:nvPr/>
        </p:nvSpPr>
        <p:spPr>
          <a:xfrm>
            <a:off x="5954760" y="4660920"/>
            <a:ext cx="3265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ontemplative order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 marL="457200" indent="-457200"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Mendicant order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106668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asteries:  Regular times of pr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ek focused on Sun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turgical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ist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Fri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te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special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WordArt 10"/>
          <p:cNvSpPr txBox="1"/>
          <p:nvPr/>
        </p:nvSpPr>
        <p:spPr>
          <a:xfrm>
            <a:off x="1371600" y="372960"/>
            <a:ext cx="6477120" cy="92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iturgical Calendar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1295280" y="1676520"/>
            <a:ext cx="6553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blished at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ateran Counci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21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pt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cha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i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rimo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reme 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y 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WordArt 10"/>
          <p:cNvSpPr txBox="1"/>
          <p:nvPr/>
        </p:nvSpPr>
        <p:spPr>
          <a:xfrm>
            <a:off x="1371600" y="372960"/>
            <a:ext cx="6477120" cy="92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even Sacrament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1371600" y="175248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eding the hung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ing drink to the thirs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iting the si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thing the nak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iting the impriso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ommodating the homel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rial of the d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WordArt 10"/>
          <p:cNvSpPr txBox="1"/>
          <p:nvPr/>
        </p:nvSpPr>
        <p:spPr>
          <a:xfrm>
            <a:off x="1371600" y="372960"/>
            <a:ext cx="6477120" cy="92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cts of Mercy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4" name="TextBox 5"/>
          <p:cNvSpPr/>
          <p:nvPr/>
        </p:nvSpPr>
        <p:spPr>
          <a:xfrm>
            <a:off x="6095880" y="647712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"/>
              </a:rPr>
              <a:t>Brad Gregory, Stanford University</a:t>
            </a:r>
            <a:endParaRPr b="0" lang="en-US" sz="1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733560" y="1676520"/>
            <a:ext cx="4724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urch His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ume Tw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Pre-Reformation to the Present D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WordArt 12"/>
          <p:cNvSpPr txBox="1"/>
          <p:nvPr/>
        </p:nvSpPr>
        <p:spPr>
          <a:xfrm>
            <a:off x="2971800" y="457200"/>
            <a:ext cx="307188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extbook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4114800" y="525780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hn Woodbridge &amp; Frank James III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7" name="Picture 2" descr="Image result for From Pre-Reformation to the Present Day"/>
          <p:cNvPicPr/>
          <p:nvPr/>
        </p:nvPicPr>
        <p:blipFill>
          <a:blip r:embed="rId1"/>
          <a:stretch/>
        </p:blipFill>
        <p:spPr>
          <a:xfrm>
            <a:off x="990720" y="1752480"/>
            <a:ext cx="2913120" cy="3810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1020600" y="20574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erical exem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secular 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secular tax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civic du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t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lding of multiple church off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 of holy li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WordArt 10"/>
          <p:cNvSpPr txBox="1"/>
          <p:nvPr/>
        </p:nvSpPr>
        <p:spPr>
          <a:xfrm>
            <a:off x="609480" y="525600"/>
            <a:ext cx="8153640" cy="92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auses of Anti-Clericalis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7" name="Picture 2" descr="http://humanities.exeter.ac.uk/media/universityofexeter/collegeofhumanities/history/researchcentres/centreformedievalstudies/218grandisson_window.jpg"/>
          <p:cNvPicPr/>
          <p:nvPr/>
        </p:nvPicPr>
        <p:blipFill>
          <a:blip r:embed="rId3"/>
          <a:stretch/>
        </p:blipFill>
        <p:spPr>
          <a:xfrm>
            <a:off x="5562720" y="1981080"/>
            <a:ext cx="2666880" cy="2667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761760" y="17985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yers for the dead (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entu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gument against “soul sleep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tullian argued that souls would “pay the last cent” (Matthew 5:26; Luke 12:5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tyrs were thought to enter into gl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gory of Nyssa taught that after death souls could be purged by “purifying fir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gustine cited 1 Corinthians 3:15 about a man being “saved as through fir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WordArt 4"/>
          <p:cNvSpPr txBox="1"/>
          <p:nvPr/>
        </p:nvSpPr>
        <p:spPr>
          <a:xfrm>
            <a:off x="838080" y="609480"/>
            <a:ext cx="7391520" cy="7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octrine of Purgatory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761760" y="1798200"/>
            <a:ext cx="75438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dea that purgatory is an intermediate place (late 1100’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quinas cited 2 Maccabees 12:46 as proof of purga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a holy and wholesome thought to pray for the dead, that they may be loosed from sin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n status of church doctrine in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uncil of Lyon (124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WordArt 4"/>
          <p:cNvSpPr txBox="1"/>
          <p:nvPr/>
        </p:nvSpPr>
        <p:spPr>
          <a:xfrm>
            <a:off x="838080" y="609480"/>
            <a:ext cx="7391520" cy="7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octrine of Purgatory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0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WordArt 4"/>
          <p:cNvSpPr txBox="1"/>
          <p:nvPr/>
        </p:nvSpPr>
        <p:spPr>
          <a:xfrm>
            <a:off x="1947960" y="2073240"/>
            <a:ext cx="5062320" cy="7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upererogation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33523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act of paying more than is du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3124080" y="1600200"/>
            <a:ext cx="5562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igious in n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ion to Medieval scholastic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re to return to the Greek and Latin class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ewed more recent times as “Dark Age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turn to original manuscrip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2" descr="File:Da Vinci Vitruve Luc Viatour.jpg"/>
          <p:cNvPicPr/>
          <p:nvPr/>
        </p:nvPicPr>
        <p:blipFill>
          <a:blip r:embed="rId1"/>
          <a:stretch/>
        </p:blipFill>
        <p:spPr>
          <a:xfrm>
            <a:off x="380880" y="1600200"/>
            <a:ext cx="2632320" cy="3581280"/>
          </a:xfrm>
          <a:prstGeom prst="rect">
            <a:avLst/>
          </a:prstGeom>
          <a:ln w="0">
            <a:noFill/>
          </a:ln>
        </p:spPr>
      </p:pic>
      <p:sp>
        <p:nvSpPr>
          <p:cNvPr id="236" name="WordArt 10"/>
          <p:cNvSpPr txBox="1"/>
          <p:nvPr/>
        </p:nvSpPr>
        <p:spPr>
          <a:xfrm>
            <a:off x="838080" y="465120"/>
            <a:ext cx="7391520" cy="7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naissance Humanis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124080" y="1600200"/>
            <a:ext cx="5562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y of “Humanitie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er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hetor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e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ilosop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2" descr="File:Da Vinci Vitruve Luc Viatour.jpg"/>
          <p:cNvPicPr/>
          <p:nvPr/>
        </p:nvPicPr>
        <p:blipFill>
          <a:blip r:embed="rId1"/>
          <a:stretch/>
        </p:blipFill>
        <p:spPr>
          <a:xfrm>
            <a:off x="380880" y="1600200"/>
            <a:ext cx="2632320" cy="3581280"/>
          </a:xfrm>
          <a:prstGeom prst="rect">
            <a:avLst/>
          </a:prstGeom>
          <a:ln w="0">
            <a:noFill/>
          </a:ln>
        </p:spPr>
      </p:pic>
      <p:sp>
        <p:nvSpPr>
          <p:cNvPr id="239" name="WordArt 10"/>
          <p:cNvSpPr txBox="1"/>
          <p:nvPr/>
        </p:nvSpPr>
        <p:spPr>
          <a:xfrm>
            <a:off x="838080" y="465120"/>
            <a:ext cx="7391520" cy="7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naissance Humanis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6"/>
          <p:cNvSpPr/>
          <p:nvPr/>
        </p:nvSpPr>
        <p:spPr>
          <a:xfrm>
            <a:off x="76320" y="228600"/>
            <a:ext cx="4495680" cy="1295280"/>
          </a:xfrm>
          <a:prstGeom prst="rect">
            <a:avLst/>
          </a:prstGeom>
          <a:gradFill rotWithShape="0">
            <a:gsLst>
              <a:gs pos="0">
                <a:srgbClr val="993300"/>
              </a:gs>
              <a:gs pos="100000">
                <a:srgbClr val="471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Medieval Scholasticism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76320" y="1523880"/>
            <a:ext cx="4495680" cy="16002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 is whatever God has made him; just accept it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4572000" y="228600"/>
            <a:ext cx="4495680" cy="1295280"/>
          </a:xfrm>
          <a:prstGeom prst="rect">
            <a:avLst/>
          </a:prstGeom>
          <a:gradFill rotWithShape="0">
            <a:gsLst>
              <a:gs pos="0">
                <a:srgbClr val="993300"/>
              </a:gs>
              <a:gs pos="100000">
                <a:srgbClr val="471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Renaissance Humanism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4572000" y="1523880"/>
            <a:ext cx="4495680" cy="16002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 can be whatever he decides to b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76320" y="3124080"/>
            <a:ext cx="4495680" cy="6858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ylized art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4572000" y="3124080"/>
            <a:ext cx="4495680" cy="6858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pective in art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76320" y="3809880"/>
            <a:ext cx="4495680" cy="10670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 by studying Go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4572000" y="3809880"/>
            <a:ext cx="4495680" cy="10670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 by studying creatio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76320" y="4876920"/>
            <a:ext cx="449568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y of the church father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4572000" y="4876920"/>
            <a:ext cx="449568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y Greek and Roman classic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0" name="Rectangle 11"/>
          <p:cNvSpPr/>
          <p:nvPr/>
        </p:nvSpPr>
        <p:spPr>
          <a:xfrm>
            <a:off x="76320" y="5943600"/>
            <a:ext cx="4495680" cy="6858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ey authorit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4572000" y="5943600"/>
            <a:ext cx="4495680" cy="6858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authorit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1294920" y="1600200"/>
            <a:ext cx="7162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hasis on returning to sour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ble:  Greek New Testa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w older church fathers as better than newer theologians like Aquin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mired Classical writers like Plato &amp; Aristot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 the Bible through the eyes of clas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view of manki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WordArt 10"/>
          <p:cNvSpPr txBox="1"/>
          <p:nvPr/>
        </p:nvSpPr>
        <p:spPr>
          <a:xfrm>
            <a:off x="838080" y="465120"/>
            <a:ext cx="7391520" cy="7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ligious Humanis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971800" y="129528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466 - 1536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09480" y="1980720"/>
            <a:ext cx="5562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legitimate son of a pri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nts died of plag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esthood (149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ied Latin and Gr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ught at Cambridge (149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it to Rome (150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2" descr="C:\Users\Owner\Desktop\Holbein-erasmus.jpg"/>
          <p:cNvPicPr/>
          <p:nvPr/>
        </p:nvPicPr>
        <p:blipFill>
          <a:blip r:embed="rId1"/>
          <a:stretch/>
        </p:blipFill>
        <p:spPr>
          <a:xfrm>
            <a:off x="6248520" y="1676520"/>
            <a:ext cx="2441520" cy="4554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57" name="WordArt 6"/>
          <p:cNvSpPr txBox="1"/>
          <p:nvPr/>
        </p:nvSpPr>
        <p:spPr>
          <a:xfrm>
            <a:off x="1751040" y="380880"/>
            <a:ext cx="5640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esiderius Erasmu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5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5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71800" y="129528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466 - 1536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09480" y="1980720"/>
            <a:ext cx="5486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she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 Praise of Fol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15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t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urch Superst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dicated to Thomas Moore, future Lord Chancellor of Eng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y on words 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oria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folly) with name of Mo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2" descr="C:\Users\Owner\Desktop\Holbein-erasmus.jpg"/>
          <p:cNvPicPr/>
          <p:nvPr/>
        </p:nvPicPr>
        <p:blipFill>
          <a:blip r:embed="rId1"/>
          <a:stretch/>
        </p:blipFill>
        <p:spPr>
          <a:xfrm>
            <a:off x="6248520" y="1676520"/>
            <a:ext cx="2441520" cy="4554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61" name="WordArt 6"/>
          <p:cNvSpPr txBox="1"/>
          <p:nvPr/>
        </p:nvSpPr>
        <p:spPr>
          <a:xfrm>
            <a:off x="1751040" y="380880"/>
            <a:ext cx="5640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esiderius Erasmu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09320" y="2437920"/>
            <a:ext cx="6629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urch Visit (10%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line quizzes (30%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search Paper (30%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ass Presentation (10%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 Exam (20%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1752480" y="838080"/>
            <a:ext cx="5953320" cy="105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ading Summary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720" y="1980720"/>
            <a:ext cx="4876560" cy="44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most all Christians being wretchedly enslaved to blindness and ignorance, which the priests are so far from preventing or removing, that they blacken the darkness, and promote the delusion...” 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3" name="Title 1"/>
          <p:cNvSpPr/>
          <p:nvPr/>
        </p:nvSpPr>
        <p:spPr>
          <a:xfrm>
            <a:off x="2971800" y="12952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466 - 1536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4" name="WordArt 6"/>
          <p:cNvSpPr txBox="1"/>
          <p:nvPr/>
        </p:nvSpPr>
        <p:spPr>
          <a:xfrm>
            <a:off x="1751040" y="380880"/>
            <a:ext cx="5640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esiderius Erasmu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5" name="Picture 2" descr="C:\Users\Owner\Desktop\Holbein-erasmus.jpg"/>
          <p:cNvPicPr/>
          <p:nvPr/>
        </p:nvPicPr>
        <p:blipFill>
          <a:blip r:embed="rId1"/>
          <a:stretch/>
        </p:blipFill>
        <p:spPr>
          <a:xfrm>
            <a:off x="6248520" y="1676520"/>
            <a:ext cx="2441520" cy="4554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1980720"/>
            <a:ext cx="5029200" cy="44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sely foreseeing that the people (like cows, which never give down their milk so well as when they are gently stroked), would part with less if they knew more...”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 Praise of Fol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7" name="Title 1"/>
          <p:cNvSpPr/>
          <p:nvPr/>
        </p:nvSpPr>
        <p:spPr>
          <a:xfrm>
            <a:off x="2971800" y="12952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466 - 1536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8" name="WordArt 6"/>
          <p:cNvSpPr txBox="1"/>
          <p:nvPr/>
        </p:nvSpPr>
        <p:spPr>
          <a:xfrm>
            <a:off x="1751040" y="380880"/>
            <a:ext cx="5640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esiderius Erasmu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9" name="Picture 2" descr="C:\Users\Owner\Desktop\Holbein-erasmus.jpg"/>
          <p:cNvPicPr/>
          <p:nvPr/>
        </p:nvPicPr>
        <p:blipFill>
          <a:blip r:embed="rId1"/>
          <a:stretch/>
        </p:blipFill>
        <p:spPr>
          <a:xfrm>
            <a:off x="6248520" y="1676520"/>
            <a:ext cx="2441520" cy="4554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971800" y="129528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466 - 1536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09480" y="1980720"/>
            <a:ext cx="5486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ot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ducation of a Christian Pri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ten as a rebuttal of Machiavelli’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ri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tter for a prince to be loved that fea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ed for rise in general 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2" descr="C:\Users\Owner\Desktop\Holbein-erasmus.jpg"/>
          <p:cNvPicPr/>
          <p:nvPr/>
        </p:nvPicPr>
        <p:blipFill>
          <a:blip r:embed="rId1"/>
          <a:stretch/>
        </p:blipFill>
        <p:spPr>
          <a:xfrm>
            <a:off x="6248520" y="1676520"/>
            <a:ext cx="2441520" cy="4554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73" name="WordArt 6"/>
          <p:cNvSpPr txBox="1"/>
          <p:nvPr/>
        </p:nvSpPr>
        <p:spPr>
          <a:xfrm>
            <a:off x="1751040" y="380880"/>
            <a:ext cx="5640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esiderius Erasmu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971800" y="129528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466 - 1536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09120" y="1980720"/>
            <a:ext cx="5410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shed Greek New Testament with Latin translation, 15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in translation differed in places from the Vulgate: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Be turned to 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stead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o pena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Matthew 3: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C:\Users\Owner\Desktop\Holbein-erasmus.jpg"/>
          <p:cNvPicPr/>
          <p:nvPr/>
        </p:nvPicPr>
        <p:blipFill>
          <a:blip r:embed="rId1"/>
          <a:stretch/>
        </p:blipFill>
        <p:spPr>
          <a:xfrm>
            <a:off x="6248520" y="1676520"/>
            <a:ext cx="2441520" cy="4554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77" name="WordArt 6"/>
          <p:cNvSpPr txBox="1"/>
          <p:nvPr/>
        </p:nvSpPr>
        <p:spPr>
          <a:xfrm>
            <a:off x="1751040" y="380880"/>
            <a:ext cx="5640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esiderius Erasmu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0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971800" y="129528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466 - 1536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09120" y="1980720"/>
            <a:ext cx="5410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shed Greek New Testament with Latin translation, 15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d not include 1 John 5:7 in first two ed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lated last six verses of Revelation from Lat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ve ed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2" descr="C:\Users\Owner\Desktop\Holbein-erasmus.jpg"/>
          <p:cNvPicPr/>
          <p:nvPr/>
        </p:nvPicPr>
        <p:blipFill>
          <a:blip r:embed="rId1"/>
          <a:stretch/>
        </p:blipFill>
        <p:spPr>
          <a:xfrm>
            <a:off x="6248520" y="1676520"/>
            <a:ext cx="2441520" cy="4554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81" name="WordArt 6"/>
          <p:cNvSpPr txBox="1"/>
          <p:nvPr/>
        </p:nvSpPr>
        <p:spPr>
          <a:xfrm>
            <a:off x="1751040" y="380880"/>
            <a:ext cx="5640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esiderius Erasmu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971800" y="129528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466 - 1536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83" name="Picture 2" descr="C:\Users\Owner\Desktop\Holbein-erasmus.jpg"/>
          <p:cNvPicPr/>
          <p:nvPr/>
        </p:nvPicPr>
        <p:blipFill>
          <a:blip r:embed="rId1"/>
          <a:stretch/>
        </p:blipFill>
        <p:spPr>
          <a:xfrm>
            <a:off x="6248520" y="1676520"/>
            <a:ext cx="2441520" cy="4554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84" name="WordArt 6"/>
          <p:cNvSpPr txBox="1"/>
          <p:nvPr/>
        </p:nvSpPr>
        <p:spPr>
          <a:xfrm>
            <a:off x="1751040" y="380880"/>
            <a:ext cx="5640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esiderius Erasmu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5" name="TextBox 5"/>
          <p:cNvSpPr/>
          <p:nvPr/>
        </p:nvSpPr>
        <p:spPr>
          <a:xfrm>
            <a:off x="685800" y="2039760"/>
            <a:ext cx="5410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one thing the facts cry out, and it can be clear, as they say, even to a blind man, that often through the translator’s clumsiness or inattention the Greek has been wrongly rendered…”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971800" y="129528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466 - 1536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87" name="Picture 2" descr="C:\Users\Owner\Desktop\Holbein-erasmus.jpg"/>
          <p:cNvPicPr/>
          <p:nvPr/>
        </p:nvPicPr>
        <p:blipFill>
          <a:blip r:embed="rId1"/>
          <a:stretch/>
        </p:blipFill>
        <p:spPr>
          <a:xfrm>
            <a:off x="6248520" y="1676520"/>
            <a:ext cx="2441520" cy="4554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88" name="WordArt 6"/>
          <p:cNvSpPr txBox="1"/>
          <p:nvPr/>
        </p:nvSpPr>
        <p:spPr>
          <a:xfrm>
            <a:off x="1751040" y="380880"/>
            <a:ext cx="5640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esiderius Erasmu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9" name="TextBox 5"/>
          <p:cNvSpPr/>
          <p:nvPr/>
        </p:nvSpPr>
        <p:spPr>
          <a:xfrm>
            <a:off x="762120" y="2039760"/>
            <a:ext cx="5181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ten the true and genuine reading has been corrupted by ignorant scribes, which we see happen every day, or altered by scribes who are half-taught and half-asleep.”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971800" y="129528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466 - 1536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91" name="Picture 2" descr="C:\Users\Owner\Desktop\Holbein-erasmus.jpg"/>
          <p:cNvPicPr/>
          <p:nvPr/>
        </p:nvPicPr>
        <p:blipFill>
          <a:blip r:embed="rId1"/>
          <a:stretch/>
        </p:blipFill>
        <p:spPr>
          <a:xfrm>
            <a:off x="6248520" y="1676520"/>
            <a:ext cx="2441520" cy="4554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92" name="WordArt 6"/>
          <p:cNvSpPr txBox="1"/>
          <p:nvPr/>
        </p:nvSpPr>
        <p:spPr>
          <a:xfrm>
            <a:off x="1751040" y="380880"/>
            <a:ext cx="5640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esiderius Erasmu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3" name="TextBox 5"/>
          <p:cNvSpPr/>
          <p:nvPr/>
        </p:nvSpPr>
        <p:spPr>
          <a:xfrm>
            <a:off x="762120" y="2039760"/>
            <a:ext cx="5181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put up with this church, in the hope that one day it will become better, just as it is constrained to put up with me in the hope that I will become better.”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43000" y="1752480"/>
            <a:ext cx="7696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-12 pages plus title and reference p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ic aspect of a person, event, or theological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ademic v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priate scholarly ci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iginal source documents when avai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3"/>
          <p:cNvSpPr txBox="1"/>
          <p:nvPr/>
        </p:nvSpPr>
        <p:spPr>
          <a:xfrm>
            <a:off x="1600200" y="457200"/>
            <a:ext cx="595296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search Paper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43000" y="1752480"/>
            <a:ext cx="7696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vin’s Institutes (Week 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hn Bunyan (Week 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al of Galileo (Week 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avians (Week 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ger Williams (Week 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les Finney (Week 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dinal Newman, Charles Spurgeon, David Livingston (Week 1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ic in the Church (Week 1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WordArt 3"/>
          <p:cNvSpPr txBox="1"/>
          <p:nvPr/>
        </p:nvSpPr>
        <p:spPr>
          <a:xfrm>
            <a:off x="914400" y="533520"/>
            <a:ext cx="7620120" cy="82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lass Presentation Topic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1295280"/>
            <a:ext cx="9372600" cy="2743200"/>
            <a:chOff x="0" y="1295280"/>
            <a:chExt cx="9372600" cy="2743200"/>
          </a:xfrm>
        </p:grpSpPr>
        <p:sp>
          <p:nvSpPr>
            <p:cNvPr id="55" name="Rectangle 3"/>
            <p:cNvSpPr/>
            <p:nvPr/>
          </p:nvSpPr>
          <p:spPr>
            <a:xfrm>
              <a:off x="0" y="1295280"/>
              <a:ext cx="9144000" cy="274320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8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6" name="Line 4"/>
            <p:cNvSpPr/>
            <p:nvPr/>
          </p:nvSpPr>
          <p:spPr>
            <a:xfrm flipV="1">
              <a:off x="4572000" y="3504960"/>
              <a:ext cx="0" cy="53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7" name="Line 5"/>
            <p:cNvSpPr/>
            <p:nvPr/>
          </p:nvSpPr>
          <p:spPr>
            <a:xfrm flipV="1">
              <a:off x="2400480" y="3504960"/>
              <a:ext cx="0" cy="53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8" name="Line 6"/>
            <p:cNvSpPr/>
            <p:nvPr/>
          </p:nvSpPr>
          <p:spPr>
            <a:xfrm flipV="1">
              <a:off x="6724800" y="3504960"/>
              <a:ext cx="0" cy="53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9" name="Line 7"/>
            <p:cNvSpPr/>
            <p:nvPr/>
          </p:nvSpPr>
          <p:spPr>
            <a:xfrm flipV="1">
              <a:off x="380880" y="3504960"/>
              <a:ext cx="0" cy="53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0" name="Line 8"/>
            <p:cNvSpPr/>
            <p:nvPr/>
          </p:nvSpPr>
          <p:spPr>
            <a:xfrm flipV="1">
              <a:off x="8707320" y="3504960"/>
              <a:ext cx="0" cy="53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1" name="Text Box 9"/>
            <p:cNvSpPr/>
            <p:nvPr/>
          </p:nvSpPr>
          <p:spPr>
            <a:xfrm>
              <a:off x="3886200" y="29862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2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2" name="Text Box 10"/>
            <p:cNvSpPr/>
            <p:nvPr/>
          </p:nvSpPr>
          <p:spPr>
            <a:xfrm>
              <a:off x="193680" y="297180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3" name="Text Box 11"/>
            <p:cNvSpPr/>
            <p:nvPr/>
          </p:nvSpPr>
          <p:spPr>
            <a:xfrm>
              <a:off x="1752480" y="29718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500</a:t>
              </a:r>
              <a:endParaRPr b="0" lang="en-US" sz="2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4" name="Text Box 12"/>
            <p:cNvSpPr/>
            <p:nvPr/>
          </p:nvSpPr>
          <p:spPr>
            <a:xfrm>
              <a:off x="6019920" y="29718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500</a:t>
              </a:r>
              <a:endParaRPr b="0" lang="en-US" sz="2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5" name="Text Box 13"/>
            <p:cNvSpPr/>
            <p:nvPr/>
          </p:nvSpPr>
          <p:spPr>
            <a:xfrm>
              <a:off x="8001000" y="29718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2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6" name="Line 14"/>
            <p:cNvSpPr/>
            <p:nvPr/>
          </p:nvSpPr>
          <p:spPr>
            <a:xfrm flipV="1">
              <a:off x="380880" y="1315800"/>
              <a:ext cx="0" cy="157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7" name="Line 15"/>
            <p:cNvSpPr/>
            <p:nvPr/>
          </p:nvSpPr>
          <p:spPr>
            <a:xfrm flipV="1">
              <a:off x="2397240" y="1315800"/>
              <a:ext cx="0" cy="157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8" name="Line 16"/>
            <p:cNvSpPr/>
            <p:nvPr/>
          </p:nvSpPr>
          <p:spPr>
            <a:xfrm flipV="1">
              <a:off x="4572000" y="1295280"/>
              <a:ext cx="0" cy="1579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9" name="Line 17"/>
            <p:cNvSpPr/>
            <p:nvPr/>
          </p:nvSpPr>
          <p:spPr>
            <a:xfrm flipV="1">
              <a:off x="6726240" y="1295280"/>
              <a:ext cx="0" cy="1579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70" name="Line 18"/>
            <p:cNvSpPr/>
            <p:nvPr/>
          </p:nvSpPr>
          <p:spPr>
            <a:xfrm flipV="1">
              <a:off x="8686800" y="1295280"/>
              <a:ext cx="0" cy="1579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71" name="Rectangle 19"/>
          <p:cNvSpPr/>
          <p:nvPr/>
        </p:nvSpPr>
        <p:spPr>
          <a:xfrm>
            <a:off x="2362320" y="4038480"/>
            <a:ext cx="4419360" cy="6858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Medieval Church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Rectangle 20"/>
          <p:cNvSpPr/>
          <p:nvPr/>
        </p:nvSpPr>
        <p:spPr>
          <a:xfrm>
            <a:off x="6724800" y="4038480"/>
            <a:ext cx="2419200" cy="18288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Reforme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hurch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WordArt 21"/>
          <p:cNvSpPr txBox="1"/>
          <p:nvPr/>
        </p:nvSpPr>
        <p:spPr>
          <a:xfrm>
            <a:off x="380880" y="266760"/>
            <a:ext cx="845820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 Timeline of Church History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Rectangle 22"/>
          <p:cNvSpPr/>
          <p:nvPr/>
        </p:nvSpPr>
        <p:spPr>
          <a:xfrm>
            <a:off x="380880" y="4038480"/>
            <a:ext cx="2019600" cy="18288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cient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hurch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5" name="Picture 23" descr=""/>
          <p:cNvPicPr/>
          <p:nvPr/>
        </p:nvPicPr>
        <p:blipFill>
          <a:blip r:embed="rId1"/>
          <a:stretch/>
        </p:blipFill>
        <p:spPr>
          <a:xfrm>
            <a:off x="266760" y="3886200"/>
            <a:ext cx="455400" cy="7272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24"/>
          <p:cNvSpPr/>
          <p:nvPr/>
        </p:nvSpPr>
        <p:spPr>
          <a:xfrm>
            <a:off x="2405160" y="4724280"/>
            <a:ext cx="2166840" cy="13716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Early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Middle Age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Rectangle 25"/>
          <p:cNvSpPr/>
          <p:nvPr/>
        </p:nvSpPr>
        <p:spPr>
          <a:xfrm>
            <a:off x="4572000" y="4724280"/>
            <a:ext cx="1143000" cy="13716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Middle 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Age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Rectangle 26"/>
          <p:cNvSpPr/>
          <p:nvPr/>
        </p:nvSpPr>
        <p:spPr>
          <a:xfrm>
            <a:off x="5715000" y="4724280"/>
            <a:ext cx="1001880" cy="13716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Lat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Middle 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Age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3505320"/>
            <a:ext cx="9144000" cy="9144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Line 4"/>
          <p:cNvSpPr/>
          <p:nvPr/>
        </p:nvSpPr>
        <p:spPr>
          <a:xfrm>
            <a:off x="380880" y="35053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>
            <a:off x="1863720" y="35053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Line 6"/>
          <p:cNvSpPr/>
          <p:nvPr/>
        </p:nvSpPr>
        <p:spPr>
          <a:xfrm>
            <a:off x="3463920" y="35053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Line 7"/>
          <p:cNvSpPr/>
          <p:nvPr/>
        </p:nvSpPr>
        <p:spPr>
          <a:xfrm>
            <a:off x="4932360" y="35053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Line 8"/>
          <p:cNvSpPr/>
          <p:nvPr/>
        </p:nvSpPr>
        <p:spPr>
          <a:xfrm>
            <a:off x="6456240" y="35053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Line 9"/>
          <p:cNvSpPr/>
          <p:nvPr/>
        </p:nvSpPr>
        <p:spPr>
          <a:xfrm>
            <a:off x="7980480" y="35053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-249120" y="37339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25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1177920" y="37339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3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" name="Text Box 14"/>
          <p:cNvSpPr/>
          <p:nvPr/>
        </p:nvSpPr>
        <p:spPr>
          <a:xfrm>
            <a:off x="2819520" y="37339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35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4302000" y="37339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4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Text Box 16"/>
          <p:cNvSpPr/>
          <p:nvPr/>
        </p:nvSpPr>
        <p:spPr>
          <a:xfrm>
            <a:off x="5791320" y="37339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45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Text Box 17"/>
          <p:cNvSpPr/>
          <p:nvPr/>
        </p:nvSpPr>
        <p:spPr>
          <a:xfrm>
            <a:off x="7335720" y="37339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AutoShape 18"/>
          <p:cNvSpPr/>
          <p:nvPr/>
        </p:nvSpPr>
        <p:spPr>
          <a:xfrm rot="5400000">
            <a:off x="2836440" y="2040120"/>
            <a:ext cx="762120" cy="2168280"/>
          </a:xfrm>
          <a:custGeom>
            <a:avLst/>
            <a:gdLst>
              <a:gd name="textAreaLeft" fmla="*/ 487080 w 762120"/>
              <a:gd name="textAreaRight" fmla="*/ 762480 w 762120"/>
              <a:gd name="textAreaTop" fmla="*/ 39240 h 2168280"/>
              <a:gd name="textAreaBottom" fmla="*/ 2129040 h 216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29"/>
                  <a:pt x="10800" y="1258"/>
                </a:cubicBezTo>
                <a:lnTo>
                  <a:pt x="10800" y="8792"/>
                </a:lnTo>
                <a:cubicBezTo>
                  <a:pt x="10800" y="9421"/>
                  <a:pt x="5400" y="10050"/>
                  <a:pt x="0" y="10050"/>
                </a:cubicBezTo>
                <a:cubicBezTo>
                  <a:pt x="5400" y="10050"/>
                  <a:pt x="10800" y="10679"/>
                  <a:pt x="10800" y="11308"/>
                </a:cubicBezTo>
                <a:lnTo>
                  <a:pt x="10800" y="20342"/>
                </a:lnTo>
                <a:cubicBezTo>
                  <a:pt x="10800" y="2097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2230560" y="1828800"/>
            <a:ext cx="213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vignon Papacy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WordArt 23"/>
          <p:cNvSpPr txBox="1"/>
          <p:nvPr/>
        </p:nvSpPr>
        <p:spPr>
          <a:xfrm>
            <a:off x="609480" y="380880"/>
            <a:ext cx="3353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imelin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5" name="Picture 29" descr="C:\Users\Owner\Desktop\Avignon,_Palais_des_Papes_by_JM_Rosier.jpg"/>
          <p:cNvPicPr/>
          <p:nvPr/>
        </p:nvPicPr>
        <p:blipFill>
          <a:blip r:embed="rId3"/>
          <a:stretch/>
        </p:blipFill>
        <p:spPr>
          <a:xfrm>
            <a:off x="1498680" y="4268880"/>
            <a:ext cx="5664240" cy="2313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3505320"/>
            <a:ext cx="9144000" cy="9144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380880" y="35053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8" name="Line 5"/>
          <p:cNvSpPr/>
          <p:nvPr/>
        </p:nvSpPr>
        <p:spPr>
          <a:xfrm>
            <a:off x="1863720" y="35053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Line 6"/>
          <p:cNvSpPr/>
          <p:nvPr/>
        </p:nvSpPr>
        <p:spPr>
          <a:xfrm>
            <a:off x="3463920" y="35053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Line 7"/>
          <p:cNvSpPr/>
          <p:nvPr/>
        </p:nvSpPr>
        <p:spPr>
          <a:xfrm>
            <a:off x="4932360" y="35053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Line 8"/>
          <p:cNvSpPr/>
          <p:nvPr/>
        </p:nvSpPr>
        <p:spPr>
          <a:xfrm>
            <a:off x="6456240" y="35053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2" name="Line 9"/>
          <p:cNvSpPr/>
          <p:nvPr/>
        </p:nvSpPr>
        <p:spPr>
          <a:xfrm>
            <a:off x="7980480" y="35053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-249120" y="37339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25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1177920" y="37339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3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2819520" y="37339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35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4302000" y="37339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4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5791320" y="37339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45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7335720" y="37339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AutoShape 18"/>
          <p:cNvSpPr/>
          <p:nvPr/>
        </p:nvSpPr>
        <p:spPr>
          <a:xfrm rot="5400000">
            <a:off x="2836440" y="2040120"/>
            <a:ext cx="762120" cy="2168280"/>
          </a:xfrm>
          <a:custGeom>
            <a:avLst/>
            <a:gdLst>
              <a:gd name="textAreaLeft" fmla="*/ 487080 w 762120"/>
              <a:gd name="textAreaRight" fmla="*/ 762480 w 762120"/>
              <a:gd name="textAreaTop" fmla="*/ 39240 h 2168280"/>
              <a:gd name="textAreaBottom" fmla="*/ 2129040 h 216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29"/>
                  <a:pt x="10800" y="1258"/>
                </a:cubicBezTo>
                <a:lnTo>
                  <a:pt x="10800" y="8792"/>
                </a:lnTo>
                <a:cubicBezTo>
                  <a:pt x="10800" y="9421"/>
                  <a:pt x="5400" y="10050"/>
                  <a:pt x="0" y="10050"/>
                </a:cubicBezTo>
                <a:cubicBezTo>
                  <a:pt x="5400" y="10050"/>
                  <a:pt x="10800" y="10679"/>
                  <a:pt x="10800" y="11308"/>
                </a:cubicBezTo>
                <a:lnTo>
                  <a:pt x="10800" y="20342"/>
                </a:lnTo>
                <a:cubicBezTo>
                  <a:pt x="10800" y="2097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0" name="Text Box 19"/>
          <p:cNvSpPr/>
          <p:nvPr/>
        </p:nvSpPr>
        <p:spPr>
          <a:xfrm>
            <a:off x="2230560" y="1828800"/>
            <a:ext cx="213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vignon Papacy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WordArt 23"/>
          <p:cNvSpPr txBox="1"/>
          <p:nvPr/>
        </p:nvSpPr>
        <p:spPr>
          <a:xfrm>
            <a:off x="609480" y="380880"/>
            <a:ext cx="3353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imelin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Text Box 19"/>
          <p:cNvSpPr/>
          <p:nvPr/>
        </p:nvSpPr>
        <p:spPr>
          <a:xfrm>
            <a:off x="2209680" y="526716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Black Death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13" name="Straight Arrow Connector 2"/>
          <p:cNvCxnSpPr/>
          <p:nvPr/>
        </p:nvCxnSpPr>
        <p:spPr>
          <a:xfrm flipV="1">
            <a:off x="3276360" y="4252320"/>
            <a:ext cx="1080" cy="10054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pic>
        <p:nvPicPr>
          <p:cNvPr id="114" name="Picture 2" descr="C:\Users\Owner\Desktop\Wycliffe_by_Kirby.jpg"/>
          <p:cNvPicPr/>
          <p:nvPr/>
        </p:nvPicPr>
        <p:blipFill>
          <a:blip r:embed="rId3"/>
          <a:stretch/>
        </p:blipFill>
        <p:spPr>
          <a:xfrm>
            <a:off x="4267080" y="4253040"/>
            <a:ext cx="1592280" cy="24429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20"/>
          <p:cNvSpPr/>
          <p:nvPr/>
        </p:nvSpPr>
        <p:spPr>
          <a:xfrm>
            <a:off x="2473200" y="5943600"/>
            <a:ext cx="1870200" cy="45972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18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hn Wyclif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3505320"/>
            <a:ext cx="9144000" cy="9144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380880" y="35053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1863720" y="35053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9" name="Line 6"/>
          <p:cNvSpPr/>
          <p:nvPr/>
        </p:nvSpPr>
        <p:spPr>
          <a:xfrm>
            <a:off x="3463920" y="35053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" name="Line 7"/>
          <p:cNvSpPr/>
          <p:nvPr/>
        </p:nvSpPr>
        <p:spPr>
          <a:xfrm>
            <a:off x="4932360" y="35053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Line 8"/>
          <p:cNvSpPr/>
          <p:nvPr/>
        </p:nvSpPr>
        <p:spPr>
          <a:xfrm>
            <a:off x="6456240" y="35053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2" name="Line 9"/>
          <p:cNvSpPr/>
          <p:nvPr/>
        </p:nvSpPr>
        <p:spPr>
          <a:xfrm>
            <a:off x="7980480" y="35053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-249120" y="37339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25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1177920" y="37339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3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2819520" y="37339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35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4302000" y="37339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4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5791320" y="37339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45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7335720" y="37339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AutoShape 18"/>
          <p:cNvSpPr/>
          <p:nvPr/>
        </p:nvSpPr>
        <p:spPr>
          <a:xfrm rot="5400000">
            <a:off x="2836440" y="2040120"/>
            <a:ext cx="762120" cy="2168280"/>
          </a:xfrm>
          <a:custGeom>
            <a:avLst/>
            <a:gdLst>
              <a:gd name="textAreaLeft" fmla="*/ 487080 w 762120"/>
              <a:gd name="textAreaRight" fmla="*/ 762480 w 762120"/>
              <a:gd name="textAreaTop" fmla="*/ 39240 h 2168280"/>
              <a:gd name="textAreaBottom" fmla="*/ 2129040 h 216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29"/>
                  <a:pt x="10800" y="1258"/>
                </a:cubicBezTo>
                <a:lnTo>
                  <a:pt x="10800" y="8792"/>
                </a:lnTo>
                <a:cubicBezTo>
                  <a:pt x="10800" y="9421"/>
                  <a:pt x="5400" y="10050"/>
                  <a:pt x="0" y="10050"/>
                </a:cubicBezTo>
                <a:cubicBezTo>
                  <a:pt x="5400" y="10050"/>
                  <a:pt x="10800" y="10679"/>
                  <a:pt x="10800" y="11308"/>
                </a:cubicBezTo>
                <a:lnTo>
                  <a:pt x="10800" y="20342"/>
                </a:lnTo>
                <a:cubicBezTo>
                  <a:pt x="10800" y="2097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Text Box 19"/>
          <p:cNvSpPr/>
          <p:nvPr/>
        </p:nvSpPr>
        <p:spPr>
          <a:xfrm>
            <a:off x="2230560" y="1828800"/>
            <a:ext cx="213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vignon Papacy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WordArt 23"/>
          <p:cNvSpPr txBox="1"/>
          <p:nvPr/>
        </p:nvSpPr>
        <p:spPr>
          <a:xfrm>
            <a:off x="609480" y="380880"/>
            <a:ext cx="3353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imelin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2209680" y="526716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Black Death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3" name="Straight Arrow Connector 2"/>
          <p:cNvCxnSpPr/>
          <p:nvPr/>
        </p:nvCxnSpPr>
        <p:spPr>
          <a:xfrm flipV="1">
            <a:off x="3276360" y="4252320"/>
            <a:ext cx="1080" cy="10054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34" name="AutoShape 18"/>
          <p:cNvSpPr/>
          <p:nvPr/>
        </p:nvSpPr>
        <p:spPr>
          <a:xfrm rot="5400000">
            <a:off x="4474080" y="2566080"/>
            <a:ext cx="762120" cy="1084320"/>
          </a:xfrm>
          <a:custGeom>
            <a:avLst/>
            <a:gdLst>
              <a:gd name="textAreaLeft" fmla="*/ 487080 w 762120"/>
              <a:gd name="textAreaRight" fmla="*/ 762480 w 762120"/>
              <a:gd name="textAreaTop" fmla="*/ 39240 h 1084320"/>
              <a:gd name="textAreaBottom" fmla="*/ 1045080 h 1084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8"/>
                  <a:pt x="10800" y="2516"/>
                </a:cubicBezTo>
                <a:lnTo>
                  <a:pt x="10800" y="7534"/>
                </a:lnTo>
                <a:cubicBezTo>
                  <a:pt x="10800" y="8792"/>
                  <a:pt x="5400" y="10050"/>
                  <a:pt x="0" y="10050"/>
                </a:cubicBezTo>
                <a:cubicBezTo>
                  <a:pt x="5400" y="10050"/>
                  <a:pt x="10800" y="11308"/>
                  <a:pt x="10800" y="12566"/>
                </a:cubicBezTo>
                <a:lnTo>
                  <a:pt x="10800" y="19084"/>
                </a:lnTo>
                <a:cubicBezTo>
                  <a:pt x="10800" y="20342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3855960" y="175248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Papal Schism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6" name="Straight Arrow Connector 25"/>
          <p:cNvCxnSpPr/>
          <p:nvPr/>
        </p:nvCxnSpPr>
        <p:spPr>
          <a:xfrm flipV="1">
            <a:off x="5257440" y="4266720"/>
            <a:ext cx="1080" cy="610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37" name="Text Box 19"/>
          <p:cNvSpPr/>
          <p:nvPr/>
        </p:nvSpPr>
        <p:spPr>
          <a:xfrm>
            <a:off x="4470480" y="4876920"/>
            <a:ext cx="162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ouncil of Pisa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2473200" y="5943600"/>
            <a:ext cx="1870200" cy="45972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18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hn Wyclif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9" name="TextBox 1"/>
          <p:cNvSpPr/>
          <p:nvPr/>
        </p:nvSpPr>
        <p:spPr>
          <a:xfrm>
            <a:off x="6019920" y="518148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Attempt to have one pop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Resulted in 3 pope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Windows User</cp:lastModifiedBy>
  <dcterms:modified xsi:type="dcterms:W3CDTF">2017-01-09T18:09:02Z</dcterms:modified>
  <cp:revision>520</cp:revision>
  <dc:subject/>
  <dc:title>Church History</dc:title>
</cp:coreProperties>
</file>