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EAB-BFF0-48F0-95B5-10D71FF6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A8E-5479-4742-8B77-76445FC0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8A2-4853-47DB-9F90-5E973A54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6FF-90BF-4354-B1BC-52D76594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6A6-DF89-442E-A9EE-518B0A0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DDE-B7A4-4B1D-87EC-C5132067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788-356B-468A-9ECC-B10207D1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A27-63D2-400C-8AB9-7ACAD3C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CC9-C081-4137-848D-BAC4F40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C91-8F77-4DCF-86FB-884B285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924-3E9E-47DA-A653-3A9D69D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928-3379-4A37-A244-533194B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A21C-2D81-4C01-B169-188EE56F6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chism and the Crus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819520" y="6019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447920" y="2133720"/>
            <a:ext cx="6248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38120" y="17524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was the rationale behind the Crusad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WordArt 10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505320" y="21337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lim invasion of Anato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zantine Emperor Alexios I appeals to Pope Urban II for merce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II’s call to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200400" y="1371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gan in 109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505320" y="213336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’s Crusade: 90% of participants were general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acre of Jewish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ed by Alexios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saders annihilated by Tu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200400" y="1371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gan in 109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505320" y="213336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n’s Crus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bles from France, Italy, Germany, and En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mbled in Constantin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sed o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ge of Nica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200400" y="1371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gan in 109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505320" y="213336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n’s Crus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ge of 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ure of Byzant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er Bartholomew &amp; Holy 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ge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 of Peter Desida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doms of Jerusalem, Tripoli, Antioch, &amp; Edes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629080" cy="3292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200400" y="1371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gan in 109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2895480" y="380880"/>
            <a:ext cx="4038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rusad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Eastern Med4"/>
          <p:cNvPicPr/>
          <p:nvPr/>
        </p:nvPicPr>
        <p:blipFill>
          <a:blip r:embed="rId1"/>
          <a:stretch/>
        </p:blipFill>
        <p:spPr>
          <a:xfrm>
            <a:off x="0" y="0"/>
            <a:ext cx="9372600" cy="6880320"/>
          </a:xfrm>
          <a:prstGeom prst="rect">
            <a:avLst/>
          </a:prstGeom>
          <a:ln w="0">
            <a:noFill/>
          </a:ln>
        </p:spPr>
      </p:pic>
      <p:sp>
        <p:nvSpPr>
          <p:cNvPr id="172" name="WordArt 5"/>
          <p:cNvSpPr txBox="1"/>
          <p:nvPr/>
        </p:nvSpPr>
        <p:spPr>
          <a:xfrm>
            <a:off x="4419720" y="3886200"/>
            <a:ext cx="1738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rusale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4724280" y="2895480"/>
            <a:ext cx="106704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pol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5105520" y="1695600"/>
            <a:ext cx="12952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tioc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8"/>
          <p:cNvSpPr txBox="1"/>
          <p:nvPr/>
        </p:nvSpPr>
        <p:spPr>
          <a:xfrm>
            <a:off x="6110280" y="1009800"/>
            <a:ext cx="105264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dess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495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stic order of fighting kn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with protection of pilgrims to Holy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quarters on Temple Mount in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981080" y="45720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nights Templa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Picture 5" descr="sigilum"/>
          <p:cNvPicPr/>
          <p:nvPr/>
        </p:nvPicPr>
        <p:blipFill>
          <a:blip r:embed="rId3"/>
          <a:stretch/>
        </p:blipFill>
        <p:spPr>
          <a:xfrm>
            <a:off x="5791320" y="1905120"/>
            <a:ext cx="2819160" cy="28191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762120" y="5486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able only to the Pop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Templar-Jerusalem-map-cropped.jpg (578×246)"/>
          <p:cNvPicPr/>
          <p:nvPr/>
        </p:nvPicPr>
        <p:blipFill>
          <a:blip r:embed="rId1"/>
          <a:stretch/>
        </p:blipFill>
        <p:spPr>
          <a:xfrm>
            <a:off x="533520" y="1143000"/>
            <a:ext cx="8172360" cy="34783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5"/>
          <p:cNvSpPr txBox="1"/>
          <p:nvPr/>
        </p:nvSpPr>
        <p:spPr>
          <a:xfrm>
            <a:off x="1981080" y="45720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nights Templa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09480" y="480060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poverty, but banking resourc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Philip IV of France ordered their arrest and their possession taken (1306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File:Templars on Stake.jpg"/>
          <p:cNvPicPr/>
          <p:nvPr/>
        </p:nvPicPr>
        <p:blipFill>
          <a:blip r:embed="rId1"/>
          <a:stretch/>
        </p:blipFill>
        <p:spPr>
          <a:xfrm>
            <a:off x="3924360" y="1981080"/>
            <a:ext cx="4762440" cy="35244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5"/>
          <p:cNvSpPr txBox="1"/>
          <p:nvPr/>
        </p:nvSpPr>
        <p:spPr>
          <a:xfrm>
            <a:off x="1981080" y="45720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nights Templa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350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 tortured and burned at the s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of order disbanded and absorbed into various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51460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096-1099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819520" y="228600"/>
            <a:ext cx="609588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ment of kingdoms:  Jerusalem, Tripoli, Antioch, Edess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04920" y="1828800"/>
            <a:ext cx="25146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145-1149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819520" y="1828800"/>
            <a:ext cx="60958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 to retake Edessa fai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04920" y="297180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189-1192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819520" y="2971800"/>
            <a:ext cx="60958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ture of Acre and Jaffa, but failed to recapture Jerusale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04920" y="4038480"/>
            <a:ext cx="251460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02-1204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2819520" y="4038480"/>
            <a:ext cx="609588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aders sacked Constantin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04920" y="5105520"/>
            <a:ext cx="2514600" cy="1600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bigensian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09-1229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2819520" y="5105520"/>
            <a:ext cx="609588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ade in southern France to stamp out Cathars who held to perfection &amp; povert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1295280"/>
            <a:ext cx="9372600" cy="2743200"/>
            <a:chOff x="0" y="1295280"/>
            <a:chExt cx="9372600" cy="2743200"/>
          </a:xfrm>
        </p:grpSpPr>
        <p:sp>
          <p:nvSpPr>
            <p:cNvPr id="45" name="Rectangle 3"/>
            <p:cNvSpPr/>
            <p:nvPr/>
          </p:nvSpPr>
          <p:spPr>
            <a:xfrm>
              <a:off x="0" y="1295280"/>
              <a:ext cx="9144000" cy="27432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" name="Line 4"/>
            <p:cNvSpPr/>
            <p:nvPr/>
          </p:nvSpPr>
          <p:spPr>
            <a:xfrm flipV="1">
              <a:off x="45720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7" name="Line 5"/>
            <p:cNvSpPr/>
            <p:nvPr/>
          </p:nvSpPr>
          <p:spPr>
            <a:xfrm flipV="1">
              <a:off x="24004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 flipV="1">
              <a:off x="67248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9" name="Line 7"/>
            <p:cNvSpPr/>
            <p:nvPr/>
          </p:nvSpPr>
          <p:spPr>
            <a:xfrm flipV="1">
              <a:off x="3808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V="1">
              <a:off x="870732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3886200" y="2986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193680" y="2971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175248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992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800100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V="1">
              <a:off x="38088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39724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45720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672624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V="1">
              <a:off x="86868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1" name="Rectangle 19"/>
          <p:cNvSpPr/>
          <p:nvPr/>
        </p:nvSpPr>
        <p:spPr>
          <a:xfrm>
            <a:off x="2362320" y="4038480"/>
            <a:ext cx="4419360" cy="685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Medieval 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6724800" y="4038480"/>
            <a:ext cx="24192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orm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380880" y="266760"/>
            <a:ext cx="8458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imeline of 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380880" y="4038480"/>
            <a:ext cx="20196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ci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 23" descr=""/>
          <p:cNvPicPr/>
          <p:nvPr/>
        </p:nvPicPr>
        <p:blipFill>
          <a:blip r:embed="rId1"/>
          <a:stretch/>
        </p:blipFill>
        <p:spPr>
          <a:xfrm>
            <a:off x="266760" y="3886200"/>
            <a:ext cx="455400" cy="727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4"/>
          <p:cNvSpPr/>
          <p:nvPr/>
        </p:nvSpPr>
        <p:spPr>
          <a:xfrm>
            <a:off x="2405160" y="4724280"/>
            <a:ext cx="216684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arl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ddle Ag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4572000" y="4724280"/>
            <a:ext cx="1143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ddle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g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715000" y="4724280"/>
            <a:ext cx="100188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a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ddle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g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304920" y="228600"/>
            <a:ext cx="2514600" cy="1523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ildren’s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12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819520" y="228600"/>
            <a:ext cx="60958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and bands of poor people attempt to march to the Holy 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8" name="Picture 11" descr="Gustave_doré_crusades_the_childrens_crusade"/>
          <p:cNvPicPr/>
          <p:nvPr/>
        </p:nvPicPr>
        <p:blipFill>
          <a:blip r:embed="rId1"/>
          <a:stretch/>
        </p:blipFill>
        <p:spPr>
          <a:xfrm>
            <a:off x="1752480" y="1981080"/>
            <a:ext cx="4953240" cy="4575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28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819520" y="2819520"/>
            <a:ext cx="60958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derick II of the Holy Roman Empire given Jerusale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4920" y="228600"/>
            <a:ext cx="2514600" cy="1523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ildren’s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12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819520" y="228600"/>
            <a:ext cx="60958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and bands of poor people attempt to march to the Holy 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04920" y="1752480"/>
            <a:ext cx="251460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13-1221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819520" y="1752480"/>
            <a:ext cx="609588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aders attacked Egypt but were defeat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5" name="Picture 14" descr="Al-Kamil_Muhammad_al-Malik_and_Frederick_II_Holy_Roman_Emperor"/>
          <p:cNvPicPr/>
          <p:nvPr/>
        </p:nvPicPr>
        <p:blipFill>
          <a:blip r:embed="rId1"/>
          <a:stretch/>
        </p:blipFill>
        <p:spPr>
          <a:xfrm>
            <a:off x="6858000" y="3809880"/>
            <a:ext cx="137016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25146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28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819520" y="2819520"/>
            <a:ext cx="60958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derick II of the Holy Roman Empire takes Jerusale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04920" y="3886200"/>
            <a:ext cx="25146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48-1254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819520" y="3886200"/>
            <a:ext cx="60958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 by Louis IX of France to take Egypt fai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04920" y="228600"/>
            <a:ext cx="2514600" cy="1523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ildren’s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12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819520" y="228600"/>
            <a:ext cx="60958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and bands of poor people attempt to march to the Holy 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04920" y="1752480"/>
            <a:ext cx="2514600" cy="10670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rusade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(1213-1221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2819520" y="1752480"/>
            <a:ext cx="609588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aders attacked Egypt but were defeat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have the Crusades impacted our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Results of the Crusad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239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of Arabic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the Clas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ning of the Byzantine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power of the Christian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lerance of other fai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emphasis on indul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lim advance into Europe s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1447920"/>
            <a:ext cx="327672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are the similarities and differences between the Crusades versus recent conflicts in Iraq and Afghanistan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rusades"/>
          <p:cNvPicPr/>
          <p:nvPr/>
        </p:nvPicPr>
        <p:blipFill>
          <a:blip r:embed="rId2"/>
          <a:stretch/>
        </p:blipFill>
        <p:spPr>
          <a:xfrm>
            <a:off x="457200" y="1523880"/>
            <a:ext cx="2360520" cy="426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ANA mortars Band of Brothers"/>
          <p:cNvPicPr/>
          <p:nvPr/>
        </p:nvPicPr>
        <p:blipFill>
          <a:blip r:embed="rId3"/>
          <a:stretch/>
        </p:blipFill>
        <p:spPr>
          <a:xfrm>
            <a:off x="6248520" y="1523880"/>
            <a:ext cx="24825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a cloth merch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d as a sold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n prisoner and a year in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ted himself to a life of 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ican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5207040" y="1676520"/>
            <a:ext cx="3540240" cy="419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life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recognized order of Franciscans &amp; ordained Francis as a deac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ed having plans for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ggling evange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5207040" y="1676520"/>
            <a:ext cx="3540240" cy="419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grimage of non-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with the Sul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ted to preach to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1608120"/>
            <a:ext cx="4365720" cy="456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Francis of Assis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523880" y="211464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all brothers preach by their deeds.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9580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3584160" y="9907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81-122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48120" cy="1295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Middle 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048120" y="0"/>
            <a:ext cx="3047760" cy="1295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gh Middle 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095880" y="0"/>
            <a:ext cx="3048120" cy="1295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ate Middle 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1295280"/>
            <a:ext cx="304812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 - 10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048120" y="1295280"/>
            <a:ext cx="304776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- 13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095880" y="1295280"/>
            <a:ext cx="304812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00 - 15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20574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 population grow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048120" y="2057400"/>
            <a:ext cx="30477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population grow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095880" y="20574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ecli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-112680" y="3657600"/>
            <a:ext cx="9432720" cy="2209680"/>
            <a:chOff x="-112680" y="3657600"/>
            <a:chExt cx="9432720" cy="2209680"/>
          </a:xfrm>
        </p:grpSpPr>
        <p:sp>
          <p:nvSpPr>
            <p:cNvPr id="79" name="Rectangle 12"/>
            <p:cNvSpPr/>
            <p:nvPr/>
          </p:nvSpPr>
          <p:spPr>
            <a:xfrm>
              <a:off x="0" y="3657600"/>
              <a:ext cx="9144000" cy="2209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limate Change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0" name="Freeform 1"/>
            <p:cNvSpPr/>
            <p:nvPr/>
          </p:nvSpPr>
          <p:spPr>
            <a:xfrm>
              <a:off x="-112680" y="4318920"/>
              <a:ext cx="9432720" cy="1125360"/>
            </a:xfrm>
            <a:custGeom>
              <a:avLst/>
              <a:gdLst/>
              <a:ahLst/>
              <a:rect l="l" t="t" r="r" b="b"/>
              <a:pathLst>
                <a:path w="9432610" h="1125307">
                  <a:moveTo>
                    <a:pt x="0" y="602341"/>
                  </a:moveTo>
                  <a:cubicBezTo>
                    <a:pt x="458912" y="605766"/>
                    <a:pt x="976123" y="628222"/>
                    <a:pt x="1376737" y="612616"/>
                  </a:cubicBezTo>
                  <a:cubicBezTo>
                    <a:pt x="1777351" y="597010"/>
                    <a:pt x="2102370" y="565371"/>
                    <a:pt x="2403687" y="508707"/>
                  </a:cubicBezTo>
                  <a:cubicBezTo>
                    <a:pt x="2705004" y="452044"/>
                    <a:pt x="2944831" y="351209"/>
                    <a:pt x="3184639" y="272635"/>
                  </a:cubicBezTo>
                  <a:cubicBezTo>
                    <a:pt x="3424447" y="194061"/>
                    <a:pt x="3571924" y="79916"/>
                    <a:pt x="3842535" y="37263"/>
                  </a:cubicBezTo>
                  <a:cubicBezTo>
                    <a:pt x="4113146" y="-5390"/>
                    <a:pt x="4808306" y="16714"/>
                    <a:pt x="4808306" y="16714"/>
                  </a:cubicBezTo>
                  <a:cubicBezTo>
                    <a:pt x="5133654" y="15002"/>
                    <a:pt x="5493211" y="-25939"/>
                    <a:pt x="5794625" y="26989"/>
                  </a:cubicBezTo>
                  <a:cubicBezTo>
                    <a:pt x="6096039" y="79917"/>
                    <a:pt x="6387199" y="221401"/>
                    <a:pt x="6616791" y="334280"/>
                  </a:cubicBezTo>
                  <a:cubicBezTo>
                    <a:pt x="6846383" y="447159"/>
                    <a:pt x="6969887" y="582338"/>
                    <a:pt x="7172179" y="704266"/>
                  </a:cubicBezTo>
                  <a:cubicBezTo>
                    <a:pt x="7374471" y="826194"/>
                    <a:pt x="7571820" y="998344"/>
                    <a:pt x="7830542" y="1065846"/>
                  </a:cubicBezTo>
                  <a:cubicBezTo>
                    <a:pt x="8089264" y="1133348"/>
                    <a:pt x="8457499" y="1136519"/>
                    <a:pt x="8724510" y="1109277"/>
                  </a:cubicBezTo>
                  <a:cubicBezTo>
                    <a:pt x="8991521" y="1082035"/>
                    <a:pt x="9180893" y="922941"/>
                    <a:pt x="9432610" y="902393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1" name="TextBox 2"/>
            <p:cNvSpPr/>
            <p:nvPr/>
          </p:nvSpPr>
          <p:spPr>
            <a:xfrm>
              <a:off x="7391880" y="45028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Little Ice Age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2" name="TextBox 19"/>
            <p:cNvSpPr/>
            <p:nvPr/>
          </p:nvSpPr>
          <p:spPr>
            <a:xfrm>
              <a:off x="3602520" y="3881520"/>
              <a:ext cx="22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Warm Period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3520" y="243792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Francis teach us about how we ought to liv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657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rical authors:  The chivalric ro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ly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ghts protect the 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naments and jou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0"/>
          <p:cNvSpPr txBox="1"/>
          <p:nvPr/>
        </p:nvSpPr>
        <p:spPr>
          <a:xfrm>
            <a:off x="2286000" y="38088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ivalric Cod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4" descr="J:\stained-glass001-11-03-1994.jpg"/>
          <p:cNvPicPr/>
          <p:nvPr/>
        </p:nvPicPr>
        <p:blipFill>
          <a:blip r:embed="rId3"/>
          <a:stretch/>
        </p:blipFill>
        <p:spPr>
          <a:xfrm>
            <a:off x="1135080" y="1600200"/>
            <a:ext cx="2217600" cy="468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ope from 1198 to 121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352320" y="228564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ed Pope at the age of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usade of 11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active hand in raising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of Constantin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2133720" y="380880"/>
            <a:ext cx="4876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pe Innocent II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6" name="Picture 2" descr="J:\6240603695_f01bfab2cc_o.jpg"/>
          <p:cNvPicPr/>
          <p:nvPr/>
        </p:nvPicPr>
        <p:blipFill>
          <a:blip r:embed="rId3"/>
          <a:stretch/>
        </p:blipFill>
        <p:spPr>
          <a:xfrm>
            <a:off x="609480" y="2286000"/>
            <a:ext cx="2627280" cy="388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ope from 1198 to 121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352320" y="228564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pted the title “Vicar of Chri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d Francis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bigensian Crusade against Cathars in Souther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WordArt 10"/>
          <p:cNvSpPr txBox="1"/>
          <p:nvPr/>
        </p:nvSpPr>
        <p:spPr>
          <a:xfrm>
            <a:off x="2133720" y="380880"/>
            <a:ext cx="4876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pe Innocent II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Picture 2" descr="J:\6240603695_f01bfab2cc_o.jpg"/>
          <p:cNvPicPr/>
          <p:nvPr/>
        </p:nvPicPr>
        <p:blipFill>
          <a:blip r:embed="rId3"/>
          <a:stretch/>
        </p:blipFill>
        <p:spPr>
          <a:xfrm>
            <a:off x="609480" y="2286000"/>
            <a:ext cx="2627280" cy="388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7335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business of the pope to look after the interests of the Roman empire, since the empire derives its origin and its final authority from the papacy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ope from 1198 to 121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WordArt 10"/>
          <p:cNvSpPr txBox="1"/>
          <p:nvPr/>
        </p:nvSpPr>
        <p:spPr>
          <a:xfrm>
            <a:off x="2133720" y="380880"/>
            <a:ext cx="4876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pe Innocent II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Picture 2" descr="J:\6240603695_f01bfab2cc_o.jpg"/>
          <p:cNvPicPr/>
          <p:nvPr/>
        </p:nvPicPr>
        <p:blipFill>
          <a:blip r:embed="rId3"/>
          <a:stretch/>
        </p:blipFill>
        <p:spPr>
          <a:xfrm>
            <a:off x="609480" y="2286000"/>
            <a:ext cx="2627280" cy="388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ope from 1198 to 121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352320" y="2285640"/>
            <a:ext cx="54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ommunicated King John of England over Archbishop of Canterb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accepted as papal f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ed Magna C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Lateran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2133720" y="380880"/>
            <a:ext cx="48765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pe Innocent II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Picture 2" descr="J:\6240603695_f01bfab2cc_o.jpg"/>
          <p:cNvPicPr/>
          <p:nvPr/>
        </p:nvPicPr>
        <p:blipFill>
          <a:blip r:embed="rId3"/>
          <a:stretch/>
        </p:blipFill>
        <p:spPr>
          <a:xfrm>
            <a:off x="609480" y="2286000"/>
            <a:ext cx="2627280" cy="388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21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8120" y="23623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zed transubstan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 on new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ed heretics excommunicated unless proven inno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rmed Filioqu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urth Lateran Counci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Picture 2" descr="C:\Users\Owner\Desktop\image-4.jpeg"/>
          <p:cNvPicPr/>
          <p:nvPr/>
        </p:nvPicPr>
        <p:blipFill>
          <a:blip r:embed="rId3"/>
          <a:stretch/>
        </p:blipFill>
        <p:spPr>
          <a:xfrm>
            <a:off x="523800" y="2057400"/>
            <a:ext cx="2295720" cy="423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21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8120" y="23623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and Muslims excluded from public office and required to wear special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edrals ordered to provide training for c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urth Lateran Counci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6" name="Picture 2" descr="C:\Users\Owner\Desktop\image-4.jpeg"/>
          <p:cNvPicPr/>
          <p:nvPr/>
        </p:nvPicPr>
        <p:blipFill>
          <a:blip r:embed="rId3"/>
          <a:stretch/>
        </p:blipFill>
        <p:spPr>
          <a:xfrm>
            <a:off x="523800" y="2057400"/>
            <a:ext cx="2295720" cy="423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21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8120" y="23623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ssion to a priest and Lord’s supper mandated once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urth Lateran Counci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0" name="Picture 2" descr="C:\Users\Owner\Desktop\image-4.jpeg"/>
          <p:cNvPicPr/>
          <p:nvPr/>
        </p:nvPicPr>
        <p:blipFill>
          <a:blip r:embed="rId3"/>
          <a:stretch/>
        </p:blipFill>
        <p:spPr>
          <a:xfrm>
            <a:off x="523800" y="2057400"/>
            <a:ext cx="2295720" cy="423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ita Apostolic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ic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d conf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oral in their engagement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ies to Germany: Did not learn th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1523880" y="380880"/>
            <a:ext cx="591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ancisca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48120" cy="1295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Middle 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048120" y="0"/>
            <a:ext cx="3047760" cy="1295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gh Middle 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095880" y="0"/>
            <a:ext cx="3048120" cy="1295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ate Middle Ag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1295280"/>
            <a:ext cx="304812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 - 10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048120" y="1295280"/>
            <a:ext cx="304776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- 13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095880" y="1295280"/>
            <a:ext cx="304812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00 - 15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574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 population grow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3048120" y="2057400"/>
            <a:ext cx="30477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population grow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5880" y="20574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ecli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36576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barian invas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048120" y="3657600"/>
            <a:ext cx="30477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ad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6095880" y="36576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nation stat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0" y="52578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esque architec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3048120" y="5257800"/>
            <a:ext cx="304776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thic architec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6095880" y="5257800"/>
            <a:ext cx="304812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thic &amp; Renaissance architec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rder of Preach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00400" y="2209680"/>
            <a:ext cx="5486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un by Dominic de Guzman in 12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 to preach and combat her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igensians (matter is evil; spirit is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llectual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1523880" y="380880"/>
            <a:ext cx="591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minican Ord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7" name="Picture 6" descr="640px-The_Perugia_Altarpiece%2C_Side_Panel_Depicting_St"/>
          <p:cNvPicPr/>
          <p:nvPr/>
        </p:nvPicPr>
        <p:blipFill>
          <a:blip r:embed="rId1"/>
          <a:stretch/>
        </p:blipFill>
        <p:spPr>
          <a:xfrm>
            <a:off x="304920" y="2286000"/>
            <a:ext cx="276228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41148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ancisc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4572000" y="838080"/>
            <a:ext cx="41148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minic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57200" y="198108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to change the hear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572000" y="198108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to enlighten the mi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457200" y="335268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how you liv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4572000" y="335268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what you know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7760" y="144756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ed in 117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428640" y="21333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icated to a religious life at age of 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ed a Benedictine con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visions that helped her to interpret Scri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public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ldegard of Binge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Picture 5" descr="J:\Hildegard-Pic.jpg"/>
          <p:cNvPicPr/>
          <p:nvPr/>
        </p:nvPicPr>
        <p:blipFill>
          <a:blip r:embed="rId3"/>
          <a:stretch/>
        </p:blipFill>
        <p:spPr>
          <a:xfrm>
            <a:off x="685800" y="2133720"/>
            <a:ext cx="2624040" cy="296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7760" y="144756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ed in 117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428640" y="21333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sponded with p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 included a description of purgatory as the place where we pay the penalty for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ldegard of Binge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Picture 5" descr="J:\Hildegard-Pic.jpg"/>
          <p:cNvPicPr/>
          <p:nvPr/>
        </p:nvPicPr>
        <p:blipFill>
          <a:blip r:embed="rId3"/>
          <a:stretch/>
        </p:blipFill>
        <p:spPr>
          <a:xfrm>
            <a:off x="685800" y="2133720"/>
            <a:ext cx="2624040" cy="296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7760" y="137124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22 - 120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37720" y="20570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of Duke of Aquita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fe of King Louis VII of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e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usade with her husb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annu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anor of Aquita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icture 5" descr="J:\eleanor-of-aquitaine-H.jpeg"/>
          <p:cNvPicPr/>
          <p:nvPr/>
        </p:nvPicPr>
        <p:blipFill>
          <a:blip r:embed="rId3"/>
          <a:stretch/>
        </p:blipFill>
        <p:spPr>
          <a:xfrm>
            <a:off x="4876920" y="2244600"/>
            <a:ext cx="3652560" cy="2954520"/>
          </a:xfrm>
          <a:prstGeom prst="rect">
            <a:avLst/>
          </a:prstGeom>
          <a:ln w="0">
            <a:noFill/>
          </a:ln>
        </p:spPr>
      </p:pic>
      <p:sp>
        <p:nvSpPr>
          <p:cNvPr id="296" name="Content Placeholder 2"/>
          <p:cNvSpPr/>
          <p:nvPr/>
        </p:nvSpPr>
        <p:spPr>
          <a:xfrm>
            <a:off x="838080" y="59436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future Henry II of Eng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0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7760" y="137124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33 - 118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nry II of 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990720" y="2362320"/>
            <a:ext cx="3200400" cy="1295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II of Eng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724280" y="2362320"/>
            <a:ext cx="3200400" cy="1295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anor of Aquitai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Straight Connector 6"/>
          <p:cNvSpPr/>
          <p:nvPr/>
        </p:nvSpPr>
        <p:spPr>
          <a:xfrm>
            <a:off x="4176720" y="2971800"/>
            <a:ext cx="54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Straight Connector 12"/>
          <p:cNvSpPr/>
          <p:nvPr/>
        </p:nvSpPr>
        <p:spPr>
          <a:xfrm flipV="1">
            <a:off x="4451400" y="2971440"/>
            <a:ext cx="1908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Straight Connector 15"/>
          <p:cNvSpPr/>
          <p:nvPr/>
        </p:nvSpPr>
        <p:spPr>
          <a:xfrm>
            <a:off x="1905120" y="4419720"/>
            <a:ext cx="499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Straight Connector 18"/>
          <p:cNvSpPr/>
          <p:nvPr/>
        </p:nvSpPr>
        <p:spPr>
          <a:xfrm flipV="1">
            <a:off x="1905120" y="44193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Straight Connector 20"/>
          <p:cNvSpPr/>
          <p:nvPr/>
        </p:nvSpPr>
        <p:spPr>
          <a:xfrm flipV="1">
            <a:off x="6904080" y="44193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838080" y="4952880"/>
            <a:ext cx="2133720" cy="1295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Lionhear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382920" y="4952880"/>
            <a:ext cx="213372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ffre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5846760" y="4952880"/>
            <a:ext cx="2133720" cy="1295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Lack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09120" y="2331720"/>
            <a:ext cx="4730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functional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Beck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bishop of Canterb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7760" y="137124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33 - 118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nry II of 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2" name="Picture 5" descr="J:\BecketHenryII.jpg"/>
          <p:cNvPicPr/>
          <p:nvPr/>
        </p:nvPicPr>
        <p:blipFill>
          <a:blip r:embed="rId3"/>
          <a:stretch/>
        </p:blipFill>
        <p:spPr>
          <a:xfrm>
            <a:off x="4809960" y="2438280"/>
            <a:ext cx="3594240" cy="359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09120" y="2331720"/>
            <a:ext cx="4730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functional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Beck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bishop of Canterb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ill rid me of this troublesome monk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Lion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7760" y="137124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33 - 118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nry II of 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6" name="Picture 4" descr="J:\Thomas_Becket_Murder.JPG"/>
          <p:cNvPicPr/>
          <p:nvPr/>
        </p:nvPicPr>
        <p:blipFill>
          <a:blip r:embed="rId3"/>
          <a:stretch/>
        </p:blipFill>
        <p:spPr>
          <a:xfrm>
            <a:off x="5334120" y="2166840"/>
            <a:ext cx="297180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09480" y="2332080"/>
            <a:ext cx="4114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Lac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conquests in Norma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 with pope over archbi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a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838080" y="457200"/>
            <a:ext cx="75438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nry II of 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9" name="Picture 2" descr="C:\Users\Owner\Desktop\Europe and north 2.jpg"/>
          <p:cNvPicPr/>
          <p:nvPr/>
        </p:nvPicPr>
        <p:blipFill>
          <a:blip r:embed="rId3"/>
          <a:stretch/>
        </p:blipFill>
        <p:spPr>
          <a:xfrm>
            <a:off x="4610160" y="1600200"/>
            <a:ext cx="3619440" cy="487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opy of plan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0" y="2361960"/>
            <a:ext cx="14479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057400" y="23922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943600" y="23623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943600" y="2697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066680" y="4667400"/>
            <a:ext cx="7086600" cy="180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ishop of Constantinople shall have the primacy after the Bishop of Rome, because his city is New Rom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Canon 3, Council of 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opy of plan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0" y="2361960"/>
            <a:ext cx="14479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57400" y="23922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943600" y="23623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943600" y="2697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2362320" y="3124080"/>
            <a:ext cx="3916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Why did the Church</a:t>
            </a:r>
            <a:endParaRPr b="0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Split?</a:t>
            </a:r>
            <a:endParaRPr b="0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7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41200" y="1371600"/>
            <a:ext cx="3645000" cy="914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181480" y="1371600"/>
            <a:ext cx="3657600" cy="914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28600" y="2362320"/>
            <a:ext cx="396252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is over the stat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76920" y="2362320"/>
            <a:ext cx="396216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is over the chur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28600" y="2971800"/>
            <a:ext cx="3962520" cy="990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e is the final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876920" y="2971800"/>
            <a:ext cx="3962160" cy="9907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council is th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author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228600" y="3962520"/>
            <a:ext cx="396252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y is for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ia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4876920" y="3962520"/>
            <a:ext cx="396216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y is 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28600" y="4952880"/>
            <a:ext cx="3962520" cy="10670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ibacy demanded  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ly all posi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876920" y="4952880"/>
            <a:ext cx="3962160" cy="10670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permitt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for bishop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28600" y="6019920"/>
            <a:ext cx="396252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 to ic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4876920" y="6019920"/>
            <a:ext cx="396216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ration of ic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7"/>
          <p:cNvSpPr txBox="1"/>
          <p:nvPr/>
        </p:nvSpPr>
        <p:spPr>
          <a:xfrm>
            <a:off x="1763640" y="380880"/>
            <a:ext cx="562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-West S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4114800" y="1333440"/>
            <a:ext cx="826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54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41200" y="1371600"/>
            <a:ext cx="3645000" cy="914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181480" y="1371600"/>
            <a:ext cx="3657600" cy="914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228600" y="2362320"/>
            <a:ext cx="3962520" cy="1257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ed Filioqu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u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4876920" y="2362320"/>
            <a:ext cx="3962160" cy="1257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ed to th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ioque Clau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even Church Councils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f the Eastern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3657600" cy="762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a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219320" y="2133720"/>
            <a:ext cx="3657600" cy="7617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in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219320" y="2895480"/>
            <a:ext cx="3657600" cy="762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esu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219320" y="3657600"/>
            <a:ext cx="3657600" cy="762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ced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876920" y="1371600"/>
            <a:ext cx="9144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876920" y="2133720"/>
            <a:ext cx="91440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876920" y="2895480"/>
            <a:ext cx="9144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876920" y="3657600"/>
            <a:ext cx="9144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5791320" y="1371600"/>
            <a:ext cx="220968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ed the Trinit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791320" y="2895480"/>
            <a:ext cx="2209680" cy="3048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ed the person of Chris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5791320" y="5943600"/>
            <a:ext cx="220968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219320" y="4419720"/>
            <a:ext cx="3657600" cy="7617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tantin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876920" y="4419720"/>
            <a:ext cx="91440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1219320" y="5181480"/>
            <a:ext cx="3657600" cy="762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stantin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4876920" y="5181480"/>
            <a:ext cx="9144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1219320" y="5943600"/>
            <a:ext cx="3657600" cy="762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icae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4876920" y="5943600"/>
            <a:ext cx="9144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8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6-11-12T15:01:10Z</dcterms:modified>
  <cp:revision>490</cp:revision>
  <dc:subject/>
  <dc:title>Church History</dc:title>
</cp:coreProperties>
</file>