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0DCD-41F1-450A-9009-DB698B33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8F5C-6CCD-41C3-87F1-AED6E893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B15F-75EB-47AE-8E03-71ECCC8CB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307A-9032-40A4-8CF6-3EEAF2F78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1BB5-A5A3-40C9-AB18-77147F92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7324-A462-41C2-9BFF-7ACAB840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54BE-1E11-4325-9E6F-ADD042FB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A6AF-8875-456F-83B7-5C71C93D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B228-247A-4887-98E9-5012D344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8761-AC46-4CBA-8709-CA4FDBAE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C1FE-2621-4C60-87CA-F78C69E1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DBE2-A62E-4670-AD03-1E4F2E4D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93E7-41A0-4A43-A150-69EA62D45D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Great Cen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19520" y="542448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95280" y="1600200"/>
            <a:ext cx="6248520" cy="2057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History of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ristianit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832-1905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666880" y="228600"/>
            <a:ext cx="36576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udson Taylo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2435400" cy="3657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429000" y="1600200"/>
            <a:ext cx="5029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I had a thousand pounds China should have it - if I had a thousand lives, China should have them. No! Not China, but Christ. Can we do too much for Him? Can we do enough for such a precious Savior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832-1905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666880" y="228600"/>
            <a:ext cx="36576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udson Taylo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2435400" cy="3657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581280" y="1951200"/>
            <a:ext cx="4648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’s work, done in God’s way, will never lack God’s supply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3429000"/>
            <a:ext cx="9144000" cy="9144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9724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4024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5940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2491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8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36576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8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36576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8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87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9480" y="304920"/>
            <a:ext cx="335304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imelin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"/>
          <p:cNvSpPr/>
          <p:nvPr/>
        </p:nvSpPr>
        <p:spPr>
          <a:xfrm>
            <a:off x="817416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4380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9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1295640" y="2057400"/>
            <a:ext cx="304560" cy="2286000"/>
          </a:xfrm>
          <a:custGeom>
            <a:avLst/>
            <a:gdLst>
              <a:gd name="textAreaLeft" fmla="*/ 0 w 304560"/>
              <a:gd name="textAreaRight" fmla="*/ 109800 w 30456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75248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Second Great Awak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19720" y="17524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American Civi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W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5105520" y="2971800"/>
            <a:ext cx="380880" cy="380880"/>
          </a:xfrm>
          <a:custGeom>
            <a:avLst/>
            <a:gdLst>
              <a:gd name="textAreaLeft" fmla="*/ 0 w 380880"/>
              <a:gd name="textAreaRight" fmla="*/ 137520 w 38088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90860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John Nelson Dar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295280" y="4876920"/>
            <a:ext cx="1285920" cy="1676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666880" y="48006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Dispensation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71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has two separate plans &amp; peo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628344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ist has two future com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71800" y="57913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kinds of Christians: Spiritual/Flesh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027800" y="4027680"/>
            <a:ext cx="1874160" cy="1009800"/>
            <a:chOff x="1027800" y="4027680"/>
            <a:chExt cx="1874160" cy="1009800"/>
          </a:xfrm>
        </p:grpSpPr>
        <p:sp>
          <p:nvSpPr>
            <p:cNvPr id="124" name=""/>
            <p:cNvSpPr/>
            <p:nvPr/>
          </p:nvSpPr>
          <p:spPr>
            <a:xfrm flipV="1">
              <a:off x="2880720" y="4027680"/>
              <a:ext cx="21240" cy="72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1027800" y="4755240"/>
              <a:ext cx="1853280" cy="282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3429000"/>
            <a:ext cx="9144000" cy="9144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9724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4024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5940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-2491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8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36576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8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9880" y="36576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8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87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304920"/>
            <a:ext cx="335304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imelin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"/>
          <p:cNvSpPr/>
          <p:nvPr/>
        </p:nvSpPr>
        <p:spPr>
          <a:xfrm>
            <a:off x="817416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4380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9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1828800" y="1523880"/>
            <a:ext cx="304560" cy="3352680"/>
          </a:xfrm>
          <a:custGeom>
            <a:avLst/>
            <a:gdLst>
              <a:gd name="textAreaLeft" fmla="*/ 0 w 304560"/>
              <a:gd name="textAreaRight" fmla="*/ 109800 w 30456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175248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Second Great Awak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19720" y="17524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American Civi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W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5105520" y="2971800"/>
            <a:ext cx="380880" cy="380880"/>
          </a:xfrm>
          <a:custGeom>
            <a:avLst/>
            <a:gdLst>
              <a:gd name="textAreaLeft" fmla="*/ 0 w 380880"/>
              <a:gd name="textAreaRight" fmla="*/ 137520 w 38088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90860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John Nelson Dar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352680" y="4792680"/>
            <a:ext cx="1176480" cy="1663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2387520" y="48769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Morm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027800" y="4027680"/>
            <a:ext cx="1874160" cy="1009800"/>
            <a:chOff x="1027800" y="4027680"/>
            <a:chExt cx="1874160" cy="1009800"/>
          </a:xfrm>
        </p:grpSpPr>
        <p:sp>
          <p:nvSpPr>
            <p:cNvPr id="146" name=""/>
            <p:cNvSpPr/>
            <p:nvPr/>
          </p:nvSpPr>
          <p:spPr>
            <a:xfrm flipV="1">
              <a:off x="2880720" y="4027680"/>
              <a:ext cx="21240" cy="72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027800" y="4755240"/>
              <a:ext cx="1853280" cy="282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 flipV="1">
            <a:off x="3048120" y="403056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74320" y="640080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seph Smi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715000" y="4572000"/>
            <a:ext cx="1433520" cy="20955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3429000"/>
            <a:ext cx="9144000" cy="9144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39724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44024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5940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2491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8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52480" y="36576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8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09880" y="36576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8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87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09480" y="304920"/>
            <a:ext cx="335304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imelin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817416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4380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9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6200000">
            <a:off x="1828800" y="1523880"/>
            <a:ext cx="304560" cy="3352680"/>
          </a:xfrm>
          <a:custGeom>
            <a:avLst/>
            <a:gdLst>
              <a:gd name="textAreaLeft" fmla="*/ 0 w 304560"/>
              <a:gd name="textAreaRight" fmla="*/ 109800 w 30456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75248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Second Great Awak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19720" y="17524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American Civi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W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6200000">
            <a:off x="5105520" y="2971800"/>
            <a:ext cx="380880" cy="380880"/>
          </a:xfrm>
          <a:custGeom>
            <a:avLst/>
            <a:gdLst>
              <a:gd name="textAreaLeft" fmla="*/ 0 w 380880"/>
              <a:gd name="textAreaRight" fmla="*/ 137520 w 38088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90860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John Nelson Dar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87520" y="48769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Morm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027800" y="4027680"/>
            <a:ext cx="1874160" cy="1009800"/>
            <a:chOff x="1027800" y="4027680"/>
            <a:chExt cx="1874160" cy="1009800"/>
          </a:xfrm>
        </p:grpSpPr>
        <p:sp>
          <p:nvSpPr>
            <p:cNvPr id="170" name=""/>
            <p:cNvSpPr/>
            <p:nvPr/>
          </p:nvSpPr>
          <p:spPr>
            <a:xfrm flipV="1">
              <a:off x="2880720" y="4027680"/>
              <a:ext cx="21240" cy="72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027800" y="4755240"/>
              <a:ext cx="1853280" cy="282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 flipV="1">
            <a:off x="3048120" y="403056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127320" y="3993840"/>
            <a:ext cx="1544760" cy="1078560"/>
            <a:chOff x="3127320" y="3993840"/>
            <a:chExt cx="1544760" cy="1078560"/>
          </a:xfrm>
        </p:grpSpPr>
        <p:sp>
          <p:nvSpPr>
            <p:cNvPr id="174" name=""/>
            <p:cNvSpPr/>
            <p:nvPr/>
          </p:nvSpPr>
          <p:spPr>
            <a:xfrm flipH="1" flipV="1">
              <a:off x="3127320" y="3993840"/>
              <a:ext cx="4680" cy="72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32000" y="4721400"/>
              <a:ext cx="1540080" cy="351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4487760" y="48322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Miller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086600" y="4648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iam Mil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086600" y="51814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Day Advent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3429000"/>
            <a:ext cx="9144000" cy="9144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9724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4024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5940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-2491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8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52480" y="36576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8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9880" y="36576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8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1500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87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09480" y="304920"/>
            <a:ext cx="335304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imelin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"/>
          <p:cNvSpPr/>
          <p:nvPr/>
        </p:nvSpPr>
        <p:spPr>
          <a:xfrm>
            <a:off x="817416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4380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9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6200000">
            <a:off x="1828800" y="1523880"/>
            <a:ext cx="304560" cy="3352680"/>
          </a:xfrm>
          <a:custGeom>
            <a:avLst/>
            <a:gdLst>
              <a:gd name="textAreaLeft" fmla="*/ 0 w 304560"/>
              <a:gd name="textAreaRight" fmla="*/ 109800 w 30456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175248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Second Great Awak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17524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American Civi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W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6200000">
            <a:off x="5105520" y="2971800"/>
            <a:ext cx="380880" cy="380880"/>
          </a:xfrm>
          <a:custGeom>
            <a:avLst/>
            <a:gdLst>
              <a:gd name="textAreaLeft" fmla="*/ 0 w 380880"/>
              <a:gd name="textAreaRight" fmla="*/ 137520 w 38088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90860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John Nelson Dar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87520" y="48769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Morm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027800" y="4027680"/>
            <a:ext cx="1874160" cy="1009800"/>
            <a:chOff x="1027800" y="4027680"/>
            <a:chExt cx="1874160" cy="1009800"/>
          </a:xfrm>
        </p:grpSpPr>
        <p:sp>
          <p:nvSpPr>
            <p:cNvPr id="198" name=""/>
            <p:cNvSpPr/>
            <p:nvPr/>
          </p:nvSpPr>
          <p:spPr>
            <a:xfrm flipV="1">
              <a:off x="2880720" y="4027680"/>
              <a:ext cx="21240" cy="72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1027800" y="4755240"/>
              <a:ext cx="1853280" cy="282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 flipV="1">
            <a:off x="3048120" y="403056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127320" y="3993840"/>
            <a:ext cx="1544760" cy="1078560"/>
            <a:chOff x="3127320" y="3993840"/>
            <a:chExt cx="1544760" cy="1078560"/>
          </a:xfrm>
        </p:grpSpPr>
        <p:sp>
          <p:nvSpPr>
            <p:cNvPr id="202" name=""/>
            <p:cNvSpPr/>
            <p:nvPr/>
          </p:nvSpPr>
          <p:spPr>
            <a:xfrm flipH="1" flipV="1">
              <a:off x="3127320" y="3993840"/>
              <a:ext cx="4680" cy="72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32000" y="4721400"/>
              <a:ext cx="1540080" cy="351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4487760" y="48322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Miller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248520" y="4952880"/>
            <a:ext cx="1098360" cy="12272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733920" y="57913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Darwin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Origin of the Spe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800600" y="4190760"/>
            <a:ext cx="14400" cy="19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579600"/>
            <a:ext cx="84582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ow did the Roman Catholic doctrine of Mary’s immaculate conception (1854) help pave the way for the doctrine of papal infallibility a few years later (1870)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886200" y="44197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Discuss the Roman Catholic doctrine of Papal Infallibilit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120" y="3657240"/>
            <a:ext cx="807732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was this received by the churc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limitations of this teach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kind of authority do Protestant leaders clai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733920" y="22096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escribe the Mission Program in your Church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its strength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886200" y="228600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371600" y="50292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its weakness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8120" y="4724280"/>
            <a:ext cx="548640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7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dson Tay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429000"/>
            <a:ext cx="9144000" cy="9144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9724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4024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5940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2491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8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36576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8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36576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8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1500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87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304920"/>
            <a:ext cx="335304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imelin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/>
          <p:nvPr/>
        </p:nvSpPr>
        <p:spPr>
          <a:xfrm>
            <a:off x="817416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4380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9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1295640" y="2057400"/>
            <a:ext cx="304560" cy="2286000"/>
          </a:xfrm>
          <a:custGeom>
            <a:avLst/>
            <a:gdLst>
              <a:gd name="textAreaLeft" fmla="*/ 0 w 304560"/>
              <a:gd name="textAreaRight" fmla="*/ 109800 w 30456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75248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Second Great Awak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17524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American Civi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W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5105520" y="2971800"/>
            <a:ext cx="380880" cy="380880"/>
          </a:xfrm>
          <a:custGeom>
            <a:avLst/>
            <a:gdLst>
              <a:gd name="textAreaLeft" fmla="*/ 0 w 380880"/>
              <a:gd name="textAreaRight" fmla="*/ 137520 w 38088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334120"/>
            <a:ext cx="327672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7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6019920"/>
            <a:ext cx="525780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7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vings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761-1834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590920" y="228600"/>
            <a:ext cx="40384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illiam Care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86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ema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ular Baptist (Calvini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65120" y="1600200"/>
            <a:ext cx="276552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761-1834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90920" y="228600"/>
            <a:ext cx="40384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illiam Care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5120" y="1600200"/>
            <a:ext cx="2765520" cy="4267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09880" y="1981080"/>
            <a:ext cx="4419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ng man, sit down; when God pleases to convert the heathen, he will do it without your aid and min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761-1834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590920" y="228600"/>
            <a:ext cx="40384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illiam Care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286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ema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ular Baptist (Calvini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65120" y="1600200"/>
            <a:ext cx="2765520" cy="4267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86200" y="438948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ct great things from God; attempt great things for God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761-1834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590920" y="228600"/>
            <a:ext cx="40384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illiam Care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8640" y="1599840"/>
            <a:ext cx="5257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ema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ular Baptist (Calvini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sionary to In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f sup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al 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lations of the B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redited Colle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65120" y="1600200"/>
            <a:ext cx="276552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806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885840" y="2895120"/>
            <a:ext cx="4419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ve students at Williams College in Massachuset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38080" y="762120"/>
            <a:ext cx="7391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aystack Prayer Meetin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066680" y="2666880"/>
            <a:ext cx="2305080" cy="2381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4038480" y="4876920"/>
            <a:ext cx="3962520" cy="9471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 Missionary Socie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832-1905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666880" y="228600"/>
            <a:ext cx="36576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udson Taylo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86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sionary to Ch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ed China Inland M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00 Missionaries from various denomi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5 sch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opted Chinese clo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243540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4-06-06T14:37:17Z</dcterms:modified>
  <cp:revision>457</cp:revision>
  <dc:subject/>
  <dc:title>Church History</dc:title>
</cp:coreProperties>
</file>