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6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47.jpeg" ContentType="image/jpeg"/>
  <Override PartName="/ppt/media/image4.png" ContentType="image/png"/>
  <Override PartName="/ppt/media/image52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0.png" ContentType="image/png"/>
  <Override PartName="/ppt/media/image11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CEA-4E40-4AEC-ADEB-F0101334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8C1-AC67-4EBE-82E6-83B9FE80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C70-671D-433D-9ECE-E7A7EB36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E55-4B41-4E16-A750-BAF3E5A3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A10-0258-439B-AD65-08A73C67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7F7-8B2F-46B8-8AF5-50B73338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249-8796-4BCD-8EF4-70900FAF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B0A-9C83-444D-A9E1-99E07E75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DAE-9DD1-47BB-8744-09948755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56F-1E8F-4910-AF34-A3635F68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544-46D7-4A5B-883B-F56163B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85B-161A-453E-9573-BDFCE2C6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9E4E-60D5-4051-B93F-BD9394CE88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Medieval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19520" y="5424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387440" y="15238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History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508040" y="2743200"/>
            <a:ext cx="6248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ianit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ap-Museum 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5562720" y="4648320"/>
            <a:ext cx="29559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ll of Rom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6400800" y="5486400"/>
            <a:ext cx="1379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76 A.D.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Rome 148"/>
          <p:cNvPicPr/>
          <p:nvPr/>
        </p:nvPicPr>
        <p:blipFill>
          <a:blip r:embed="rId1"/>
          <a:stretch/>
        </p:blipFill>
        <p:spPr>
          <a:xfrm>
            <a:off x="380880" y="304920"/>
            <a:ext cx="428472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57240" y="2895480"/>
            <a:ext cx="5257800" cy="3733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ile stands the Colosseum, Rome shall stand,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falls the Colosseum, Rome shall fall,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when Rome falls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 world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eclining"/>
          <p:cNvPicPr/>
          <p:nvPr/>
        </p:nvPicPr>
        <p:blipFill>
          <a:blip r:embed="rId1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y did Rome fall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opy of Earth-whole-planet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6324480" y="35053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072200" y="3844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2" name="Picture 17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2601720" cy="342576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113" name="WordArt 18"/>
          <p:cNvSpPr txBox="1"/>
          <p:nvPr/>
        </p:nvSpPr>
        <p:spPr>
          <a:xfrm>
            <a:off x="2362320" y="304920"/>
            <a:ext cx="2212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stinia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971440" y="1066680"/>
            <a:ext cx="4800600" cy="2438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s to throne in 5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d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sarius &amp; Nike Ri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kes Italy, North Africa, and parts of S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1" descr=""/>
          <p:cNvPicPr/>
          <p:nvPr/>
        </p:nvPicPr>
        <p:blipFill>
          <a:blip r:embed="rId3"/>
          <a:stretch/>
        </p:blipFill>
        <p:spPr>
          <a:xfrm>
            <a:off x="1828800" y="3352680"/>
            <a:ext cx="21924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opy of Earth-whole-planet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6324480" y="35053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72200" y="3844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4703760" cy="541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0" name="WordArt 6"/>
          <p:cNvSpPr txBox="1"/>
          <p:nvPr/>
        </p:nvSpPr>
        <p:spPr>
          <a:xfrm>
            <a:off x="457200" y="533520"/>
            <a:ext cx="304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gia Sophia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32004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37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280" y="263520"/>
            <a:ext cx="8839440" cy="63658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"/>
          <p:cNvSpPr txBox="1"/>
          <p:nvPr/>
        </p:nvSpPr>
        <p:spPr>
          <a:xfrm>
            <a:off x="457200" y="533520"/>
            <a:ext cx="304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gia Sophia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opy of Earth-whole-planet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6324480" y="35053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72200" y="3844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2601720" cy="342576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128" name="WordArt 6"/>
          <p:cNvSpPr txBox="1"/>
          <p:nvPr/>
        </p:nvSpPr>
        <p:spPr>
          <a:xfrm>
            <a:off x="2362320" y="304920"/>
            <a:ext cx="2212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stinia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971800" y="1066680"/>
            <a:ext cx="4191120" cy="2286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ire weakened in wars with Per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gue ravages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Earth-whole-planet -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2438280" y="138744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186000" y="1727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WordArt 12"/>
          <p:cNvSpPr txBox="1"/>
          <p:nvPr/>
        </p:nvSpPr>
        <p:spPr>
          <a:xfrm>
            <a:off x="609480" y="2590920"/>
            <a:ext cx="21384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oca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657600"/>
            <a:ext cx="4419360" cy="27432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enturion who murders empe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ian Shah takes opportunity to inv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 rot="11986800">
            <a:off x="3657240" y="2361960"/>
            <a:ext cx="3429000" cy="534960"/>
          </a:xfrm>
          <a:prstGeom prst="rightArrow">
            <a:avLst>
              <a:gd name="adj1" fmla="val 50000"/>
              <a:gd name="adj2" fmla="val 160246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605280" y="293508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ersian Empir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-whole-planet -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438280" y="138744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 rot="11986800">
            <a:off x="3657240" y="2361960"/>
            <a:ext cx="3429000" cy="534960"/>
          </a:xfrm>
          <a:prstGeom prst="rightArrow">
            <a:avLst>
              <a:gd name="adj1" fmla="val 50000"/>
              <a:gd name="adj2" fmla="val 160246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05280" y="293508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ersian Empir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581280" y="1828800"/>
            <a:ext cx="3200400" cy="1257480"/>
          </a:xfrm>
          <a:custGeom>
            <a:avLst/>
            <a:gdLst/>
            <a:ahLst/>
            <a:rect l="l" t="t" r="r" b="b"/>
            <a:pathLst>
              <a:path w="2016" h="792">
                <a:moveTo>
                  <a:pt x="0" y="120"/>
                </a:moveTo>
                <a:cubicBezTo>
                  <a:pt x="84" y="80"/>
                  <a:pt x="168" y="40"/>
                  <a:pt x="288" y="24"/>
                </a:cubicBezTo>
                <a:cubicBezTo>
                  <a:pt x="408" y="8"/>
                  <a:pt x="600" y="0"/>
                  <a:pt x="720" y="24"/>
                </a:cubicBezTo>
                <a:cubicBezTo>
                  <a:pt x="840" y="48"/>
                  <a:pt x="904" y="112"/>
                  <a:pt x="1008" y="168"/>
                </a:cubicBezTo>
                <a:cubicBezTo>
                  <a:pt x="1112" y="224"/>
                  <a:pt x="1216" y="288"/>
                  <a:pt x="1344" y="360"/>
                </a:cubicBezTo>
                <a:cubicBezTo>
                  <a:pt x="1472" y="432"/>
                  <a:pt x="1664" y="528"/>
                  <a:pt x="1776" y="600"/>
                </a:cubicBezTo>
                <a:cubicBezTo>
                  <a:pt x="1888" y="672"/>
                  <a:pt x="1952" y="732"/>
                  <a:pt x="2016" y="792"/>
                </a:cubicBezTo>
              </a:path>
            </a:pathLst>
          </a:custGeom>
          <a:noFill/>
          <a:ln w="12060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186000" y="1727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3" name="Picture 9" descr="c"/>
          <p:cNvPicPr/>
          <p:nvPr/>
        </p:nvPicPr>
        <p:blipFill>
          <a:blip r:embed="rId3"/>
          <a:stretch/>
        </p:blipFill>
        <p:spPr>
          <a:xfrm>
            <a:off x="457200" y="152280"/>
            <a:ext cx="1989000" cy="31244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10"/>
          <p:cNvSpPr txBox="1"/>
          <p:nvPr/>
        </p:nvSpPr>
        <p:spPr>
          <a:xfrm>
            <a:off x="380880" y="2514600"/>
            <a:ext cx="24336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acli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3657600"/>
            <a:ext cx="4800600" cy="27432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s Constantinople in the hands of the Patri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des Per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kes all 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295280"/>
            <a:ext cx="9372600" cy="2743200"/>
            <a:chOff x="0" y="1295280"/>
            <a:chExt cx="9372600" cy="2743200"/>
          </a:xfrm>
        </p:grpSpPr>
        <p:sp>
          <p:nvSpPr>
            <p:cNvPr id="46" name="Rectangle 3"/>
            <p:cNvSpPr/>
            <p:nvPr/>
          </p:nvSpPr>
          <p:spPr>
            <a:xfrm>
              <a:off x="0" y="1295280"/>
              <a:ext cx="9144000" cy="27432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7" name="Line 4"/>
            <p:cNvSpPr/>
            <p:nvPr/>
          </p:nvSpPr>
          <p:spPr>
            <a:xfrm flipV="1">
              <a:off x="457200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40048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 flipV="1">
              <a:off x="672480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8088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 flipV="1">
              <a:off x="870732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>
              <a:off x="3886200" y="2986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3" name="Text Box 10"/>
            <p:cNvSpPr/>
            <p:nvPr/>
          </p:nvSpPr>
          <p:spPr>
            <a:xfrm>
              <a:off x="193680" y="29718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175248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601992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6" name="Text Box 13"/>
            <p:cNvSpPr/>
            <p:nvPr/>
          </p:nvSpPr>
          <p:spPr>
            <a:xfrm>
              <a:off x="800100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 flipV="1">
              <a:off x="380880" y="1315800"/>
              <a:ext cx="0" cy="157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 flipV="1">
              <a:off x="2397240" y="1315800"/>
              <a:ext cx="0" cy="157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 flipV="1">
              <a:off x="457200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 flipV="1">
              <a:off x="672624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1" name="Line 18"/>
            <p:cNvSpPr/>
            <p:nvPr/>
          </p:nvSpPr>
          <p:spPr>
            <a:xfrm flipV="1">
              <a:off x="868680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2" name="Rectangle 19"/>
          <p:cNvSpPr/>
          <p:nvPr/>
        </p:nvSpPr>
        <p:spPr>
          <a:xfrm>
            <a:off x="2362320" y="4038480"/>
            <a:ext cx="441936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diev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6724800" y="4038480"/>
            <a:ext cx="241920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orm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WordArt 22"/>
          <p:cNvSpPr txBox="1"/>
          <p:nvPr/>
        </p:nvSpPr>
        <p:spPr>
          <a:xfrm>
            <a:off x="380880" y="266760"/>
            <a:ext cx="8458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imeline of Church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380880" y="4038480"/>
            <a:ext cx="201960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ci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Picture 26" descr=""/>
          <p:cNvPicPr/>
          <p:nvPr/>
        </p:nvPicPr>
        <p:blipFill>
          <a:blip r:embed="rId1"/>
          <a:stretch/>
        </p:blipFill>
        <p:spPr>
          <a:xfrm>
            <a:off x="266760" y="3886200"/>
            <a:ext cx="455400" cy="72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Earth-whole-planet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5867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ohammad</a:t>
            </a:r>
            <a:br>
              <a:rPr sz="4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570-63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124080" y="1752120"/>
            <a:ext cx="5562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ed to have a revelation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the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lam (“Submission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’ran (“Recitation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d to Medina in 6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red Mecca in 6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245412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Earth-whole-planet"/>
          <p:cNvPicPr/>
          <p:nvPr/>
        </p:nvPicPr>
        <p:blipFill>
          <a:blip r:embed="rId1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3760" y="39621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ecc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245412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uslim Restrictions to Christians and J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629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r a special mark on their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oselytizing permit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w churches or synagogues could be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hurch bells could be 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in politics lim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Earth-whole-planet"/>
          <p:cNvPicPr/>
          <p:nvPr/>
        </p:nvPicPr>
        <p:blipFill>
          <a:blip r:embed="rId1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3760" y="39621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ecc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 rot="20896800">
            <a:off x="5790960" y="3200040"/>
            <a:ext cx="1904760" cy="888840"/>
          </a:xfrm>
          <a:custGeom>
            <a:avLst/>
            <a:gdLst/>
            <a:ahLst/>
            <a:rect l="l" t="t" r="r" b="b"/>
            <a:pathLst>
              <a:path w="1200" h="560">
                <a:moveTo>
                  <a:pt x="0" y="560"/>
                </a:moveTo>
                <a:cubicBezTo>
                  <a:pt x="120" y="436"/>
                  <a:pt x="240" y="312"/>
                  <a:pt x="384" y="224"/>
                </a:cubicBezTo>
                <a:cubicBezTo>
                  <a:pt x="528" y="136"/>
                  <a:pt x="728" y="64"/>
                  <a:pt x="864" y="32"/>
                </a:cubicBezTo>
                <a:cubicBezTo>
                  <a:pt x="1000" y="0"/>
                  <a:pt x="1100" y="16"/>
                  <a:pt x="1200" y="32"/>
                </a:cubicBezTo>
              </a:path>
            </a:pathLst>
          </a:custGeom>
          <a:noFill/>
          <a:ln w="76320">
            <a:solidFill>
              <a:srgbClr val="cc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Freeform 7"/>
          <p:cNvSpPr/>
          <p:nvPr/>
        </p:nvSpPr>
        <p:spPr>
          <a:xfrm>
            <a:off x="914400" y="2971800"/>
            <a:ext cx="4800600" cy="1295280"/>
          </a:xfrm>
          <a:custGeom>
            <a:avLst/>
            <a:gdLst/>
            <a:ahLst/>
            <a:rect l="l" t="t" r="r" b="b"/>
            <a:pathLst>
              <a:path w="3024" h="816">
                <a:moveTo>
                  <a:pt x="3024" y="816"/>
                </a:moveTo>
                <a:cubicBezTo>
                  <a:pt x="2860" y="676"/>
                  <a:pt x="2696" y="536"/>
                  <a:pt x="2496" y="480"/>
                </a:cubicBezTo>
                <a:cubicBezTo>
                  <a:pt x="2296" y="424"/>
                  <a:pt x="2040" y="464"/>
                  <a:pt x="1824" y="480"/>
                </a:cubicBezTo>
                <a:cubicBezTo>
                  <a:pt x="1608" y="496"/>
                  <a:pt x="1416" y="552"/>
                  <a:pt x="1200" y="576"/>
                </a:cubicBezTo>
                <a:cubicBezTo>
                  <a:pt x="984" y="600"/>
                  <a:pt x="712" y="664"/>
                  <a:pt x="528" y="624"/>
                </a:cubicBezTo>
                <a:cubicBezTo>
                  <a:pt x="344" y="584"/>
                  <a:pt x="184" y="440"/>
                  <a:pt x="96" y="336"/>
                </a:cubicBezTo>
                <a:cubicBezTo>
                  <a:pt x="8" y="232"/>
                  <a:pt x="16" y="56"/>
                  <a:pt x="0" y="0"/>
                </a:cubicBezTo>
              </a:path>
            </a:pathLst>
          </a:custGeom>
          <a:noFill/>
          <a:ln w="76320">
            <a:solidFill>
              <a:srgbClr val="cc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Freeform 8"/>
          <p:cNvSpPr/>
          <p:nvPr/>
        </p:nvSpPr>
        <p:spPr>
          <a:xfrm>
            <a:off x="888840" y="1447920"/>
            <a:ext cx="812880" cy="1295280"/>
          </a:xfrm>
          <a:custGeom>
            <a:avLst/>
            <a:gdLst/>
            <a:ahLst/>
            <a:rect l="l" t="t" r="r" b="b"/>
            <a:pathLst>
              <a:path w="512" h="816">
                <a:moveTo>
                  <a:pt x="16" y="816"/>
                </a:moveTo>
                <a:cubicBezTo>
                  <a:pt x="8" y="772"/>
                  <a:pt x="0" y="728"/>
                  <a:pt x="16" y="672"/>
                </a:cubicBezTo>
                <a:cubicBezTo>
                  <a:pt x="32" y="616"/>
                  <a:pt x="40" y="544"/>
                  <a:pt x="112" y="480"/>
                </a:cubicBezTo>
                <a:cubicBezTo>
                  <a:pt x="184" y="416"/>
                  <a:pt x="384" y="368"/>
                  <a:pt x="448" y="288"/>
                </a:cubicBezTo>
                <a:cubicBezTo>
                  <a:pt x="512" y="208"/>
                  <a:pt x="504" y="104"/>
                  <a:pt x="496" y="0"/>
                </a:cubicBezTo>
              </a:path>
            </a:pathLst>
          </a:custGeom>
          <a:noFill/>
          <a:ln w="76320">
            <a:solidFill>
              <a:srgbClr val="cc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Freeform 9"/>
          <p:cNvSpPr/>
          <p:nvPr/>
        </p:nvSpPr>
        <p:spPr>
          <a:xfrm>
            <a:off x="5943600" y="4648320"/>
            <a:ext cx="609480" cy="76176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cubicBezTo>
                  <a:pt x="112" y="80"/>
                  <a:pt x="224" y="160"/>
                  <a:pt x="288" y="240"/>
                </a:cubicBezTo>
                <a:cubicBezTo>
                  <a:pt x="352" y="320"/>
                  <a:pt x="368" y="400"/>
                  <a:pt x="384" y="480"/>
                </a:cubicBezTo>
              </a:path>
            </a:pathLst>
          </a:custGeom>
          <a:noFill/>
          <a:ln w="76320">
            <a:solidFill>
              <a:srgbClr val="cc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4711680" y="2325600"/>
            <a:ext cx="1117800" cy="1789200"/>
          </a:xfrm>
          <a:custGeom>
            <a:avLst/>
            <a:gdLst/>
            <a:ahLst/>
            <a:rect l="l" t="t" r="r" b="b"/>
            <a:pathLst>
              <a:path w="704" h="1127">
                <a:moveTo>
                  <a:pt x="680" y="1127"/>
                </a:moveTo>
                <a:cubicBezTo>
                  <a:pt x="692" y="1023"/>
                  <a:pt x="704" y="919"/>
                  <a:pt x="680" y="839"/>
                </a:cubicBezTo>
                <a:cubicBezTo>
                  <a:pt x="656" y="759"/>
                  <a:pt x="576" y="743"/>
                  <a:pt x="536" y="647"/>
                </a:cubicBezTo>
                <a:cubicBezTo>
                  <a:pt x="496" y="551"/>
                  <a:pt x="480" y="351"/>
                  <a:pt x="440" y="263"/>
                </a:cubicBezTo>
                <a:cubicBezTo>
                  <a:pt x="400" y="175"/>
                  <a:pt x="369" y="163"/>
                  <a:pt x="296" y="119"/>
                </a:cubicBezTo>
                <a:cubicBezTo>
                  <a:pt x="223" y="75"/>
                  <a:pt x="62" y="25"/>
                  <a:pt x="0" y="0"/>
                </a:cubicBezTo>
              </a:path>
            </a:pathLst>
          </a:custGeom>
          <a:noFill/>
          <a:ln w="76320">
            <a:solidFill>
              <a:srgbClr val="cc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010280" cy="5956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4724280" y="3733920"/>
            <a:ext cx="3810240" cy="28191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4191120" y="3505320"/>
            <a:ext cx="3276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ttle of Tour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952520" y="4114440"/>
            <a:ext cx="3581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 Mar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s,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lims hal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800 A.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dson of Charles Mar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ned emperor of a united central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d schools and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dom divided at hi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261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2028960" cy="280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0" name="WordArt 6"/>
          <p:cNvSpPr txBox="1"/>
          <p:nvPr/>
        </p:nvSpPr>
        <p:spPr>
          <a:xfrm>
            <a:off x="2286000" y="22860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lemag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opy of plan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0" y="2361960"/>
            <a:ext cx="144792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057400" y="23922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5943600" y="236232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943600" y="2697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WordArt 9"/>
          <p:cNvSpPr txBox="1"/>
          <p:nvPr/>
        </p:nvSpPr>
        <p:spPr>
          <a:xfrm>
            <a:off x="1763640" y="380880"/>
            <a:ext cx="562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-West Sch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WordArt 10"/>
          <p:cNvSpPr txBox="1"/>
          <p:nvPr/>
        </p:nvSpPr>
        <p:spPr>
          <a:xfrm>
            <a:off x="4114800" y="1333440"/>
            <a:ext cx="826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54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066680" y="4667400"/>
            <a:ext cx="7086600" cy="180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ishop of Constantinople shall have the primacy after the Bishop of Rome, because his city is New Rom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Canon 3, Council of 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py of plan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0" y="2361960"/>
            <a:ext cx="144792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057400" y="23922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943600" y="236232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943600" y="2697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1763640" y="380880"/>
            <a:ext cx="562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-West Sch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4114800" y="1333440"/>
            <a:ext cx="826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54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WordArt 11"/>
          <p:cNvSpPr txBox="1"/>
          <p:nvPr/>
        </p:nvSpPr>
        <p:spPr>
          <a:xfrm>
            <a:off x="2362320" y="3124080"/>
            <a:ext cx="3916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Why did the Church</a:t>
            </a:r>
            <a:endParaRPr b="0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Split?</a:t>
            </a:r>
            <a:endParaRPr b="0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7"/>
          <p:cNvSpPr txBox="1"/>
          <p:nvPr/>
        </p:nvSpPr>
        <p:spPr>
          <a:xfrm>
            <a:off x="1763640" y="380880"/>
            <a:ext cx="562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-West Sch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8"/>
          <p:cNvSpPr txBox="1"/>
          <p:nvPr/>
        </p:nvSpPr>
        <p:spPr>
          <a:xfrm>
            <a:off x="4114800" y="1333440"/>
            <a:ext cx="826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54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41200" y="1371600"/>
            <a:ext cx="3645000" cy="914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stern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5181480" y="1371600"/>
            <a:ext cx="3657600" cy="914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stern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228600" y="2362320"/>
            <a:ext cx="396252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is over the stat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4876920" y="2362320"/>
            <a:ext cx="396216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is over the chur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28600" y="2971800"/>
            <a:ext cx="3962520" cy="990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e is the final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4876920" y="2971800"/>
            <a:ext cx="3962160" cy="990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council is th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authorit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228600" y="3962520"/>
            <a:ext cx="396252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logy is for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logia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4876920" y="3962520"/>
            <a:ext cx="396216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logy is 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228600" y="4952880"/>
            <a:ext cx="3962520" cy="10670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ibacy demanded  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rly all posit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4876920" y="4952880"/>
            <a:ext cx="3962160" cy="10670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permitt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for bishop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228600" y="6019920"/>
            <a:ext cx="396252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 to ic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4876920" y="6019920"/>
            <a:ext cx="396216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ration of ic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2438280" y="2362320"/>
            <a:ext cx="43783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Mediev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holasticism?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Earth-whole-planet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8"/>
          <p:cNvSpPr/>
          <p:nvPr/>
        </p:nvSpPr>
        <p:spPr>
          <a:xfrm flipH="1" rot="674400">
            <a:off x="1752120" y="1294920"/>
            <a:ext cx="5639040" cy="1447920"/>
          </a:xfrm>
          <a:custGeom>
            <a:avLst/>
            <a:gdLst>
              <a:gd name="textAreaLeft" fmla="*/ 1017000 w 5639040"/>
              <a:gd name="textAreaRight" fmla="*/ 4038480 w 5639040"/>
              <a:gd name="textAreaTop" fmla="*/ 193680 h 1447920"/>
              <a:gd name="textAreaBottom" fmla="*/ 12542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90" hR="21600" stAng="10800000" swAng="5400000"/>
                <a:lnTo>
                  <a:pt x="11573" y="0"/>
                </a:lnTo>
                <a:arcTo wR="7790" hR="21600" stAng="-5400000" swAng="1928366"/>
                <a:lnTo>
                  <a:pt x="20566" y="10847"/>
                </a:lnTo>
                <a:lnTo>
                  <a:pt x="17471" y="21600"/>
                </a:lnTo>
                <a:lnTo>
                  <a:pt x="12307" y="10847"/>
                </a:lnTo>
                <a:lnTo>
                  <a:pt x="14545" y="10847"/>
                </a:lnTo>
                <a:arcTo wR="7790" hR="21600" stAng="-3471634" swAng="-1618875"/>
                <a:lnTo>
                  <a:pt x="9681" y="646"/>
                </a:lnTo>
                <a:arcTo wR="7790" hR="21600" stAng="-5709491" swAng="-5090509"/>
                <a:close/>
              </a:path>
              <a:path fill="darkenLess" w="21600" h="21600">
                <a:moveTo>
                  <a:pt x="0" y="21600"/>
                </a:moveTo>
                <a:arcTo wR="7790" hR="21600" stAng="10800000" swAng="5400000"/>
                <a:lnTo>
                  <a:pt x="7790" y="0"/>
                </a:lnTo>
                <a:arcTo wR="7790" hR="21600" stAng="-5400000" swAng="309491"/>
                <a:lnTo>
                  <a:pt x="9681" y="646"/>
                </a:lnTo>
                <a:arcTo wR="7790" hR="21600" stAng="-5709491" swAng="-5090509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9" name="Picture 4" descr="The_Huns_at_the_Battle_of_Chalons"/>
          <p:cNvPicPr/>
          <p:nvPr/>
        </p:nvPicPr>
        <p:blipFill>
          <a:blip r:embed="rId3"/>
          <a:stretch/>
        </p:blipFill>
        <p:spPr>
          <a:xfrm>
            <a:off x="5791320" y="2590920"/>
            <a:ext cx="3081240" cy="373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" name="WordArt 9"/>
          <p:cNvSpPr txBox="1"/>
          <p:nvPr/>
        </p:nvSpPr>
        <p:spPr>
          <a:xfrm>
            <a:off x="6400800" y="1295280"/>
            <a:ext cx="2438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1" name="Group 13"/>
          <p:cNvGrpSpPr/>
          <p:nvPr/>
        </p:nvGrpSpPr>
        <p:grpSpPr>
          <a:xfrm>
            <a:off x="914400" y="4724280"/>
            <a:ext cx="3580920" cy="609480"/>
            <a:chOff x="914400" y="4724280"/>
            <a:chExt cx="3580920" cy="609480"/>
          </a:xfrm>
        </p:grpSpPr>
        <p:sp>
          <p:nvSpPr>
            <p:cNvPr id="72" name="WordArt 10"/>
            <p:cNvSpPr txBox="1"/>
            <p:nvPr/>
          </p:nvSpPr>
          <p:spPr>
            <a:xfrm>
              <a:off x="2913120" y="4724280"/>
              <a:ext cx="1582200" cy="55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19080">
                    <a:solidFill>
                      <a:srgbClr val="99ccff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ttilla</a:t>
              </a:r>
              <a:endPara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3" name="WordArt 11"/>
            <p:cNvSpPr txBox="1"/>
            <p:nvPr/>
          </p:nvSpPr>
          <p:spPr>
            <a:xfrm>
              <a:off x="914400" y="4724280"/>
              <a:ext cx="749520" cy="55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19080">
                    <a:solidFill>
                      <a:srgbClr val="99ccff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eo</a:t>
              </a:r>
              <a:endPara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>
              <a:off x="1830600" y="4724280"/>
              <a:ext cx="915840" cy="609480"/>
            </a:xfrm>
            <a:prstGeom prst="leftRightArrow">
              <a:avLst>
                <a:gd name="adj1" fmla="val 50000"/>
                <a:gd name="adj2" fmla="val 29914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71440" y="11430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033-110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505320" y="1828440"/>
            <a:ext cx="44956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osopher and theolog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cal argument for the existenc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066680" y="380880"/>
            <a:ext cx="7010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elm of Canterbu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2288880" cy="2514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1066680" y="480060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 do not try to understand in order to believe; I believe in order to understand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selm’s Reasoning for G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the greatest thing we can ima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God only exists in our thoughts, then there is a greater quality we could attribute to Hi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― that of exis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fore we would be able to conceive of a Being greater than He really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 since that is absurd, then God must really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6680" y="11221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225-127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ican theologian &amp; sch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Aristotelian Logic to Christia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 Theologica: A systematic the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400480" cy="36576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6"/>
          <p:cNvSpPr txBox="1"/>
          <p:nvPr/>
        </p:nvSpPr>
        <p:spPr>
          <a:xfrm>
            <a:off x="2133720" y="30492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omas Aquina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6680" y="11221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225-127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400480" cy="36576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5"/>
          <p:cNvSpPr txBox="1"/>
          <p:nvPr/>
        </p:nvSpPr>
        <p:spPr>
          <a:xfrm>
            <a:off x="2133720" y="30492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omas Aquina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981080" y="1828800"/>
            <a:ext cx="2438640" cy="11912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32001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’s Existenc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09480" y="3657600"/>
            <a:ext cx="2210040" cy="1068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n by reas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352680" y="3657600"/>
            <a:ext cx="2210040" cy="1068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n by fai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09480" y="5181480"/>
            <a:ext cx="2210040" cy="1068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existen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352680" y="5248440"/>
            <a:ext cx="2210040" cy="1556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knowledge of Go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2286000" y="3048120"/>
            <a:ext cx="8380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3124080" y="3048120"/>
            <a:ext cx="83844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1676520" y="4724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4460760" y="4724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971640" y="380880"/>
            <a:ext cx="718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Investiture Controvers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actice of Simo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pe Gregory VII and the Gregorian Re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llege of Cardinals and the election of the p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nry IV and the challenge to Papal autho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67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8" name="WordArt 5"/>
          <p:cNvSpPr txBox="1"/>
          <p:nvPr/>
        </p:nvSpPr>
        <p:spPr>
          <a:xfrm>
            <a:off x="4800600" y="5791320"/>
            <a:ext cx="3695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nry IV at Canossa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09720" y="6313320"/>
            <a:ext cx="2667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anuary 107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629080" cy="3292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38120" y="17524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was the rationale behind the Crusad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WordArt 10"/>
          <p:cNvSpPr txBox="1"/>
          <p:nvPr/>
        </p:nvSpPr>
        <p:spPr>
          <a:xfrm>
            <a:off x="2895480" y="38088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rusad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505320" y="2133360"/>
            <a:ext cx="533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lim invasion of Anato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zantine Emperor Alexios I appeals to Pope Urban II for merce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 II’s call to 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doms of Jerusalem, Tripoli, Antioch, &amp; Edes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629080" cy="32922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00400" y="13712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gan in 109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WordArt 5"/>
          <p:cNvSpPr txBox="1"/>
          <p:nvPr/>
        </p:nvSpPr>
        <p:spPr>
          <a:xfrm>
            <a:off x="2895480" y="38088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rusad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have the Crusades impacted our worl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Results of the Crusad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of Arabic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on the Clas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ening of the Byzantine Emp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ing power of the Christian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lerance of other fai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emphasis on indulg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opy of Earth-whole-planet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Freeform 11"/>
          <p:cNvSpPr/>
          <p:nvPr/>
        </p:nvSpPr>
        <p:spPr>
          <a:xfrm>
            <a:off x="1371600" y="2514600"/>
            <a:ext cx="2438280" cy="1676520"/>
          </a:xfrm>
          <a:custGeom>
            <a:avLst/>
            <a:gdLst/>
            <a:ahLst/>
            <a:rect l="l" t="t" r="r" b="b"/>
            <a:pathLst>
              <a:path w="1536" h="1056">
                <a:moveTo>
                  <a:pt x="1536" y="0"/>
                </a:moveTo>
                <a:cubicBezTo>
                  <a:pt x="1208" y="104"/>
                  <a:pt x="880" y="208"/>
                  <a:pt x="624" y="384"/>
                </a:cubicBezTo>
                <a:cubicBezTo>
                  <a:pt x="368" y="560"/>
                  <a:pt x="184" y="808"/>
                  <a:pt x="0" y="1056"/>
                </a:cubicBezTo>
              </a:path>
            </a:pathLst>
          </a:custGeom>
          <a:noFill/>
          <a:ln w="130320">
            <a:solidFill>
              <a:srgbClr val="3366c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76320" y="4191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igoth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H="1" flipV="1">
            <a:off x="2057400" y="1676520"/>
            <a:ext cx="914400" cy="380880"/>
          </a:xfrm>
          <a:prstGeom prst="line">
            <a:avLst/>
          </a:prstGeom>
          <a:ln w="1144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09480" y="609480"/>
            <a:ext cx="177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ngles and Sax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Freeform 15"/>
          <p:cNvSpPr/>
          <p:nvPr/>
        </p:nvSpPr>
        <p:spPr>
          <a:xfrm>
            <a:off x="914400" y="5486400"/>
            <a:ext cx="2666880" cy="711360"/>
          </a:xfrm>
          <a:custGeom>
            <a:avLst/>
            <a:gdLst/>
            <a:ahLst/>
            <a:rect l="l" t="t" r="r" b="b"/>
            <a:pathLst>
              <a:path w="1680" h="448">
                <a:moveTo>
                  <a:pt x="0" y="0"/>
                </a:moveTo>
                <a:cubicBezTo>
                  <a:pt x="168" y="160"/>
                  <a:pt x="336" y="320"/>
                  <a:pt x="528" y="384"/>
                </a:cubicBezTo>
                <a:cubicBezTo>
                  <a:pt x="720" y="448"/>
                  <a:pt x="960" y="440"/>
                  <a:pt x="1152" y="384"/>
                </a:cubicBezTo>
                <a:cubicBezTo>
                  <a:pt x="1344" y="328"/>
                  <a:pt x="1512" y="188"/>
                  <a:pt x="1680" y="48"/>
                </a:cubicBezTo>
              </a:path>
            </a:pathLst>
          </a:custGeom>
          <a:noFill/>
          <a:ln w="114480">
            <a:solidFill>
              <a:srgbClr val="33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2819520" y="5029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Vanda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557400" y="27432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Ostrogoth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AutoShape 20"/>
          <p:cNvSpPr/>
          <p:nvPr/>
        </p:nvSpPr>
        <p:spPr>
          <a:xfrm rot="996000">
            <a:off x="4962240" y="2882880"/>
            <a:ext cx="2863800" cy="762120"/>
          </a:xfrm>
          <a:custGeom>
            <a:avLst/>
            <a:gdLst>
              <a:gd name="textAreaLeft" fmla="*/ 501120 w 2863800"/>
              <a:gd name="textAreaRight" fmla="*/ 2076480 w 2863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4038480" y="2057400"/>
            <a:ext cx="1681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th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8"/>
          <p:cNvSpPr txBox="1"/>
          <p:nvPr/>
        </p:nvSpPr>
        <p:spPr>
          <a:xfrm>
            <a:off x="6400800" y="1295280"/>
            <a:ext cx="2438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95480" y="1447920"/>
            <a:ext cx="327672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are the similarities and differences between the Crusades versus recent conflicts in Iraq and Afghanistan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3809880" y="380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rusades"/>
          <p:cNvPicPr/>
          <p:nvPr/>
        </p:nvPicPr>
        <p:blipFill>
          <a:blip r:embed="rId2"/>
          <a:stretch/>
        </p:blipFill>
        <p:spPr>
          <a:xfrm>
            <a:off x="406440" y="1523880"/>
            <a:ext cx="2360520" cy="4267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ANA mortars Band of Brothers"/>
          <p:cNvPicPr/>
          <p:nvPr/>
        </p:nvPicPr>
        <p:blipFill>
          <a:blip r:embed="rId3"/>
          <a:stretch/>
        </p:blipFill>
        <p:spPr>
          <a:xfrm>
            <a:off x="6248520" y="1523880"/>
            <a:ext cx="248256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Francis of Assis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d as a sold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n prisoner and a year in cap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oted himself to a life of 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recognized order of Franciscans &amp; ordained Francis as a deac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207040" y="1676520"/>
            <a:ext cx="3540240" cy="419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8" name="Text Box 5"/>
          <p:cNvSpPr/>
          <p:nvPr/>
        </p:nvSpPr>
        <p:spPr>
          <a:xfrm>
            <a:off x="3584160" y="9907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81-122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Francis of Assis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grimage of non-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with the Sul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ted to preach to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4343400" y="1608120"/>
            <a:ext cx="4365720" cy="456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2" name="Text Box 5"/>
          <p:cNvSpPr/>
          <p:nvPr/>
        </p:nvSpPr>
        <p:spPr>
          <a:xfrm>
            <a:off x="3584160" y="9907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81-122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Francis of Assis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523880" y="211464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brothers preach by their deeds.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295800" cy="4114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3584160" y="9907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81-122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520" y="2437920"/>
            <a:ext cx="6248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es Francis teach us about how we ought to liv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14800" y="243792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is the difference between Christendom versus Christian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2405160" cy="3584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848720" cy="5021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66520" y="4800600"/>
            <a:ext cx="63248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hat do the cathedrals tell us about medieval Christianity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DSC041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66520" y="4800600"/>
            <a:ext cx="63248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hat do the cathedrals tell us about medieval Christianity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opy of Earth-whole-planet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5943600" y="762120"/>
            <a:ext cx="2971800" cy="42670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91320" y="609480"/>
            <a:ext cx="32004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Ulfilas</a:t>
            </a:r>
            <a:br>
              <a:rPr sz="4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310-38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19560" y="190512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ary to the Go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lated the Bible into the language of the Go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2767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trick</a:t>
            </a:r>
            <a:br>
              <a:rPr sz="54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373-49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33560" y="609120"/>
            <a:ext cx="4724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w up in England in a Christian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tured by Irish raiders and made a s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d to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ained as a priest and bi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ed to Ireland as a missio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811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2767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atrick</a:t>
            </a:r>
            <a:br>
              <a:rPr sz="54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373-49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33920" y="609120"/>
            <a:ext cx="49528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to speak out unequivocally against 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 trade in Ireland came to a virtual h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eland became a sender of missionaries to England and Sco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811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1143000"/>
            <a:ext cx="2361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672-75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Picture 5" descr="SCAN0724"/>
          <p:cNvPicPr/>
          <p:nvPr/>
        </p:nvPicPr>
        <p:blipFill>
          <a:blip r:embed="rId1"/>
          <a:stretch/>
        </p:blipFill>
        <p:spPr>
          <a:xfrm>
            <a:off x="152280" y="1770120"/>
            <a:ext cx="8839440" cy="4707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2590920" y="304920"/>
            <a:ext cx="3962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nifac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2437920"/>
            <a:ext cx="6248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hould the church respond to other religion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6-10-21T14:48:46Z</dcterms:modified>
  <cp:revision>421</cp:revision>
  <dc:subject/>
  <dc:title>Church History</dc:title>
</cp:coreProperties>
</file>