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01C-1DCB-4789-8B1A-A139FD03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5C8-28E2-4A81-8F1F-258F89E9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4C3-A344-4224-B0CA-19A35D69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972-875F-4765-8FB0-79F140AE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54F-E281-4FAD-AF0A-E5D2338D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A1D-7861-4682-820E-A2676E43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E9E-CF37-43BC-8241-9A4F102F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162-71F5-4392-8679-121954E3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909-3283-48B9-934A-82F07DAA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8F9-1A2D-4F7E-A264-95918D8B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4BD-DA83-4D54-B403-335A8FF5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719-A191-4D1C-8DF7-96057880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54CD-0119-43B9-B6F4-AEC94ED0EF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Sermon on the M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2209680"/>
            <a:ext cx="54864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fe of Chris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914400"/>
            <a:ext cx="2971800" cy="857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1828800"/>
            <a:ext cx="2971800" cy="4648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heard it said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say unt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perfect as your Father in heaven is 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914400"/>
            <a:ext cx="2971800" cy="857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914400"/>
            <a:ext cx="2971800" cy="857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66880" y="1522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thew 5-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914400"/>
            <a:ext cx="2971800" cy="857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828800"/>
            <a:ext cx="2971800" cy="4648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heard it said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say unt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perfect as your Father in heaven is 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914400"/>
            <a:ext cx="2971800" cy="857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914400"/>
            <a:ext cx="2971800" cy="857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828800"/>
            <a:ext cx="2971800" cy="4648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ward versus inward righte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’s Pr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worry; seek first the kingdom of God and His righte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66880" y="1522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thew 5-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914400"/>
            <a:ext cx="2971800" cy="857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1828800"/>
            <a:ext cx="2971800" cy="4648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heard it said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say unt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perfect as your Father in heaven is 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914400"/>
            <a:ext cx="2971800" cy="857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914400"/>
            <a:ext cx="2971800" cy="857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828800"/>
            <a:ext cx="2971800" cy="4648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ward versus inward righte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’s Pr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worry; seek first the kingdom of God and His righte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1828800"/>
            <a:ext cx="2971800" cy="4648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ju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through the narrow 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ruit; bad f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ill enter the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66880" y="1522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thew 5-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1-06-16T12:51:37Z</dcterms:modified>
  <cp:revision>288</cp:revision>
  <dc:subject/>
  <dc:title>Life of Christ</dc:title>
</cp:coreProperties>
</file>