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F56-CC2E-47D4-B77B-DAD80392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4EA-D687-4024-B188-A0CA561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F00-6E80-40C1-B3AA-9DAB504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645-D916-4245-AE68-7A2BB810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CA6-91A4-4768-AC0D-0CBD542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917-C643-4C3F-9A35-32E0E12F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674-DA52-450F-B6AC-5540C4D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C94-A0E1-4814-8A9D-5685B49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4D6-23DC-477F-B4B5-B60F0BD9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A2C-ED4C-4773-9201-373002D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C74-8112-4B58-ACD8-82A36C5E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77C-04EE-42B5-8879-6B080CB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203-F943-4A85-88EF-1BE2135E33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29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3400" y="2057400"/>
            <a:ext cx="73198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We Got Our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cient Manuscrip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translations of sermons of Father Ephraem the Syrian (306-37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alimpsest: “Scraped again.”  These sermons copied in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hraemi Rescript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60828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ant pastor Pierre Allix discovered the writing underneath the palimpsest in late 160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d to early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ome of the Septuagint, but most surviving pages are from the New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the long ending of M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hraemi Rescript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hraemi Rescript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File:Codex ephremi.jpg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3048120"/>
            <a:ext cx="6858000" cy="33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43000" y="3048120"/>
            <a:ext cx="7086600" cy="31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6096240" cy="343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5257800" cy="359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9 pages initially disco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round 35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03364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Konstantin von Tischendorf visited St Katherine’s Monastery in 18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9 pages initially disco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round 35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03364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57200" y="40384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schendorf permitted to take 43 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uscript was eventually given to Czar Nicholas of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S.R. sold the codex to the British Museum in 1933 for 100,000 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gotten room was discovered in 1975 containing more ancient manuscript fra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page was found in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Sinaitic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3070080" cy="39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60216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1911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1911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581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2624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9482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5674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60246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60246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200" y="495792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571500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5719680"/>
            <a:ext cx="1143000" cy="52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28800" y="1600200"/>
            <a:ext cx="26668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600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600200"/>
            <a:ext cx="266724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914400"/>
            <a:ext cx="5257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riginal Manuscri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320" y="3124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1240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62120" y="4114800"/>
            <a:ext cx="30456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114800"/>
            <a:ext cx="6858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85640" y="411480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809880" y="3124080"/>
            <a:ext cx="60984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240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476760" y="312408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30481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514600"/>
            <a:ext cx="1447920" cy="58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114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086240" y="4114800"/>
            <a:ext cx="762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4114800"/>
            <a:ext cx="45720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419720" y="4724280"/>
            <a:ext cx="838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724280"/>
            <a:ext cx="4572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nfell &amp; Hunt were doing an excavation south of the Faiyum Oasis in Egy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xyrhynchos Papy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70400" y="1828800"/>
            <a:ext cx="326412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464832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nfell &amp; Hunt were doing an excavation south of the Faiyum Oasis in Egy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ffed crocod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ions of New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xyrhynchos Papy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picture of archaeologists at work"/>
          <p:cNvPicPr/>
          <p:nvPr/>
        </p:nvPicPr>
        <p:blipFill>
          <a:blip r:embed="rId2"/>
          <a:stretch/>
        </p:blipFill>
        <p:spPr>
          <a:xfrm>
            <a:off x="5029200" y="1752480"/>
            <a:ext cx="3657600" cy="304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9880" y="5029200"/>
            <a:ext cx="4648320" cy="154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from an antiquities dealer by American millionaire Chester Beat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ster Beatty Papy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" descr="File:P. Chester Beatty I, folio 13-14, recto.jpg"/>
          <p:cNvPicPr/>
          <p:nvPr/>
        </p:nvPicPr>
        <p:blipFill>
          <a:blip r:embed="rId2"/>
          <a:stretch/>
        </p:blipFill>
        <p:spPr>
          <a:xfrm>
            <a:off x="1447920" y="2971800"/>
            <a:ext cx="6324480" cy="3025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742840"/>
            <a:ext cx="4953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tles of Paul dated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t University of Pennsylvan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ster Beatty Papy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File:P46.jpg"/>
          <p:cNvPicPr/>
          <p:nvPr/>
        </p:nvPicPr>
        <p:blipFill>
          <a:blip r:embed="rId2"/>
          <a:stretch/>
        </p:blipFill>
        <p:spPr>
          <a:xfrm>
            <a:off x="5638680" y="2743200"/>
            <a:ext cx="2643480" cy="3733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480" y="1600200"/>
            <a:ext cx="8153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from an antiquities dealer by American millionaire Chester Beat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from an antiquities dealer by American millionaire Chester Beat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tles of Paul dated to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ester Beatty Papy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File:P46.jpg"/>
          <p:cNvPicPr/>
          <p:nvPr/>
        </p:nvPicPr>
        <p:blipFill>
          <a:blip r:embed="rId2"/>
          <a:stretch/>
        </p:blipFill>
        <p:spPr>
          <a:xfrm>
            <a:off x="5638680" y="2819520"/>
            <a:ext cx="26434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lest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9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95280" y="2362320"/>
            <a:ext cx="655344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ad Sea Scro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1066680" y="0"/>
            <a:ext cx="12191760" cy="688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153120" y="4141800"/>
            <a:ext cx="228600" cy="3049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06200" y="363852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Qum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61976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ame:  Masorah (“tradition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community of Tiber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38280" y="457200"/>
            <a:ext cx="43768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asorit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600120"/>
            <a:ext cx="9144000" cy="625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12240" y="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ISAIAH SCRO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362320" y="5791320"/>
            <a:ext cx="4476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roll of Righteousnes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4197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72520" y="175248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766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2381400" cy="25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3505320" y="3505320"/>
            <a:ext cx="1190520" cy="64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a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3898800" y="30020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Bethle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974800">
            <a:off x="4952520" y="2614320"/>
            <a:ext cx="2043360" cy="304560"/>
          </a:xfrm>
          <a:prstGeom prst="leftArrow">
            <a:avLst>
              <a:gd name="adj1" fmla="val 50000"/>
              <a:gd name="adj2" fmla="val 167730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112160" y="1143000"/>
            <a:ext cx="17269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6625440" y="190512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Qum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66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974800">
            <a:off x="4952520" y="2614320"/>
            <a:ext cx="2043360" cy="304560"/>
          </a:xfrm>
          <a:prstGeom prst="leftArrow">
            <a:avLst>
              <a:gd name="adj1" fmla="val 50000"/>
              <a:gd name="adj2" fmla="val 167730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112160" y="1143000"/>
            <a:ext cx="17269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625440" y="190512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Qum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2520" y="175248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19520" y="228600"/>
            <a:ext cx="1904760" cy="2627280"/>
            <a:chOff x="2819520" y="228600"/>
            <a:chExt cx="1904760" cy="262728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2895480" y="228600"/>
              <a:ext cx="1347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2819520" y="1828800"/>
              <a:ext cx="190476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2971800" y="2438280"/>
              <a:ext cx="1218600" cy="417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920" y="380880"/>
            <a:ext cx="2286000" cy="2819520"/>
            <a:chOff x="304920" y="380880"/>
            <a:chExt cx="2286000" cy="28195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685800" y="380880"/>
              <a:ext cx="1579680" cy="2362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99" name=""/>
            <p:cNvSpPr txBox="1"/>
            <p:nvPr/>
          </p:nvSpPr>
          <p:spPr>
            <a:xfrm>
              <a:off x="304920" y="213336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leazar Sukeni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685800" y="2706480"/>
              <a:ext cx="1143000" cy="493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 rot="18783600">
            <a:off x="1218600" y="3047760"/>
            <a:ext cx="838080" cy="2057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3080 h 2057400"/>
              <a:gd name="textAreaBottom" fmla="*/ 1573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15" stAng="-5400000" swAng="-5400000"/>
                <a:lnTo>
                  <a:pt x="0" y="12917"/>
                </a:lnTo>
                <a:arcTo wR="21600" hR="7215" stAng="10800000" swAng="-2602284"/>
                <a:lnTo>
                  <a:pt x="14400" y="21187"/>
                </a:lnTo>
                <a:lnTo>
                  <a:pt x="21600" y="17280"/>
                </a:lnTo>
                <a:lnTo>
                  <a:pt x="14400" y="12547"/>
                </a:lnTo>
                <a:lnTo>
                  <a:pt x="14400" y="14016"/>
                </a:lnTo>
                <a:arcTo wR="21600" hR="7215" stAng="8197716" swAng="2111685"/>
                <a:lnTo>
                  <a:pt x="1758" y="10065"/>
                </a:lnTo>
                <a:arcTo wR="21600" hR="7215" stAng="-10309402" swAng="4909402"/>
                <a:close/>
              </a:path>
              <a:path fill="darkenLess" w="21600" h="21600">
                <a:moveTo>
                  <a:pt x="21600" y="0"/>
                </a:moveTo>
                <a:arcTo wR="21600" hR="7215" stAng="-5400000" swAng="-5400000"/>
                <a:lnTo>
                  <a:pt x="0" y="7215"/>
                </a:lnTo>
                <a:arcTo wR="21600" hR="7215" stAng="10800000" swAng="-490598"/>
                <a:lnTo>
                  <a:pt x="1758" y="10065"/>
                </a:lnTo>
                <a:arcTo wR="21600" hR="7215" stAng="-10309402" swAng="4909402"/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057400" y="3352680"/>
            <a:ext cx="2381400" cy="25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"/>
          <p:cNvSpPr/>
          <p:nvPr/>
        </p:nvSpPr>
        <p:spPr>
          <a:xfrm flipV="1" rot="20988000">
            <a:off x="4267080" y="2208600"/>
            <a:ext cx="685800" cy="1905480"/>
          </a:xfrm>
          <a:custGeom>
            <a:avLst/>
            <a:gdLst>
              <a:gd name="textAreaLeft" fmla="*/ 91800 w 685800"/>
              <a:gd name="textAreaRight" fmla="*/ 594000 w 685800"/>
              <a:gd name="textAreaTop" fmla="*/ 333000 h 1905480"/>
              <a:gd name="textAreaBottom" fmla="*/ 1381320 h 190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8800" y="30020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Bethle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05320" y="3505320"/>
            <a:ext cx="1190520" cy="64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a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4197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766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974800">
            <a:off x="4952520" y="2626920"/>
            <a:ext cx="2043360" cy="304920"/>
          </a:xfrm>
          <a:prstGeom prst="leftArrow">
            <a:avLst>
              <a:gd name="adj1" fmla="val 50000"/>
              <a:gd name="adj2" fmla="val 167532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12160" y="1143000"/>
            <a:ext cx="17269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6625440" y="190512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Qum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2520" y="175248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380880"/>
            <a:ext cx="2286000" cy="2819520"/>
            <a:chOff x="304920" y="380880"/>
            <a:chExt cx="2286000" cy="281952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685800" y="380880"/>
              <a:ext cx="1579680" cy="2362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216" name=""/>
            <p:cNvSpPr txBox="1"/>
            <p:nvPr/>
          </p:nvSpPr>
          <p:spPr>
            <a:xfrm>
              <a:off x="304920" y="213336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leazar Sukeni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685800" y="2706480"/>
              <a:ext cx="1143000" cy="493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 rot="18783600">
            <a:off x="1218600" y="3047760"/>
            <a:ext cx="838080" cy="2057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3080 h 2057400"/>
              <a:gd name="textAreaBottom" fmla="*/ 1573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15" stAng="-5400000" swAng="-5400000"/>
                <a:lnTo>
                  <a:pt x="0" y="12917"/>
                </a:lnTo>
                <a:arcTo wR="21600" hR="7215" stAng="10800000" swAng="-2602284"/>
                <a:lnTo>
                  <a:pt x="14400" y="21187"/>
                </a:lnTo>
                <a:lnTo>
                  <a:pt x="21600" y="17280"/>
                </a:lnTo>
                <a:lnTo>
                  <a:pt x="14400" y="12547"/>
                </a:lnTo>
                <a:lnTo>
                  <a:pt x="14400" y="14016"/>
                </a:lnTo>
                <a:arcTo wR="21600" hR="7215" stAng="8197716" swAng="2111685"/>
                <a:lnTo>
                  <a:pt x="1758" y="10065"/>
                </a:lnTo>
                <a:arcTo wR="21600" hR="7215" stAng="-10309402" swAng="4909402"/>
                <a:close/>
              </a:path>
              <a:path fill="darkenLess" w="21600" h="21600">
                <a:moveTo>
                  <a:pt x="21600" y="0"/>
                </a:moveTo>
                <a:arcTo wR="21600" hR="7215" stAng="-5400000" swAng="-5400000"/>
                <a:lnTo>
                  <a:pt x="0" y="7215"/>
                </a:lnTo>
                <a:arcTo wR="21600" hR="7215" stAng="10800000" swAng="-490598"/>
                <a:lnTo>
                  <a:pt x="1758" y="10065"/>
                </a:lnTo>
                <a:arcTo wR="21600" hR="7215" stAng="-10309402" swAng="4909402"/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057400" y="3352680"/>
            <a:ext cx="2381400" cy="25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3898800" y="30020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Bethle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5029200" y="3962520"/>
            <a:ext cx="3048120" cy="227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638680" y="152280"/>
            <a:ext cx="2971800" cy="1062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23" name=""/>
          <p:cNvSpPr/>
          <p:nvPr/>
        </p:nvSpPr>
        <p:spPr>
          <a:xfrm rot="10574400">
            <a:off x="3809880" y="685440"/>
            <a:ext cx="2043360" cy="382680"/>
          </a:xfrm>
          <a:prstGeom prst="leftArrow">
            <a:avLst>
              <a:gd name="adj1" fmla="val 50000"/>
              <a:gd name="adj2" fmla="val 133490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19520" y="228600"/>
            <a:ext cx="1904760" cy="2627280"/>
            <a:chOff x="2819520" y="228600"/>
            <a:chExt cx="1904760" cy="2627280"/>
          </a:xfrm>
        </p:grpSpPr>
        <p:pic>
          <p:nvPicPr>
            <p:cNvPr id="225" name="" descr=""/>
            <p:cNvPicPr/>
            <p:nvPr/>
          </p:nvPicPr>
          <p:blipFill>
            <a:blip r:embed="rId8"/>
            <a:stretch/>
          </p:blipFill>
          <p:spPr>
            <a:xfrm>
              <a:off x="2895480" y="228600"/>
              <a:ext cx="1347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 txBox="1"/>
            <p:nvPr/>
          </p:nvSpPr>
          <p:spPr>
            <a:xfrm>
              <a:off x="2819520" y="1828800"/>
              <a:ext cx="1904760" cy="645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971800" y="2438280"/>
              <a:ext cx="1218600" cy="417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 rot="20988000">
            <a:off x="4267080" y="2208600"/>
            <a:ext cx="685800" cy="1905480"/>
          </a:xfrm>
          <a:custGeom>
            <a:avLst/>
            <a:gdLst>
              <a:gd name="textAreaLeft" fmla="*/ 91800 w 685800"/>
              <a:gd name="textAreaRight" fmla="*/ 594000 w 685800"/>
              <a:gd name="textAreaTop" fmla="*/ 333000 h 1905480"/>
              <a:gd name="textAreaBottom" fmla="*/ 1381320 h 190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05320" y="3505320"/>
            <a:ext cx="1190520" cy="64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a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60199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ebrew University of 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8120" y="2666520"/>
            <a:ext cx="5333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omplete manuscript of Isaiah reflecting old Hebr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giving Hym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r Scro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380880"/>
            <a:ext cx="2286000" cy="2819520"/>
            <a:chOff x="304920" y="380880"/>
            <a:chExt cx="2286000" cy="281952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85800" y="380880"/>
              <a:ext cx="1579680" cy="2362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234" name=""/>
            <p:cNvSpPr txBox="1"/>
            <p:nvPr/>
          </p:nvSpPr>
          <p:spPr>
            <a:xfrm>
              <a:off x="304920" y="2133360"/>
              <a:ext cx="2286000" cy="64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leazar Sukeni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85800" y="2706480"/>
              <a:ext cx="1143000" cy="493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6880" y="380520"/>
            <a:ext cx="6019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etropolitan of the Syrian Orthodox Church in 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124080" y="30481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aiah Scroll reflecting editorial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 R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sher Habakku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sis Apocryph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457200"/>
            <a:ext cx="2361600" cy="2971440"/>
            <a:chOff x="533520" y="457200"/>
            <a:chExt cx="2361600" cy="297144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627840" y="457200"/>
              <a:ext cx="1670760" cy="25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533520" y="2266920"/>
              <a:ext cx="2361600" cy="730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22520" y="2956320"/>
              <a:ext cx="1510920" cy="47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124080" y="990360"/>
            <a:ext cx="5029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ed to the United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t the scrolls up for sale in a newspaper advertis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3520" y="457200"/>
            <a:ext cx="2361600" cy="2971440"/>
            <a:chOff x="533520" y="457200"/>
            <a:chExt cx="2361600" cy="29714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627840" y="457200"/>
              <a:ext cx="1670760" cy="25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 txBox="1"/>
            <p:nvPr/>
          </p:nvSpPr>
          <p:spPr>
            <a:xfrm>
              <a:off x="533520" y="2266920"/>
              <a:ext cx="2361600" cy="730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22520" y="2956320"/>
              <a:ext cx="1510920" cy="47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6029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33520" y="457200"/>
            <a:ext cx="2361600" cy="2971440"/>
            <a:chOff x="533520" y="457200"/>
            <a:chExt cx="2361600" cy="2971440"/>
          </a:xfrm>
        </p:grpSpPr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627840" y="457200"/>
              <a:ext cx="1670760" cy="25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 txBox="1"/>
            <p:nvPr/>
          </p:nvSpPr>
          <p:spPr>
            <a:xfrm>
              <a:off x="533520" y="2266920"/>
              <a:ext cx="2361600" cy="730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722520" y="2956320"/>
              <a:ext cx="1510920" cy="47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533520" y="457200"/>
            <a:ext cx="2361600" cy="2971440"/>
            <a:chOff x="533520" y="457200"/>
            <a:chExt cx="2361600" cy="297144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627840" y="457200"/>
              <a:ext cx="1670760" cy="25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533520" y="2266920"/>
              <a:ext cx="2361600" cy="7304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Mar Samue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722520" y="2956320"/>
              <a:ext cx="1510920" cy="47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78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4 Scrol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46800" y="609480"/>
            <a:ext cx="23446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7" name=""/>
          <p:cNvSpPr txBox="1"/>
          <p:nvPr/>
        </p:nvSpPr>
        <p:spPr>
          <a:xfrm>
            <a:off x="6172200" y="2514600"/>
            <a:ext cx="22860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6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igal Yad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2640" y="3657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Eleazar Sukeni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in Israeli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through an intermediary the four scrolls for the Hebrew University of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ame:  Masorah (“tradition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community of Tiber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                       ) versus (                   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38280" y="457200"/>
            <a:ext cx="43768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asorit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200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~yhil{a/ hw"hy&gt;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3200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~yhla hwhy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1240" cy="1226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00313 -0.67222 E">
                                      <p:cBhvr>
                                        <p:cTn id="460" dur="5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80880" y="-374760"/>
            <a:ext cx="8229600" cy="723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guages Represen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Hebrew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Arama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fewer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09480"/>
            <a:ext cx="6553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ad Sea Scro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guages Represen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ing 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Parc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Papy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opper Sc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609480"/>
            <a:ext cx="6553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ad Sea Scro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guages Represen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ing Mater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ject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cal texts (Old Testa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s used of a unique Jewish s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43000" y="609480"/>
            <a:ext cx="6553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ad Sea Scroll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ame:  Masorah (“tradition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community of Tiber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 rules regarding the copying of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38280" y="457200"/>
            <a:ext cx="437688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asorit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34290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extual Famil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52280"/>
            <a:ext cx="350532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152280"/>
            <a:ext cx="198108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2952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 Alexand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12952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iaticus, Vatic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2952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6668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6668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emi Rescrip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6668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0384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40384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5410080"/>
            <a:ext cx="34290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zan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5410080"/>
            <a:ext cx="3505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s Receptus, KJ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5410080"/>
            <a:ext cx="1981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45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uagint &amp;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t in Alexand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arch of Constantinople presented to England in 162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Alexandrin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58956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1320" y="4113360"/>
            <a:ext cx="314316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uagint and New Testa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d to 35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ng 71 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oleon took the Vatican Library to Paris in 18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x returned to Vatican in 18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Vatican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447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dex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2629080" cy="35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Tregel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mitted to examine it in 184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tire manuscript was photographed and published in 189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81080" y="4572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ex Vatican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447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dex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File:Samuel P Tregelles.jpg"/>
          <p:cNvPicPr/>
          <p:nvPr/>
        </p:nvPicPr>
        <p:blipFill>
          <a:blip r:embed="rId2"/>
          <a:stretch/>
        </p:blipFill>
        <p:spPr>
          <a:xfrm>
            <a:off x="5486400" y="2286000"/>
            <a:ext cx="298116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6-02T01:24:23Z</dcterms:modified>
  <cp:revision>327</cp:revision>
  <dc:subject>Biblical Interpretation</dc:subject>
  <dc:title>Biblical Interpretation</dc:title>
</cp:coreProperties>
</file>