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221-2AAA-4C34-BBFF-AD7D73AA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43D-A25F-4FC0-BE15-C19BB36C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356-3FC7-40D9-BA04-9E7C50E8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A33-F105-4CF7-896E-FE5DE147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99E-30D6-4025-B79B-9EC75FEB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FDB-32E1-4950-AE08-906E233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653-F4FF-40B9-B255-860F9C44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549-C6AF-4462-B799-D6C68D16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501-E7A7-49ED-BE69-26DC859C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01D-DFD3-4941-B668-698A582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B6F-6557-407A-9B91-795F496B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450-C429-4C30-AA54-FC51A64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334D-C8CF-448C-96EA-745FA2DE13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8612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3400" y="2057400"/>
            <a:ext cx="73198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We Got Our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el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2590920" cy="3048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nintentional Erro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1800" y="914040"/>
            <a:ext cx="5867280" cy="3048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ulty Eye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ulty H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s due to person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962520"/>
            <a:ext cx="2590920" cy="2819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ntion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28600"/>
            <a:ext cx="716292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Textual Alter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2590920" cy="3048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nintentional Erro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800" y="914040"/>
            <a:ext cx="5867280" cy="3048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ulty Eye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ulty H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s due to person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962520"/>
            <a:ext cx="2590920" cy="2819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ntion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3962520"/>
            <a:ext cx="5867280" cy="2819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 and grammatical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ization of names and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ed harm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28600"/>
            <a:ext cx="716292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Textual Alter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981080" y="2438280"/>
            <a:ext cx="548640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uscript Famil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3" name=""/>
          <p:cNvCxnSpPr/>
          <p:nvPr/>
        </p:nvCxnSpPr>
        <p:spPr>
          <a:xfrm flipH="1">
            <a:off x="5562360" y="2742840"/>
            <a:ext cx="915120" cy="68652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14" name=""/>
          <p:cNvCxnSpPr/>
          <p:nvPr/>
        </p:nvCxnSpPr>
        <p:spPr>
          <a:xfrm>
            <a:off x="6858000" y="2819160"/>
            <a:ext cx="838800" cy="61020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15" name=""/>
          <p:cNvCxnSpPr/>
          <p:nvPr/>
        </p:nvCxnSpPr>
        <p:spPr>
          <a:xfrm flipH="1">
            <a:off x="3504960" y="990360"/>
            <a:ext cx="915120" cy="68652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16" name=""/>
          <p:cNvCxnSpPr/>
          <p:nvPr/>
        </p:nvCxnSpPr>
        <p:spPr>
          <a:xfrm>
            <a:off x="4495680" y="990360"/>
            <a:ext cx="991440" cy="68652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117" name=""/>
          <p:cNvSpPr/>
          <p:nvPr/>
        </p:nvSpPr>
        <p:spPr>
          <a:xfrm>
            <a:off x="2895480" y="380880"/>
            <a:ext cx="312444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riginal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828800"/>
            <a:ext cx="22860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bylon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828800"/>
            <a:ext cx="22860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lestin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505320"/>
            <a:ext cx="198108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581280"/>
            <a:ext cx="228600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abbi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5486400"/>
            <a:ext cx="228600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ssor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505320"/>
            <a:ext cx="198144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alestin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48640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ptuag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548640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amari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8" idx="2"/>
            <a:endCxn id="121" idx="0"/>
          </p:cNvCxnSpPr>
          <p:nvPr/>
        </p:nvCxnSpPr>
        <p:spPr>
          <a:xfrm>
            <a:off x="2361960" y="2971440"/>
            <a:ext cx="1080" cy="61020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27" name=""/>
          <p:cNvCxnSpPr/>
          <p:nvPr/>
        </p:nvCxnSpPr>
        <p:spPr>
          <a:xfrm>
            <a:off x="2361960" y="4876560"/>
            <a:ext cx="1080" cy="61020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28" name=""/>
          <p:cNvCxnSpPr/>
          <p:nvPr/>
        </p:nvCxnSpPr>
        <p:spPr>
          <a:xfrm>
            <a:off x="5486040" y="4800240"/>
            <a:ext cx="1080" cy="61020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29" name=""/>
          <p:cNvCxnSpPr/>
          <p:nvPr/>
        </p:nvCxnSpPr>
        <p:spPr>
          <a:xfrm>
            <a:off x="7848360" y="4800240"/>
            <a:ext cx="1080" cy="610200"/>
          </a:xfrm>
          <a:prstGeom prst="straightConnector1">
            <a:avLst/>
          </a:prstGeom>
          <a:ln w="114480">
            <a:solidFill>
              <a:srgbClr val="ffffff"/>
            </a:solidFill>
            <a:miter/>
            <a:tailEnd len="med" type="stealth" w="med"/>
          </a:ln>
        </p:spPr>
      </p:cxn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34290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extual Famil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52280"/>
            <a:ext cx="350532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152280"/>
            <a:ext cx="198108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2952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 Alexand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12952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iaticus, Vatic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2952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6668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6668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emi Rescrip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6668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40384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40384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40384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4100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zan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4100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s Receptus, KJ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4100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880" y="533520"/>
            <a:ext cx="6019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thus develops that we do not have an embarrassing welter of three thousand manuscripts disagreeing in confusing ways, but that these manuscripts have been copied with considerable care from a few old and standard editions.”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Dr. Laird Harris, Inspiration and Canonicity of the Bible; Page 9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17845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ly Text is to be Prefe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orter Text is to be Prefe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se Geographical Reading is to be Prefe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Difficult Reading is to be Prefe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762120"/>
            <a:ext cx="7662600" cy="74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thodology of Textual Critic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n our copies of the Bible be trusted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1523880"/>
            <a:ext cx="647712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extual 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2514600"/>
            <a:ext cx="1447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514600"/>
            <a:ext cx="1447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60216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581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419112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19112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581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3581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2624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948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5674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60246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60246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02200" y="495792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57150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7196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28800" y="1600200"/>
            <a:ext cx="26668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1600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600200"/>
            <a:ext cx="266724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914400"/>
            <a:ext cx="5257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riginal Manuscri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320" y="3124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1240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62120" y="4114800"/>
            <a:ext cx="30456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114800"/>
            <a:ext cx="6858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411480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809880" y="3124080"/>
            <a:ext cx="60984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1240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476760" y="312408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3048120"/>
            <a:ext cx="7617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2514600"/>
            <a:ext cx="1447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114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86240" y="4114800"/>
            <a:ext cx="7621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4114800"/>
            <a:ext cx="457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19720" y="4724280"/>
            <a:ext cx="8380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724280"/>
            <a:ext cx="45720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3822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holarly work with available manuscripts aimed at the recovery within the limits of possibility of the original text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0" y="1371600"/>
            <a:ext cx="464328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ual Critic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oks at outside factors of the book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3276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rote the bo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as it writ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outside factors influenced its wri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as the book writ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62320" y="762120"/>
            <a:ext cx="464328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er Critic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so known as “Textual Criticism”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3047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passage s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s all available manu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en’s Hexapla did such a study of the Old Testament in 250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62320" y="762120"/>
            <a:ext cx="464328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wer Critic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there is now no condemnation for those who are in Christ Jesus (NAS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00400" y="380880"/>
            <a:ext cx="302904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mans 8: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429000"/>
            <a:ext cx="822960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now no condemnation to them which are in Christ Jesus, who walk not after the flesh, but after the Spirit (KJ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2590920" cy="3048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nintentional Erro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71800" y="914040"/>
            <a:ext cx="5867280" cy="3048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ulty Eye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962520"/>
            <a:ext cx="2590920" cy="2819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ntion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28600"/>
            <a:ext cx="716292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Textual Alter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539720"/>
            <a:ext cx="464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 (</a:t>
            </a:r>
            <a:r>
              <a:rPr b="0" lang="en-US" sz="3200" spc="-1" strike="noStrike">
                <a:solidFill>
                  <a:srgbClr val="ccffff"/>
                </a:solidFill>
                <a:latin typeface="Bwgrkn"/>
              </a:rPr>
              <a:t>Qeoj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) was manifest in the fl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(</a:t>
            </a:r>
            <a:r>
              <a:rPr b="0" lang="en-US" sz="3200" spc="-1" strike="noStrike">
                <a:solidFill>
                  <a:srgbClr val="ccffff"/>
                </a:solidFill>
                <a:latin typeface="Bwgrkn"/>
              </a:rPr>
              <a:t>Oj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) was manifest in the fl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2590920" cy="3048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nintentional Erro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71800" y="914040"/>
            <a:ext cx="5867280" cy="3048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ulty Eye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ulty H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962520"/>
            <a:ext cx="2590920" cy="2819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ntion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28600"/>
            <a:ext cx="7162920" cy="74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Textual Alter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438948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rk 14: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struck (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elabon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received (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eballon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6-01T21:51:47Z</dcterms:modified>
  <cp:revision>315</cp:revision>
  <dc:subject>Biblical Interpretation</dc:subject>
  <dc:title>Biblical Interpretation</dc:title>
</cp:coreProperties>
</file>