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70C-46B5-4574-8E01-FADC4ADE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815-7960-4F60-90CE-872713FB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6F3-45D0-4081-9CD8-A2367F96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ED0-A133-4B04-9631-1D6EF98D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B44-B916-45CC-B353-5704F5CB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2D8-7BEC-4C42-A2E6-F433270E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706-9A98-471C-9C06-4FD0D0DF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082-15C6-4EFC-8EF1-A107CA26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3CF-AC8E-4EAA-B92C-6334B060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757-2972-41E9-9287-1A0F5BD5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E07-F54A-4E3E-B6ED-4909202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E43-BFFF-4E87-9272-8C77A2A1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9F90-3053-4CD2-ACF7-85C8EB9019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86120" y="62625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3400" y="2057400"/>
            <a:ext cx="73198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We Got Our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el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240" y="1951200"/>
            <a:ext cx="71629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o-Orthodoxy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cal Dictation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7621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 Theories of 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876840"/>
            <a:ext cx="670572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oses wrote down all the words of the LORD (Exodus 24: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240" y="1951200"/>
            <a:ext cx="71629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o-Orthodoxy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cal Dictation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7621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 Theories of 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809880"/>
            <a:ext cx="777240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said to Moses, “Write down these words, for in accordance with these words I have made a covenant with you and with Israel.” (Exodus 34:2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1951200"/>
            <a:ext cx="71629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o-Orthodoxy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cal Dictation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7621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 Theories of 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429000"/>
            <a:ext cx="6705720" cy="3018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answered me and sai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the 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scrib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ablet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 one who reads it may run.” (Habakkuk 2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71240" y="1951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o-Orthodoxy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cal Dictation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ynamic Inspiration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7621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 Theories of 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10280" y="5486400"/>
            <a:ext cx="1676520" cy="892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67080" y="4572000"/>
            <a:ext cx="1371600" cy="18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 rot="516000">
            <a:off x="3288960" y="5231880"/>
            <a:ext cx="4114800" cy="381240"/>
          </a:xfrm>
          <a:prstGeom prst="rightArrow">
            <a:avLst>
              <a:gd name="adj1" fmla="val 36667"/>
              <a:gd name="adj2" fmla="val 195177"/>
            </a:avLst>
          </a:prstGeom>
          <a:gradFill rotWithShape="0">
            <a:gsLst>
              <a:gs pos="0">
                <a:srgbClr val="ffe701">
                  <a:alpha val="0"/>
                </a:srgbClr>
              </a:gs>
              <a:gs pos="100000">
                <a:srgbClr val="756a00"/>
              </a:gs>
            </a:gsLst>
            <a:lin ang="1028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809880"/>
            <a:ext cx="2895480" cy="25146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e701"/>
              </a:gs>
              <a:gs pos="100000">
                <a:srgbClr val="756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81080" y="4724280"/>
            <a:ext cx="9144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1240" y="1951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o-Orthodoxy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cal Dictation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ynamic Inspiration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mited Inspi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7621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 Theories of 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5003640"/>
            <a:ext cx="3124080" cy="1312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demptive Truth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913280"/>
            <a:ext cx="251460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cientific &amp; Historical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410080"/>
            <a:ext cx="1752480" cy="609840"/>
          </a:xfrm>
          <a:prstGeom prst="leftRightArrow">
            <a:avLst>
              <a:gd name="adj1" fmla="val 50000"/>
              <a:gd name="adj2" fmla="val 57207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43000" y="2590920"/>
            <a:ext cx="701532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bal Plenary 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ruly I say to you, until heaven and earth pass away, not the smallest letter or stroke shall pass from the Law until all is accomplished. (Matthew 5:18).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581640" cy="26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e answered and said, “It is written, ‘Man shall not live on bread alone, but on every word that proceeds out of the mouth of God.’” (Matthew 4: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fallible:  Incapable of err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2004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errancy:  Does not contain err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fallibility &amp; Inerrancy do not deman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ict utilization of the rules of gram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gidly literalist interpr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chnical language of modern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preciseness in quo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rehensive accounting of all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ripture is inspired by God and profitable for teaching, for reproof, for correction, for training in righteousnes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at the man of God may be adequate, equipped for every good work. (2 Timothy 3:16-1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581640" cy="26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fallibility &amp; Inerrancy do not deman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fallibility or inerrancy of non-inspired sources used by the Biblical wri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o the married I give instructions, not I, but the Lord, that the wife should not leave her husb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but if she does leave, she must remain unmarried, or else be reconciled to her husband), and that the husband should not divorce his wif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 Corinthians 7:10-1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4572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errancy Issu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o the rest I say, not the Lord, that if any brother has a wife who is an unbeliever, and she consents to live with him, he must not divorce he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 woman who has an unbelieving husband, and he consents to live with her, she must not send her husband away. (1 Corinthians 7:12-1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4572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errancy Issu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4572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errancy Issu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14600" y="2819520"/>
            <a:ext cx="4486320" cy="815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recise Quot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4572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errancy Issu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0" y="1447920"/>
            <a:ext cx="4486320" cy="815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flicting Repor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057040" y="289548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alogy of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ing of the Dis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of the Sermon on the 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cription on the cross of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4572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errancy Issu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0" y="1447920"/>
            <a:ext cx="4486320" cy="815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flicting Repor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8954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lways the same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ical versus chronological 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otes made from different langu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nt of statement rather than exact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23920" y="2742840"/>
            <a:ext cx="3962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or noble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95480" y="457200"/>
            <a:ext cx="371016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52680" y="1447920"/>
            <a:ext cx="268632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it is not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5638680" cy="3548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23920" y="2742840"/>
            <a:ext cx="3962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or noble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eling or beauty or a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95480" y="457200"/>
            <a:ext cx="371016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352680" y="1447920"/>
            <a:ext cx="268632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it is not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7428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 has moved certain men to write in such a way that the result of that writing, the Scriptures, is the very word of God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95480" y="457200"/>
            <a:ext cx="371016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352680" y="1447920"/>
            <a:ext cx="268632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it i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know this first of all, that no prophecy of Scripture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mat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one’s own interpretation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no prophecy was ever made by an act of human will, but men moved by the Holy Spirit spoke from God. (2 Peter 1:20-2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581640" cy="26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1352520" cy="2305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2108400">
            <a:off x="2133360" y="3809880"/>
            <a:ext cx="1981080" cy="381240"/>
          </a:xfrm>
          <a:prstGeom prst="leftArrow">
            <a:avLst>
              <a:gd name="adj1" fmla="val 50000"/>
              <a:gd name="adj2" fmla="val 129910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71840" y="44193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Living Wor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34340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Written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456240" y="1600200"/>
            <a:ext cx="1925640" cy="2874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8560200">
            <a:off x="4876200" y="3885840"/>
            <a:ext cx="1981080" cy="380880"/>
          </a:xfrm>
          <a:prstGeom prst="leftArrow">
            <a:avLst>
              <a:gd name="adj1" fmla="val 50000"/>
              <a:gd name="adj2" fmla="val 130033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008400">
            <a:off x="2285640" y="2743200"/>
            <a:ext cx="1981080" cy="380880"/>
          </a:xfrm>
          <a:prstGeom prst="leftArrow">
            <a:avLst>
              <a:gd name="adj1" fmla="val 50000"/>
              <a:gd name="adj2" fmla="val 130033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1508600">
            <a:off x="4723920" y="2742840"/>
            <a:ext cx="1981440" cy="380880"/>
          </a:xfrm>
          <a:prstGeom prst="leftArrow">
            <a:avLst>
              <a:gd name="adj1" fmla="val 50000"/>
              <a:gd name="adj2" fmla="val 130057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8369000">
            <a:off x="2018880" y="1638000"/>
            <a:ext cx="1981440" cy="380880"/>
          </a:xfrm>
          <a:prstGeom prst="leftArrow">
            <a:avLst>
              <a:gd name="adj1" fmla="val 50000"/>
              <a:gd name="adj2" fmla="val 130057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4049600">
            <a:off x="4991040" y="1638360"/>
            <a:ext cx="1981440" cy="380880"/>
          </a:xfrm>
          <a:prstGeom prst="leftArrow">
            <a:avLst>
              <a:gd name="adj1" fmla="val 50000"/>
              <a:gd name="adj2" fmla="val 130057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loud"/>
          <p:cNvSpPr/>
          <p:nvPr/>
        </p:nvSpPr>
        <p:spPr>
          <a:xfrm>
            <a:off x="2971800" y="228600"/>
            <a:ext cx="2971800" cy="1371600"/>
          </a:xfrm>
          <a:prstGeom prst="pie">
            <a:avLst/>
          </a:prstGeom>
          <a:gradFill rotWithShape="0">
            <a:gsLst>
              <a:gs pos="0">
                <a:srgbClr val="ca2514"/>
              </a:gs>
              <a:gs pos="100000">
                <a:srgbClr val="5d110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33920" y="609480"/>
            <a:ext cx="14857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vi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657600" y="1600200"/>
            <a:ext cx="1600200" cy="153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038480" y="30481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l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6200" y="358128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ri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809880" y="4267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886200" y="556272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m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6200" y="609588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enc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3000" y="5638680"/>
            <a:ext cx="1542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err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686640" y="5562720"/>
            <a:ext cx="154296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inl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41148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el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90640" y="533520"/>
            <a:ext cx="7338960" cy="74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velation versus 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828800"/>
            <a:ext cx="41148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spi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743200"/>
            <a:ext cx="41148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revealed Him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743200"/>
            <a:ext cx="41148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n-breathed the Scrip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86200"/>
            <a:ext cx="411480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s both general as well as special reve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886200"/>
            <a:ext cx="411480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ned to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371240" y="1951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o-Orthodoxy Theory:  God is seen as transcendent so that we cannot receive an accurate revelation of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7621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se Theories of Inspi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495680"/>
            <a:ext cx="3505320" cy="2210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rthodox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Bible is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r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4495680"/>
            <a:ext cx="3733920" cy="2210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Neo-Orthodox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Bible g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itness to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r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81480"/>
            <a:ext cx="990360" cy="685800"/>
          </a:xfrm>
          <a:prstGeom prst="leftRightArrow">
            <a:avLst>
              <a:gd name="adj1" fmla="val 50000"/>
              <a:gd name="adj2" fmla="val 28748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06-02T01:23:43Z</dcterms:modified>
  <cp:revision>314</cp:revision>
  <dc:subject>Biblical Interpretation</dc:subject>
  <dc:title>Biblical Interpretation</dc:title>
</cp:coreProperties>
</file>