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6CB-BA64-4FF5-BEC0-F3A71D05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0C6-50D3-440A-A1D5-A5B35D08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ACC-11DB-4DAA-B131-046830D0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C42-5C05-405C-AE3A-B9B4D5D5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56A-7218-453C-8B8D-75814C0F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2AF-B717-49A3-A860-CB0BD4EE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93D-C1F4-4623-A908-85590CBE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9C7-3BE5-4B01-98A6-1F1F1356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755-021A-429E-B2C3-97B4BE62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4B2-B6A4-4E0C-AF05-65BE76C9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AED-1989-495D-97F9-99201D1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AF4-E596-4DF6-A0B6-300813DE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66B7-F82D-4301-99DF-53C78D7B50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86120" y="62625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3400" y="2057400"/>
            <a:ext cx="73198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We Got Our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77120" y="1676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609480"/>
            <a:ext cx="2362320" cy="1143000"/>
          </a:xfrm>
          <a:custGeom>
            <a:avLst/>
            <a:gdLst>
              <a:gd name="textAreaLeft" fmla="*/ 450720 w 2362320"/>
              <a:gd name="textAreaRight" fmla="*/ 1675440 w 23623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23623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00800" y="380880"/>
            <a:ext cx="201924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ve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477120" y="3962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written book of the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2971800"/>
            <a:ext cx="838440" cy="1066680"/>
          </a:xfrm>
          <a:prstGeom prst="downArrow">
            <a:avLst>
              <a:gd name="adj1" fmla="val 32194"/>
              <a:gd name="adj2" fmla="val 4240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676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609480"/>
            <a:ext cx="2362320" cy="1143000"/>
          </a:xfrm>
          <a:custGeom>
            <a:avLst/>
            <a:gdLst>
              <a:gd name="textAreaLeft" fmla="*/ 450720 w 2362320"/>
              <a:gd name="textAreaRight" fmla="*/ 1675440 w 23623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04920"/>
            <a:ext cx="23623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05520" y="3276720"/>
            <a:ext cx="208584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spi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05320" y="502920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pies made of each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593800">
            <a:off x="5181480" y="4191120"/>
            <a:ext cx="1905120" cy="17524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3510" y="11121"/>
                </a:moveTo>
                <a:arcTo wR="-7297" hR="-7297" stAng="10648723" swAng="-5472266"/>
                <a:lnTo>
                  <a:pt x="10098" y="23"/>
                </a:lnTo>
                <a:arcTo wR="10800" hR="10800" stAng="-5623543" swAng="5472266"/>
                <a:lnTo>
                  <a:pt x="24287" y="10206"/>
                </a:lnTo>
                <a:lnTo>
                  <a:pt x="20036" y="14849"/>
                </a:lnTo>
                <a:lnTo>
                  <a:pt x="15393" y="1059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962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written book of the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2971800"/>
            <a:ext cx="838440" cy="1066680"/>
          </a:xfrm>
          <a:prstGeom prst="downArrow">
            <a:avLst>
              <a:gd name="adj1" fmla="val 32194"/>
              <a:gd name="adj2" fmla="val 4240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1676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09480"/>
            <a:ext cx="2362320" cy="1143000"/>
          </a:xfrm>
          <a:custGeom>
            <a:avLst/>
            <a:gdLst>
              <a:gd name="textAreaLeft" fmla="*/ 450720 w 2362320"/>
              <a:gd name="textAreaRight" fmla="*/ 1675440 w 23623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4920"/>
            <a:ext cx="23623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00400" y="4114800"/>
            <a:ext cx="319104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xtual Critic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4114800"/>
            <a:ext cx="236232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ach book recognized as being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7362600">
            <a:off x="2514600" y="4191120"/>
            <a:ext cx="1905120" cy="17524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3510" y="11121"/>
                </a:moveTo>
                <a:arcTo wR="-7297" hR="-7297" stAng="10648723" swAng="-5472266"/>
                <a:lnTo>
                  <a:pt x="10098" y="23"/>
                </a:lnTo>
                <a:arcTo wR="10800" hR="10800" stAng="-5623543" swAng="5472266"/>
                <a:lnTo>
                  <a:pt x="24287" y="10206"/>
                </a:lnTo>
                <a:lnTo>
                  <a:pt x="20036" y="14849"/>
                </a:lnTo>
                <a:lnTo>
                  <a:pt x="15393" y="1059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502920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pies made of each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593800">
            <a:off x="5181480" y="4191120"/>
            <a:ext cx="1905120" cy="17524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3510" y="11121"/>
                </a:moveTo>
                <a:arcTo wR="-7297" hR="-7297" stAng="10648723" swAng="-5472266"/>
                <a:lnTo>
                  <a:pt x="10098" y="23"/>
                </a:lnTo>
                <a:arcTo wR="10800" hR="10800" stAng="-5623543" swAng="5472266"/>
                <a:lnTo>
                  <a:pt x="24287" y="10206"/>
                </a:lnTo>
                <a:lnTo>
                  <a:pt x="20036" y="14849"/>
                </a:lnTo>
                <a:lnTo>
                  <a:pt x="15393" y="1059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3962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written book of the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971800"/>
            <a:ext cx="838440" cy="1066680"/>
          </a:xfrm>
          <a:prstGeom prst="downArrow">
            <a:avLst>
              <a:gd name="adj1" fmla="val 32194"/>
              <a:gd name="adj2" fmla="val 4240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1676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609480"/>
            <a:ext cx="2362320" cy="1143000"/>
          </a:xfrm>
          <a:custGeom>
            <a:avLst/>
            <a:gdLst>
              <a:gd name="textAreaLeft" fmla="*/ 450720 w 2362320"/>
              <a:gd name="textAreaRight" fmla="*/ 1675440 w 23623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304920"/>
            <a:ext cx="23623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19520" y="4419720"/>
            <a:ext cx="202860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noni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1828800"/>
            <a:ext cx="23623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collections trans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371600" y="3309840"/>
            <a:ext cx="838080" cy="1067040"/>
          </a:xfrm>
          <a:prstGeom prst="downArrow">
            <a:avLst>
              <a:gd name="adj1" fmla="val 32194"/>
              <a:gd name="adj2" fmla="val 42440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4114800"/>
            <a:ext cx="236232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ach book recognized as being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7362600">
            <a:off x="2514600" y="4191120"/>
            <a:ext cx="1905120" cy="17524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3510" y="11121"/>
                </a:moveTo>
                <a:arcTo wR="-7297" hR="-7297" stAng="10648723" swAng="-5472266"/>
                <a:lnTo>
                  <a:pt x="10098" y="23"/>
                </a:lnTo>
                <a:arcTo wR="10800" hR="10800" stAng="-5623543" swAng="5472266"/>
                <a:lnTo>
                  <a:pt x="24287" y="10206"/>
                </a:lnTo>
                <a:lnTo>
                  <a:pt x="20036" y="14849"/>
                </a:lnTo>
                <a:lnTo>
                  <a:pt x="15393" y="1059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502920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pies made of each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593800">
            <a:off x="5181480" y="4191120"/>
            <a:ext cx="1905120" cy="17524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3510" y="11121"/>
                </a:moveTo>
                <a:arcTo wR="-7297" hR="-7297" stAng="10648723" swAng="-5472266"/>
                <a:lnTo>
                  <a:pt x="10098" y="23"/>
                </a:lnTo>
                <a:arcTo wR="10800" hR="10800" stAng="-5623543" swAng="5472266"/>
                <a:lnTo>
                  <a:pt x="24287" y="10206"/>
                </a:lnTo>
                <a:lnTo>
                  <a:pt x="20036" y="14849"/>
                </a:lnTo>
                <a:lnTo>
                  <a:pt x="15393" y="1059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962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written book of the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2971800"/>
            <a:ext cx="838440" cy="1066680"/>
          </a:xfrm>
          <a:prstGeom prst="downArrow">
            <a:avLst>
              <a:gd name="adj1" fmla="val 32194"/>
              <a:gd name="adj2" fmla="val 4240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676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609480"/>
            <a:ext cx="2362320" cy="1143000"/>
          </a:xfrm>
          <a:custGeom>
            <a:avLst/>
            <a:gdLst>
              <a:gd name="textAreaLeft" fmla="*/ 450720 w 2362320"/>
              <a:gd name="textAreaRight" fmla="*/ 1675440 w 23623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304920"/>
            <a:ext cx="23623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62320" y="3200400"/>
            <a:ext cx="215244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ans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2057400" cy="1095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2057400"/>
            <a:ext cx="2361960" cy="1143000"/>
          </a:xfrm>
          <a:custGeom>
            <a:avLst/>
            <a:gdLst>
              <a:gd name="textAreaLeft" fmla="*/ 450720 w 2361960"/>
              <a:gd name="textAreaRight" fmla="*/ 1675080 w 23619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828800"/>
            <a:ext cx="23623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collections trans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1371600" y="3309840"/>
            <a:ext cx="838080" cy="1067040"/>
          </a:xfrm>
          <a:prstGeom prst="downArrow">
            <a:avLst>
              <a:gd name="adj1" fmla="val 32194"/>
              <a:gd name="adj2" fmla="val 42440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114800"/>
            <a:ext cx="236232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ach book recognized as being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7362600">
            <a:off x="2514600" y="4191120"/>
            <a:ext cx="1905120" cy="17524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3510" y="11121"/>
                </a:moveTo>
                <a:arcTo wR="-7297" hR="-7297" stAng="10648723" swAng="-5472266"/>
                <a:lnTo>
                  <a:pt x="10098" y="23"/>
                </a:lnTo>
                <a:arcTo wR="10800" hR="10800" stAng="-5623543" swAng="5472266"/>
                <a:lnTo>
                  <a:pt x="24287" y="10206"/>
                </a:lnTo>
                <a:lnTo>
                  <a:pt x="20036" y="14849"/>
                </a:lnTo>
                <a:lnTo>
                  <a:pt x="15393" y="1059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502920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pies made of each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593800">
            <a:off x="5181480" y="4191120"/>
            <a:ext cx="1905120" cy="17524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3510" y="11121"/>
                </a:moveTo>
                <a:arcTo wR="-7297" hR="-7297" stAng="10648723" swAng="-5472266"/>
                <a:lnTo>
                  <a:pt x="10098" y="23"/>
                </a:lnTo>
                <a:arcTo wR="10800" hR="10800" stAng="-5623543" swAng="5472266"/>
                <a:lnTo>
                  <a:pt x="24287" y="10206"/>
                </a:lnTo>
                <a:lnTo>
                  <a:pt x="20036" y="14849"/>
                </a:lnTo>
                <a:lnTo>
                  <a:pt x="15393" y="1059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3962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written book of the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2971800"/>
            <a:ext cx="838440" cy="1066680"/>
          </a:xfrm>
          <a:prstGeom prst="downArrow">
            <a:avLst>
              <a:gd name="adj1" fmla="val 32194"/>
              <a:gd name="adj2" fmla="val 4240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16765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609480"/>
            <a:ext cx="2362320" cy="1143000"/>
          </a:xfrm>
          <a:custGeom>
            <a:avLst/>
            <a:gdLst>
              <a:gd name="textAreaLeft" fmla="*/ 450720 w 2362320"/>
              <a:gd name="textAreaRight" fmla="*/ 1675440 w 23623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04920"/>
            <a:ext cx="23623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33920" y="5638680"/>
            <a:ext cx="20574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4668600">
            <a:off x="2329560" y="4831920"/>
            <a:ext cx="1981080" cy="1154160"/>
          </a:xfrm>
          <a:custGeom>
            <a:avLst/>
            <a:gdLst>
              <a:gd name="textAreaLeft" fmla="*/ 378000 w 1981080"/>
              <a:gd name="textAreaRight" fmla="*/ 1405080 w 1981080"/>
              <a:gd name="textAreaTop" fmla="*/ 154440 h 1154160"/>
              <a:gd name="textAreaBottom" fmla="*/ 999720 h 1154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191120"/>
            <a:ext cx="27432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terpr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3124080"/>
            <a:ext cx="20574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057400"/>
            <a:ext cx="2819160" cy="1143000"/>
          </a:xfrm>
          <a:custGeom>
            <a:avLst/>
            <a:gdLst>
              <a:gd name="textAreaLeft" fmla="*/ 537840 w 2819160"/>
              <a:gd name="textAreaRight" fmla="*/ 1999440 w 2819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197" y="0"/>
                </a:lnTo>
                <a:arcTo wR="8244" hR="21600" stAng="-5400000" swAng="2831284"/>
                <a:lnTo>
                  <a:pt x="21129" y="14400"/>
                </a:lnTo>
                <a:lnTo>
                  <a:pt x="17964" y="21600"/>
                </a:lnTo>
                <a:lnTo>
                  <a:pt x="13856" y="14400"/>
                </a:lnTo>
                <a:lnTo>
                  <a:pt x="16016" y="14400"/>
                </a:lnTo>
                <a:arcTo wR="8244" hR="21600" stAng="-2568716" swAng="-2592813"/>
                <a:lnTo>
                  <a:pt x="9720" y="349"/>
                </a:lnTo>
                <a:arcTo wR="8244" hR="21600" stAng="-5638472" swAng="-5161528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38472"/>
                <a:lnTo>
                  <a:pt x="9720" y="349"/>
                </a:lnTo>
                <a:arcTo wR="8244" hR="21600" stAng="-5638472" swAng="-5161528"/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2057400" cy="1095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5593800">
            <a:off x="5333400" y="2838240"/>
            <a:ext cx="1905120" cy="175284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3510" y="11121"/>
                </a:moveTo>
                <a:arcTo wR="-7297" hR="-7297" stAng="10648723" swAng="-5472266"/>
                <a:lnTo>
                  <a:pt x="10098" y="23"/>
                </a:lnTo>
                <a:arcTo wR="10800" hR="10800" stAng="-5623543" swAng="5472266"/>
                <a:lnTo>
                  <a:pt x="24287" y="10206"/>
                </a:lnTo>
                <a:lnTo>
                  <a:pt x="20036" y="14849"/>
                </a:lnTo>
                <a:lnTo>
                  <a:pt x="15393" y="1059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77120" y="4038480"/>
            <a:ext cx="230508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llumin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43600" y="5105520"/>
            <a:ext cx="259092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ermeneu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33920" y="5638680"/>
            <a:ext cx="20574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1676520"/>
            <a:ext cx="533160" cy="4038480"/>
          </a:xfrm>
          <a:prstGeom prst="downArrow">
            <a:avLst>
              <a:gd name="adj1" fmla="val 50000"/>
              <a:gd name="adj2" fmla="val 131013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2057400" cy="1095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05320" y="304920"/>
            <a:ext cx="236196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thought in the min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06-04T15:53:21Z</dcterms:modified>
  <cp:revision>311</cp:revision>
  <dc:subject>Biblical Interpretation</dc:subject>
  <dc:title>Biblical Interpretation</dc:title>
</cp:coreProperties>
</file>