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83ED-32EB-4C98-86DC-7169859F7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4EB8-37EE-4A71-AC6A-166E067F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D28B-6AA3-4179-8EB7-0658A739B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E3CE-667F-49E9-BC6B-59A40EE45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8941-FB5E-4BFB-A9F6-6F78854A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9699-9B0E-4DD4-B61E-B8238BBA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D5AA-F01C-4E60-B7DD-ED912B24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4115-78F0-40A3-9C15-160A5F47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BB7C-7DDD-45DB-91C3-5D0004D1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43EF-A910-4891-A89B-5069EE53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275F-8F18-4FE8-A14D-AEC385E5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A4F8-272D-4C63-96FE-253DA6AB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D337-4189-4225-9F94-C535C6E6E7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Caesarea2007-m 0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2895480" y="519588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18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1828800" y="2610000"/>
            <a:ext cx="564372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Book of Act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523880" y="367200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fense before Feli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1523880" y="435780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ts 24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Caesarea02"/>
          <p:cNvPicPr/>
          <p:nvPr/>
        </p:nvPicPr>
        <p:blipFill>
          <a:blip r:embed="rId1"/>
          <a:stretch/>
        </p:blipFill>
        <p:spPr>
          <a:xfrm>
            <a:off x="0" y="0"/>
            <a:ext cx="9144000" cy="6778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Caesarea Dock 2007-m 0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CaesareaDSCF22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CaesareaDSCF22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Caesarea Palace2007-m 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266720" y="1599840"/>
            <a:ext cx="4419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urator from 52-58 A.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ek freed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ephus calls him Claudius Felix (Antiquities 10:7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ried Drusilla, 16 year old daughter of Herod Agrippa 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WordArt 10"/>
          <p:cNvSpPr txBox="1"/>
          <p:nvPr/>
        </p:nvSpPr>
        <p:spPr>
          <a:xfrm>
            <a:off x="457200" y="465120"/>
            <a:ext cx="807732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rcus Antonius Felix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5" name="Picture 3" descr="C:\Users\Owner\Desktop\herod-agrippa-ch2182.jpg"/>
          <p:cNvPicPr/>
          <p:nvPr/>
        </p:nvPicPr>
        <p:blipFill>
          <a:blip r:embed="rId3"/>
          <a:stretch/>
        </p:blipFill>
        <p:spPr>
          <a:xfrm>
            <a:off x="824040" y="1752480"/>
            <a:ext cx="3112920" cy="3103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Acts 24:1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90720" y="1219320"/>
            <a:ext cx="71625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five days the high priest Ananias came down with some elders, with an attorney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am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tullus, and they brought charges to the governor against Pau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4"/>
          <p:cNvSpPr/>
          <p:nvPr/>
        </p:nvSpPr>
        <p:spPr>
          <a:xfrm>
            <a:off x="1066680" y="106668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6"/>
          <p:cNvSpPr/>
          <p:nvPr/>
        </p:nvSpPr>
        <p:spPr>
          <a:xfrm>
            <a:off x="998640" y="1781280"/>
            <a:ext cx="15922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00"/>
              </a:gs>
              <a:gs pos="100000">
                <a:srgbClr val="18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440" y="4191120"/>
            <a:ext cx="8001000" cy="2239920"/>
          </a:xfrm>
          <a:prstGeom prst="rect">
            <a:avLst/>
          </a:prstGeom>
          <a:gradFill rotWithShape="0">
            <a:gsLst>
              <a:gs pos="0">
                <a:srgbClr val="004545"/>
              </a:gs>
              <a:gs pos="100000">
                <a:srgbClr val="007b7b"/>
              </a:gs>
            </a:gsLst>
            <a:lin ang="16200000"/>
          </a:gra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d become high priest after the murder of Jonathan, the former high pri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ephus claims the murder had been instigated by Fel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Acts 24:1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990720" y="1219320"/>
            <a:ext cx="71625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five days the high priest Ananias came down with some elders, with an attorney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am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tullus, and they brought charges to the governor against Paul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Line 4"/>
          <p:cNvSpPr/>
          <p:nvPr/>
        </p:nvSpPr>
        <p:spPr>
          <a:xfrm>
            <a:off x="1066680" y="106668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6"/>
          <p:cNvSpPr/>
          <p:nvPr/>
        </p:nvSpPr>
        <p:spPr>
          <a:xfrm>
            <a:off x="1828800" y="2254320"/>
            <a:ext cx="2286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00"/>
              </a:gs>
              <a:gs pos="100000">
                <a:srgbClr val="18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Acts 24:1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990720" y="1219320"/>
            <a:ext cx="71625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five days the high priest Ananias came down with some elders, with an attorney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am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tullus, and they brought charges to the governor against Paul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Line 4"/>
          <p:cNvSpPr/>
          <p:nvPr/>
        </p:nvSpPr>
        <p:spPr>
          <a:xfrm>
            <a:off x="1066680" y="106668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8" name="Group 7"/>
          <p:cNvGrpSpPr/>
          <p:nvPr/>
        </p:nvGrpSpPr>
        <p:grpSpPr>
          <a:xfrm>
            <a:off x="1523880" y="4495680"/>
            <a:ext cx="2438640" cy="677880"/>
            <a:chOff x="1523880" y="4495680"/>
            <a:chExt cx="2438640" cy="677880"/>
          </a:xfrm>
        </p:grpSpPr>
        <p:sp>
          <p:nvSpPr>
            <p:cNvPr id="79" name="AutoShape 6"/>
            <p:cNvSpPr/>
            <p:nvPr/>
          </p:nvSpPr>
          <p:spPr>
            <a:xfrm>
              <a:off x="1692000" y="4527000"/>
              <a:ext cx="2057760" cy="646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6600"/>
                </a:gs>
                <a:gs pos="100000">
                  <a:srgbClr val="182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80" name="TextBox 5"/>
            <p:cNvSpPr/>
            <p:nvPr/>
          </p:nvSpPr>
          <p:spPr>
            <a:xfrm>
              <a:off x="1523880" y="4495680"/>
              <a:ext cx="2438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3600" spc="-1" strike="noStrike">
                  <a:solidFill>
                    <a:srgbClr val="ccffff"/>
                  </a:solidFill>
                  <a:latin typeface="Arial"/>
                </a:rPr>
                <a:t>ῥήτορος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81" name="TextBox 9"/>
          <p:cNvSpPr/>
          <p:nvPr/>
        </p:nvSpPr>
        <p:spPr>
          <a:xfrm>
            <a:off x="3657600" y="453564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ffff"/>
                </a:solidFill>
                <a:latin typeface="Arial"/>
              </a:rPr>
              <a:t>- rhetoro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Acts 24:2-3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90720" y="1219320"/>
            <a:ext cx="71625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aul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d been summoned, Tertullus began to accuse him, saying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 the govern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“Since we have through you attained much peace, and since by your providence reforms are being carried out for this nation,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e acknowledg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i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every way and everywhere, most excellent Felix, with all thankfulness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4"/>
          <p:cNvSpPr/>
          <p:nvPr/>
        </p:nvSpPr>
        <p:spPr>
          <a:xfrm>
            <a:off x="1066680" y="106668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WordArt 9"/>
          <p:cNvSpPr txBox="1"/>
          <p:nvPr/>
        </p:nvSpPr>
        <p:spPr>
          <a:xfrm>
            <a:off x="152280" y="228600"/>
            <a:ext cx="2362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ertullu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opy of Ancient World"/>
          <p:cNvPicPr/>
          <p:nvPr/>
        </p:nvPicPr>
        <p:blipFill>
          <a:blip r:embed="rId1"/>
          <a:stretch/>
        </p:blipFill>
        <p:spPr>
          <a:xfrm>
            <a:off x="0" y="0"/>
            <a:ext cx="9144000" cy="70689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5410080" y="4267080"/>
            <a:ext cx="990720" cy="68580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Acts 24:4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90720" y="1219320"/>
            <a:ext cx="71625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, that I may not weary you any further, I beg you to grant us, by your kindness, a brief hearing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066680" y="106668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WordArt 9"/>
          <p:cNvSpPr txBox="1"/>
          <p:nvPr/>
        </p:nvSpPr>
        <p:spPr>
          <a:xfrm>
            <a:off x="152280" y="228600"/>
            <a:ext cx="2362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ertullu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6"/>
          <p:cNvSpPr/>
          <p:nvPr/>
        </p:nvSpPr>
        <p:spPr>
          <a:xfrm>
            <a:off x="958680" y="1784520"/>
            <a:ext cx="1143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00"/>
              </a:gs>
              <a:gs pos="100000">
                <a:srgbClr val="18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Acts 24:5-6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90720" y="1219320"/>
            <a:ext cx="71625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we have found this man a real pest and a fellow who stirs up dissension among all the Jews throughout the world, and a ringleader of the sect of the Nazarenes.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he even tried to desecrate the temple; and then we arrested him.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e wanted to judge him according to our own Law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1066680" y="106668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WordArt 9"/>
          <p:cNvSpPr txBox="1"/>
          <p:nvPr/>
        </p:nvSpPr>
        <p:spPr>
          <a:xfrm>
            <a:off x="152280" y="228600"/>
            <a:ext cx="2362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ertullu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95" name="Group 3"/>
          <p:cNvGrpSpPr/>
          <p:nvPr/>
        </p:nvGrpSpPr>
        <p:grpSpPr>
          <a:xfrm>
            <a:off x="3098880" y="5398920"/>
            <a:ext cx="4495680" cy="648000"/>
            <a:chOff x="3098880" y="5398920"/>
            <a:chExt cx="4495680" cy="648000"/>
          </a:xfrm>
        </p:grpSpPr>
        <p:sp>
          <p:nvSpPr>
            <p:cNvPr id="96" name="AutoShape 6"/>
            <p:cNvSpPr/>
            <p:nvPr/>
          </p:nvSpPr>
          <p:spPr>
            <a:xfrm>
              <a:off x="3264120" y="5406480"/>
              <a:ext cx="4267080" cy="640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6600"/>
                </a:gs>
                <a:gs pos="100000">
                  <a:srgbClr val="182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97" name="TextBox 1"/>
            <p:cNvSpPr/>
            <p:nvPr/>
          </p:nvSpPr>
          <p:spPr>
            <a:xfrm>
              <a:off x="3098880" y="539892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3600" spc="-1" strike="noStrike">
                  <a:solidFill>
                    <a:srgbClr val="ccffff"/>
                  </a:solidFill>
                  <a:latin typeface="Arial"/>
                </a:rPr>
                <a:t>λοιμός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98" name="TextBox 2"/>
            <p:cNvSpPr/>
            <p:nvPr/>
          </p:nvSpPr>
          <p:spPr>
            <a:xfrm>
              <a:off x="4851360" y="5398920"/>
              <a:ext cx="2743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“</a:t>
              </a:r>
              <a:r>
                <a:rPr b="0" lang="en-US" sz="3600" spc="-1" strike="noStrike">
                  <a:solidFill>
                    <a:srgbClr val="ccffff"/>
                  </a:solidFill>
                  <a:latin typeface="Arial"/>
                </a:rPr>
                <a:t>pestilence”</a:t>
              </a: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99" name="TextBox 4"/>
          <p:cNvSpPr/>
          <p:nvPr/>
        </p:nvSpPr>
        <p:spPr>
          <a:xfrm>
            <a:off x="3352680" y="60199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Luke 21:11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Acts 24:7-8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90720" y="1219320"/>
            <a:ext cx="71625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Lysias the commander came along, and with much violence took him out of our hands,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dering his accusers to come before you. By examining him yourself concerning all these matters you will be able to ascertain the things of which we accuse him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1066680" y="106668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WordArt 9"/>
          <p:cNvSpPr txBox="1"/>
          <p:nvPr/>
        </p:nvSpPr>
        <p:spPr>
          <a:xfrm>
            <a:off x="152280" y="228600"/>
            <a:ext cx="2362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ertullu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Acts 24:9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90720" y="1219320"/>
            <a:ext cx="71625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Jews also joined in the attack, asserting that these things were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4"/>
          <p:cNvSpPr/>
          <p:nvPr/>
        </p:nvSpPr>
        <p:spPr>
          <a:xfrm>
            <a:off x="1066680" y="106668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Acts 24:10-11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90720" y="1219320"/>
            <a:ext cx="71625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 governor had nodded for him to speak, Paul responded: “Knowing that for many years you have been a judge to this nation, I cheerfully make my defense,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ince you can take note of the fact that no more than twelve days ago I went up to Jerusalem to worship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4"/>
          <p:cNvSpPr/>
          <p:nvPr/>
        </p:nvSpPr>
        <p:spPr>
          <a:xfrm>
            <a:off x="1066680" y="106668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0" name="WordArt 9"/>
          <p:cNvSpPr txBox="1"/>
          <p:nvPr/>
        </p:nvSpPr>
        <p:spPr>
          <a:xfrm>
            <a:off x="152280" y="228600"/>
            <a:ext cx="19051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aul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Acts 24:12-13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90720" y="1219320"/>
            <a:ext cx="71625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ither in the temple, nor in the synagogues, nor in the city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self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they find me carrying on a discussion with anyone or causing a riot.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or can they prove to you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charg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which they now accuse m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66680" y="106668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4" name="WordArt 9"/>
          <p:cNvSpPr txBox="1"/>
          <p:nvPr/>
        </p:nvSpPr>
        <p:spPr>
          <a:xfrm>
            <a:off x="152280" y="228600"/>
            <a:ext cx="19051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aul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Acts 24:14-15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990720" y="1219320"/>
            <a:ext cx="71625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is I admit to you, that according to the Way which they call a sect I do serve the God of our fathers, believing everything that is in accordance with the Law and that is written in the Prophets;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aving a hope in God, which these men cherish themselves, that there shall certainly be a resurrection of both the righteous and the wicked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1066680" y="106668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" name="WordArt 9"/>
          <p:cNvSpPr txBox="1"/>
          <p:nvPr/>
        </p:nvSpPr>
        <p:spPr>
          <a:xfrm>
            <a:off x="152280" y="228600"/>
            <a:ext cx="19051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aul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Acts 24:16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990720" y="1219320"/>
            <a:ext cx="71625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view of this, I also do my best to maintain always a blameless conscienc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oth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God and before men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4"/>
          <p:cNvSpPr/>
          <p:nvPr/>
        </p:nvSpPr>
        <p:spPr>
          <a:xfrm>
            <a:off x="1066680" y="106668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2" name="WordArt 9"/>
          <p:cNvSpPr txBox="1"/>
          <p:nvPr/>
        </p:nvSpPr>
        <p:spPr>
          <a:xfrm>
            <a:off x="152280" y="228600"/>
            <a:ext cx="19051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aul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Acts 24:17-19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990720" y="1219320"/>
            <a:ext cx="71625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after several years I came to bring alms to my nation and to present offerings;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which they found m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occupi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temple, having been purified, withou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n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wd or uproar. Bu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re wer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Jews from Asia-- 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o ought to have been present before you and to make accusation, if they should have anything against m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1066680" y="106668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6" name="WordArt 9"/>
          <p:cNvSpPr txBox="1"/>
          <p:nvPr/>
        </p:nvSpPr>
        <p:spPr>
          <a:xfrm>
            <a:off x="152280" y="228600"/>
            <a:ext cx="19051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aul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Acts 24:20-21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990720" y="1219320"/>
            <a:ext cx="71625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else let these men themselves tell what misdeed they found when I stood before the Council,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ther than for this one statement which I shouted out while standing among them, ‘For the resurrection of the dead I am on trial before you today.’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4"/>
          <p:cNvSpPr/>
          <p:nvPr/>
        </p:nvSpPr>
        <p:spPr>
          <a:xfrm>
            <a:off x="1066680" y="106668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WordArt 9"/>
          <p:cNvSpPr txBox="1"/>
          <p:nvPr/>
        </p:nvSpPr>
        <p:spPr>
          <a:xfrm>
            <a:off x="152280" y="228600"/>
            <a:ext cx="19051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aul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Copy of Israel"/>
          <p:cNvPicPr/>
          <p:nvPr/>
        </p:nvPicPr>
        <p:blipFill>
          <a:blip r:embed="rId1"/>
          <a:stretch/>
        </p:blipFill>
        <p:spPr>
          <a:xfrm>
            <a:off x="0" y="0"/>
            <a:ext cx="9144000" cy="7093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580040" y="2133720"/>
            <a:ext cx="18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Caesarea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●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719160" y="3886200"/>
            <a:ext cx="168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Jerusalem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●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993240" y="3292560"/>
            <a:ext cx="258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Joppa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●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(Modern Tel Aviv)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Acts 24:22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990720" y="1219320"/>
            <a:ext cx="71625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Felix, having a more exact knowledge about the Way, put them off, saying, “When Lysias the commander comes down, I will decide your cas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4"/>
          <p:cNvSpPr/>
          <p:nvPr/>
        </p:nvSpPr>
        <p:spPr>
          <a:xfrm>
            <a:off x="1066680" y="106668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Acts 24:23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990720" y="1219320"/>
            <a:ext cx="71625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he gave orders to the centurion for him to be kept in custody 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e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om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edom, and not to prevent any of his friends from ministering to hi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4"/>
          <p:cNvSpPr/>
          <p:nvPr/>
        </p:nvSpPr>
        <p:spPr>
          <a:xfrm>
            <a:off x="1066680" y="106668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Acts 24:24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990720" y="1219320"/>
            <a:ext cx="71625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some days later Felix arrived with Drusilla, his wife who was a Jewess, and sent for Paul and heard him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peak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out faith in Christ Jes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4"/>
          <p:cNvSpPr/>
          <p:nvPr/>
        </p:nvSpPr>
        <p:spPr>
          <a:xfrm>
            <a:off x="1066680" y="106668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743200" y="1676160"/>
            <a:ext cx="5981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ngest daughter of Herod Agrippa 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d after the sister of Calig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had been a child at the death of her fa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ried to Azizus of Eme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ft her husband to marry Felix (she was 16 at the ti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WordArt 10"/>
          <p:cNvSpPr txBox="1"/>
          <p:nvPr/>
        </p:nvSpPr>
        <p:spPr>
          <a:xfrm>
            <a:off x="685800" y="372960"/>
            <a:ext cx="4191120" cy="92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rusilla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2" name="Picture 2" descr="C:\Users\Owner\Desktop\DSCF5497.JPG"/>
          <p:cNvPicPr/>
          <p:nvPr/>
        </p:nvPicPr>
        <p:blipFill>
          <a:blip r:embed="rId3"/>
          <a:stretch/>
        </p:blipFill>
        <p:spPr>
          <a:xfrm>
            <a:off x="685800" y="1676520"/>
            <a:ext cx="2014560" cy="4557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2743200" y="1676160"/>
            <a:ext cx="5981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ed with her son in the eruption of Vesuvius, 79 A.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WordArt 10"/>
          <p:cNvSpPr txBox="1"/>
          <p:nvPr/>
        </p:nvSpPr>
        <p:spPr>
          <a:xfrm>
            <a:off x="685800" y="372960"/>
            <a:ext cx="4191120" cy="92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rusilla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5" name="Picture 2" descr="C:\Users\Owner\Desktop\DSCF5497.JPG"/>
          <p:cNvPicPr/>
          <p:nvPr/>
        </p:nvPicPr>
        <p:blipFill>
          <a:blip r:embed="rId3"/>
          <a:stretch/>
        </p:blipFill>
        <p:spPr>
          <a:xfrm>
            <a:off x="685800" y="1676520"/>
            <a:ext cx="2014560" cy="4557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C:\Users\Owner\Desktop\DSCF5520.JPG"/>
          <p:cNvPicPr/>
          <p:nvPr/>
        </p:nvPicPr>
        <p:blipFill>
          <a:blip r:embed="rId4"/>
          <a:stretch/>
        </p:blipFill>
        <p:spPr>
          <a:xfrm>
            <a:off x="3124080" y="2843280"/>
            <a:ext cx="5105520" cy="3725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Acts 24:25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990720" y="1219320"/>
            <a:ext cx="71625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as he was discussing righteousness, self-control and the judgment to come, Felix became frightened and said, “Go away for the present, and when I find time I will summon you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4"/>
          <p:cNvSpPr/>
          <p:nvPr/>
        </p:nvSpPr>
        <p:spPr>
          <a:xfrm>
            <a:off x="1066680" y="106668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Acts 24:26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90720" y="1219320"/>
            <a:ext cx="71625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same time too, he was hoping that money would be given him by Paul; therefore he also used to send for him quite often and converse with hi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1066680" y="106668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Acts 24:27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990720" y="1219320"/>
            <a:ext cx="71625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after two years had passed, Felix was succeeded by Porcius Festus, and wishing to do the Jews a favor, Felix left Paul imprison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4"/>
          <p:cNvSpPr/>
          <p:nvPr/>
        </p:nvSpPr>
        <p:spPr>
          <a:xfrm>
            <a:off x="1066680" y="1066680"/>
            <a:ext cx="716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Caesarea06"/>
          <p:cNvPicPr/>
          <p:nvPr/>
        </p:nvPicPr>
        <p:blipFill>
          <a:blip r:embed="rId1"/>
          <a:stretch/>
        </p:blipFill>
        <p:spPr>
          <a:xfrm>
            <a:off x="380880" y="533520"/>
            <a:ext cx="8305920" cy="5454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aesarea2007-m 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aesarea Hippodrome2007-m 006"/>
          <p:cNvPicPr/>
          <p:nvPr/>
        </p:nvPicPr>
        <p:blipFill>
          <a:blip r:embed="rId1"/>
          <a:stretch/>
        </p:blipFill>
        <p:spPr>
          <a:xfrm>
            <a:off x="-30240" y="1028880"/>
            <a:ext cx="9204480" cy="4800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aesarea Hippodrome 2007-m 0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Caesarea Palace2007-m 009"/>
          <p:cNvPicPr/>
          <p:nvPr/>
        </p:nvPicPr>
        <p:blipFill>
          <a:blip r:embed="rId1"/>
          <a:stretch/>
        </p:blipFill>
        <p:spPr>
          <a:xfrm>
            <a:off x="0" y="0"/>
            <a:ext cx="91900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aesarea Palace2007-m 0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Windows User</cp:lastModifiedBy>
  <dcterms:modified xsi:type="dcterms:W3CDTF">2018-04-16T14:36:07Z</dcterms:modified>
  <cp:revision>333</cp:revision>
  <dc:subject>Prophets of the Old and New Testament</dc:subject>
  <dc:title>Prophetic Voice</dc:title>
</cp:coreProperties>
</file>