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EA8-F09B-4A4E-AED4-EAE6B89D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E6C-0B52-4664-BB67-7C8E254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EB3-9220-4D1F-80EF-9BF51720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0BB-C44A-4199-BD17-83723523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D6F-CADE-4B75-B916-58B9ACA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9B1-381B-4EBB-96CB-3879A30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89B-67FA-4A16-B974-EDEF30F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D20-F7D1-4AF5-99E3-DE471F89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70E-7E09-4E19-8021-BB65C763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ABE-1385-4B26-AD79-31E0C42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62B-DB49-4ADF-B9AD-AF2166CA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4B7-ACC7-485A-B063-31F68E3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D06C-A613-42D1-9401-FDBB86C85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Owner\Desktop\IM001588.JPG"/>
          <p:cNvPicPr/>
          <p:nvPr/>
        </p:nvPicPr>
        <p:blipFill>
          <a:blip r:embed="rId1"/>
          <a:stretch/>
        </p:blipFill>
        <p:spPr>
          <a:xfrm>
            <a:off x="0" y="0"/>
            <a:ext cx="967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895480" y="48150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828800" y="1695600"/>
            <a:ext cx="56437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 Ac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23880" y="329040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ssalon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523880" y="397656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s 17:1-11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ome of them were persuaded and joined Paul and Silas, along with a great multitude of the God-fearing Greeks and a number of the leading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Jews, becoming jealous and taking along some wicked men from the market place, formed a mob and set the city in an uproar; and coming upon the house of Jason, they were seeking to bring them out to the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: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A: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-7632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6095880" y="18288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3"/>
                </a:solidFill>
                <a:latin typeface="Arial"/>
              </a:rPr>
              <a:t>Troa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505320" y="14479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1" lang="en-US" sz="32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3"/>
                </a:solidFill>
                <a:latin typeface="Arial"/>
              </a:rPr>
              <a:t>Thessalonic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95680" y="838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1" lang="en-US" sz="36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73"/>
                </a:solidFill>
                <a:latin typeface="Arial"/>
              </a:rPr>
              <a:t>Philipp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981080" y="1295280"/>
            <a:ext cx="2057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3"/>
                </a:solidFill>
                <a:latin typeface="Arial"/>
              </a:rPr>
              <a:t>Berea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419720" y="4002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Athen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666880" y="380988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Corin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Freeform 9"/>
          <p:cNvSpPr/>
          <p:nvPr/>
        </p:nvSpPr>
        <p:spPr>
          <a:xfrm rot="838200">
            <a:off x="3086280" y="1555920"/>
            <a:ext cx="496800" cy="371160"/>
          </a:xfrm>
          <a:custGeom>
            <a:avLst/>
            <a:gdLst/>
            <a:ahLst/>
            <a:rect l="l" t="t" r="r" b="b"/>
            <a:pathLst>
              <a:path w="472" h="208">
                <a:moveTo>
                  <a:pt x="472" y="16"/>
                </a:moveTo>
                <a:cubicBezTo>
                  <a:pt x="412" y="8"/>
                  <a:pt x="352" y="0"/>
                  <a:pt x="280" y="16"/>
                </a:cubicBezTo>
                <a:cubicBezTo>
                  <a:pt x="208" y="32"/>
                  <a:pt x="80" y="80"/>
                  <a:pt x="40" y="112"/>
                </a:cubicBezTo>
                <a:cubicBezTo>
                  <a:pt x="0" y="144"/>
                  <a:pt x="20" y="176"/>
                  <a:pt x="40" y="20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10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brethren immediately sent Paul and Silas away by night to Berea; and when they arrived, they went into the synagogue of the J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1143000" y="1219320"/>
            <a:ext cx="7010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:\1.jpg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A: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: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A:\1.jpg"/>
          <p:cNvPicPr/>
          <p:nvPr/>
        </p:nvPicPr>
        <p:blipFill>
          <a:blip r:embed="rId4"/>
          <a:stretch/>
        </p:blipFill>
        <p:spPr>
          <a:xfrm>
            <a:off x="3581280" y="380880"/>
            <a:ext cx="5257800" cy="51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11-1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se were more noble-minded than those in Thessalonica, for they received the word with great eagerness, examining the Scriptures dail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se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these things were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y of them therefore believed, along with a number of prominent Greek women and 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066680" y="1143000"/>
            <a:ext cx="701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7632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095880" y="18288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Troa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971800" y="1411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Thessalonic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43400" y="838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Philipp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057400" y="121932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Bere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19720" y="40784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Athen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666880" y="380844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Corin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Freeform 9"/>
          <p:cNvSpPr/>
          <p:nvPr/>
        </p:nvSpPr>
        <p:spPr>
          <a:xfrm rot="951000">
            <a:off x="3190680" y="1501560"/>
            <a:ext cx="495000" cy="419040"/>
          </a:xfrm>
          <a:custGeom>
            <a:avLst/>
            <a:gdLst/>
            <a:ahLst/>
            <a:rect l="l" t="t" r="r" b="b"/>
            <a:pathLst>
              <a:path w="472" h="208">
                <a:moveTo>
                  <a:pt x="472" y="16"/>
                </a:moveTo>
                <a:cubicBezTo>
                  <a:pt x="412" y="8"/>
                  <a:pt x="352" y="0"/>
                  <a:pt x="280" y="16"/>
                </a:cubicBezTo>
                <a:cubicBezTo>
                  <a:pt x="208" y="32"/>
                  <a:pt x="80" y="80"/>
                  <a:pt x="40" y="112"/>
                </a:cubicBezTo>
                <a:cubicBezTo>
                  <a:pt x="0" y="144"/>
                  <a:pt x="20" y="176"/>
                  <a:pt x="40" y="20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Freeform 11"/>
          <p:cNvSpPr/>
          <p:nvPr/>
        </p:nvSpPr>
        <p:spPr>
          <a:xfrm>
            <a:off x="3276720" y="1981080"/>
            <a:ext cx="1344600" cy="2198880"/>
          </a:xfrm>
          <a:custGeom>
            <a:avLst/>
            <a:gdLst/>
            <a:ahLst/>
            <a:rect l="l" t="t" r="r" b="b"/>
            <a:pathLst>
              <a:path w="847" h="1385">
                <a:moveTo>
                  <a:pt x="0" y="0"/>
                </a:moveTo>
                <a:cubicBezTo>
                  <a:pt x="64" y="20"/>
                  <a:pt x="128" y="40"/>
                  <a:pt x="192" y="96"/>
                </a:cubicBezTo>
                <a:cubicBezTo>
                  <a:pt x="256" y="152"/>
                  <a:pt x="320" y="264"/>
                  <a:pt x="384" y="336"/>
                </a:cubicBezTo>
                <a:cubicBezTo>
                  <a:pt x="448" y="408"/>
                  <a:pt x="536" y="456"/>
                  <a:pt x="576" y="528"/>
                </a:cubicBezTo>
                <a:cubicBezTo>
                  <a:pt x="616" y="600"/>
                  <a:pt x="640" y="720"/>
                  <a:pt x="624" y="768"/>
                </a:cubicBezTo>
                <a:cubicBezTo>
                  <a:pt x="608" y="816"/>
                  <a:pt x="528" y="800"/>
                  <a:pt x="480" y="816"/>
                </a:cubicBezTo>
                <a:cubicBezTo>
                  <a:pt x="432" y="832"/>
                  <a:pt x="384" y="848"/>
                  <a:pt x="336" y="864"/>
                </a:cubicBezTo>
                <a:cubicBezTo>
                  <a:pt x="288" y="880"/>
                  <a:pt x="200" y="896"/>
                  <a:pt x="192" y="912"/>
                </a:cubicBezTo>
                <a:cubicBezTo>
                  <a:pt x="184" y="928"/>
                  <a:pt x="240" y="944"/>
                  <a:pt x="288" y="960"/>
                </a:cubicBezTo>
                <a:cubicBezTo>
                  <a:pt x="336" y="976"/>
                  <a:pt x="420" y="989"/>
                  <a:pt x="480" y="1008"/>
                </a:cubicBezTo>
                <a:cubicBezTo>
                  <a:pt x="540" y="1027"/>
                  <a:pt x="601" y="1046"/>
                  <a:pt x="647" y="1074"/>
                </a:cubicBezTo>
                <a:cubicBezTo>
                  <a:pt x="693" y="1102"/>
                  <a:pt x="726" y="1122"/>
                  <a:pt x="759" y="1174"/>
                </a:cubicBezTo>
                <a:cubicBezTo>
                  <a:pt x="792" y="1226"/>
                  <a:pt x="829" y="1341"/>
                  <a:pt x="847" y="1385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76320" y="0"/>
            <a:ext cx="10591920" cy="6902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095880" y="18288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roa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581280" y="14479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ssalonic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43400" y="838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3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73"/>
                </a:solidFill>
                <a:latin typeface="Arial"/>
              </a:rPr>
              <a:t>Philippi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81080" y="13716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re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419720" y="39625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Wingdings"/>
                <a:ea typeface="Wingdings"/>
              </a:rPr>
              <a:t>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then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743200" y="38862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rin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 rot="595800">
            <a:off x="3773160" y="1144080"/>
            <a:ext cx="947880" cy="544680"/>
          </a:xfrm>
          <a:custGeom>
            <a:avLst/>
            <a:gdLst/>
            <a:ahLst/>
            <a:rect l="l" t="t" r="r" b="b"/>
            <a:pathLst>
              <a:path w="720" h="336">
                <a:moveTo>
                  <a:pt x="720" y="0"/>
                </a:moveTo>
                <a:cubicBezTo>
                  <a:pt x="588" y="20"/>
                  <a:pt x="456" y="40"/>
                  <a:pt x="336" y="96"/>
                </a:cubicBezTo>
                <a:cubicBezTo>
                  <a:pt x="216" y="152"/>
                  <a:pt x="108" y="244"/>
                  <a:pt x="0" y="336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10" descr="A:\1.jpg"/>
          <p:cNvPicPr/>
          <p:nvPr/>
        </p:nvPicPr>
        <p:blipFill>
          <a:blip r:embed="rId2"/>
          <a:stretch/>
        </p:blipFill>
        <p:spPr>
          <a:xfrm>
            <a:off x="506520" y="2455920"/>
            <a:ext cx="5360760" cy="402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: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Photos\Agean\Thessalonica\Looking e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A: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A: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A:\1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69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A: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6705720" y="6019920"/>
            <a:ext cx="2057400" cy="53316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gora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Picture 5" descr="C:\Photos\Agean\Thessalonica\Foru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:\1.jpg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A: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380880" y="6019920"/>
            <a:ext cx="1905120" cy="53316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deum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they had traveled through Amphipolis and Apollonia, they came to Thessalonica, where there was a synagogue of the J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17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ccording to Paul’s custom, he went to them, and for three Sabbaths reasoned with them from the Scriptur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xplaining and giving evidence that the Christ had to suffer and rise again from the dead,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y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“This Jesus whom I am proclaiming to you is the Chris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3-19T04:44:29Z</dcterms:modified>
  <cp:revision>249</cp:revision>
  <dc:subject>Prophets of the Old and New Testament</dc:subject>
  <dc:title>Prophetic Voice</dc:title>
</cp:coreProperties>
</file>