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0D2-B984-4774-A00D-B5A9B08E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8B7-57A2-4391-8DB3-82230EC1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E72-0D46-4216-ACE4-9B3CE761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040-BFC4-4C66-9F41-7FD34AE1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565-62C4-488A-94C7-FB6634E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30E-F1C4-4BC2-BCB6-F9D616E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485-A7D9-48CF-83AE-73C0ABE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369-80A6-47F3-80B6-F7BDFD2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80F-AC93-40AF-A8C7-EC1D18E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9C9-0AE0-4ED7-8A0D-84B69E3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664-A5E4-4288-B39D-96DDFC9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AE6-B09C-4765-A9F1-3B86114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CCB-9360-46CD-AEAD-3EC9E399BB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ublic\Pictures\Pictures\Bible and Ancient History\Israel 2007\Jerusalem\Temple Mount 087.jpg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895480" y="5105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828800" y="2457360"/>
            <a:ext cx="56437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Ac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ations &amp; Replac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447920" y="4267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s 1:12-2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n when Judas, who had betrayed Him, saw that He had been condemned, he felt remorse and returned the thirty pieces of silver to the chief priests and elders,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saying, “I have sinned by betraying innocent blood.” But they said, “What is that to us? See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 to that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ourself!”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he threw the pieces of silver into the temple sanctuary and departed; and he went away and hanged himself. (Mathew 27:3-5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84872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hief priests took the pieces of silver and said, “It is not lawful to put them into the temple treasury, since it is the price of blood.”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they conferred together and with the money bought the Potter's Field as a burial place for strangers. </a:t>
            </a:r>
            <a:r>
              <a:rPr b="0" lang="en-US" sz="3200" spc="-1" strike="noStrike" baseline="30000">
                <a:solidFill>
                  <a:srgbClr val="cc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For this reason that field has been called the Field of Blood to this day. (Mathew 27:6-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Owner\Desktop\Potters Field 2d 026.jpg"/>
          <p:cNvPicPr/>
          <p:nvPr/>
        </p:nvPicPr>
        <p:blipFill>
          <a:blip r:embed="rId1"/>
          <a:stretch/>
        </p:blipFill>
        <p:spPr>
          <a:xfrm>
            <a:off x="193680" y="1447920"/>
            <a:ext cx="879948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2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38080" y="9907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written in the book of Psalms, ‘Let his homestead be made desolate, and let no one dwell in it’, and, ‘Let another man take his office.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95280" y="3733920"/>
          <a:ext cx="6553440" cy="2209680"/>
        </p:xfrm>
        <a:graphic>
          <a:graphicData uri="http://schemas.openxmlformats.org/drawingml/2006/table">
            <a:tbl>
              <a:tblPr/>
              <a:tblGrid>
                <a:gridCol w="3276720"/>
                <a:gridCol w="327672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alm 69:2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alm 109: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their camp be desolate;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none dwell in their tents.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 his days be few;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 another take his office.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21-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t is necessary that of the men who have accompanied us all the time that the Lord Jesus went in and out among 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ginning with the baptism of John until the day that He was taken up from 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e of these must become a witness with us of His resurrectio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23-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y put forward two men, Joseph called Barsabbas (who was also called Justus), and Matth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y prayed and said, “You, Lord, who know the hearts of all men, show which one of these two You have chosen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occupy this ministry and apostleship from which Judas turned aside to go to his own pla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y drew lots for them, and the lot fell to Matthias; and he was added to the eleven apost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304920" y="3681360"/>
            <a:ext cx="8458200" cy="2209680"/>
          </a:xfrm>
          <a:prstGeom prst="rect">
            <a:avLst/>
          </a:prstGeom>
          <a:gradFill rotWithShape="0">
            <a:gsLst>
              <a:gs pos="0">
                <a:srgbClr val="004545"/>
              </a:gs>
              <a:gs pos="100000">
                <a:srgbClr val="007b7b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twelve summoned the congregation of the disciples (Acts 6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“appeared to Cephas, then to the twelve” (1 Cor 15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126800"/>
            <a:ext cx="2895480" cy="1036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ts 1:1-1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1127160"/>
            <a:ext cx="2895840" cy="1036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cts 1:12-1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019920" y="1127160"/>
            <a:ext cx="2895480" cy="1036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cts 1:15-26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8600" y="3505320"/>
            <a:ext cx="2895480" cy="1036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’s wor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124080" y="3505320"/>
            <a:ext cx="5791320" cy="1036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’s work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28600" y="2209680"/>
            <a:ext cx="289548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124080" y="2209680"/>
            <a:ext cx="289584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6019920" y="2209680"/>
            <a:ext cx="2895480" cy="1295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acement of Juda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28600" y="4527720"/>
            <a:ext cx="2895480" cy="1036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day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124080" y="4527720"/>
            <a:ext cx="5791320" cy="1036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day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238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returned to Jerusalem from the mount called Olivet, which is near Jerusalem, a Sabbath day's journey 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Picture 8" descr="Jeru11"/>
          <p:cNvPicPr/>
          <p:nvPr/>
        </p:nvPicPr>
        <p:blipFill>
          <a:blip r:embed="rId1"/>
          <a:stretch/>
        </p:blipFill>
        <p:spPr>
          <a:xfrm>
            <a:off x="990720" y="3657600"/>
            <a:ext cx="709596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Public\Pictures\Pictures\Bible and Ancient History\Israel 2007\Jerusalem\Temple Mount 089.jpg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9907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had entered the city, they went up to the upper room where they were staying; that is, Peter and John and James and Andrew, Philip and Thomas, Bartholomew and Matthew, James the son of Alphaeus, and Simon the Zealot, and Judas the son of Ja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907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ll with one mind were continually devoting themselves to prayer, along with the women, and Mary the mother of Jesus, and with His br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160" y="762120"/>
          <a:ext cx="9067680" cy="5333760"/>
        </p:xfrm>
        <a:graphic>
          <a:graphicData uri="http://schemas.openxmlformats.org/drawingml/2006/table">
            <a:tbl>
              <a:tblPr/>
              <a:tblGrid>
                <a:gridCol w="1371600"/>
                <a:gridCol w="1920960"/>
                <a:gridCol w="1925640"/>
                <a:gridCol w="1923840"/>
                <a:gridCol w="192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Matthew 10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Mark 3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Luke 6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Acts 1</a:t>
                      </a:r>
                      <a:endParaRPr b="0" lang="en-US" sz="2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rst Grou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 Peter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 Peter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 Peter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er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15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 Grou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li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tholem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li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tholem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li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tholem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li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rtholem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ird Group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ddaeu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das Iscariot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ddaeu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das Iscariot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d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das Iscariot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me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mon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das</a:t>
                      </a:r>
                      <a:endParaRPr b="0" lang="en-US" sz="2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15-1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9907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time Peter stood up in the midst of the brethren (a gathering of about one hundred and twenty persons was there together), and sai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Brethren, the Scripture had to be fulfilled, which the Holy Spirit foretold by the mouth of David concerning Judas, who became a guide to those who arrested Jesu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he was counted among us and received his share in this ministry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:18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w this man acquired a field with the price of his wickedness, and falling headlong, he burst open in the middle and all his intestines gushed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t became known to all who were living in Jerusalem; so that in their own language that field was called Hakeldama, that is, Field of Blood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838080" y="83808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1-22T02:12:31Z</dcterms:modified>
  <cp:revision>257</cp:revision>
  <dc:subject>Prophets of the Old and New Testament</dc:subject>
  <dc:title>Prophetic Voice</dc:title>
</cp:coreProperties>
</file>