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Revelation of Jesus Chr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19560" y="3352320"/>
            <a:ext cx="2361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h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34318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15228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914400" y="-2743200"/>
          <a:ext cx="10636200" cy="747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14400" y="-2743200"/>
                    <a:ext cx="106362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52480" y="4419720"/>
            <a:ext cx="5334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 Preterism:  “Pa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Prete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on Interpretations of Revel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ist View: Sees the book as showing the spiritual battle between good versus ev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erist View:  Focuses on the first century fall of Jerusalem as the backdrop of the prophecies of this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:  Sees the prophecies as depicting the course of history in this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ist View:  Sees most of the events of the book as taking place in a time of future tribulation followed by the Second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vel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152388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Jesus and Seven letters to seven chur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990720"/>
            <a:ext cx="1371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600200"/>
            <a:ext cx="137160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ne of God &amp; Scroll with seven se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9907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1600200"/>
            <a:ext cx="144792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trump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99072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600200"/>
            <a:ext cx="121932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, the Dragon &amp; the Seven Bow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990720"/>
            <a:ext cx="1218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600200"/>
            <a:ext cx="121896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lot on Seven Hills &amp; the B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990720"/>
            <a:ext cx="1067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600200"/>
            <a:ext cx="106704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re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990720"/>
            <a:ext cx="1295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600200"/>
            <a:ext cx="1295280" cy="266688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ven &amp; New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152388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nds with a promise of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267080"/>
            <a:ext cx="137160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pes away every tear (7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4267080"/>
            <a:ext cx="144792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ll reign forever &amp; ever (11:1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4267080"/>
            <a:ext cx="121932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of the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one” (16: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267080"/>
            <a:ext cx="121896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r on the White Horse (19:1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267080"/>
            <a:ext cx="106704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of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4267080"/>
            <a:ext cx="129528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coming quickly (22: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914400" y="1600200"/>
          <a:ext cx="11590200" cy="381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14400" y="1600200"/>
                    <a:ext cx="115902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657600" y="2743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57600" y="266652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8195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7432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388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990720" y="1752480"/>
          <a:ext cx="10974600" cy="322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752480"/>
                    <a:ext cx="1097460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876920" y="27432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27432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320040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76320"/>
            <a:ext cx="502920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-838080" y="3352680"/>
          <a:ext cx="10366200" cy="2827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838080" y="3352680"/>
                    <a:ext cx="1036620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-687240" y="228600"/>
          <a:ext cx="10105920" cy="3298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687240" y="228600"/>
                    <a:ext cx="1010592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22860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-1828800" y="380880"/>
          <a:ext cx="11201400" cy="321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28800" y="380880"/>
                    <a:ext cx="1120140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849800" y="1981080"/>
            <a:ext cx="9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2767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ecies of Tribulation and Kingdom fulfilled in this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elation 20 seen as symbolic of kingdom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an bound with reference to his ability to deceive the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320" y="388620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228600"/>
            <a:ext cx="502920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1828800" y="380880"/>
          <a:ext cx="11201400" cy="3210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828800" y="380880"/>
                    <a:ext cx="1120140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-914400" y="4030560"/>
          <a:ext cx="10366200" cy="2827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914400" y="4030560"/>
                    <a:ext cx="1036620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849800" y="1981080"/>
            <a:ext cx="9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1523880"/>
            <a:ext cx="50292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917640" y="1746360"/>
          <a:ext cx="9931320" cy="3051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17640" y="1746360"/>
                    <a:ext cx="993132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02T11:50:51Z</dcterms:modified>
  <cp:revision>354</cp:revision>
  <dc:subject/>
  <dc:title>Slide 1</dc:title>
</cp:coreProperties>
</file>