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Epistle of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Ju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nger of De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e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Danger of Dece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1981440" cy="12193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asion for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2209680"/>
            <a:ext cx="2514600" cy="12193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of the Ungo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09680"/>
            <a:ext cx="1981440" cy="12193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Dox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600200"/>
            <a:ext cx="2514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5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4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209680"/>
            <a:ext cx="2361960" cy="304812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ortation to the Go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600200"/>
            <a:ext cx="2361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0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429000"/>
            <a:ext cx="1981440" cy="182880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you who are kept in Chr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429000"/>
            <a:ext cx="2514600" cy="182880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3429000"/>
            <a:ext cx="1981440" cy="182880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Him who is able to keep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7-23T05:28:24Z</dcterms:modified>
  <cp:revision>345</cp:revision>
  <dc:subject/>
  <dc:title>Slide 1</dc:title>
</cp:coreProperties>
</file>