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Third Epistle of Joh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324480" y="335232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in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4419360" cy="33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3040" y="3962520"/>
            <a:ext cx="19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43376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beloved Ga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89096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thren came and bore witness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7294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ear witness to your love bef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xample of Diotre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038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loves to be th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5100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 not accept what we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043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 not receive the breth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xample of Diotre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xample of Demet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0840" y="4038480"/>
            <a:ext cx="400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ceived a good testimony from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02920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55767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uth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xample of Diotre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209680"/>
            <a:ext cx="198144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xample of Demet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7-18T14:12:16Z</dcterms:modified>
  <cp:revision>343</cp:revision>
  <dc:subject/>
  <dc:title>Slide 1</dc:title>
</cp:coreProperties>
</file>