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095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The Second Epistle of Joh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324480" y="3352320"/>
            <a:ext cx="2362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th Versus Err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1066680" y="2438280"/>
            <a:ext cx="4934160" cy="3705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2</a:t>
            </a:r>
            <a:r>
              <a:rPr b="0" lang="en-US" sz="4800" spc="-1" strike="noStrike" baseline="30000">
                <a:solidFill>
                  <a:srgbClr val="ccecff"/>
                </a:solidFill>
                <a:latin typeface="Arial"/>
              </a:rPr>
              <a:t>nd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John</a:t>
            </a:r>
            <a:br>
              <a:rPr sz="48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ruth Vs. Erro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240" y="2209680"/>
            <a:ext cx="2057400" cy="99072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600200"/>
            <a:ext cx="2057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1-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1600200"/>
            <a:ext cx="2057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4-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1600200"/>
            <a:ext cx="243828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7-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81680" y="1600200"/>
            <a:ext cx="2057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12-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3040" y="3429000"/>
            <a:ext cx="19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l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2680" y="3886200"/>
            <a:ext cx="606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the chosen lady and her child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4419720"/>
            <a:ext cx="6705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m I love in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ru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 and not only I, bu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all who know the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ru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ake of the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ru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ich abid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us and will be with us for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2</a:t>
            </a:r>
            <a:r>
              <a:rPr b="0" lang="en-US" sz="4800" spc="-1" strike="noStrike" baseline="30000">
                <a:solidFill>
                  <a:srgbClr val="ccecff"/>
                </a:solidFill>
                <a:latin typeface="Arial"/>
              </a:rPr>
              <a:t>nd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John</a:t>
            </a:r>
            <a:br>
              <a:rPr sz="48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ruth Vs. Erro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240" y="2209680"/>
            <a:ext cx="2057400" cy="99072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0" y="2209680"/>
            <a:ext cx="2057400" cy="99072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lk in Tr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600200"/>
            <a:ext cx="2057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1-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1600200"/>
            <a:ext cx="2057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4-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1600200"/>
            <a:ext cx="243828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7-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81680" y="1600200"/>
            <a:ext cx="2057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12-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33720" y="3429000"/>
            <a:ext cx="5105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as glad to find some of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children walking i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r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4722840"/>
            <a:ext cx="51051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st as we have received 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andment that w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from the begi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33720" y="603396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we love one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2</a:t>
            </a:r>
            <a:r>
              <a:rPr b="0" lang="en-US" sz="4800" spc="-1" strike="noStrike" baseline="30000">
                <a:solidFill>
                  <a:srgbClr val="ccecff"/>
                </a:solidFill>
                <a:latin typeface="Arial"/>
              </a:rPr>
              <a:t>nd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John</a:t>
            </a:r>
            <a:br>
              <a:rPr sz="48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ruth Vs. Erro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28240" y="2209680"/>
            <a:ext cx="2057400" cy="99072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2209680"/>
            <a:ext cx="2057400" cy="99072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lk in Tr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2209680"/>
            <a:ext cx="2438280" cy="99072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ning against 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600200"/>
            <a:ext cx="2057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1-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0" y="1600200"/>
            <a:ext cx="2057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4-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1600200"/>
            <a:ext cx="243828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7-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1600200"/>
            <a:ext cx="2057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12-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34290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dece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397656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45864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de in the te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5272200"/>
            <a:ext cx="441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receive those wh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hold to th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2</a:t>
            </a:r>
            <a:r>
              <a:rPr b="0" lang="en-US" sz="4800" spc="-1" strike="noStrike" baseline="30000">
                <a:solidFill>
                  <a:srgbClr val="ccecff"/>
                </a:solidFill>
                <a:latin typeface="Arial"/>
              </a:rPr>
              <a:t>nd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John</a:t>
            </a:r>
            <a:br>
              <a:rPr sz="48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ruth Vs. Erro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228240" y="2209680"/>
            <a:ext cx="2057400" cy="99072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2209680"/>
            <a:ext cx="2057400" cy="99072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lk in Tr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2209680"/>
            <a:ext cx="2438280" cy="99072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ning against 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81680" y="2209680"/>
            <a:ext cx="2057400" cy="99072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600200"/>
            <a:ext cx="2057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1-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1600200"/>
            <a:ext cx="2057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4-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43400" y="1600200"/>
            <a:ext cx="243828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7-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600200"/>
            <a:ext cx="2057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12-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7-07-18T14:11:51Z</dcterms:modified>
  <cp:revision>341</cp:revision>
  <dc:subject/>
  <dc:title>Slide 1</dc:title>
</cp:coreProperties>
</file>