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3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30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15.png" ContentType="image/png"/>
  <Override PartName="/ppt/media/image80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17.png" ContentType="image/png"/>
  <Override PartName="/ppt/media/image8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11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11.png"/><Relationship Id="rId5" Type="http://schemas.openxmlformats.org/officeDocument/2006/relationships/image" Target="../media/image22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44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40.png"/><Relationship Id="rId7" Type="http://schemas.openxmlformats.org/officeDocument/2006/relationships/image" Target="../media/image20.png"/><Relationship Id="rId8" Type="http://schemas.openxmlformats.org/officeDocument/2006/relationships/image" Target="../media/image45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46.png"/><Relationship Id="rId4" Type="http://schemas.openxmlformats.org/officeDocument/2006/relationships/image" Target="../media/image20.png"/><Relationship Id="rId5" Type="http://schemas.openxmlformats.org/officeDocument/2006/relationships/image" Target="../media/image45.png"/><Relationship Id="rId6" Type="http://schemas.openxmlformats.org/officeDocument/2006/relationships/image" Target="../media/image20.png"/><Relationship Id="rId7" Type="http://schemas.openxmlformats.org/officeDocument/2006/relationships/image" Target="../media/image45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45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52.png"/><Relationship Id="rId4" Type="http://schemas.openxmlformats.org/officeDocument/2006/relationships/image" Target="../media/image7.png"/><Relationship Id="rId5" Type="http://schemas.openxmlformats.org/officeDocument/2006/relationships/image" Target="../media/image53.png"/><Relationship Id="rId6" Type="http://schemas.openxmlformats.org/officeDocument/2006/relationships/image" Target="../media/image7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7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7.png"/><Relationship Id="rId7" Type="http://schemas.openxmlformats.org/officeDocument/2006/relationships/image" Target="../media/image55.png"/><Relationship Id="rId8" Type="http://schemas.openxmlformats.org/officeDocument/2006/relationships/image" Target="../media/image7.png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png"/><Relationship Id="rId3" Type="http://schemas.openxmlformats.org/officeDocument/2006/relationships/image" Target="../media/image31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57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image" Target="../media/image48.png"/><Relationship Id="rId4" Type="http://schemas.openxmlformats.org/officeDocument/2006/relationships/image" Target="../media/image12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11.png"/><Relationship Id="rId6" Type="http://schemas.openxmlformats.org/officeDocument/2006/relationships/image" Target="../media/image67.png"/><Relationship Id="rId7" Type="http://schemas.openxmlformats.org/officeDocument/2006/relationships/image" Target="../media/image45.png"/><Relationship Id="rId8" Type="http://schemas.openxmlformats.org/officeDocument/2006/relationships/image" Target="../media/image68.png"/><Relationship Id="rId9" Type="http://schemas.openxmlformats.org/officeDocument/2006/relationships/image" Target="../media/image69.png"/><Relationship Id="rId10" Type="http://schemas.openxmlformats.org/officeDocument/2006/relationships/image" Target="../media/image70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21.png"/><Relationship Id="rId6" Type="http://schemas.openxmlformats.org/officeDocument/2006/relationships/image" Target="../media/image11.png"/><Relationship Id="rId7" Type="http://schemas.openxmlformats.org/officeDocument/2006/relationships/image" Target="../media/image7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4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1.png"/><Relationship Id="rId8" Type="http://schemas.openxmlformats.org/officeDocument/2006/relationships/image" Target="../media/image82.png"/><Relationship Id="rId9" Type="http://schemas.openxmlformats.org/officeDocument/2006/relationships/image" Target="../media/image45.png"/><Relationship Id="rId10" Type="http://schemas.openxmlformats.org/officeDocument/2006/relationships/image" Target="../media/image45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4.png"/><Relationship Id="rId3" Type="http://schemas.openxmlformats.org/officeDocument/2006/relationships/image" Target="../media/image83.png"/><Relationship Id="rId4" Type="http://schemas.openxmlformats.org/officeDocument/2006/relationships/image" Target="../media/image44.png"/><Relationship Id="rId5" Type="http://schemas.openxmlformats.org/officeDocument/2006/relationships/image" Target="../media/image84.png"/><Relationship Id="rId6" Type="http://schemas.openxmlformats.org/officeDocument/2006/relationships/image" Target="../media/image66.png"/><Relationship Id="rId7" Type="http://schemas.openxmlformats.org/officeDocument/2006/relationships/image" Target="../media/image85.png"/><Relationship Id="rId8" Type="http://schemas.openxmlformats.org/officeDocument/2006/relationships/image" Target="../media/image85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4.png"/><Relationship Id="rId3" Type="http://schemas.openxmlformats.org/officeDocument/2006/relationships/image" Target="../media/image86.png"/><Relationship Id="rId4" Type="http://schemas.openxmlformats.org/officeDocument/2006/relationships/image" Target="../media/image74.png"/><Relationship Id="rId5" Type="http://schemas.openxmlformats.org/officeDocument/2006/relationships/image" Target="../media/image28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70.png"/><Relationship Id="rId10" Type="http://schemas.openxmlformats.org/officeDocument/2006/relationships/image" Target="../media/image74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48.png"/><Relationship Id="rId7" Type="http://schemas.openxmlformats.org/officeDocument/2006/relationships/image" Target="../media/image93.png"/><Relationship Id="rId8" Type="http://schemas.openxmlformats.org/officeDocument/2006/relationships/image" Target="../media/image10.png"/><Relationship Id="rId9" Type="http://schemas.openxmlformats.org/officeDocument/2006/relationships/image" Target="../media/image9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5.png"/><Relationship Id="rId3" Type="http://schemas.openxmlformats.org/officeDocument/2006/relationships/image" Target="../media/image70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13.png"/><Relationship Id="rId8" Type="http://schemas.openxmlformats.org/officeDocument/2006/relationships/image" Target="../media/image99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9.png"/><Relationship Id="rId4" Type="http://schemas.openxmlformats.org/officeDocument/2006/relationships/image" Target="../media/image48.png"/><Relationship Id="rId5" Type="http://schemas.openxmlformats.org/officeDocument/2006/relationships/image" Target="../media/image55.png"/><Relationship Id="rId6" Type="http://schemas.openxmlformats.org/officeDocument/2006/relationships/image" Target="../media/image70.png"/><Relationship Id="rId7" Type="http://schemas.openxmlformats.org/officeDocument/2006/relationships/image" Target="../media/image100.png"/><Relationship Id="rId8" Type="http://schemas.openxmlformats.org/officeDocument/2006/relationships/image" Target="../media/image101.png"/><Relationship Id="rId9" Type="http://schemas.openxmlformats.org/officeDocument/2006/relationships/image" Target="../media/image32.png"/><Relationship Id="rId10" Type="http://schemas.openxmlformats.org/officeDocument/2006/relationships/image" Target="../media/image102.png"/><Relationship Id="rId11" Type="http://schemas.openxmlformats.org/officeDocument/2006/relationships/image" Target="../media/image103.pn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7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Second Epistle of Pe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5334120" y="3429000"/>
            <a:ext cx="259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ets True &amp;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3732120" cy="319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057400" y="2762280"/>
            <a:ext cx="3886200" cy="1373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ong as you practice these things, you will never stumble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511200"/>
            <a:ext cx="34290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breth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7316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10-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050840"/>
            <a:ext cx="426744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ll the more diligent to make certain about His calling and choosing you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436840"/>
            <a:ext cx="6858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4514760"/>
            <a:ext cx="5334120" cy="1800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is way the entrance into the eternal kingdom of our Lord and Savior Jesus Christ will be abundantly supplied to yo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062240"/>
            <a:ext cx="6858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173160"/>
            <a:ext cx="19051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692280"/>
            <a:ext cx="464832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hall always be ready to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i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ou of these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1643040"/>
            <a:ext cx="624816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you already know the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160720"/>
            <a:ext cx="9144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647800"/>
            <a:ext cx="624816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been established in the truth which is present with yo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3738600"/>
            <a:ext cx="38862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 consider it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5181480"/>
            <a:ext cx="7010280" cy="13737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ing that the laying aside of m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arthl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welling is imminent, as also our Lord Jesus Christ has made clear to 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267080"/>
            <a:ext cx="647712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ong as I am in th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arthl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welling, to stir you up by way of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in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17316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12-1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173160"/>
            <a:ext cx="36576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we did not follow cleverly devised 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17316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16-1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122480"/>
            <a:ext cx="67816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we made known to you the power and coming of our Lord Jesus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057400"/>
            <a:ext cx="9144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579760"/>
            <a:ext cx="64008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ere eyewitnesses of His majes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3097080"/>
            <a:ext cx="7467480" cy="13737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when He received honor and glory from God the Father, such an utterance as this was made to Him by the Majestic Glor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475160"/>
            <a:ext cx="746748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This is My beloved Son with whom I am well-pleased "-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5433840"/>
            <a:ext cx="8458200" cy="13737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we ourselves heard this utterance made from heaven when we were with Him on the holy mountai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76320"/>
            <a:ext cx="49528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th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t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or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d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284040"/>
            <a:ext cx="213372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19-2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025640"/>
            <a:ext cx="16002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895480"/>
            <a:ext cx="38862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know this first of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503360"/>
            <a:ext cx="701064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do well to pay attention as to a lamp shining in a dark place until the day dawns and the morning star arises in your he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424320"/>
            <a:ext cx="678168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no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Scripture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mat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one's own interpreta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394160"/>
            <a:ext cx="54864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no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 ever made by an act of human w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5308560"/>
            <a:ext cx="76212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5786280"/>
            <a:ext cx="548640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moved by the Holy Spirit spoke from Go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523880"/>
            <a:ext cx="2895480" cy="914400"/>
          </a:xfrm>
          <a:prstGeom prst="rect">
            <a:avLst/>
          </a:prstGeom>
          <a:solidFill>
            <a:srgbClr val="a227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28240" y="83772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1523880"/>
            <a:ext cx="2895840" cy="914400"/>
          </a:xfrm>
          <a:prstGeom prst="rect">
            <a:avLst/>
          </a:prstGeom>
          <a:solidFill>
            <a:srgbClr val="a227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1523880"/>
            <a:ext cx="2895480" cy="914400"/>
          </a:xfrm>
          <a:prstGeom prst="rect">
            <a:avLst/>
          </a:prstGeom>
          <a:solidFill>
            <a:srgbClr val="a227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838080"/>
            <a:ext cx="28958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83808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438280"/>
            <a:ext cx="1295280" cy="198144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2438280"/>
            <a:ext cx="2895840" cy="129564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438280"/>
            <a:ext cx="1600200" cy="16765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304920"/>
            <a:ext cx="38862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know this first of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833400"/>
            <a:ext cx="601992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no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Scripture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mat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one's own interpreta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803240"/>
            <a:ext cx="54864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no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 ever made by an act of human w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2717640"/>
            <a:ext cx="7621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195720"/>
            <a:ext cx="548640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moved by the Holy Spirit spoke from Go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20 – 2: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267080"/>
            <a:ext cx="7621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4745160"/>
            <a:ext cx="815328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so arose among the people, just as there will also be false teachers among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2133720"/>
            <a:ext cx="54864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secretly introduce destructive heres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1895400"/>
            <a:ext cx="243828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8600" y="4267080"/>
            <a:ext cx="8153280" cy="1425240"/>
            <a:chOff x="228600" y="4267080"/>
            <a:chExt cx="8153280" cy="1425240"/>
          </a:xfrm>
        </p:grpSpPr>
        <p:sp>
          <p:nvSpPr>
            <p:cNvPr id="165" name=""/>
            <p:cNvSpPr/>
            <p:nvPr/>
          </p:nvSpPr>
          <p:spPr>
            <a:xfrm>
              <a:off x="228600" y="4267080"/>
              <a:ext cx="762120" cy="520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u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8600" y="4745160"/>
              <a:ext cx="8153280" cy="947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alse </a:t>
              </a: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prophet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also arose among the people, just as there will also be false teachers among you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62120" y="1676520"/>
            <a:ext cx="9903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092400"/>
            <a:ext cx="716256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denying the Master who bought them, bringing swift destruction upon themselv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7513E-006 L -0.00416 -0.58137 E">
                                      <p:cBhvr>
                                        <p:cTn id="62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4745160"/>
            <a:ext cx="861048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ondemned the cities of Sodom and Gomorrah to destruction by reduc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shes, having made them an example to those who would live ungodly thereaf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487600"/>
            <a:ext cx="8610480" cy="180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spare the ancient world, but preserved Noah, a preacher of righteousness, with seven others, when He brought a flood upon the world of the ungodly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04920"/>
            <a:ext cx="594360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f God did not spare angels when they sinned, but cast them into hell and committed them to pits of darkness, reserved for judgment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4-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057400"/>
            <a:ext cx="9144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4267080"/>
            <a:ext cx="9144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4343400"/>
            <a:ext cx="34290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knows 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658800"/>
            <a:ext cx="518148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escued righteous Lot, oppressed by the sensual conduct of unprincipled 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7-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28600"/>
            <a:ext cx="10666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2036880"/>
            <a:ext cx="6553440" cy="180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or by what he saw and hear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eous man, while living among them, fel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eous soul tormented day after day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less deeds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3814920"/>
            <a:ext cx="10666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4856040"/>
            <a:ext cx="77724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scue the godly from temp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5735520"/>
            <a:ext cx="777240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eep the unrighteous under punishment for the day of judgmen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5318280"/>
            <a:ext cx="10670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600" y="3814920"/>
            <a:ext cx="8381880" cy="2867760"/>
            <a:chOff x="228600" y="3814920"/>
            <a:chExt cx="8381880" cy="2867760"/>
          </a:xfrm>
        </p:grpSpPr>
        <p:sp>
          <p:nvSpPr>
            <p:cNvPr id="185" name=""/>
            <p:cNvSpPr/>
            <p:nvPr/>
          </p:nvSpPr>
          <p:spPr>
            <a:xfrm>
              <a:off x="228600" y="4343400"/>
              <a:ext cx="3429000" cy="520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e Lord knows how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600" y="3814920"/>
              <a:ext cx="1066680" cy="520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Arial"/>
                </a:rPr>
                <a:t>the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8080" y="4856040"/>
              <a:ext cx="7772400" cy="520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o rescue the godly from tempt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8080" y="5735520"/>
              <a:ext cx="7772400" cy="947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o keep the unrighteous under punishment for the day of judgment,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5318280"/>
              <a:ext cx="1067040" cy="520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705720" y="380880"/>
            <a:ext cx="22096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9-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3465360"/>
            <a:ext cx="77724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those who indulge the flesh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upt desires and despise author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3048120"/>
            <a:ext cx="106704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4419720"/>
            <a:ext cx="7772400" cy="22269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ing, self-willed, they do not tremble when they revile angelic majesties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reas angels who are greater in might and power do not bring a reviling judgment against them before the Lo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52566E-007 L -3.33333E-006 -0.5208 E">
                                      <p:cBhvr>
                                        <p:cTn id="73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500"/>
                            </p:stCondLst>
                            <p:childTnLst>
                              <p:par>
                                <p:cTn id="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523880"/>
            <a:ext cx="2895480" cy="914400"/>
          </a:xfrm>
          <a:prstGeom prst="rect">
            <a:avLst/>
          </a:prstGeom>
          <a:solidFill>
            <a:srgbClr val="a227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83772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1523880"/>
            <a:ext cx="2895840" cy="914400"/>
          </a:xfrm>
          <a:prstGeom prst="rect">
            <a:avLst/>
          </a:prstGeom>
          <a:solidFill>
            <a:srgbClr val="a227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1523880"/>
            <a:ext cx="2895480" cy="914400"/>
          </a:xfrm>
          <a:prstGeom prst="rect">
            <a:avLst/>
          </a:prstGeom>
          <a:solidFill>
            <a:srgbClr val="a227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838080"/>
            <a:ext cx="28958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83808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438280"/>
            <a:ext cx="1295280" cy="198144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2438280"/>
            <a:ext cx="2895840" cy="129564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438280"/>
            <a:ext cx="1600200" cy="16765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2438280"/>
            <a:ext cx="1600200" cy="16765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0120" y="2438280"/>
            <a:ext cx="1295280" cy="198144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8600" y="304920"/>
            <a:ext cx="11430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20-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838080"/>
            <a:ext cx="5333760" cy="180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y have escaped the defilements of the world by the knowledge of the Lord and Savior Jesus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2646360"/>
            <a:ext cx="69343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again entangled in them and are over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038480"/>
            <a:ext cx="57913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st state has become worse for them than the fir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3581280"/>
            <a:ext cx="11430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987800"/>
            <a:ext cx="8229600" cy="18003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t would be better for them not to have known the way of righteousness, than having known it, to turn away from the holy commandment delivered to th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609480"/>
            <a:ext cx="50292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happened to them according to the true pro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971800"/>
            <a:ext cx="9907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3484440"/>
            <a:ext cx="38098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A sow, after wash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925640"/>
            <a:ext cx="28954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A d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2438280"/>
            <a:ext cx="45720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s to its own vomit,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3997440"/>
            <a:ext cx="419076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turn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allowing in the mire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1523880"/>
            <a:ext cx="2895480" cy="914400"/>
          </a:xfrm>
          <a:prstGeom prst="rect">
            <a:avLst/>
          </a:prstGeom>
          <a:solidFill>
            <a:srgbClr val="a227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240" y="83772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1523880"/>
            <a:ext cx="2895840" cy="914400"/>
          </a:xfrm>
          <a:prstGeom prst="rect">
            <a:avLst/>
          </a:prstGeom>
          <a:solidFill>
            <a:srgbClr val="a227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1523880"/>
            <a:ext cx="2895480" cy="914400"/>
          </a:xfrm>
          <a:prstGeom prst="rect">
            <a:avLst/>
          </a:prstGeom>
          <a:solidFill>
            <a:srgbClr val="a227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838080"/>
            <a:ext cx="28958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83808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438280"/>
            <a:ext cx="1295280" cy="198144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438280"/>
            <a:ext cx="2895840" cy="129564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2438280"/>
            <a:ext cx="1600200" cy="16765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2438280"/>
            <a:ext cx="1600200" cy="16765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0120" y="2438280"/>
            <a:ext cx="1295280" cy="198144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228600"/>
            <a:ext cx="54864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now, beloved, the second letter I am writing to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198440"/>
            <a:ext cx="15242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1676520"/>
            <a:ext cx="472464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stirring up your sincere mind by way of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i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2625840"/>
            <a:ext cx="9144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3159000"/>
            <a:ext cx="449568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should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e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words spoken before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76520" y="4108320"/>
            <a:ext cx="76176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5632560"/>
            <a:ext cx="609588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mandment of the Lord and Savi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ok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your apost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4606920"/>
            <a:ext cx="502920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ly proph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5103720"/>
            <a:ext cx="83808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3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28600"/>
            <a:ext cx="35053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 this first of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762120"/>
            <a:ext cx="5029200" cy="180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n the last days mockers will come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cking, following after their own lusts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say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2556000"/>
            <a:ext cx="632448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Where is the promise of His coming?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v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the fathers fell asleep, all continues just as it was from the beginning of creation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5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76320"/>
            <a:ext cx="48006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when they maintain this it escapes their notice tha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5322960"/>
            <a:ext cx="777240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t heavens and earth by His word are being reserved for fire, kept for the day of judgment and destruction of ungodly 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1046160"/>
            <a:ext cx="43434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word of Go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ens existed long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2438280"/>
            <a:ext cx="426708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formed out of water and by water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60560"/>
            <a:ext cx="9144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3373560"/>
            <a:ext cx="5029200" cy="13737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which the world at that time was destroyed, being flooded with wa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4789440"/>
            <a:ext cx="9144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8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36440"/>
            <a:ext cx="48006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do not let this on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ac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cape your notice, belove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1092240"/>
            <a:ext cx="487656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with the Lord one day is as a thousand years, and a thousand years as one d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2637000"/>
            <a:ext cx="259056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is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3149640"/>
            <a:ext cx="48769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slow about His promise, as some count slow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4637160"/>
            <a:ext cx="487692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atient toward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5165640"/>
            <a:ext cx="48769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wishing for any to per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6232680"/>
            <a:ext cx="49528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ll to come to repenta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4119480"/>
            <a:ext cx="76212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5699160"/>
            <a:ext cx="76212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771480"/>
            <a:ext cx="48006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day of the Lo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ll come like a th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5033880"/>
            <a:ext cx="67820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 and its works will be burned up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1727280"/>
            <a:ext cx="16002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3591000"/>
            <a:ext cx="518184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ements will be destroyed with intense hea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2233440"/>
            <a:ext cx="472464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vens will pass away with a ro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09680" y="3133800"/>
            <a:ext cx="9558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4505400"/>
            <a:ext cx="9558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1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138240"/>
            <a:ext cx="48006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all these things are to be destroyed in this wa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1066680"/>
            <a:ext cx="358164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ort of people ought you to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2992320"/>
            <a:ext cx="48006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ing for and hastening the coming of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day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3946680"/>
            <a:ext cx="34290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ccount of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016000"/>
            <a:ext cx="6094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2494080"/>
            <a:ext cx="48006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conduct and godlin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32160" y="4475160"/>
            <a:ext cx="511164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vens will be destroyed by bu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5369040"/>
            <a:ext cx="8384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5826240"/>
            <a:ext cx="4800600" cy="9471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ements will melt with intense heat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1036800"/>
            <a:ext cx="76176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1508040"/>
            <a:ext cx="41911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 His 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2041560"/>
            <a:ext cx="31240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looking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2575080"/>
            <a:ext cx="25146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heav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3108240"/>
            <a:ext cx="99036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3621240"/>
            <a:ext cx="236196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w ea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4154400"/>
            <a:ext cx="167652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4653000"/>
            <a:ext cx="373392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eousness dwel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4038480" cy="9176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Pe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2514600"/>
            <a:ext cx="4038480" cy="838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600200"/>
            <a:ext cx="4038480" cy="9176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Pe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514600"/>
            <a:ext cx="4038480" cy="838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52680"/>
            <a:ext cx="4038480" cy="83844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ec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352680"/>
            <a:ext cx="4038480" cy="83844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Prophe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4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52280"/>
            <a:ext cx="32767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bel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112840"/>
            <a:ext cx="8380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685800"/>
            <a:ext cx="53341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you look for these thing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590920"/>
            <a:ext cx="76960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ard the patience of our Lor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198440"/>
            <a:ext cx="533412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diligent to be found by Him in peace, spotless and blamel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3117960"/>
            <a:ext cx="6400800" cy="13737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as also our beloved brother Paul, according to the wisdom given him, wrote to you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4495680"/>
            <a:ext cx="7467480" cy="22269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lso in al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ers, speaking in them of these things, in which are some things hard to understand, which the untaught and unstable distort,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 d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the rest of the Scriptures, to their own destr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0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40080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7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233280"/>
            <a:ext cx="419076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therefore, beloved, knowing this before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1182600"/>
            <a:ext cx="30481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on your gu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1701720"/>
            <a:ext cx="9907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2193840"/>
            <a:ext cx="777240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ng carried away by the error of unprincipled men, you fall from your own steadfastn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3133800"/>
            <a:ext cx="83844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3662280"/>
            <a:ext cx="59436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 in the grace and knowledge of our Lord and Savior Jesus Chri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4632480"/>
            <a:ext cx="35812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i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l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5165640"/>
            <a:ext cx="190476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n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5699160"/>
            <a:ext cx="441936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o the day of etern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10280" y="6024600"/>
            <a:ext cx="144792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0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549360"/>
            <a:ext cx="27432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on P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082520"/>
            <a:ext cx="27432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ond-serv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3825720"/>
            <a:ext cx="365760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have received a faith of the same kind as our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216400"/>
            <a:ext cx="495288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righteousness of our God and Savior, Jesus Chris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373560"/>
            <a:ext cx="106704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620720"/>
            <a:ext cx="106704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45720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2135160"/>
            <a:ext cx="27432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s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668680"/>
            <a:ext cx="274320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Jesus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549360"/>
            <a:ext cx="335304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ce and peace be multiplied to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45720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2-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1508040"/>
            <a:ext cx="30481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2041560"/>
            <a:ext cx="167616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2568600"/>
            <a:ext cx="9144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3087720"/>
            <a:ext cx="38098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Jesus our Lord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581280"/>
            <a:ext cx="6400800" cy="13737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ing that His divine power has granted to us everything pertaining to life and godl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4976640"/>
            <a:ext cx="464832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th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5500800"/>
            <a:ext cx="541008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Him who called us by His own glory and excell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947560" y="1676520"/>
            <a:ext cx="3068640" cy="977760"/>
            <a:chOff x="5947560" y="1676520"/>
            <a:chExt cx="3068640" cy="977760"/>
          </a:xfrm>
        </p:grpSpPr>
        <p:sp>
          <p:nvSpPr>
            <p:cNvPr id="77" name=""/>
            <p:cNvSpPr/>
            <p:nvPr/>
          </p:nvSpPr>
          <p:spPr>
            <a:xfrm>
              <a:off x="6317280" y="1676520"/>
              <a:ext cx="22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Bwgrkl"/>
                </a:rPr>
                <a:t>epignosij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47560" y="2133720"/>
              <a:ext cx="306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ver-Knowledge”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876920" y="1828800"/>
            <a:ext cx="1371600" cy="152280"/>
          </a:xfrm>
          <a:custGeom>
            <a:avLst/>
            <a:gdLst/>
            <a:ahLst/>
            <a:rect l="l" t="t" r="r" b="b"/>
            <a:pathLst>
              <a:path w="864" h="96">
                <a:moveTo>
                  <a:pt x="864" y="96"/>
                </a:moveTo>
                <a:cubicBezTo>
                  <a:pt x="864" y="96"/>
                  <a:pt x="432" y="48"/>
                  <a:pt x="0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666880"/>
            <a:ext cx="1562040" cy="2527560"/>
          </a:xfrm>
          <a:custGeom>
            <a:avLst/>
            <a:gdLst/>
            <a:ahLst/>
            <a:rect l="l" t="t" r="r" b="b"/>
            <a:pathLst>
              <a:path w="984" h="1592">
                <a:moveTo>
                  <a:pt x="960" y="0"/>
                </a:moveTo>
                <a:cubicBezTo>
                  <a:pt x="960" y="192"/>
                  <a:pt x="960" y="384"/>
                  <a:pt x="960" y="576"/>
                </a:cubicBezTo>
                <a:cubicBezTo>
                  <a:pt x="960" y="768"/>
                  <a:pt x="960" y="1032"/>
                  <a:pt x="960" y="1152"/>
                </a:cubicBezTo>
                <a:cubicBezTo>
                  <a:pt x="960" y="1272"/>
                  <a:pt x="968" y="1232"/>
                  <a:pt x="960" y="1296"/>
                </a:cubicBezTo>
                <a:cubicBezTo>
                  <a:pt x="952" y="1360"/>
                  <a:pt x="984" y="1488"/>
                  <a:pt x="912" y="1536"/>
                </a:cubicBezTo>
                <a:cubicBezTo>
                  <a:pt x="840" y="1584"/>
                  <a:pt x="680" y="1576"/>
                  <a:pt x="528" y="1584"/>
                </a:cubicBezTo>
                <a:cubicBezTo>
                  <a:pt x="376" y="1592"/>
                  <a:pt x="188" y="1588"/>
                  <a:pt x="0" y="158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80880"/>
            <a:ext cx="22096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by th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5720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5500800"/>
            <a:ext cx="54100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Him who called us by His own glory and excell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893880"/>
            <a:ext cx="373392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as granted to us His precious and magnificen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914400"/>
            <a:ext cx="2133720" cy="4724280"/>
          </a:xfrm>
          <a:custGeom>
            <a:avLst/>
            <a:gdLst/>
            <a:ahLst/>
            <a:rect l="l" t="t" r="r" b="b"/>
            <a:pathLst>
              <a:path w="1344" h="2976">
                <a:moveTo>
                  <a:pt x="1344" y="2976"/>
                </a:moveTo>
                <a:cubicBezTo>
                  <a:pt x="1188" y="2840"/>
                  <a:pt x="1032" y="2704"/>
                  <a:pt x="912" y="2592"/>
                </a:cubicBezTo>
                <a:cubicBezTo>
                  <a:pt x="792" y="2480"/>
                  <a:pt x="736" y="2416"/>
                  <a:pt x="624" y="2304"/>
                </a:cubicBezTo>
                <a:cubicBezTo>
                  <a:pt x="512" y="2192"/>
                  <a:pt x="336" y="2056"/>
                  <a:pt x="240" y="1920"/>
                </a:cubicBezTo>
                <a:cubicBezTo>
                  <a:pt x="144" y="1784"/>
                  <a:pt x="88" y="1808"/>
                  <a:pt x="48" y="1488"/>
                </a:cubicBezTo>
                <a:cubicBezTo>
                  <a:pt x="8" y="1168"/>
                  <a:pt x="4" y="58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380880"/>
            <a:ext cx="22096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by th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5720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893880"/>
            <a:ext cx="373392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as granted to us His precious and magnificen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2279520"/>
            <a:ext cx="21337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2813040"/>
            <a:ext cx="335268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m you might become partakers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ne natur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4191120"/>
            <a:ext cx="548640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ing escaped the corruption that is in the world by l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187200"/>
            <a:ext cx="42670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for this very reason also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17316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5-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817560"/>
            <a:ext cx="64008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faith supply moral excel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300320"/>
            <a:ext cx="10666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676520"/>
            <a:ext cx="64008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al excellence,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2590920"/>
            <a:ext cx="56386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ledge, self-contr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510000"/>
            <a:ext cx="56386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control, perseveranc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419720"/>
            <a:ext cx="56386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everance, godliness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338800"/>
            <a:ext cx="640080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liness, brotherly kind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6253200"/>
            <a:ext cx="563904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therly kindness, lo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138400"/>
            <a:ext cx="106668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048120"/>
            <a:ext cx="1066680" cy="52056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962520"/>
            <a:ext cx="1066680" cy="52056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876920"/>
            <a:ext cx="1066680" cy="5205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5796000"/>
            <a:ext cx="1066680" cy="52056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187200"/>
            <a:ext cx="42670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f thes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qualit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yours and are increas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17316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8-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1143000"/>
            <a:ext cx="594360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render you neither useless nor unfruitful in the true knowledge of our Lord Jesus Chri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971800"/>
            <a:ext cx="61722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he who lacks thes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qu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3494160"/>
            <a:ext cx="4191120" cy="180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bli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-sighted, having forgotte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ification from his former si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6-09T17:13:05Z</dcterms:modified>
  <cp:revision>323</cp:revision>
  <dc:subject/>
  <dc:title>Slide 1</dc:title>
</cp:coreProperties>
</file>