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Epistle to the Hebre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713400" cy="389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e spoke long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fa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ph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ny por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ny way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se last d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S SPOKEN TO US IN HIS 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He appointed heir of all thing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whom also He made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GO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AS SPOKEN TO US IN HIS S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 appointed heir of all thing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whom also He made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diance of His gl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act representation of His n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holds all things by the word of His po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had made purification of sin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AT DOW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right hand of the Majesty on hig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09880"/>
            <a:ext cx="6705720" cy="609840"/>
          </a:xfrm>
          <a:prstGeom prst="rightArrow">
            <a:avLst>
              <a:gd name="adj1" fmla="val 43231"/>
              <a:gd name="adj2" fmla="val 17491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1640" y="43434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to Jes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4520" y="3809880"/>
            <a:ext cx="150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657600"/>
            <a:ext cx="2209680" cy="685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3657600"/>
            <a:ext cx="4114800" cy="685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8862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419720"/>
            <a:ext cx="28195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y from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rene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solidFill>
            <a:srgbClr val="000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3657600"/>
            <a:ext cx="7467480" cy="685800"/>
          </a:xfrm>
          <a:prstGeom prst="rect">
            <a:avLst/>
          </a:prstGeom>
          <a:solidFill>
            <a:srgbClr val="650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4419720"/>
            <a:ext cx="28195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y from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rene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886200"/>
            <a:ext cx="28195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re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419720"/>
            <a:ext cx="2819160" cy="213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hor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c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no roo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tterness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5-14T21:52:55Z</dcterms:modified>
  <cp:revision>252</cp:revision>
  <dc:subject/>
  <dc:title>Slide 1</dc:title>
</cp:coreProperties>
</file>