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Epistle to Philem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lavery to Br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43044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37260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762120"/>
            <a:ext cx="198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58080" y="2254320"/>
            <a:ext cx="240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loss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175284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pening Greet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971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, a prisoner of Christ Jesus, and Timothy our brother, to Philemon our belov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ro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ellow work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o Apphia our sister, and to Archippus our fellow soldier, and to the church in your ho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ce to you and peace from God our Father and the Lord Jesus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685800"/>
            <a:ext cx="19047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85800"/>
            <a:ext cx="327672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8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685800"/>
            <a:ext cx="19810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23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e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175284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pening Greet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28195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ank m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 hear of 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pray that the fellowship of your faith may beco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685800"/>
            <a:ext cx="19047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685800"/>
            <a:ext cx="327672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8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685800"/>
            <a:ext cx="19810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23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e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219320"/>
            <a:ext cx="190476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ayer of thanks for Phil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175284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pening Greet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I could order you, I appeal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behalf of Onesi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rly useless to you; now useful to both you and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ending him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as a slave, but now as a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has wronged you, charge it to my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now you will do even more than what I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685800"/>
            <a:ext cx="19047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685800"/>
            <a:ext cx="327672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8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685800"/>
            <a:ext cx="19810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23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e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219320"/>
            <a:ext cx="190476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ayer of thanks for Phil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219320"/>
            <a:ext cx="327672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aul’s Appeal on behalf of Onesi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175284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pening Greeting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me a lod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ings fro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ph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starch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685800"/>
            <a:ext cx="17528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685800"/>
            <a:ext cx="19047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4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685800"/>
            <a:ext cx="327672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8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685800"/>
            <a:ext cx="19810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23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e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1219320"/>
            <a:ext cx="190476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ayer of thanks for Phil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219320"/>
            <a:ext cx="327672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aul’s Appeal on behalf of Onesi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219320"/>
            <a:ext cx="1981080" cy="144756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ncluding Farew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7-22T19:50:21Z</dcterms:modified>
  <cp:revision>241</cp:revision>
  <dc:subject/>
  <dc:title>Slide 1</dc:title>
</cp:coreProperties>
</file>