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556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Epistle to Tit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943240" y="274320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rning the Gospel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4967280" cy="32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95480" y="3733560"/>
            <a:ext cx="6019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er to do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 for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l to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ion of those who cause di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actical exercise in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1828800"/>
            <a:ext cx="205740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structions to Vario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1828800"/>
            <a:ext cx="190512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iving for the appearing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1828800"/>
            <a:ext cx="167652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iving in the light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15160" y="2527200"/>
            <a:ext cx="210024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527200"/>
            <a:ext cx="224316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24240" y="2527200"/>
            <a:ext cx="214776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he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ipp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s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e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527200"/>
            <a:ext cx="2195640" cy="17398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15160" y="774720"/>
            <a:ext cx="210024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tor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774720"/>
            <a:ext cx="224316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hetic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24240" y="774720"/>
            <a:ext cx="214776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son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74720"/>
            <a:ext cx="2195640" cy="1739880"/>
          </a:xfrm>
          <a:prstGeom prst="rect">
            <a:avLst/>
          </a:prstGeom>
          <a:solidFill>
            <a:srgbClr val="000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15160" y="4267080"/>
            <a:ext cx="21002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ongr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267080"/>
            <a:ext cx="22431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second 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24240" y="4267080"/>
            <a:ext cx="21477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267080"/>
            <a:ext cx="21956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15160" y="5207040"/>
            <a:ext cx="21002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les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207040"/>
            <a:ext cx="22431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a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4240" y="5207040"/>
            <a:ext cx="21477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207040"/>
            <a:ext cx="21956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er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9372600" cy="68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3462480"/>
            <a:ext cx="1447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914400"/>
            <a:ext cx="228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Nicopolis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960" y="38098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 Salutation (1:1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2666880"/>
            <a:ext cx="41148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, a bond-servant of God, and an apostle of Jesus Christ, for the faith of those chosen of God and the knowledge of the truth which is according to godliness, (Titus 1: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181480" y="2971800"/>
            <a:ext cx="3962520" cy="4572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960" y="38098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 Salutation (1:1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495520"/>
            <a:ext cx="510552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ope of eternal life, which God, who cannot lie, promised long ages ag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ut at the proper time manifested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word, in the proclamation with which I was entrusted according to the commandment of God our Savio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124600"/>
            <a:ext cx="3301920" cy="64260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yeudhj qeoj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3276720"/>
            <a:ext cx="1600200" cy="1828800"/>
          </a:xfrm>
          <a:custGeom>
            <a:avLst/>
            <a:gdLst/>
            <a:ahLst/>
            <a:rect l="l" t="t" r="r" b="b"/>
            <a:pathLst>
              <a:path w="1008" h="1152">
                <a:moveTo>
                  <a:pt x="1008" y="0"/>
                </a:moveTo>
                <a:lnTo>
                  <a:pt x="864" y="96"/>
                </a:lnTo>
                <a:cubicBezTo>
                  <a:pt x="864" y="96"/>
                  <a:pt x="549" y="109"/>
                  <a:pt x="432" y="144"/>
                </a:cubicBezTo>
                <a:cubicBezTo>
                  <a:pt x="315" y="179"/>
                  <a:pt x="227" y="216"/>
                  <a:pt x="163" y="304"/>
                </a:cubicBezTo>
                <a:cubicBezTo>
                  <a:pt x="99" y="392"/>
                  <a:pt x="75" y="531"/>
                  <a:pt x="48" y="672"/>
                </a:cubicBezTo>
                <a:cubicBezTo>
                  <a:pt x="21" y="813"/>
                  <a:pt x="10" y="1052"/>
                  <a:pt x="0" y="115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3809880"/>
            <a:ext cx="53337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 Salutation (1:1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us’ Job Description: To appoint elders in every city (1: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fications for elders/overseers (1:6-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3809880"/>
            <a:ext cx="5334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 of Rebellious Men (1:10-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stimony of Rebellious Men (1:12-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 for Rebellious Men (1:13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52320" y="3733560"/>
            <a:ext cx="5334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us as 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1828800"/>
            <a:ext cx="205740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structions to Vario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95480" y="373356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ace of God has appeared, bringing salvati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ng 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eny ungodl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liv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for the appearing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1828800"/>
            <a:ext cx="205740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structions to Vario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1828800"/>
            <a:ext cx="190512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iving for the appearing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5-10T15:16:24Z</dcterms:modified>
  <cp:revision>238</cp:revision>
  <dc:subject/>
  <dc:title>Slide 1</dc:title>
</cp:coreProperties>
</file>