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76360" y="151920"/>
            <a:ext cx="55623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The Second Epistle to Timothy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6248160" y="2895120"/>
            <a:ext cx="1981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762120" y="2895480"/>
            <a:ext cx="5333760" cy="356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15160" y="2527200"/>
            <a:ext cx="2100240" cy="17398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Timot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Timot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527200"/>
            <a:ext cx="2243160" cy="17398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Thessalon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Thessalon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24240" y="2527200"/>
            <a:ext cx="2147760" cy="17398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hes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ilipp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oss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ilem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527200"/>
            <a:ext cx="2195640" cy="17398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m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Corinth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Corinth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lat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15160" y="774720"/>
            <a:ext cx="2100240" cy="1739880"/>
          </a:xfrm>
          <a:prstGeom prst="rect">
            <a:avLst/>
          </a:prstGeom>
          <a:solidFill>
            <a:srgbClr val="000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toral Epist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774720"/>
            <a:ext cx="2243160" cy="1739880"/>
          </a:xfrm>
          <a:prstGeom prst="rect">
            <a:avLst/>
          </a:prstGeom>
          <a:solidFill>
            <a:srgbClr val="000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hetic Epist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24240" y="774720"/>
            <a:ext cx="2147760" cy="1739880"/>
          </a:xfrm>
          <a:prstGeom prst="rect">
            <a:avLst/>
          </a:prstGeom>
          <a:solidFill>
            <a:srgbClr val="000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son Epist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774720"/>
            <a:ext cx="2195640" cy="1739880"/>
          </a:xfrm>
          <a:prstGeom prst="rect">
            <a:avLst/>
          </a:prstGeom>
          <a:solidFill>
            <a:srgbClr val="000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ndational Epist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15160" y="4267080"/>
            <a:ext cx="2100240" cy="957240"/>
          </a:xfrm>
          <a:prstGeom prst="rect">
            <a:avLst/>
          </a:prstGeom>
          <a:solidFill>
            <a:srgbClr val="fff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ist &amp; the congreg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267080"/>
            <a:ext cx="2243160" cy="957240"/>
          </a:xfrm>
          <a:prstGeom prst="rect">
            <a:avLst/>
          </a:prstGeom>
          <a:solidFill>
            <a:srgbClr val="fff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ist &amp; second co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24240" y="4267080"/>
            <a:ext cx="2147760" cy="957240"/>
          </a:xfrm>
          <a:prstGeom prst="rect">
            <a:avLst/>
          </a:prstGeom>
          <a:solidFill>
            <a:srgbClr val="fff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ist &amp; the chu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267080"/>
            <a:ext cx="2195640" cy="957240"/>
          </a:xfrm>
          <a:prstGeom prst="rect">
            <a:avLst/>
          </a:prstGeom>
          <a:solidFill>
            <a:srgbClr val="fff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ist &amp; the cro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15160" y="5207040"/>
            <a:ext cx="2100240" cy="571320"/>
          </a:xfrm>
          <a:prstGeom prst="rect">
            <a:avLst/>
          </a:prstGeom>
          <a:solidFill>
            <a:srgbClr val="fff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clesiolog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5207040"/>
            <a:ext cx="2243160" cy="571320"/>
          </a:xfrm>
          <a:prstGeom prst="rect">
            <a:avLst/>
          </a:prstGeom>
          <a:solidFill>
            <a:srgbClr val="fff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hatolog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4240" y="5207040"/>
            <a:ext cx="2147760" cy="571320"/>
          </a:xfrm>
          <a:prstGeom prst="rect">
            <a:avLst/>
          </a:prstGeom>
          <a:solidFill>
            <a:srgbClr val="fff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istolog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5207040"/>
            <a:ext cx="2195640" cy="571320"/>
          </a:xfrm>
          <a:prstGeom prst="rect">
            <a:avLst/>
          </a:prstGeom>
          <a:solidFill>
            <a:srgbClr val="fff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teriolog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5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00200" y="1219320"/>
            <a:ext cx="5181480" cy="60948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e Unashamed Life (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</a:t>
            </a:r>
            <a:r>
              <a:rPr b="0" lang="en-US" sz="4000" spc="-1" strike="noStrike" baseline="30000">
                <a:solidFill>
                  <a:srgbClr val="ccec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Timoth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048120"/>
            <a:ext cx="5181480" cy="60948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e Faithfully Finished Life (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33720" y="1828800"/>
            <a:ext cx="5867280" cy="60948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e Life of the Faithful Teacher (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2438280"/>
            <a:ext cx="5867280" cy="60984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e Life of the False Teacher (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3520" y="4190760"/>
            <a:ext cx="6705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the Last of Paul’s epist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 writes from R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 understands he is at the end of his l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142640" y="2285640"/>
            <a:ext cx="6705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ing Salutation (1:1-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dful Memories (1:3-7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heart of love (1:3-4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heritage of faith (1:5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help for giftedness (1: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andiwork of God’s Spirit (1:7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1219320"/>
            <a:ext cx="5181480" cy="60948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e Unashamed Life (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</a:t>
            </a:r>
            <a:r>
              <a:rPr b="0" lang="en-US" sz="4000" spc="-1" strike="noStrike" baseline="30000">
                <a:solidFill>
                  <a:srgbClr val="ccec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Timoth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142640" y="22856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ing Salutation (1:1-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dful Memories (1:3-7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Question of Shame (1:8-18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t be ashamed of the testimony of the Lord or of me His prisoner (1:8-11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suffer but am not ashamed (1:12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guard against shame (1:13-14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ameful example of Phygelus and Hermogenus (1:15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Unashamed example of Onesiphorus (1:16-18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1219320"/>
            <a:ext cx="5181480" cy="60948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e Unashamed Life (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</a:t>
            </a:r>
            <a:r>
              <a:rPr b="0" lang="en-US" sz="4000" spc="-1" strike="noStrike" baseline="30000">
                <a:solidFill>
                  <a:srgbClr val="ccec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Timoth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143000" y="27428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ife Strong in the grace that is in Christ (2: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trategy of continuing endurance (2: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 of continuing endurance (2:3-26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00200" y="1219320"/>
            <a:ext cx="5181480" cy="60948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e Unashamed Life (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</a:t>
            </a:r>
            <a:r>
              <a:rPr b="0" lang="en-US" sz="4000" spc="-1" strike="noStrike" baseline="30000">
                <a:solidFill>
                  <a:srgbClr val="ccec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Timoth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33720" y="1828800"/>
            <a:ext cx="5867280" cy="60948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e Life of the Faithful Teacher (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73000" y="1447920"/>
            <a:ext cx="2438640" cy="60948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 Black"/>
              </a:rPr>
              <a:t>Illu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</a:t>
            </a:r>
            <a:r>
              <a:rPr b="0" lang="en-US" sz="4000" spc="-1" strike="noStrike" baseline="30000">
                <a:solidFill>
                  <a:srgbClr val="ccec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Timothy 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11640" y="1447920"/>
            <a:ext cx="2514600" cy="60948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 Black"/>
              </a:rPr>
              <a:t>The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73000" y="2057400"/>
            <a:ext cx="2438640" cy="6094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 Sold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26240" y="1447920"/>
            <a:ext cx="3276360" cy="60948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 Black"/>
              </a:rPr>
              <a:t>The Re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20" y="2057400"/>
            <a:ext cx="83808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2: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73000" y="2666880"/>
            <a:ext cx="2438640" cy="6098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n Ath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73000" y="3276720"/>
            <a:ext cx="2438640" cy="6094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 Far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73000" y="3886200"/>
            <a:ext cx="2438640" cy="6094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 Work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73000" y="4495680"/>
            <a:ext cx="2438640" cy="6098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 Vess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73000" y="5105520"/>
            <a:ext cx="2438640" cy="6094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 Serv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11640" y="2057400"/>
            <a:ext cx="2514600" cy="6094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Suffer hard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1640" y="2666880"/>
            <a:ext cx="2514600" cy="6098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Follow the r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11640" y="3276720"/>
            <a:ext cx="2514600" cy="6094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Work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11640" y="3886200"/>
            <a:ext cx="2514600" cy="6094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Handle the 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11640" y="4495680"/>
            <a:ext cx="2514600" cy="6098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Be cl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11640" y="5105520"/>
            <a:ext cx="2514600" cy="6094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Be at pe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26240" y="2057400"/>
            <a:ext cx="3276360" cy="6094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Please the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26240" y="2666880"/>
            <a:ext cx="3276360" cy="6098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Win the Pr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826240" y="3276720"/>
            <a:ext cx="3276360" cy="6094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Receive the Harv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826240" y="3886200"/>
            <a:ext cx="3276360" cy="6094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Be approved by G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26240" y="4495680"/>
            <a:ext cx="3276360" cy="6098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Be usef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826240" y="5105520"/>
            <a:ext cx="3276360" cy="6094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Please the Enli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920" y="2666880"/>
            <a:ext cx="8380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2: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0" y="3276720"/>
            <a:ext cx="83808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2: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20" y="3886200"/>
            <a:ext cx="83808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2: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0" y="4495680"/>
            <a:ext cx="8380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2: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0" y="5105520"/>
            <a:ext cx="83808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2: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980720" y="3047760"/>
            <a:ext cx="6705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mise of False Teachers (3: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file of False Teachers (3:2-5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― what they 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ptivation of False Teachers (3:6-7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― what they D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xample of False Teachers (3:8-9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othy’s Charge in the face of False Teachers (3:10-17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1219320"/>
            <a:ext cx="5181480" cy="60948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e Unashamed Life (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</a:t>
            </a:r>
            <a:r>
              <a:rPr b="0" lang="en-US" sz="4000" spc="-1" strike="noStrike" baseline="30000">
                <a:solidFill>
                  <a:srgbClr val="ccec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Timoth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1828800"/>
            <a:ext cx="5867280" cy="60948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e Life of the Faithful Teacher (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33720" y="2438280"/>
            <a:ext cx="5867280" cy="60984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e Life of the False Teacher (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523520" y="3809880"/>
            <a:ext cx="6705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olemn Charge (4:1-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ul’s Completion (4:6-8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 (4: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t (4: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ture (4: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ing Instructions (4:9-2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1219320"/>
            <a:ext cx="5181480" cy="60948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e Unashamed Life (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</a:t>
            </a:r>
            <a:r>
              <a:rPr b="0" lang="en-US" sz="4000" spc="-1" strike="noStrike" baseline="30000">
                <a:solidFill>
                  <a:srgbClr val="ccec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Timoth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3048120"/>
            <a:ext cx="5181480" cy="60948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e Faithfully Finished Life (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1828800"/>
            <a:ext cx="5867280" cy="60948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e Life of the Faithful Teacher (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2438280"/>
            <a:ext cx="5867280" cy="60984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e Life of the False Teacher (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7-05-05T02:50:12Z</dcterms:modified>
  <cp:revision>234</cp:revision>
  <dc:subject/>
  <dc:title>Slide 1</dc:title>
</cp:coreProperties>
</file>