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First Epistle to Timoth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ther to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80880" y="2550960"/>
            <a:ext cx="5105520" cy="38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982440" cy="695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6240" y="19954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RE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360" y="16002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SIA MI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4600" y="2743200"/>
            <a:ext cx="1920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ph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01160" y="7621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aced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6705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mission in Ephesus (1:2-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 Teachers of the Law (1:6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for God’s mercy (1:12-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commission (1:18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65724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men to pray (2:1-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women to adorn themselves modestly and with good works (2:9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80920" y="350496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leaders (3: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 (4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structions to Timothy (4:12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62720" y="35812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to the elderly (5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for widows (5: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for elders &amp; leaders (5:17-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0" y="3580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 &amp; Masters (6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seek financial profit (6:3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arge to personal faithfulness (6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the rich (6:17-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(6:20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1828800"/>
            <a:ext cx="175284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3-16T11:01:44Z</dcterms:modified>
  <cp:revision>228</cp:revision>
  <dc:subject/>
  <dc:title>Slide 1</dc:title>
</cp:coreProperties>
</file>